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12DF-2700-4581-AF2B-FBE01280A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3C36-B3F5-4C64-8EB3-6FE21049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4F2A-72AC-414A-8A2E-3AE50A4A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59CA-7BEB-405D-B156-042AC5743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369C-9A82-4F7B-B870-F4F35CB8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3E8A-A696-4D04-8678-FDA1EEA4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AD85-7D0D-4001-A0C4-24B40B7C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BEA3-FDD4-4014-985F-3543B1FC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6AA7-5757-4964-ADF7-3B8A96A4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7BC3-286B-46B0-9B43-440EC050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7E5F-CB66-4F78-AB3E-6949CB56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6AAA-75A6-4334-9CD8-7E6F9562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4BF1-07F0-4CF8-B3BE-966EF58938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689040" y="2023920"/>
            <a:ext cx="7772400" cy="1882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71764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Артамонова Л.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Учитель математи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КОУ «Москаленский лицей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полни схе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693800" y="1600200"/>
            <a:ext cx="5756400" cy="4525920"/>
          </a:xfrm>
          <a:prstGeom prst="rect">
            <a:avLst/>
          </a:prstGeom>
          <a:ln w="0">
            <a:noFill/>
          </a:ln>
        </p:spPr>
      </p:pic>
      <p:sp>
        <p:nvSpPr>
          <p:cNvPr id="45" name="Шестиугольник 3"/>
          <p:cNvSpPr/>
          <p:nvPr/>
        </p:nvSpPr>
        <p:spPr>
          <a:xfrm>
            <a:off x="1763640" y="3933720"/>
            <a:ext cx="936720" cy="719280"/>
          </a:xfrm>
          <a:prstGeom prst="hexagon">
            <a:avLst>
              <a:gd name="adj" fmla="val 25045"/>
              <a:gd name="vf" fmla="val 11547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19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Шестиугольник 6"/>
          <p:cNvSpPr/>
          <p:nvPr/>
        </p:nvSpPr>
        <p:spPr>
          <a:xfrm>
            <a:off x="3059280" y="2781360"/>
            <a:ext cx="1008000" cy="718920"/>
          </a:xfrm>
          <a:prstGeom prst="hexagon">
            <a:avLst>
              <a:gd name="adj" fmla="val 25037"/>
              <a:gd name="vf" fmla="val 11547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2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Шестиугольник 7"/>
          <p:cNvSpPr/>
          <p:nvPr/>
        </p:nvSpPr>
        <p:spPr>
          <a:xfrm>
            <a:off x="5580000" y="2808360"/>
            <a:ext cx="936720" cy="720720"/>
          </a:xfrm>
          <a:prstGeom prst="hexagon">
            <a:avLst>
              <a:gd name="adj" fmla="val 24995"/>
              <a:gd name="vf" fmla="val 11547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Минус 13"/>
          <p:cNvSpPr/>
          <p:nvPr/>
        </p:nvSpPr>
        <p:spPr>
          <a:xfrm>
            <a:off x="6053040" y="4172040"/>
            <a:ext cx="241560" cy="242640"/>
          </a:xfrm>
          <a:custGeom>
            <a:avLst/>
            <a:gdLst/>
            <a:ahLst/>
            <a:rect l="l" t="t" r="r" b="b"/>
            <a:pathLst>
              <a:path w="241905" h="241935">
                <a:moveTo>
                  <a:pt x="32065" y="92516"/>
                </a:moveTo>
                <a:lnTo>
                  <a:pt x="209840" y="92516"/>
                </a:lnTo>
                <a:lnTo>
                  <a:pt x="209840" y="149419"/>
                </a:lnTo>
                <a:lnTo>
                  <a:pt x="32065" y="149419"/>
                </a:lnTo>
                <a:lnTo>
                  <a:pt x="32065" y="9251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Шестиугольник 9"/>
          <p:cNvSpPr/>
          <p:nvPr/>
        </p:nvSpPr>
        <p:spPr>
          <a:xfrm>
            <a:off x="4211640" y="1484280"/>
            <a:ext cx="1368360" cy="936720"/>
          </a:xfrm>
          <a:prstGeom prst="hexagon">
            <a:avLst>
              <a:gd name="adj" fmla="val 24989"/>
              <a:gd name="vf" fmla="val 11547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38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Лента лицом вниз 5"/>
          <p:cNvSpPr/>
          <p:nvPr/>
        </p:nvSpPr>
        <p:spPr>
          <a:xfrm>
            <a:off x="4667400" y="5445000"/>
            <a:ext cx="4321080" cy="1152720"/>
          </a:xfrm>
          <a:custGeom>
            <a:avLst/>
            <a:gdLst>
              <a:gd name="textAreaLeft" fmla="*/ 1080360 w 4321080"/>
              <a:gd name="textAreaRight" fmla="*/ 3241080 w 4321080"/>
              <a:gd name="textAreaTop" fmla="*/ 191880 h 1152720"/>
              <a:gd name="textAreaBottom" fmla="*/ 11530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Молодцы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полни схе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5832360" cy="4929120"/>
          </a:xfrm>
          <a:prstGeom prst="rect">
            <a:avLst/>
          </a:prstGeom>
          <a:ln w="0">
            <a:noFill/>
          </a:ln>
        </p:spPr>
      </p:pic>
      <p:sp>
        <p:nvSpPr>
          <p:cNvPr id="53" name="Плюс 13"/>
          <p:cNvSpPr/>
          <p:nvPr/>
        </p:nvSpPr>
        <p:spPr>
          <a:xfrm>
            <a:off x="2916360" y="4978440"/>
            <a:ext cx="252360" cy="230040"/>
          </a:xfrm>
          <a:custGeom>
            <a:avLst/>
            <a:gdLst/>
            <a:ahLst/>
            <a:rect l="l" t="t" r="r" b="b"/>
            <a:pathLst>
              <a:path w="253388" h="231354">
                <a:moveTo>
                  <a:pt x="33587" y="88470"/>
                </a:moveTo>
                <a:lnTo>
                  <a:pt x="99487" y="88470"/>
                </a:lnTo>
                <a:lnTo>
                  <a:pt x="99487" y="30666"/>
                </a:lnTo>
                <a:lnTo>
                  <a:pt x="153901" y="30666"/>
                </a:lnTo>
                <a:lnTo>
                  <a:pt x="153901" y="88470"/>
                </a:lnTo>
                <a:lnTo>
                  <a:pt x="219801" y="88470"/>
                </a:lnTo>
                <a:lnTo>
                  <a:pt x="219801" y="142884"/>
                </a:lnTo>
                <a:lnTo>
                  <a:pt x="153901" y="142884"/>
                </a:lnTo>
                <a:lnTo>
                  <a:pt x="153901" y="200688"/>
                </a:lnTo>
                <a:lnTo>
                  <a:pt x="99487" y="200688"/>
                </a:lnTo>
                <a:lnTo>
                  <a:pt x="99487" y="142884"/>
                </a:lnTo>
                <a:lnTo>
                  <a:pt x="33587" y="142884"/>
                </a:lnTo>
                <a:lnTo>
                  <a:pt x="33587" y="8847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5508720" y="4076640"/>
            <a:ext cx="2158920" cy="1071720"/>
          </a:xfrm>
          <a:prstGeom prst="rect">
            <a:avLst/>
          </a:prstGeom>
          <a:ln w="0">
            <a:noFill/>
          </a:ln>
        </p:spPr>
      </p:pic>
      <p:sp>
        <p:nvSpPr>
          <p:cNvPr id="55" name="Табличка 4"/>
          <p:cNvSpPr/>
          <p:nvPr/>
        </p:nvSpPr>
        <p:spPr>
          <a:xfrm>
            <a:off x="6516720" y="4437000"/>
            <a:ext cx="1150920" cy="657360"/>
          </a:xfrm>
          <a:custGeom>
            <a:avLst/>
            <a:gdLst>
              <a:gd name="textAreaLeft" fmla="*/ 77400 w 1150920"/>
              <a:gd name="textAreaRight" fmla="*/ 1073520 w 1150920"/>
              <a:gd name="textAreaTop" fmla="*/ 77400 h 657360"/>
              <a:gd name="textAreaBottom" fmla="*/ 579960 h 657360"/>
            </a:gdLst>
            <a:ahLst/>
            <a:rect l="textAreaLeft" t="textAreaTop" r="textAreaRight" b="textAreaBottom"/>
            <a:pathLst>
              <a:path w="3780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4209" y="21600"/>
                </a:lnTo>
                <a:arcTo wR="3600" hR="3600" stAng="10800000" swAng="5400000"/>
                <a:lnTo>
                  <a:pt x="3780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67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Табличка 7"/>
          <p:cNvSpPr/>
          <p:nvPr/>
        </p:nvSpPr>
        <p:spPr>
          <a:xfrm>
            <a:off x="4788000" y="3500280"/>
            <a:ext cx="1152360" cy="657360"/>
          </a:xfrm>
          <a:custGeom>
            <a:avLst/>
            <a:gdLst>
              <a:gd name="textAreaLeft" fmla="*/ 77400 w 1152360"/>
              <a:gd name="textAreaRight" fmla="*/ 1074960 w 1152360"/>
              <a:gd name="textAreaTop" fmla="*/ 77400 h 657360"/>
              <a:gd name="textAreaBottom" fmla="*/ 579960 h 657360"/>
            </a:gdLst>
            <a:ahLst/>
            <a:rect l="textAreaLeft" t="textAreaTop" r="textAreaRight" b="textAreaBottom"/>
            <a:pathLst>
              <a:path w="3785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4256" y="21600"/>
                </a:lnTo>
                <a:arcTo wR="3600" hR="3600" stAng="10800000" swAng="5400000"/>
                <a:lnTo>
                  <a:pt x="3785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688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Табличка 8"/>
          <p:cNvSpPr/>
          <p:nvPr/>
        </p:nvSpPr>
        <p:spPr>
          <a:xfrm>
            <a:off x="2700360" y="3505320"/>
            <a:ext cx="1150920" cy="657000"/>
          </a:xfrm>
          <a:custGeom>
            <a:avLst/>
            <a:gdLst>
              <a:gd name="textAreaLeft" fmla="*/ 77400 w 1150920"/>
              <a:gd name="textAreaRight" fmla="*/ 1073520 w 1150920"/>
              <a:gd name="textAreaTop" fmla="*/ 77400 h 657000"/>
              <a:gd name="textAreaBottom" fmla="*/ 579600 h 657000"/>
            </a:gdLst>
            <a:ahLst/>
            <a:rect l="textAreaLeft" t="textAreaTop" r="textAreaRight" b="textAreaBottom"/>
            <a:pathLst>
              <a:path w="3783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4230" y="21600"/>
                </a:lnTo>
                <a:arcTo wR="3600" hR="3600" stAng="10800000" swAng="5400000"/>
                <a:lnTo>
                  <a:pt x="3783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46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Табличка 9"/>
          <p:cNvSpPr/>
          <p:nvPr/>
        </p:nvSpPr>
        <p:spPr>
          <a:xfrm>
            <a:off x="4572000" y="2205000"/>
            <a:ext cx="1584360" cy="65556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655560"/>
              <a:gd name="textAreaBottom" fmla="*/ 578520 h 655560"/>
            </a:gdLst>
            <a:ahLst/>
            <a:rect l="textAreaLeft" t="textAreaTop" r="textAreaRight" b="textAreaBottom"/>
            <a:pathLst>
              <a:path w="5218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8586" y="21600"/>
                </a:lnTo>
                <a:arcTo wR="3600" hR="3600" stAng="10800000" swAng="5400000"/>
                <a:lnTo>
                  <a:pt x="5218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319603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Табличка 10"/>
          <p:cNvSpPr/>
          <p:nvPr/>
        </p:nvSpPr>
        <p:spPr>
          <a:xfrm>
            <a:off x="3419640" y="1125360"/>
            <a:ext cx="1657080" cy="655920"/>
          </a:xfrm>
          <a:custGeom>
            <a:avLst/>
            <a:gdLst>
              <a:gd name="textAreaLeft" fmla="*/ 77040 w 1657080"/>
              <a:gd name="textAreaRight" fmla="*/ 1580040 w 1657080"/>
              <a:gd name="textAreaTop" fmla="*/ 77040 h 655920"/>
              <a:gd name="textAreaBottom" fmla="*/ 578880 h 655920"/>
            </a:gdLst>
            <a:ahLst/>
            <a:rect l="textAreaLeft" t="textAreaTop" r="textAreaRight" b="textAreaBottom"/>
            <a:pathLst>
              <a:path w="5455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951" y="21600"/>
                </a:lnTo>
                <a:arcTo wR="3600" hR="3600" stAng="10800000" swAng="5400000"/>
                <a:lnTo>
                  <a:pt x="54551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319633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полни схе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179800" y="1600200"/>
            <a:ext cx="541656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4932360" y="2397240"/>
            <a:ext cx="1206360" cy="576000"/>
          </a:xfrm>
          <a:prstGeom prst="rect">
            <a:avLst/>
          </a:prstGeom>
          <a:ln w="0">
            <a:noFill/>
          </a:ln>
        </p:spPr>
      </p:pic>
      <p:sp>
        <p:nvSpPr>
          <p:cNvPr id="63" name="Овал 3"/>
          <p:cNvSpPr/>
          <p:nvPr/>
        </p:nvSpPr>
        <p:spPr>
          <a:xfrm>
            <a:off x="2124000" y="4508640"/>
            <a:ext cx="1295640" cy="64908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57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инус 24"/>
          <p:cNvSpPr/>
          <p:nvPr/>
        </p:nvSpPr>
        <p:spPr>
          <a:xfrm>
            <a:off x="6102360" y="4324320"/>
            <a:ext cx="276120" cy="209520"/>
          </a:xfrm>
          <a:custGeom>
            <a:avLst/>
            <a:gdLst/>
            <a:ahLst/>
            <a:rect l="l" t="t" r="r" b="b"/>
            <a:pathLst>
              <a:path w="275422" h="209320">
                <a:moveTo>
                  <a:pt x="36507" y="80044"/>
                </a:moveTo>
                <a:lnTo>
                  <a:pt x="238915" y="80044"/>
                </a:lnTo>
                <a:lnTo>
                  <a:pt x="238915" y="129276"/>
                </a:lnTo>
                <a:lnTo>
                  <a:pt x="36507" y="129276"/>
                </a:lnTo>
                <a:lnTo>
                  <a:pt x="36507" y="8004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Овал 7"/>
          <p:cNvSpPr/>
          <p:nvPr/>
        </p:nvSpPr>
        <p:spPr>
          <a:xfrm>
            <a:off x="2556000" y="3213000"/>
            <a:ext cx="1224000" cy="6476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587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Овал 8"/>
          <p:cNvSpPr/>
          <p:nvPr/>
        </p:nvSpPr>
        <p:spPr>
          <a:xfrm>
            <a:off x="4356000" y="3195720"/>
            <a:ext cx="1368360" cy="6476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Овал 9"/>
          <p:cNvSpPr/>
          <p:nvPr/>
        </p:nvSpPr>
        <p:spPr>
          <a:xfrm>
            <a:off x="2843280" y="2397240"/>
            <a:ext cx="1657440" cy="6476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1704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Овал 10"/>
          <p:cNvSpPr/>
          <p:nvPr/>
        </p:nvSpPr>
        <p:spPr>
          <a:xfrm>
            <a:off x="3879720" y="1557360"/>
            <a:ext cx="1656000" cy="6476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170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Лента лицом вниз 11"/>
          <p:cNvSpPr/>
          <p:nvPr/>
        </p:nvSpPr>
        <p:spPr>
          <a:xfrm>
            <a:off x="4932360" y="5732640"/>
            <a:ext cx="4241880" cy="865080"/>
          </a:xfrm>
          <a:custGeom>
            <a:avLst/>
            <a:gdLst>
              <a:gd name="textAreaLeft" fmla="*/ 1060560 w 4241880"/>
              <a:gd name="textAreaRight" fmla="*/ 3181680 w 4241880"/>
              <a:gd name="textAreaTop" fmla="*/ 14400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тлично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полни схе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630360" y="1628640"/>
            <a:ext cx="7408800" cy="3638520"/>
          </a:xfrm>
          <a:prstGeom prst="rect">
            <a:avLst/>
          </a:prstGeom>
          <a:ln w="0">
            <a:noFill/>
          </a:ln>
        </p:spPr>
      </p:pic>
      <p:sp>
        <p:nvSpPr>
          <p:cNvPr id="72" name="Скругленный прямоугольник 3"/>
          <p:cNvSpPr/>
          <p:nvPr/>
        </p:nvSpPr>
        <p:spPr>
          <a:xfrm>
            <a:off x="6804000" y="4005360"/>
            <a:ext cx="1152720" cy="3603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19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Скругленный прямоугольник 5"/>
          <p:cNvSpPr/>
          <p:nvPr/>
        </p:nvSpPr>
        <p:spPr>
          <a:xfrm>
            <a:off x="5508720" y="3110040"/>
            <a:ext cx="1295280" cy="3603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Скругленный прямоугольник 6"/>
          <p:cNvSpPr/>
          <p:nvPr/>
        </p:nvSpPr>
        <p:spPr>
          <a:xfrm>
            <a:off x="3708360" y="3081240"/>
            <a:ext cx="1295280" cy="3603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28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Скругленный прямоугольник 7"/>
          <p:cNvSpPr/>
          <p:nvPr/>
        </p:nvSpPr>
        <p:spPr>
          <a:xfrm>
            <a:off x="3995640" y="220500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1325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Скругленный прямоугольник 8"/>
          <p:cNvSpPr/>
          <p:nvPr/>
        </p:nvSpPr>
        <p:spPr>
          <a:xfrm>
            <a:off x="1476360" y="2141640"/>
            <a:ext cx="1511280" cy="43164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187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9"/>
          <p:cNvSpPr/>
          <p:nvPr/>
        </p:nvSpPr>
        <p:spPr>
          <a:xfrm>
            <a:off x="3227400" y="1628640"/>
            <a:ext cx="1512720" cy="4320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1512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Лента лицом вниз 10"/>
          <p:cNvSpPr/>
          <p:nvPr/>
        </p:nvSpPr>
        <p:spPr>
          <a:xfrm>
            <a:off x="4932360" y="5732640"/>
            <a:ext cx="4241880" cy="865080"/>
          </a:xfrm>
          <a:custGeom>
            <a:avLst/>
            <a:gdLst>
              <a:gd name="textAreaLeft" fmla="*/ 1060560 w 4241880"/>
              <a:gd name="textAreaRight" fmla="*/ 3181680 w 4241880"/>
              <a:gd name="textAreaTop" fmla="*/ 14400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тлично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2:22:53Z</dcterms:created>
  <dc:creator>User</dc:creator>
  <dc:description/>
  <dc:language>en-US</dc:language>
  <cp:lastModifiedBy>User</cp:lastModifiedBy>
  <dcterms:modified xsi:type="dcterms:W3CDTF">2012-02-09T13:01:57Z</dcterms:modified>
  <cp:revision>8</cp:revision>
  <dc:subject/>
  <dc:title>Действия с натуральными числа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8050000000000010250300207f7000400038000</vt:lpwstr>
  </property>
</Properties>
</file>