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1C5AE-5F48-45C5-871C-71FF1F009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8FD86-D58D-40D0-A9B4-A3E6BF02E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1B1ED-421E-48DE-B5FE-5816222340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29EAE-5BD1-4D29-9FCB-DC0203D59B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7B7-6BC9-4694-B8A7-9105602DF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FBA9-E16A-4A6D-AF90-1943F08660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EC81D-5664-4EF2-865B-F3F368D348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7458D-60CD-4344-A2FE-A36E746C8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67F70-DE33-4D2C-8283-7D7C798C09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6BB41-67D4-4493-A8D4-AC48FA9E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1A930B-1F53-4185-817E-258E396E73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3E9C2-8532-43AF-ACFF-6187E377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7C58F4-C52A-4A76-A88D-DAF71F6E296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Заголовок 1" descr=""/>
          <p:cNvPicPr/>
          <p:nvPr/>
        </p:nvPicPr>
        <p:blipFill>
          <a:blip r:embed="rId1"/>
          <a:stretch/>
        </p:blipFill>
        <p:spPr>
          <a:xfrm>
            <a:off x="689040" y="2023920"/>
            <a:ext cx="7772400" cy="18828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2717640" y="479700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Артамонова Л.В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Учитель математики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algn="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МКОУ «Москаленский лицей»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2" descr=""/>
          <p:cNvPicPr/>
          <p:nvPr/>
        </p:nvPicPr>
        <p:blipFill>
          <a:blip r:embed="rId1"/>
          <a:stretch/>
        </p:blipFill>
        <p:spPr>
          <a:xfrm>
            <a:off x="1693800" y="1600200"/>
            <a:ext cx="5756400" cy="4525920"/>
          </a:xfrm>
          <a:prstGeom prst="rect">
            <a:avLst/>
          </a:prstGeom>
          <a:ln w="0">
            <a:noFill/>
          </a:ln>
        </p:spPr>
      </p:pic>
      <p:sp>
        <p:nvSpPr>
          <p:cNvPr id="45" name="Шестиугольник 3"/>
          <p:cNvSpPr/>
          <p:nvPr/>
        </p:nvSpPr>
        <p:spPr>
          <a:xfrm>
            <a:off x="1763640" y="3933720"/>
            <a:ext cx="936720" cy="719280"/>
          </a:xfrm>
          <a:prstGeom prst="hexagon">
            <a:avLst>
              <a:gd name="adj" fmla="val 2504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9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Шестиугольник 6"/>
          <p:cNvSpPr/>
          <p:nvPr/>
        </p:nvSpPr>
        <p:spPr>
          <a:xfrm>
            <a:off x="3059280" y="2781360"/>
            <a:ext cx="1008000" cy="718920"/>
          </a:xfrm>
          <a:prstGeom prst="hexagon">
            <a:avLst>
              <a:gd name="adj" fmla="val 25037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Шестиугольник 7"/>
          <p:cNvSpPr/>
          <p:nvPr/>
        </p:nvSpPr>
        <p:spPr>
          <a:xfrm>
            <a:off x="5580000" y="2808360"/>
            <a:ext cx="936720" cy="720720"/>
          </a:xfrm>
          <a:prstGeom prst="hexagon">
            <a:avLst>
              <a:gd name="adj" fmla="val 24995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Минус 13"/>
          <p:cNvSpPr/>
          <p:nvPr/>
        </p:nvSpPr>
        <p:spPr>
          <a:xfrm>
            <a:off x="6053040" y="4172040"/>
            <a:ext cx="241560" cy="242640"/>
          </a:xfrm>
          <a:custGeom>
            <a:avLst/>
            <a:gdLst/>
            <a:ahLst/>
            <a:rect l="l" t="t" r="r" b="b"/>
            <a:pathLst>
              <a:path w="241905" h="241935">
                <a:moveTo>
                  <a:pt x="32065" y="92516"/>
                </a:moveTo>
                <a:lnTo>
                  <a:pt x="209840" y="92516"/>
                </a:lnTo>
                <a:lnTo>
                  <a:pt x="209840" y="149419"/>
                </a:lnTo>
                <a:lnTo>
                  <a:pt x="32065" y="149419"/>
                </a:lnTo>
                <a:lnTo>
                  <a:pt x="32065" y="92516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Шестиугольник 9"/>
          <p:cNvSpPr/>
          <p:nvPr/>
        </p:nvSpPr>
        <p:spPr>
          <a:xfrm>
            <a:off x="4211640" y="1484280"/>
            <a:ext cx="1368360" cy="936720"/>
          </a:xfrm>
          <a:prstGeom prst="hexagon">
            <a:avLst>
              <a:gd name="adj" fmla="val 24989"/>
              <a:gd name="vf" fmla="val 115470"/>
            </a:avLst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84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Лента лицом вниз 5"/>
          <p:cNvSpPr/>
          <p:nvPr/>
        </p:nvSpPr>
        <p:spPr>
          <a:xfrm>
            <a:off x="4667400" y="5445000"/>
            <a:ext cx="4321080" cy="1152720"/>
          </a:xfrm>
          <a:custGeom>
            <a:avLst/>
            <a:gdLst>
              <a:gd name="textAreaLeft" fmla="*/ 1080360 w 4321080"/>
              <a:gd name="textAreaRight" fmla="*/ 3241080 w 4321080"/>
              <a:gd name="textAreaTop" fmla="*/ 191880 h 1152720"/>
              <a:gd name="textAreaBottom" fmla="*/ 1153080 h 1152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олодцы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2" dur="20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17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22" dur="2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2000"/>
                            </p:stCondLst>
                            <p:childTnLst>
                              <p:par>
                                <p:cTn id="2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6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2" descr=""/>
          <p:cNvPicPr/>
          <p:nvPr/>
        </p:nvPicPr>
        <p:blipFill>
          <a:blip r:embed="rId1"/>
          <a:stretch/>
        </p:blipFill>
        <p:spPr>
          <a:xfrm>
            <a:off x="1692360" y="1197000"/>
            <a:ext cx="5832360" cy="4929120"/>
          </a:xfrm>
          <a:prstGeom prst="rect">
            <a:avLst/>
          </a:prstGeom>
          <a:ln w="0">
            <a:noFill/>
          </a:ln>
        </p:spPr>
      </p:pic>
      <p:sp>
        <p:nvSpPr>
          <p:cNvPr id="53" name="Плюс 13"/>
          <p:cNvSpPr/>
          <p:nvPr/>
        </p:nvSpPr>
        <p:spPr>
          <a:xfrm>
            <a:off x="2916360" y="4978440"/>
            <a:ext cx="252360" cy="230040"/>
          </a:xfrm>
          <a:custGeom>
            <a:avLst/>
            <a:gdLst/>
            <a:ahLst/>
            <a:rect l="l" t="t" r="r" b="b"/>
            <a:pathLst>
              <a:path w="253388" h="231354">
                <a:moveTo>
                  <a:pt x="33587" y="88470"/>
                </a:moveTo>
                <a:lnTo>
                  <a:pt x="99487" y="88470"/>
                </a:lnTo>
                <a:lnTo>
                  <a:pt x="99487" y="30666"/>
                </a:lnTo>
                <a:lnTo>
                  <a:pt x="153901" y="30666"/>
                </a:lnTo>
                <a:lnTo>
                  <a:pt x="153901" y="88470"/>
                </a:lnTo>
                <a:lnTo>
                  <a:pt x="219801" y="88470"/>
                </a:lnTo>
                <a:lnTo>
                  <a:pt x="219801" y="142884"/>
                </a:lnTo>
                <a:lnTo>
                  <a:pt x="153901" y="142884"/>
                </a:lnTo>
                <a:lnTo>
                  <a:pt x="153901" y="200688"/>
                </a:lnTo>
                <a:lnTo>
                  <a:pt x="99487" y="200688"/>
                </a:lnTo>
                <a:lnTo>
                  <a:pt x="99487" y="142884"/>
                </a:lnTo>
                <a:lnTo>
                  <a:pt x="33587" y="142884"/>
                </a:lnTo>
                <a:lnTo>
                  <a:pt x="33587" y="88470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"/>
          <p:cNvPicPr/>
          <p:nvPr/>
        </p:nvPicPr>
        <p:blipFill>
          <a:blip r:embed="rId2"/>
          <a:stretch/>
        </p:blipFill>
        <p:spPr>
          <a:xfrm>
            <a:off x="5508720" y="4076640"/>
            <a:ext cx="2158920" cy="1071720"/>
          </a:xfrm>
          <a:prstGeom prst="rect">
            <a:avLst/>
          </a:prstGeom>
          <a:ln w="0">
            <a:noFill/>
          </a:ln>
        </p:spPr>
      </p:pic>
      <p:sp>
        <p:nvSpPr>
          <p:cNvPr id="55" name="Табличка 4"/>
          <p:cNvSpPr/>
          <p:nvPr/>
        </p:nvSpPr>
        <p:spPr>
          <a:xfrm>
            <a:off x="6516720" y="4437000"/>
            <a:ext cx="1150920" cy="65736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09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09" y="21600"/>
                </a:lnTo>
                <a:arcTo wR="3600" hR="3600" stAng="10800000" swAng="5400000"/>
                <a:lnTo>
                  <a:pt x="37809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76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Табличка 7"/>
          <p:cNvSpPr/>
          <p:nvPr/>
        </p:nvSpPr>
        <p:spPr>
          <a:xfrm>
            <a:off x="4788000" y="3500280"/>
            <a:ext cx="1152360" cy="657360"/>
          </a:xfrm>
          <a:custGeom>
            <a:avLst/>
            <a:gdLst>
              <a:gd name="textAreaLeft" fmla="*/ 77400 w 1152360"/>
              <a:gd name="textAreaRight" fmla="*/ 1074960 w 1152360"/>
              <a:gd name="textAreaTop" fmla="*/ 77400 h 657360"/>
              <a:gd name="textAreaBottom" fmla="*/ 579960 h 657360"/>
            </a:gdLst>
            <a:ahLst/>
            <a:rect l="textAreaLeft" t="textAreaTop" r="textAreaRight" b="textAreaBottom"/>
            <a:pathLst>
              <a:path w="3785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56" y="21600"/>
                </a:lnTo>
                <a:arcTo wR="3600" hR="3600" stAng="10800000" swAng="5400000"/>
                <a:lnTo>
                  <a:pt x="3785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688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Табличка 8"/>
          <p:cNvSpPr/>
          <p:nvPr/>
        </p:nvSpPr>
        <p:spPr>
          <a:xfrm>
            <a:off x="2700360" y="3505320"/>
            <a:ext cx="1150920" cy="657000"/>
          </a:xfrm>
          <a:custGeom>
            <a:avLst/>
            <a:gdLst>
              <a:gd name="textAreaLeft" fmla="*/ 77400 w 1150920"/>
              <a:gd name="textAreaRight" fmla="*/ 1073520 w 1150920"/>
              <a:gd name="textAreaTop" fmla="*/ 77400 h 657000"/>
              <a:gd name="textAreaBottom" fmla="*/ 579600 h 657000"/>
            </a:gdLst>
            <a:ahLst/>
            <a:rect l="textAreaLeft" t="textAreaTop" r="textAreaRight" b="textAreaBottom"/>
            <a:pathLst>
              <a:path w="37830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34230" y="21600"/>
                </a:lnTo>
                <a:arcTo wR="3600" hR="3600" stAng="10800000" swAng="5400000"/>
                <a:lnTo>
                  <a:pt x="37830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46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Табличка 9"/>
          <p:cNvSpPr/>
          <p:nvPr/>
        </p:nvSpPr>
        <p:spPr>
          <a:xfrm>
            <a:off x="4572000" y="2205000"/>
            <a:ext cx="1584360" cy="655560"/>
          </a:xfrm>
          <a:custGeom>
            <a:avLst/>
            <a:gdLst>
              <a:gd name="textAreaLeft" fmla="*/ 77040 w 1584360"/>
              <a:gd name="textAreaRight" fmla="*/ 1507320 w 1584360"/>
              <a:gd name="textAreaTop" fmla="*/ 77040 h 655560"/>
              <a:gd name="textAreaBottom" fmla="*/ 578520 h 655560"/>
            </a:gdLst>
            <a:ahLst/>
            <a:rect l="textAreaLeft" t="textAreaTop" r="textAreaRight" b="textAreaBottom"/>
            <a:pathLst>
              <a:path w="52186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48586" y="21600"/>
                </a:lnTo>
                <a:arcTo wR="3600" hR="3600" stAng="10800000" swAng="5400000"/>
                <a:lnTo>
                  <a:pt x="52186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03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Табличка 10"/>
          <p:cNvSpPr/>
          <p:nvPr/>
        </p:nvSpPr>
        <p:spPr>
          <a:xfrm>
            <a:off x="3419640" y="1125360"/>
            <a:ext cx="1657080" cy="655920"/>
          </a:xfrm>
          <a:custGeom>
            <a:avLst/>
            <a:gdLst>
              <a:gd name="textAreaLeft" fmla="*/ 77040 w 1657080"/>
              <a:gd name="textAreaRight" fmla="*/ 1580040 w 1657080"/>
              <a:gd name="textAreaTop" fmla="*/ 77040 h 655920"/>
              <a:gd name="textAreaBottom" fmla="*/ 578880 h 655920"/>
            </a:gdLst>
            <a:ahLst/>
            <a:rect l="textAreaLeft" t="textAreaTop" r="textAreaRight" b="textAreaBottom"/>
            <a:pathLst>
              <a:path w="54551" h="21600">
                <a:moveTo>
                  <a:pt x="3600" y="0"/>
                </a:moveTo>
                <a:arcTo wR="3600" hR="3600" stAng="0" swAng="5400000"/>
                <a:lnTo>
                  <a:pt x="0" y="18000"/>
                </a:lnTo>
                <a:arcTo wR="3600" hR="3600" stAng="16200000" swAng="5400000"/>
                <a:lnTo>
                  <a:pt x="50951" y="21600"/>
                </a:lnTo>
                <a:arcTo wR="3600" hR="3600" stAng="10800000" swAng="5400000"/>
                <a:lnTo>
                  <a:pt x="54551" y="3600"/>
                </a:lnTo>
                <a:arcTo wR="3600" hR="3600" stAng="5400000" swAng="5400000"/>
                <a:close/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3196333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3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8" dur="2000"/>
                                        <p:tgtEl>
                                          <p:spTgt spid="5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" dur="20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" dur="200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53" dur="2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2" descr=""/>
          <p:cNvPicPr/>
          <p:nvPr/>
        </p:nvPicPr>
        <p:blipFill>
          <a:blip r:embed="rId1"/>
          <a:stretch/>
        </p:blipFill>
        <p:spPr>
          <a:xfrm>
            <a:off x="2179800" y="1600200"/>
            <a:ext cx="5416560" cy="452592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3" descr=""/>
          <p:cNvPicPr/>
          <p:nvPr/>
        </p:nvPicPr>
        <p:blipFill>
          <a:blip r:embed="rId2"/>
          <a:stretch/>
        </p:blipFill>
        <p:spPr>
          <a:xfrm>
            <a:off x="4932360" y="2397240"/>
            <a:ext cx="1206360" cy="576000"/>
          </a:xfrm>
          <a:prstGeom prst="rect">
            <a:avLst/>
          </a:prstGeom>
          <a:ln w="0">
            <a:noFill/>
          </a:ln>
        </p:spPr>
      </p:pic>
      <p:sp>
        <p:nvSpPr>
          <p:cNvPr id="63" name="Овал 3"/>
          <p:cNvSpPr/>
          <p:nvPr/>
        </p:nvSpPr>
        <p:spPr>
          <a:xfrm>
            <a:off x="2124000" y="4508640"/>
            <a:ext cx="1295640" cy="64908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78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Минус 24"/>
          <p:cNvSpPr/>
          <p:nvPr/>
        </p:nvSpPr>
        <p:spPr>
          <a:xfrm>
            <a:off x="6102360" y="4324320"/>
            <a:ext cx="276120" cy="209520"/>
          </a:xfrm>
          <a:custGeom>
            <a:avLst/>
            <a:gdLst/>
            <a:ahLst/>
            <a:rect l="l" t="t" r="r" b="b"/>
            <a:pathLst>
              <a:path w="275422" h="209320">
                <a:moveTo>
                  <a:pt x="36507" y="80044"/>
                </a:moveTo>
                <a:lnTo>
                  <a:pt x="238915" y="80044"/>
                </a:lnTo>
                <a:lnTo>
                  <a:pt x="238915" y="129276"/>
                </a:lnTo>
                <a:lnTo>
                  <a:pt x="36507" y="129276"/>
                </a:lnTo>
                <a:lnTo>
                  <a:pt x="36507" y="80044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Овал 7"/>
          <p:cNvSpPr/>
          <p:nvPr/>
        </p:nvSpPr>
        <p:spPr>
          <a:xfrm>
            <a:off x="2556000" y="3213000"/>
            <a:ext cx="1224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587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Овал 8"/>
          <p:cNvSpPr/>
          <p:nvPr/>
        </p:nvSpPr>
        <p:spPr>
          <a:xfrm>
            <a:off x="4356000" y="3195720"/>
            <a:ext cx="136836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29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Овал 9"/>
          <p:cNvSpPr/>
          <p:nvPr/>
        </p:nvSpPr>
        <p:spPr>
          <a:xfrm>
            <a:off x="2843280" y="2397240"/>
            <a:ext cx="165744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401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Овал 10"/>
          <p:cNvSpPr/>
          <p:nvPr/>
        </p:nvSpPr>
        <p:spPr>
          <a:xfrm>
            <a:off x="3879720" y="1557360"/>
            <a:ext cx="1656000" cy="647640"/>
          </a:xfrm>
          <a:prstGeom prst="ellipse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00000"/>
                </a:solidFill>
                <a:latin typeface="Calibri"/>
              </a:rPr>
              <a:t>170500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Лента лицом вниз 11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" dur="indefinite" restart="never" nodeType="tmRoot">
          <p:childTnLst>
            <p:seq>
              <p:cTn id="55" dur="indefinite" nodeType="mainSeq">
                <p:childTnLst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4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2060"/>
                </a:solidFill>
                <a:latin typeface="Calibri"/>
              </a:rPr>
              <a:t>Заполни схему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1" name="Picture 2" descr=""/>
          <p:cNvPicPr/>
          <p:nvPr/>
        </p:nvPicPr>
        <p:blipFill>
          <a:blip r:embed="rId1"/>
          <a:stretch/>
        </p:blipFill>
        <p:spPr>
          <a:xfrm>
            <a:off x="630360" y="1628640"/>
            <a:ext cx="7408800" cy="3638520"/>
          </a:xfrm>
          <a:prstGeom prst="rect">
            <a:avLst/>
          </a:prstGeom>
          <a:ln w="0">
            <a:noFill/>
          </a:ln>
        </p:spPr>
      </p:pic>
      <p:sp>
        <p:nvSpPr>
          <p:cNvPr id="72" name="Скругленный прямоугольник 3"/>
          <p:cNvSpPr/>
          <p:nvPr/>
        </p:nvSpPr>
        <p:spPr>
          <a:xfrm>
            <a:off x="6804000" y="4005360"/>
            <a:ext cx="115272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98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Скругленный прямоугольник 5"/>
          <p:cNvSpPr/>
          <p:nvPr/>
        </p:nvSpPr>
        <p:spPr>
          <a:xfrm>
            <a:off x="5508720" y="31100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47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Скругленный прямоугольник 6"/>
          <p:cNvSpPr/>
          <p:nvPr/>
        </p:nvSpPr>
        <p:spPr>
          <a:xfrm>
            <a:off x="3708360" y="3081240"/>
            <a:ext cx="1295280" cy="36036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28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Скругленный прямоугольник 7"/>
          <p:cNvSpPr/>
          <p:nvPr/>
        </p:nvSpPr>
        <p:spPr>
          <a:xfrm>
            <a:off x="3995640" y="2205000"/>
            <a:ext cx="151308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3254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Скругленный прямоугольник 8"/>
          <p:cNvSpPr/>
          <p:nvPr/>
        </p:nvSpPr>
        <p:spPr>
          <a:xfrm>
            <a:off x="1476360" y="2141640"/>
            <a:ext cx="1511280" cy="43164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872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Скругленный прямоугольник 9"/>
          <p:cNvSpPr/>
          <p:nvPr/>
        </p:nvSpPr>
        <p:spPr>
          <a:xfrm>
            <a:off x="3227400" y="1628640"/>
            <a:ext cx="1512720" cy="432000"/>
          </a:xfrm>
          <a:prstGeom prst="roundRect">
            <a:avLst>
              <a:gd name="adj" fmla="val 16667"/>
            </a:avLst>
          </a:prstGeom>
          <a:solidFill>
            <a:srgbClr val="fac09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1e1c11"/>
                </a:solidFill>
                <a:latin typeface="Calibri"/>
              </a:rPr>
              <a:t>15126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Лента лицом вниз 10"/>
          <p:cNvSpPr/>
          <p:nvPr/>
        </p:nvSpPr>
        <p:spPr>
          <a:xfrm>
            <a:off x="4932360" y="5732640"/>
            <a:ext cx="4241880" cy="865080"/>
          </a:xfrm>
          <a:custGeom>
            <a:avLst/>
            <a:gdLst>
              <a:gd name="textAreaLeft" fmla="*/ 1060560 w 4241880"/>
              <a:gd name="textAreaRight" fmla="*/ 3181680 w 4241880"/>
              <a:gd name="textAreaTop" fmla="*/ 144000 h 865080"/>
              <a:gd name="textAreaBottom" fmla="*/ 865440 h 865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7425" y="0"/>
                </a:lnTo>
                <a:arcTo wR="675" hR="900" stAng="16200000" swAng="5400000"/>
                <a:lnTo>
                  <a:pt x="8100" y="3600"/>
                </a:lnTo>
                <a:lnTo>
                  <a:pt x="13500" y="3600"/>
                </a:lnTo>
                <a:lnTo>
                  <a:pt x="13500" y="900"/>
                </a:lnTo>
                <a:arcTo wR="675" hR="900" stAng="10800000" swAng="5400000"/>
                <a:lnTo>
                  <a:pt x="21600" y="0"/>
                </a:lnTo>
                <a:lnTo>
                  <a:pt x="18900" y="9000"/>
                </a:lnTo>
                <a:lnTo>
                  <a:pt x="21600" y="18000"/>
                </a:lnTo>
                <a:lnTo>
                  <a:pt x="16200" y="18000"/>
                </a:lnTo>
                <a:lnTo>
                  <a:pt x="16200" y="20700"/>
                </a:lnTo>
                <a:arcTo wR="675" hR="900" stAng="0" swAng="5400000"/>
                <a:lnTo>
                  <a:pt x="6075" y="21600"/>
                </a:lnTo>
                <a:arcTo wR="675" hR="900" stAng="5400000" swAng="5400000"/>
                <a:lnTo>
                  <a:pt x="5400" y="18000"/>
                </a:lnTo>
                <a:lnTo>
                  <a:pt x="0" y="18000"/>
                </a:lnTo>
                <a:lnTo>
                  <a:pt x="2700" y="9000"/>
                </a:lnTo>
                <a:close/>
              </a:path>
              <a:path fill="none" w="21600" h="21600">
                <a:moveTo>
                  <a:pt x="8100" y="900"/>
                </a:moveTo>
                <a:arcTo wR="675" hR="900" stAng="0" swAng="5400000"/>
                <a:lnTo>
                  <a:pt x="6075" y="1800"/>
                </a:lnTo>
                <a:arcTo wR="675" hR="900" stAng="16200000" swAng="-5400000"/>
                <a:arcTo wR="675" hR="900" stAng="10800000" swAng="-5400000"/>
                <a:lnTo>
                  <a:pt x="8100" y="3600"/>
                </a:lnTo>
              </a:path>
              <a:path fill="none" w="21600" h="21600">
                <a:moveTo>
                  <a:pt x="13500" y="900"/>
                </a:moveTo>
                <a:arcTo wR="675" hR="900" stAng="10800000" swAng="-5400000"/>
                <a:lnTo>
                  <a:pt x="15525" y="1800"/>
                </a:lnTo>
                <a:arcTo wR="675" hR="900" stAng="16200000" swAng="5400000"/>
                <a:arcTo wR="675" hR="900" stAng="0" swAng="5400000"/>
                <a:lnTo>
                  <a:pt x="13500" y="3600"/>
                </a:lnTo>
              </a:path>
              <a:path fill="none" w="21600" h="21600">
                <a:moveTo>
                  <a:pt x="5400" y="2700"/>
                </a:moveTo>
                <a:lnTo>
                  <a:pt x="5400" y="18000"/>
                </a:lnTo>
              </a:path>
              <a:path fill="none" w="21600" h="21600">
                <a:moveTo>
                  <a:pt x="16200" y="2700"/>
                </a:moveTo>
                <a:lnTo>
                  <a:pt x="16200" y="18000"/>
                </a:lnTo>
              </a:path>
            </a:pathLst>
          </a:cu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тлично!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1" dur="2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1" dur="2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6" dur="2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1" dur="2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0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09T12:22:53Z</dcterms:created>
  <dc:creator>User</dc:creator>
  <dc:description/>
  <dc:language>en-US</dc:language>
  <cp:lastModifiedBy>User</cp:lastModifiedBy>
  <dcterms:modified xsi:type="dcterms:W3CDTF">2012-02-09T13:01:57Z</dcterms:modified>
  <cp:revision>8</cp:revision>
  <dc:subject/>
  <dc:title>Действия с натуральными числами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78050000000000010250300207f7000400038000</vt:lpwstr>
  </property>
</Properties>
</file>