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8D2B-022F-42FF-BBDA-03EB7F54B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3BE9-BD50-474C-BAC2-DF71F79B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A948-49A3-420C-801A-F00A0BE1B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3932-D8F6-4FC5-BA44-A157FE4DF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ACC6-9DC0-4E62-9EB0-419437CDC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9313-AB3E-4166-8697-10EAC4B1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9ACE-A3F1-4911-9D01-9495BA46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9B50-035C-42A3-96D7-8931B97E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07FF-C03E-44E9-AB05-CFC210FD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0413-2BB3-4F45-883D-75A8A6A3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3C40B-ABF3-4CC6-B475-E3DF76D3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A9D8-D2ED-4B9B-B84E-1E8AA85D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6DEC0-4A88-475B-BC92-C68EEA9D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E2662-3517-4BA7-A36E-2E3181D6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B9BB-3BF2-4DF4-81D4-1425647D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F9F3-F8F8-4684-B8F4-C1FF19E3E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6C93-E2E1-43CE-81E8-2A538385C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FD25-123A-40D7-A129-7A3A25DE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5D7A-6634-4A62-A998-3AFE092A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8FF4-32F6-44AB-80C1-03E5938C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1A96-6CF8-47F8-A6D2-E7B5080C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29C8-DB50-4DE9-9E50-9A023856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77A5-A994-4844-B6B2-F9A6782A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4718-F7F3-4FBA-B76E-826023AD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C9A5-8FC8-4194-B30C-61ECB86576E0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D33D-232E-4B61-8698-2F1C3517640C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996633"/>
                </a:solidFill>
                <a:latin typeface="Times New Roman"/>
              </a:rPr>
              <a:t>ГЕОМЕТРИЯ</a:t>
            </a:r>
            <a:endParaRPr b="0" lang="en-US" sz="8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00200" y="274320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08366"/>
                </a:solidFill>
                <a:latin typeface="Times New Roman"/>
              </a:rPr>
              <a:t>Векторы </a:t>
            </a:r>
            <a:endParaRPr b="0" lang="en-US" sz="48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08366"/>
                </a:solidFill>
                <a:latin typeface="Times New Roman"/>
              </a:rPr>
              <a:t>в </a:t>
            </a:r>
            <a:endParaRPr b="0" lang="en-US" sz="48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08366"/>
                </a:solidFill>
                <a:latin typeface="Times New Roman"/>
              </a:rPr>
              <a:t>пространстве</a:t>
            </a:r>
            <a:endParaRPr b="0" lang="en-US" sz="48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6633"/>
                </a:solidFill>
                <a:latin typeface="Times New Roman"/>
              </a:rPr>
              <a:t>В Е К Т О Р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1760" y="14475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-  </a:t>
            </a:r>
            <a:r>
              <a:rPr b="0" lang="en-US" sz="3600" spc="-1" strike="noStrike">
                <a:solidFill>
                  <a:srgbClr val="a08366"/>
                </a:solidFill>
                <a:latin typeface="Times New Roman"/>
              </a:rPr>
              <a:t>это направленный отрезок </a:t>
            </a:r>
            <a:endParaRPr b="0" lang="en-US" sz="36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514600" y="2819520"/>
            <a:ext cx="4038480" cy="25905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33800" y="5300640"/>
            <a:ext cx="228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Начало вектора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69440" y="2276640"/>
            <a:ext cx="20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Конец вектор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9492200">
            <a:off x="3963960" y="38858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962520" y="3962160"/>
            <a:ext cx="152280" cy="759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КОЛЛИНЕАРНЫЕ ВЕКТОРЫ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61760" y="51811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- это векторы, лежащие на одной или на параллельных прямых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2819520"/>
            <a:ext cx="24382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2209680"/>
            <a:ext cx="28954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4038480"/>
            <a:ext cx="19810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4280" y="2362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43200" y="2438280"/>
            <a:ext cx="304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554880" y="1752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88000" y="184464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20800" y="35812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95680" y="365760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СОНАПРАВЛЕННЫЕ ВЕКТОРЫ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838080" y="4952520"/>
            <a:ext cx="7848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-  это векторы, имеющие одно направление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743200" y="2666520"/>
            <a:ext cx="1600200" cy="1219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029200" y="2742840"/>
            <a:ext cx="2209680" cy="16765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rot="18904200">
            <a:off x="3048480" y="29714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9279800">
            <a:off x="5869800" y="3200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048120" y="3047760"/>
            <a:ext cx="152280" cy="1522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867280" y="3276360"/>
            <a:ext cx="152640" cy="1522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79246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Если векторы сонаправлены и их длины равны, то эти векторы называются</a:t>
            </a:r>
            <a:br>
              <a:rPr sz="4400"/>
            </a:b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РАВНЫМИ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533160" y="6476760"/>
            <a:ext cx="838188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666880" y="4343400"/>
            <a:ext cx="2819520" cy="9907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191120" y="4572000"/>
            <a:ext cx="2819160" cy="9907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20187000">
            <a:off x="3659040" y="44197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20547000">
            <a:off x="5183640" y="464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657600" y="4495680"/>
            <a:ext cx="15228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181480" y="4724280"/>
            <a:ext cx="22860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6192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33"/>
                </a:solidFill>
                <a:uFillTx/>
                <a:latin typeface="Times New Roman"/>
              </a:rPr>
              <a:t>СЛОЖЕНИЕ ВЕКТОРОВ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37720" y="3733920"/>
            <a:ext cx="80010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08366"/>
                </a:solidFill>
                <a:latin typeface="Times New Roman"/>
              </a:rPr>
              <a:t>Для любых векторов справедливы равенства: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a+b=b+a (</a:t>
            </a:r>
            <a:r>
              <a:rPr b="0" lang="ru-RU" sz="3200" spc="-1" strike="noStrike">
                <a:solidFill>
                  <a:srgbClr val="a08366"/>
                </a:solidFill>
                <a:latin typeface="Times New Roman"/>
              </a:rPr>
              <a:t>переместительный закон</a:t>
            </a: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(a+b)+c=a+ (b+c) (сочетательный закон) 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828800" y="2362320"/>
            <a:ext cx="1066680" cy="9144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429000" y="2286000"/>
            <a:ext cx="1066680" cy="9144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1828800"/>
            <a:ext cx="19810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2362320"/>
            <a:ext cx="198144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8999600">
            <a:off x="2135520" y="2437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8348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133720" y="2438280"/>
            <a:ext cx="228600" cy="15264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429000" y="2362320"/>
            <a:ext cx="2971800" cy="8380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0" y="152388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20766000">
            <a:off x="4429440" y="281412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+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495680" y="2971800"/>
            <a:ext cx="22860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800600" y="2895480"/>
            <a:ext cx="152280" cy="763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УМНОЖЕНИЕ ВЕКТОРА НА ЧИСЛО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066320" y="236232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(kl) a =k (la)  -  </a:t>
            </a:r>
            <a:r>
              <a:rPr b="0" lang="ru-RU" sz="3200" spc="-1" strike="noStrike">
                <a:solidFill>
                  <a:srgbClr val="a08366"/>
                </a:solidFill>
                <a:latin typeface="Times New Roman"/>
              </a:rPr>
              <a:t>сочетательный закон 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k (a+b) = ka + kb  -  1-ый распределительный закон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(k + l) a = ka + la  -  2-ой распределительный закон 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62320" y="243828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251460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304812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81280" y="304812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57800" y="297180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2971800"/>
            <a:ext cx="304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724280" y="419112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10080" y="419112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419112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2T03:25:04Z</dcterms:created>
  <dc:creator>60</dc:creator>
  <dc:description/>
  <dc:language>en-US</dc:language>
  <cp:lastModifiedBy>school</cp:lastModifiedBy>
  <dcterms:modified xsi:type="dcterms:W3CDTF">2004-11-16T06:12:14Z</dcterms:modified>
  <cp:revision>7</cp:revision>
  <dc:subject/>
  <dc:title>ГЕОМЕТРИЯ</dc:title>
</cp:coreProperties>
</file>