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8FB-F9AB-42D7-8CA0-DBC2EBDD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827-9F02-4ED3-A2F5-4D394621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D15-17AD-43EA-921D-ED99A1F0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50A-F393-42DC-B771-3A0F7A31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46A7-BE40-468A-8D2F-C8EFF556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467F-8892-4B72-BA48-2C4D781E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6321-D59B-441C-A77F-494F07E5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2937-69BD-45A9-B685-F8809AF4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0E2D-22D4-4DA1-B335-5B4B7EA4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FE19-CFDE-47F8-A3AE-9BC45F42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43D1-59BD-4FC6-A993-F01B46DF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1BE-8C23-4CF4-8CD0-581FBCA9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CA2A-31EA-44C1-90B5-A3F9A6E7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AD77-E4A5-46A7-BDB8-190396EA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D0D8-651D-4433-9C50-EA55BAEE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0FA9-CAFA-407D-A494-7E53F33A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C6C-EA97-4C27-AE08-DF168B25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D86-21E3-4BA1-88A2-381FD71D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BBF-A7F2-4C76-9275-64E66367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4D8-5B70-45C1-BF38-F78331C8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584-4F1F-40C2-AEDF-8F9311DD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CC26-029B-4F7F-84F5-C0EEA0DD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9AF-A412-4FDD-BD21-39466EF5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270-2C90-4896-B4AF-9380BEE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CAFC-FAE1-4F2F-B6BF-939A4B1B5F4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0C78-15D6-4C7B-BB37-BBD5286C4AD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33"/>
                </a:solidFill>
                <a:latin typeface="Times New Roman"/>
              </a:rPr>
              <a:t>ГЕОМЕТРИЯ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екторы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пространстве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В Е К Т О Р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</a:t>
            </a:r>
            <a:r>
              <a:rPr b="0" lang="en-US" sz="3600" spc="-1" strike="noStrike">
                <a:solidFill>
                  <a:srgbClr val="a08366"/>
                </a:solidFill>
                <a:latin typeface="Times New Roman"/>
              </a:rPr>
              <a:t>это направленный отрезок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2819520"/>
            <a:ext cx="4038480" cy="2590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800" y="530064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чало вектора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9440" y="22766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492200">
            <a:off x="3963960" y="3885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2520" y="3962160"/>
            <a:ext cx="15228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это векторы, лежащие на одной или на параллельных прямых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8954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03848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428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4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080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657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СОНАПРАВЛЕН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4952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это векторы, имеющие одно направление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2666520"/>
            <a:ext cx="160020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2742840"/>
            <a:ext cx="2209680" cy="1676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8904200">
            <a:off x="3048480" y="2971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279800">
            <a:off x="5869800" y="320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30477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67280" y="3276360"/>
            <a:ext cx="15264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Если векторы сонаправлены и их длины равны, то эти векторы называются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РАВНЫМ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4343400"/>
            <a:ext cx="281952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4572000"/>
            <a:ext cx="28191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87000">
            <a:off x="365904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547000">
            <a:off x="5183640" y="46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44956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472428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СЛОЖЕ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3733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Для любых векторов справедливы равенства: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+b=b+a (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переместительный закон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a+b)+c=a+ (b+c) (сочетательный закон)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236232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228600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1981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999600">
            <a:off x="2135520" y="243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2438280"/>
            <a:ext cx="22860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362320"/>
            <a:ext cx="2971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5238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66000">
            <a:off x="4429440" y="2814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297180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8954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УМНОЖЕНИЕ ВЕКТОРА НА ЧИСЛ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l) a =k (la)  - 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сочета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k (a+b) = ka + kb  -  1-ый распределительный закон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 + l) a = ka + la  -  2-ой распредели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9718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3:25:04Z</dcterms:created>
  <dc:creator>60</dc:creator>
  <dc:description/>
  <dc:language>en-US</dc:language>
  <cp:lastModifiedBy>school</cp:lastModifiedBy>
  <dcterms:modified xsi:type="dcterms:W3CDTF">2004-11-16T06:12:14Z</dcterms:modified>
  <cp:revision>7</cp:revision>
  <dc:subject/>
  <dc:title>ГЕОМЕТРИЯ</dc:title>
</cp:coreProperties>
</file>