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F6306-35C5-4E2A-9DCC-8EBDBA81F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647720" y="46544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8A65E-F24D-473D-8BAC-A377CDFDF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2768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647720" y="46544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27680" y="46544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7C7DB-F2B3-47CE-9BE6-7F3748F70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11680" y="37386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76000" y="37386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647720" y="46544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11680" y="46544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76000" y="46544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A98C8-7FA3-4E02-A3A7-DBFFE5DF9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F7312-7348-4B2E-82A4-2012B96F0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647720" y="373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B6254-0D53-4552-B4EE-7E0167CC5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97BA7-858F-411C-9195-86E0FA7FF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27680" y="37386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E2C9B-505D-4551-BEEA-0726CB82F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18DF1-A4C4-4AFF-A6D6-5FEC3E761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61920" y="19252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242ED-9F0A-40AB-AEDC-064004D2E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27680" y="37386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647720" y="46544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2E7AD-D6DD-4E9E-9E9E-2ED193412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647720" y="373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E5743-8A1B-497F-A871-DA83F4A9D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2768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27680" y="46544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931A3-EBF8-4AD8-8377-C1466D3AA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2768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647720" y="46544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3A153-20E4-4932-8B82-16E24104D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647720" y="46544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1297E-F7BA-4C61-AA32-4C81B68B4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2768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647720" y="46544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27680" y="46544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0766C-83BA-426B-8459-89283E052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11680" y="37386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76000" y="37386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647720" y="46544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811680" y="46544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76000" y="46544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300EC-C5FC-4969-8822-12C196245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0D702-0F14-424A-9242-BC3045BBE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27680" y="37386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3F38A-C28A-4130-A2D9-B3C5EE274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3588D-0889-4776-B459-8F9BB5CF2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61920" y="19252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D3E46-1863-4B24-B543-BCF21FD13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27680" y="37386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47720" y="46544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91D43-CF2C-4A98-B651-A30B9A5C3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2768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27680" y="46544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8D9C2-5C39-43C7-9605-0BD4797FE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2768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647720" y="46544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E79B9-602A-4B7E-854F-B34980908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D5D66-FF08-48C6-BA39-3B891851C51A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6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47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AAC5E-5F1A-42EE-B89B-6ABE01F805E1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08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800" spc="-1" strike="noStrike">
                <a:solidFill>
                  <a:srgbClr val="996633"/>
                </a:solidFill>
                <a:latin typeface="Times New Roman"/>
              </a:rPr>
              <a:t>ГЕОМЕТРИЯ</a:t>
            </a:r>
            <a:endParaRPr b="0" lang="en-US" sz="8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600200" y="2743200"/>
            <a:ext cx="64008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a08366"/>
                </a:solidFill>
                <a:latin typeface="Times New Roman"/>
              </a:rPr>
              <a:t>Векторы </a:t>
            </a:r>
            <a:endParaRPr b="0" lang="en-US" sz="4800" spc="-1" strike="noStrike">
              <a:solidFill>
                <a:srgbClr val="a08366"/>
              </a:solidFill>
              <a:latin typeface="Times New Roman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a08366"/>
                </a:solidFill>
                <a:latin typeface="Times New Roman"/>
              </a:rPr>
              <a:t>в </a:t>
            </a:r>
            <a:endParaRPr b="0" lang="en-US" sz="4800" spc="-1" strike="noStrike">
              <a:solidFill>
                <a:srgbClr val="a08366"/>
              </a:solidFill>
              <a:latin typeface="Times New Roman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a08366"/>
                </a:solidFill>
                <a:latin typeface="Times New Roman"/>
              </a:rPr>
              <a:t>пространстве</a:t>
            </a:r>
            <a:endParaRPr b="0" lang="en-US" sz="4800" spc="-1" strike="noStrike">
              <a:solidFill>
                <a:srgbClr val="a08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4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6633"/>
                </a:solidFill>
                <a:latin typeface="Times New Roman"/>
              </a:rPr>
              <a:t>В Е К Т О Р</a:t>
            </a: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761760" y="144756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08366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a08366"/>
                </a:solidFill>
                <a:latin typeface="Times New Roman"/>
              </a:rPr>
              <a:t>-  </a:t>
            </a:r>
            <a:r>
              <a:rPr b="0" lang="en-US" sz="3600" spc="-1" strike="noStrike">
                <a:solidFill>
                  <a:srgbClr val="a08366"/>
                </a:solidFill>
                <a:latin typeface="Times New Roman"/>
              </a:rPr>
              <a:t>это направленный отрезок </a:t>
            </a:r>
            <a:endParaRPr b="0" lang="en-US" sz="36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514600" y="2819520"/>
            <a:ext cx="4038480" cy="259056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333800" y="5300640"/>
            <a:ext cx="228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Начало вектора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869440" y="2276640"/>
            <a:ext cx="207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Конец вектора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rot="19492200">
            <a:off x="3963960" y="388584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962520" y="3962160"/>
            <a:ext cx="152280" cy="7596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КОЛЛИНЕАРНЫЕ ВЕКТОРЫ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761760" y="518112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08366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a08366"/>
                </a:solidFill>
                <a:latin typeface="Times New Roman"/>
              </a:rPr>
              <a:t>- это векторы, лежащие на одной или на параллельных прямых</a:t>
            </a: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600200" y="2819520"/>
            <a:ext cx="243828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2209680"/>
            <a:ext cx="289548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657600" y="4038480"/>
            <a:ext cx="198108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744280" y="23623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743200" y="2438280"/>
            <a:ext cx="30492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554880" y="1752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588000" y="1844640"/>
            <a:ext cx="22860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420800" y="35812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495680" y="3657600"/>
            <a:ext cx="22860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СОНАПРАВЛЕННЫЕ ВЕКТОРЫ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838080" y="4952520"/>
            <a:ext cx="784872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08366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a08366"/>
                </a:solidFill>
                <a:latin typeface="Times New Roman"/>
              </a:rPr>
              <a:t>-  это векторы, имеющие одно направление</a:t>
            </a: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2743200" y="2666520"/>
            <a:ext cx="1600200" cy="121932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5029200" y="2742840"/>
            <a:ext cx="2209680" cy="167652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 rot="18904200">
            <a:off x="3048480" y="297144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19279800">
            <a:off x="5869800" y="32000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3048120" y="3047760"/>
            <a:ext cx="152280" cy="15228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867280" y="3276360"/>
            <a:ext cx="152640" cy="15228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040" y="533520"/>
            <a:ext cx="792468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Если векторы сонаправлены и их длины равны, то эти векторы называются</a:t>
            </a:r>
            <a:br>
              <a:rPr sz="4400"/>
            </a:b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 РАВНЫМИ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533160" y="6476760"/>
            <a:ext cx="8381880" cy="7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9160" bIns="2916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2666880" y="4343400"/>
            <a:ext cx="2819520" cy="99072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4191120" y="4572000"/>
            <a:ext cx="2819160" cy="99072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20187000">
            <a:off x="3659040" y="44197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rot="20547000">
            <a:off x="5183640" y="4647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657600" y="4495680"/>
            <a:ext cx="152280" cy="7632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5181480" y="4724280"/>
            <a:ext cx="228600" cy="7632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6192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996633"/>
                </a:solidFill>
                <a:uFillTx/>
                <a:latin typeface="Times New Roman"/>
              </a:rPr>
              <a:t>СЛОЖЕНИЕ ВЕКТОРОВ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837720" y="3733920"/>
            <a:ext cx="800100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a08366"/>
                </a:solidFill>
                <a:latin typeface="Times New Roman"/>
              </a:rPr>
              <a:t>Для любых векторов справедливы равенства:</a:t>
            </a: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08366"/>
                </a:solidFill>
                <a:latin typeface="Times New Roman"/>
              </a:rPr>
              <a:t>a+b=b+a (</a:t>
            </a:r>
            <a:r>
              <a:rPr b="0" lang="ru-RU" sz="3200" spc="-1" strike="noStrike">
                <a:solidFill>
                  <a:srgbClr val="a08366"/>
                </a:solidFill>
                <a:latin typeface="Times New Roman"/>
              </a:rPr>
              <a:t>переместительный закон</a:t>
            </a:r>
            <a:r>
              <a:rPr b="0" lang="en-US" sz="3200" spc="-1" strike="noStrike">
                <a:solidFill>
                  <a:srgbClr val="a08366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08366"/>
                </a:solidFill>
                <a:latin typeface="Times New Roman"/>
              </a:rPr>
              <a:t>(a+b)+c=a+ (b+c) (сочетательный закон) </a:t>
            </a: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1828800" y="2362320"/>
            <a:ext cx="1066680" cy="91440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3429000" y="2286000"/>
            <a:ext cx="1066680" cy="91440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172200" y="1828800"/>
            <a:ext cx="198108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495680" y="2362320"/>
            <a:ext cx="198144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rot="18999600">
            <a:off x="2135520" y="24379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783480" y="1447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2133720" y="2438280"/>
            <a:ext cx="228600" cy="15264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429000" y="2362320"/>
            <a:ext cx="2971800" cy="83808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858000" y="1523880"/>
            <a:ext cx="22860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rot="20766000">
            <a:off x="4429440" y="2814120"/>
            <a:ext cx="6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a+b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4495680" y="2971800"/>
            <a:ext cx="228600" cy="7632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4800600" y="2895480"/>
            <a:ext cx="152280" cy="7632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УМНОЖЕНИЕ ВЕКТОРА НА ЧИСЛО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1066320" y="2362320"/>
            <a:ext cx="75438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08366"/>
                </a:solidFill>
                <a:latin typeface="Times New Roman"/>
              </a:rPr>
              <a:t>(kl) a =k (la)  -  </a:t>
            </a:r>
            <a:r>
              <a:rPr b="0" lang="ru-RU" sz="3200" spc="-1" strike="noStrike">
                <a:solidFill>
                  <a:srgbClr val="a08366"/>
                </a:solidFill>
                <a:latin typeface="Times New Roman"/>
              </a:rPr>
              <a:t>сочетательный закон </a:t>
            </a: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08366"/>
                </a:solidFill>
                <a:latin typeface="Times New Roman"/>
              </a:rPr>
              <a:t>k (a+b) = ka + kb  -  1-ый распределительный закон</a:t>
            </a: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08366"/>
                </a:solidFill>
                <a:latin typeface="Times New Roman"/>
              </a:rPr>
              <a:t>(k + l) a = ka + la  -  2-ой распределительный закон </a:t>
            </a: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08366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362320" y="2438280"/>
            <a:ext cx="22860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429000" y="2514600"/>
            <a:ext cx="22860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124080" y="3048120"/>
            <a:ext cx="22860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581280" y="3048120"/>
            <a:ext cx="22860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257800" y="2971800"/>
            <a:ext cx="22860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95880" y="2971800"/>
            <a:ext cx="30492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724280" y="4191120"/>
            <a:ext cx="22860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410080" y="4191120"/>
            <a:ext cx="22860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886200" y="4191120"/>
            <a:ext cx="22860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22T03:25:04Z</dcterms:created>
  <dc:creator>60</dc:creator>
  <dc:description/>
  <dc:language>en-US</dc:language>
  <cp:lastModifiedBy>school</cp:lastModifiedBy>
  <dcterms:modified xsi:type="dcterms:W3CDTF">2004-11-16T06:12:14Z</dcterms:modified>
  <cp:revision>7</cp:revision>
  <dc:subject/>
  <dc:title>ГЕОМЕТРИЯ</dc:title>
</cp:coreProperties>
</file>