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E7D-3D59-407C-86A0-F0A67022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392-4D48-4BF4-BDDF-28DFDE2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CBA-F175-4BCC-B5E6-9461FD6C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001-8829-41A3-8DB6-CFB7C252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7F7B-7D4F-4C9E-BAD3-FEEE3013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B640-A591-43E6-9744-6B65F4D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BEF-B38B-44A0-84F9-5FC54009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07D-0F0C-48F2-8A5B-81B0CF9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066-F87A-4ECE-A275-1D3A54F8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53E6-80C6-44D5-B7BB-92342DC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2432-F9C2-4B66-B3B6-53B7A95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72F-3D2E-4745-B28A-D705062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1847-C9C1-417A-8651-253F9D6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FFE-004E-41BC-9D43-032596B9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7BA-8442-44F1-89F3-DD8490C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733-6206-46C6-AC51-C091D51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31B0-8A10-4DB2-88DC-A9D94091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3F5-6E19-492E-870E-9936352F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609-5F90-43C1-9D68-759C543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6C8-18F7-4C16-9F9B-09F1F9A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36C-C585-4ED4-940D-38908A5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80F-A3A7-40BB-A512-D0389C9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99F-3E44-4AB5-989A-E9B04A8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A0C-5CB5-439F-B778-F12CE4C4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BDF8-D2A8-47E9-A614-C0EB9D637B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E21-16E1-4E3A-A30B-9F6A86250B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2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2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24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540"/>
                            </p:stCondLst>
                            <p:childTnLst>
                              <p:par>
                                <p:cTn id="4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944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36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156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