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53B-0D4F-4B60-8F0E-473AFD34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E47E-7594-4D6F-8B0B-8C89B604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191-EAB7-4A13-BB53-9A90C463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A1A-16FD-4992-9683-4F72EAA6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BCCF-1A2B-4748-9A81-C9B282B3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B24B-9E05-48CE-A6B1-25C248AA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6A8C-930E-46EB-86DF-C311E44B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509A-EA90-4927-A99C-BE428237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08AD-4C7B-496A-B30E-05F74E7F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239C-46BD-46A6-B9BD-1E5609F7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F491-61DC-4A95-94DC-7C7FE468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697E-3011-43A2-9579-C993F88C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E9BB-191B-47E1-A2C1-2F2CFBC9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9D2A-551F-4FB0-925E-3DAAA39B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0541-18A0-4789-A1CC-262072C0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34DA-EFE2-443A-81E7-17931878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062F-8195-4D70-9283-E757AE55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C0B0-94C4-4DA6-BB47-410F3418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A0D-0060-4313-AA59-9C847FB0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057-E9DD-4F6B-A83A-560B3A19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E1C-C75A-408F-8AC2-86C083EA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F23-47EA-4A56-B88B-CF869293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74E2-B23C-482C-8173-2DFD1C9F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22C-C7ED-46EE-B456-C739DADF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E461-4B7E-489A-9FCB-9320268E3A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06F6-15B7-4BE1-96FB-2EAA5FC31E0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fagor.home.nov.ru/stixi.htm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5272200" cy="825480"/>
          </a:xfrm>
          <a:prstGeom prst="rect">
            <a:avLst/>
          </a:prstGeom>
          <a:solidFill>
            <a:srgbClr val="73f3f3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mic Sans MS"/>
              </a:rPr>
              <a:t>Теорема Пифагора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5390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ребудет вечной истина, как скор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ё познает слабый человек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И ныне теорема Пифаг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ерна, как и в его далёкий в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6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4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252360" y="333360"/>
            <a:ext cx="496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чевидно, что углы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CAE=GAB(=A+90°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тсюда следует, что треугольник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G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закрашенные на рисунке) равны между собой (по двум сторонам и углу, заключённому между ними). Сравним далее тре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прямо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PQE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ни имеют общее осн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высот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пущенную на это основание, следователь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PQEA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чно так же квадрат FCAG и треугольник BAG имеют общее основание GA и высоту AC; значит,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FCA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G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79640" y="4597560"/>
            <a:ext cx="65516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Отсюда и из равенства треугольников ACE и GBA вытекает равновеликость прямоугольника QPBD и квадрата CFGA; аналогично доказывается и равновеликость прямоугольника QPAE и квадрата CHIB. А отсюда, следует, что квадрат ABDE равновелик сумме квадратов ACFG и BCHI, т.е. теорема Пифагора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лгебраическ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70040" y="1849320"/>
            <a:ext cx="2568600" cy="1446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08360" y="1773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оказать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924280"/>
            <a:ext cx="669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 Проведем высот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з вершины прямого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 По определению косинуса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А=AD/AC=A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тсюда след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AD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 Аналогичн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В=BD/BC=B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зна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BD=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) Сложив полученные равенства почленно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(AD +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        </a:t>
            </a:r>
            <a:r>
              <a:rPr b="1" i="1" lang="ru-RU" sz="1600" spc="-1" strike="noStrike">
                <a:solidFill>
                  <a:srgbClr val="008000"/>
                </a:solidFill>
                <a:latin typeface="Comic Sans MS"/>
              </a:rPr>
              <a:t>Что и требовалось д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Геометрическое доказательство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2519280" cy="1708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80600" y="16689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прямоугольный треуголь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ть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346840"/>
            <a:ext cx="594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) Построим отрезок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на продолжении катет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прямоугольного треугольник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Затем опустим перпендикуляр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к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соединим точк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) Площадь фигуры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можно найти, если рассматривать её как сумму площадей трёх треугольников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4076640"/>
            <a:ext cx="5867640" cy="34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2*AB*AC/2+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) Фигур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является трапецией, значит, её площадь равн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(DE+AB)*AD/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) Если приравнять левые части найденных выражений, то получи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(DE+AB)(CD+AC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(AC+A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*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то доказательство было опубликовано в 1882 году Гэрфилдом. 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path" presetID="1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8 0 L 0.25 0.16122 L 0.072 0.16122 L 0 0 Z">
                                      <p:cBhvr>
                                        <p:cTn id="408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600"/>
                            </p:stCondLst>
                            <p:childTnLst>
                              <p:par>
                                <p:cTn id="4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240"/>
                            </p:stCondLst>
                            <p:childTnLst>
                              <p:par>
                                <p:cTn id="4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2920"/>
                            </p:stCondLst>
                            <p:childTnLst>
                              <p:par>
                                <p:cTn id="4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342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540"/>
                            </p:stCondLst>
                            <p:childTnLst>
                              <p:par>
                                <p:cTn id="4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6040"/>
                            </p:stCondLst>
                            <p:childTnLst>
                              <p:par>
                                <p:cTn id="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8280"/>
                            </p:stCondLst>
                            <p:childTnLst>
                              <p:par>
                                <p:cTn id="4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9440"/>
                            </p:stCondLst>
                            <p:childTnLst>
                              <p:par>
                                <p:cTn id="4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360"/>
                            </p:stCondLst>
                            <p:childTnLst>
                              <p:par>
                                <p:cTn id="4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1560"/>
                            </p:stCondLst>
                            <p:childTnLst>
                              <p:par>
                                <p:cTn id="4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8560" y="2139480"/>
            <a:ext cx="719928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орема Пифагора- это одна из самых важных теорем геометрии. Значение её состоит в том, что из неё или с её помощью можно вывести большинство теорем геометри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14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азательство теоремы Пифагора учащиеся средних веков считали очень трудным и называли его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D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sinoru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ослиный мост, или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lefug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бегство «убогих», так как некоторые «убогие» ученики, не имевшие серьезной математической подготовки, бежали от геометрии. Слабые ученики, заучившие теоремы наизусть, без понимания, и прозванные поэтому «ослами», были не в состоянии преодолеть теорему Пифагора, служившую для них вроде непреодолимого моста. Из-за чертежей, сопровождающих теорему Пифагора, учащиеся называли ее также «ветряной мельницей», составляли стихи,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роде «Пифагоровы штаны на все стороны равны»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916360" y="3414600"/>
          <a:ext cx="432108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414600"/>
                    <a:ext cx="43210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улировк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5160" y="430200"/>
            <a:ext cx="57358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Формулировк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теорем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13096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« Доказать, что квадрат, построенный на гипотенузе прямоугольного треугольника, равновелик сумме квадратов, построенных на катетах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« Площадь квадрата, построенного на гипотенузе прямоугольного треугольника, равна сумме площадей квадратов, построенных на его катетах»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628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 времена Пифагора теорема звучала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342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временная формулиров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30320" y="2665080"/>
            <a:ext cx="720072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« В прямоугольном треугольнике квадрат гипотенузы равен сумме квадратов катетов».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   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3360" y="2545920"/>
            <a:ext cx="7197480" cy="22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Существует около 500 различных доказательств этой теоремы (геометрических, алгебраических, механических и т.д.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24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L 0.188 0.14523 L 0.125 0.28913 L 0 0.28913 L -0.063 0.14523 L 0 0 Z">
                                      <p:cBhvr>
                                        <p:cTn id="12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амое прост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163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смотрим квадрат, показанный на рисун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орона квадрата равн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+ 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2484360" y="4005360"/>
            <a:ext cx="4533840" cy="2246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957360" y="45086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07720" y="5373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1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6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дном случае (слева) квадрат разбит на квадрат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2563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829520" y="69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7920" y="981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0960" y="18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115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3141720"/>
            <a:ext cx="410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другом случае (справа) квадрат разбит на два квадрата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4960" y="2060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55560" y="10526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522936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аким образом, получаем, что площадь квадрата со стороной </a:t>
            </a:r>
            <a:r>
              <a:rPr b="1" lang="en-US" sz="2000" spc="-1" strike="noStrike">
                <a:solidFill>
                  <a:srgbClr val="98d743"/>
                </a:solidFill>
                <a:latin typeface="Comic Sans MS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авна сумме площадей квадратов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о Евклид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185640" y="2896920"/>
            <a:ext cx="317052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BDE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F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+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BCH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867280" y="1125360"/>
          <a:ext cx="2327400" cy="33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125360"/>
                    <a:ext cx="2327400" cy="33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256248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66600" y="165240"/>
            <a:ext cx="577188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985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усть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, построенный на гипотенузе прямоугольного треугольник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CF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CH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ы, построенные на его катетах. Опустим из вершины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рямого угла перпендикуляр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на гипотенузу и продолжим его до пересечения со стороной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квадрат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в точке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 соединим точк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073480" y="2027160"/>
            <a:ext cx="2773440" cy="2982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27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4:48:45Z</dcterms:created>
  <dc:creator>дидык юлия</dc:creator>
  <dc:description/>
  <dc:language>en-US</dc:language>
  <cp:lastModifiedBy>Natal'ia Vladimirovna</cp:lastModifiedBy>
  <dcterms:modified xsi:type="dcterms:W3CDTF">2008-06-06T10:03:28Z</dcterms:modified>
  <cp:revision>70</cp:revision>
  <dc:subject/>
  <dc:title>Теорема Пифагора</dc:title>
</cp:coreProperties>
</file>