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4FD5-6BB3-4753-8B5A-D4A00499A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D359-BC51-429B-A37C-3A724625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B7C2-103D-4DE0-BB83-B3D618956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8189-B963-4E05-977C-94EB55F08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B937-562A-4DE8-AF80-A2842184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45F5-0E31-4D8A-8DA8-9CA17BF8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4CE3-B3FD-417F-9A87-D76FC454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BCEE-E1DB-4D4A-A2DA-CFC551DD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3AF6-DB49-4529-AF54-73E14E1B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85B6-E7E4-4018-8C7E-9FA0C7C0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DCFC-5115-41B5-AF39-4ACDAC71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3208-EE67-4B2E-9011-CCBF095C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2C68-D9C3-4686-8764-37A81BFE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C398-BCBB-4A6B-B2C5-42CD6DEE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D7A4-CEC5-4A71-8116-CC11F6BE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DAF0-7E2F-42C3-9C94-4BDC933FF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122E-A252-4C84-B65A-B41FFEA20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CB45-BE4A-4B59-8112-2FED808A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0269-D03E-40B3-A855-FA2F5BCF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F1EB-0973-4F0E-BA66-46A20A40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1C7B-9E88-4A02-B5BB-18396F75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97FA-55DC-41C2-AB19-CDFC57D0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6C7D-0A2D-4FAF-A60F-7CF70C26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25F3-A826-4FE2-A520-CABE257B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82AA-FD58-45F6-8B38-54E3035711A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B346-381D-40AD-979C-EF8821F91F3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ifagor.home.nov.ru/stixi.htm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0000" y="188640"/>
            <a:ext cx="5272200" cy="825480"/>
          </a:xfrm>
          <a:prstGeom prst="rect">
            <a:avLst/>
          </a:prstGeom>
          <a:solidFill>
            <a:srgbClr val="73f3f3"/>
          </a:solidFill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omic Sans MS"/>
              </a:rPr>
              <a:t>Теорема Пифагора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5390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Пребудет вечной истина, как скор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Её познает слабый человек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И ныне теорема Пифаго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Верна, как и в его далёкий ве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4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60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56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40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-252360" y="333360"/>
            <a:ext cx="4968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чевидно, что углы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CAE=GAB(=A+90°)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отсюда следует, что треугольники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C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G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закрашенные на рисунке) равны между собой (по двум сторонам и углу, заключённому между ними). Сравним далее треугольник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C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прямоугольник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PQE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они имеют общее основание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высоту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P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опущенную на это основание, следовательно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PQEA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очно так же квадрат FCAG и треугольник BAG имеют общее основание GA и высоту AC; значит,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FCAG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=2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GA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716360" y="476280"/>
            <a:ext cx="3060720" cy="38098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979640" y="4597560"/>
            <a:ext cx="655164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Отсюда и из равенства треугольников ACE и GBA вытекает равновеликость прямоугольника QPBD и квадрата CFGA; аналогично доказывается и равновеликость прямоугольника QPAE и квадрата CHIB. А отсюда, следует, что квадрат ABDE равновелик сумме квадратов ACFG и BCHI, т.е. теорема Пифагора.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лгебраическое доказатель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70040" y="1849320"/>
            <a:ext cx="2568600" cy="14464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708360" y="1773360"/>
            <a:ext cx="453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Дано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прямоугольный треуго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Доказать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=AC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+BC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          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08000" y="2924280"/>
            <a:ext cx="6696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) Проведем высоту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з вершины прямого угла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) По определению косинуса угла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sА=AD/AC=AC/A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отсюда следу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B*AD=A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) Аналогично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sВ=BD/BC=BC/A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знач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B*BD=B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) Сложив полученные равенства почленно, получи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+B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В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*(AD + 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=A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+B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        </a:t>
            </a:r>
            <a:r>
              <a:rPr b="1" i="1" lang="ru-RU" sz="1600" spc="-1" strike="noStrike">
                <a:solidFill>
                  <a:srgbClr val="008000"/>
                </a:solidFill>
                <a:latin typeface="Comic Sans MS"/>
              </a:rPr>
              <a:t>Что и требовалось доказ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8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8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5" dur="2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95" dur="2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560" y="-171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Геометрическое доказательство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2519280" cy="17082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80600" y="166896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008080"/>
                <a:tab algn="r" pos="4016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о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B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прямоугольный треуголь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008080"/>
                <a:tab algn="r" pos="4016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казать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=AB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+A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35280" y="2346840"/>
            <a:ext cx="5940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Доказательств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) Построим отрезок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равный отрезку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на продолжении катета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прямоугольного треугольника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 Затем опустим перпендикуляр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E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к отрезку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равный отрезку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соединим точки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) Площадь фигуры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E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можно найти, если рассматривать её как сумму площадей трёх треугольников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4076640"/>
            <a:ext cx="5867640" cy="34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Comic Sans MS"/>
              </a:rPr>
              <a:t>ABED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=2*AB*AC/2+B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) Фигура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ABED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является трапецией, значит, её площадь равн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Comic Sans MS"/>
              </a:rPr>
              <a:t>ABED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(DE+AB)*AD/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4) Если приравнять левые части найденных выражений, то получим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*AC+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=(DE+AB)(CD+AC)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*AC+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= (AC+AB)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*AC+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= A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+AB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+AB*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B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=AB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+A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Это доказательство было опубликовано в 1882 году Гэрфилдом. </a:t>
            </a:r>
            <a:br>
              <a:rPr sz="1400"/>
            </a:br>
            <a:br>
              <a:rPr sz="32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path" presetID="1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78 0 L 0.25 0.16122 L 0.072 0.16122 L 0 0 Z">
                                      <p:cBhvr>
                                        <p:cTn id="412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600"/>
                            </p:stCondLst>
                            <p:childTnLst>
                              <p:par>
                                <p:cTn id="4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3240"/>
                            </p:stCondLst>
                            <p:childTnLst>
                              <p:par>
                                <p:cTn id="4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2920"/>
                            </p:stCondLst>
                            <p:childTnLst>
                              <p:par>
                                <p:cTn id="4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3420"/>
                            </p:stCondLst>
                            <p:childTnLst>
                              <p:par>
                                <p:cTn id="4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5540"/>
                            </p:stCondLst>
                            <p:childTnLst>
                              <p:par>
                                <p:cTn id="4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6040"/>
                            </p:stCondLst>
                            <p:childTnLst>
                              <p:par>
                                <p:cTn id="4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8280"/>
                            </p:stCondLst>
                            <p:childTnLst>
                              <p:par>
                                <p:cTn id="4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9440"/>
                            </p:stCondLst>
                            <p:childTnLst>
                              <p:par>
                                <p:cTn id="4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360"/>
                            </p:stCondLst>
                            <p:childTnLst>
                              <p:par>
                                <p:cTn id="4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1560"/>
                            </p:stCondLst>
                            <p:childTnLst>
                              <p:par>
                                <p:cTn id="5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2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Значение теоремы Пифаго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98560" y="2139480"/>
            <a:ext cx="719928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орема Пифагора- это одна из самых важных теорем геометрии. Значение её состоит в том, что из неё или с её помощью можно вывести большинство теорем геометри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8 0.033 -0.05863 0.058 -0.05863 C 0.095 -0.05863 0.125 -0.02265 0.125 0.02265 C 0.125 0.03731 0.122 0.05063 0.116 0.06262 C 0.117 0.06262 0 0.2425 0 0.24383 C 0 0.2425 -0.117 0.06262 -0.116 0.06262 C -0.122 0.05063 -0.125 0.03731 -0.125 0.02265 C -0.125 -0.02265 -0.095 -0.05863 -0.057 -0.05863 C -0.033 -0.05863 -0.012 -0.02398 0 0 Z">
                                      <p:cBhvr>
                                        <p:cTn id="518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61,11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7920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оказательство теоремы Пифагора учащиеся средних веков считали очень трудным и называли его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Don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asinorum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ослиный мост, или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lefug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бегство «убогих», так как некоторые «убогие» ученики, не имевшие серьезной математической подготовки, бежали от геометрии. Слабые ученики, заучившие теоремы наизусть, без понимания, и прозванные поэтому «ослами», были не в состоянии преодолеть теорему Пифагора, служившую для них вроде непреодолимого моста. Из-за чертежей, сопровождающих теорему Пифагора, учащиеся называли ее также «ветряной мельницей», составляли стихи,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роде «Пифагоровы штаны на все стороны равны», рисовали карикатур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916360" y="3414600"/>
          <a:ext cx="4321080" cy="344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3414600"/>
                    <a:ext cx="4321080" cy="34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улировка теорем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казательства теорем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начение теоремы Пифаго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amond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55160" y="430200"/>
            <a:ext cx="57358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Формулировка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теорем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13096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« Доказать, что квадрат, построенный на гипотенузе прямоугольного треугольника, равновелик сумме квадратов, построенных на катетах»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« Площадь квадрата, построенного на гипотенузе прямоугольного треугольника, равна сумме площадей квадратов, построенных на его катетах». 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62864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о времена Пифагора теорема звучала т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24360" y="342900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200"/>
                            </p:stCondLst>
                            <p:childTnLst>
                              <p:par>
                                <p:cTn id="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Современная формулиров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30320" y="2665080"/>
            <a:ext cx="7200720" cy="22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« В прямоугольном треугольнике квадрат гипотенузы равен сумме квадратов катетов».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   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blinds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Доказательства теор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63360" y="2545920"/>
            <a:ext cx="7197480" cy="22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66ff"/>
                </a:solidFill>
                <a:latin typeface="Comic Sans MS"/>
              </a:rPr>
              <a:t>Существует около 500 различных доказательств этой теоремы (геометрических, алгебраических, механических и т.д.)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6 -0.029 -0.01199 -0.044 -0.01199 C -0.114 -0.01199 -0.169 0.06396 -0.169 0.15589 C -0.169 0.2465 -0.114 0.32111 -0.044 0.32111 C -0.029 0.32111 -0.014 0.31711 0 0.31045 C -0.047 0.28647 -0.08 0.22651 -0.08 0.15589 C -0.08 0.08394 -0.047 0.02398 0 0 Z">
                                      <p:cBhvr>
                                        <p:cTn id="124" dur="3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L 0.188 0.14523 L 0.125 0.28913 L 0 0.28913 L -0.063 0.14523 L 0 0 Z">
                                      <p:cBhvr>
                                        <p:cTn id="128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Самое простое доказатель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916360" y="2081160"/>
            <a:ext cx="3527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ассмотрим квадрат, показанный на рисунке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торона квадрата равна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+ 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Теорема Пифагора. Доказательство 1"/>
          <p:cNvPicPr/>
          <p:nvPr/>
        </p:nvPicPr>
        <p:blipFill>
          <a:blip r:embed="rId1"/>
          <a:stretch/>
        </p:blipFill>
        <p:spPr>
          <a:xfrm>
            <a:off x="2484360" y="4005360"/>
            <a:ext cx="4533840" cy="22460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957360" y="45086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07720" y="537372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100"/>
                            </p:stCondLst>
                            <p:childTnLst>
                              <p:par>
                                <p:cTn id="1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600"/>
                            </p:stCondLst>
                            <p:childTnLst>
                              <p:par>
                                <p:cTn id="1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50560" y="22050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одном случае (слева) квадрат разбит на квадрат со стороной </a:t>
            </a:r>
            <a:r>
              <a:rPr b="1" lang="ru-RU" sz="2000" spc="-1" strike="noStrike">
                <a:solidFill>
                  <a:srgbClr val="98d743"/>
                </a:solidFill>
                <a:latin typeface="Comic Sans MS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четыре прямоугольных треугольника с катетами </a:t>
            </a:r>
            <a:r>
              <a:rPr b="1" lang="ru-RU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Теорема Пифагора. Доказательство 1"/>
          <p:cNvPicPr/>
          <p:nvPr/>
        </p:nvPicPr>
        <p:blipFill>
          <a:blip r:embed="rId1"/>
          <a:stretch/>
        </p:blipFill>
        <p:spPr>
          <a:xfrm>
            <a:off x="1835280" y="260280"/>
            <a:ext cx="5184720" cy="25639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829520" y="692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07920" y="981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0960" y="1890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16360" y="1159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27640" y="3141720"/>
            <a:ext cx="41036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другом случае (справа) квадрат разбит на два квадрата со сторонами </a:t>
            </a:r>
            <a:r>
              <a:rPr b="1" lang="en-US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 четыре прямоугольных треугольника с катетами </a:t>
            </a:r>
            <a:r>
              <a:rPr b="1" lang="en-US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94960" y="20606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55560" y="105264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95640" y="5229360"/>
            <a:ext cx="590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Таким образом, получаем, что площадь квадрата со стороной </a:t>
            </a:r>
            <a:r>
              <a:rPr b="1" lang="en-US" sz="2000" spc="-1" strike="noStrike">
                <a:solidFill>
                  <a:srgbClr val="98d743"/>
                </a:solidFill>
                <a:latin typeface="Comic Sans MS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равна сумме площадей квадратов со сторонами </a:t>
            </a:r>
            <a:r>
              <a:rPr b="1" lang="en-US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Доказательство Евклид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185640" y="2896920"/>
            <a:ext cx="3170520" cy="24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прямоугольный треугольник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оказать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ABDE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=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ACFG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+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BCH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867280" y="1125360"/>
          <a:ext cx="2327400" cy="333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125360"/>
                    <a:ext cx="2327400" cy="33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179280" y="1197000"/>
            <a:ext cx="2562480" cy="3186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9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66600" y="165240"/>
            <a:ext cx="577188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Доказательство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98560" y="2081160"/>
            <a:ext cx="3527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усть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BD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квадрат, построенный на гипотенузе прямоугольного треугольника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а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CF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CH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квадраты, построенные на его катетах. Опустим из вершины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прямого угла перпендикуляр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на гипотенузу и продолжим его до пересечения со стороной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D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квадрата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BD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в точке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; соединим точк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073480" y="2027160"/>
            <a:ext cx="2773440" cy="29829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3 0.011 0.08661 0.028 0.11325 C 0.028 0.11459 0.055 0.15056 0.055 0.14923 C 0.07 0.16922 0.079 0.1972 0.079 0.22651 C 0.079 0.28514 0.044 0.33177 0 0.3331 C -0.044 0.33177 -0.079 0.28514 -0.079 0.22651 C -0.079 0.1972 -0.07 0.16922 -0.055 0.14923 C -0.055 0.15056 -0.028 0.11459 -0.028 0.11325 C -0.011 0.08661 -0.001 0.0453 0 0 Z">
                                      <p:cBhvr>
                                        <p:cTn id="278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4:48:45Z</dcterms:created>
  <dc:creator>дидык юлия</dc:creator>
  <dc:description/>
  <dc:language>en-US</dc:language>
  <cp:lastModifiedBy>Natal'ia Vladimirovna</cp:lastModifiedBy>
  <dcterms:modified xsi:type="dcterms:W3CDTF">2008-06-06T10:03:28Z</dcterms:modified>
  <cp:revision>70</cp:revision>
  <dc:subject/>
  <dc:title>Теорема Пифагора</dc:title>
</cp:coreProperties>
</file>