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C2E-D9AB-42A4-A706-1B3D17CD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13E3-DDE1-406B-AA3D-5B56AECC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349-FF9E-45A6-B9FD-BE8688EB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EEF-10C9-4DC1-8DCD-D20FD202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6131-9B22-4753-929E-AC58ED7C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3BFC-9D09-4D28-AA3F-58C31D51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F596-7B3F-4857-86C6-B7F70391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05CE-3EEE-4E56-9B14-3AA46E61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863A-59C8-4735-AB8D-4A9C0CC4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5188-473B-4F31-B365-BDDFDFA9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C694-5ED4-4D3E-9E7C-44498DB9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8AD-FA11-46F2-9FD0-844A8B7A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8BAA-CE77-42C0-9256-6B898C33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21D3-D3EF-44E7-B723-B454AB71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1AEC-8190-4B9C-BDAD-50956FA2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8E98-1D5A-43DD-94DD-06FEB8C2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8D13-FD98-4513-A363-717FBE32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89AC-2818-4BBF-919E-BFC40CAC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570A-20B4-4DCE-ACB2-03A86E9B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93B-32A2-4434-A682-87045E44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639-E35D-4091-919A-43650E02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C44-16B0-4B28-8164-2C8D5077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D07-CCB5-4760-BC05-87BE6896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237B-4E4C-4810-A175-13AE4A92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3579-8E80-4A4E-A326-2D1435772EF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AB56-D15C-4207-ACBB-D69971EAEB4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5272200" cy="825480"/>
          </a:xfrm>
          <a:prstGeom prst="rect">
            <a:avLst/>
          </a:prstGeom>
          <a:solidFill>
            <a:srgbClr val="73f3f3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Теорема Пифагора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539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ебудет вечной истина, как ско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ё познает слабый челове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И ныне теорема Пифаг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ерна, как и в его далёкий в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6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4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лгебраическ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Геометрическое доказательств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07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60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24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2920"/>
                            </p:stCondLst>
                            <p:childTnLst>
                              <p:par>
                                <p:cTn id="4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342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540"/>
                            </p:stCondLst>
                            <p:childTnLst>
                              <p:par>
                                <p:cTn id="4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604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828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944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36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156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13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916360" y="3414600"/>
          <a:ext cx="43210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210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улировк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ормулировк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теорем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временная формулиро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« В прямоугольном треугольнике квадрат гипотенузы равен сумме квадратов катетов».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   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24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2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амое прост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мотрим квадрат, показанный на рисун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орона квадрата равн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+ 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1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6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en-US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о Евклид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867280" y="1125360"/>
          <a:ext cx="2327400" cy="33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125360"/>
                    <a:ext cx="232740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, построенный на гипотенузе прямоугольного треугольник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CF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CH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ы, построенные на его катетах. Опустим из вершины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рямого угла перпендикуляр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на гипотенузу и продолжим его до пересечения со стороной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вадрат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в точке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 соединим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7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дидык юлия</dc:creator>
  <dc:description/>
  <dc:language>en-US</dc:language>
  <cp:lastModifiedBy>Natal'ia Vladimirovna</cp:lastModifiedBy>
  <dcterms:modified xsi:type="dcterms:W3CDTF">2008-06-06T10:03:28Z</dcterms:modified>
  <cp:revision>70</cp:revision>
  <dc:subject/>
  <dc:title>Теорема Пифагора</dc:title>
</cp:coreProperties>
</file>