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1B5-EA9D-4D39-8A6C-8F782295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AB69-E902-4CC3-A77E-E5896F36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2AF-C20F-4A8F-A5DA-49559E92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4DF-E940-47F5-8979-75DDC6C9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FABA-41DD-4E3B-9444-A2AE1BED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EA8B-714B-4EA2-AA46-579601C9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2C17-19EC-4E6E-9B58-7E19F68E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7D75-64B3-4819-9129-F31EE2CA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83D5-FF0C-40E8-83AD-DBB78CDB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3537-5822-4A87-A08C-88EC2F6B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734C-FB81-462A-9C5C-901DABCC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DE1-C313-4D60-BE9B-3503FD8E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4410-E536-4756-AC4C-C1363961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FBE1-A849-4E82-BC89-170D6FAE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F2FF-5CCC-47DB-87F9-96C584B0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9A81-0336-4B82-8E04-FC877C65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3348-8ED8-4123-9F42-6C90F061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023-89A4-4BBE-9559-B973E24D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429B-A712-4190-AE23-A585FDA5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2C8-11DF-4A3F-876B-4CC1B9A2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7F6-D3E5-4EC9-817A-7818446E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46F9-6FE7-449B-A8B0-69EBBEE7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989-2073-4A5C-B168-C38A598A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3D9-2440-4043-913A-5552F6DA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19BA-9911-40B4-8206-96410A87E6A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99C7-8D4A-455D-B181-43CFB9A1A38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ifagor.home.nov.ru/stixi.htm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5272200" cy="825480"/>
          </a:xfrm>
          <a:prstGeom prst="rect">
            <a:avLst/>
          </a:prstGeom>
          <a:solidFill>
            <a:srgbClr val="73f3f3"/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mic Sans MS"/>
              </a:rPr>
              <a:t>Теорема Пифагора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5390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ребудет вечной истина, как скор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ё познает слабый человек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И ныне теорема Пифаг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ерна, как и в его далёкий в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6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4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252360" y="333360"/>
            <a:ext cx="496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чевидно, что углы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CAE=GAB(=A+90°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тсюда следует, что треугольник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G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закрашенные на рисунке) равны между собой (по двум сторонам и углу, заключённому между ними). Сравним далее тре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прямо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PQE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ни имеют общее осн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высот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пущенную на это основание, следователь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PQEA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чно так же квадрат FCAG и треугольник BAG имеют общее основание GA и высоту AC; значит,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FCA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G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47628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79640" y="4597560"/>
            <a:ext cx="65516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Отсюда и из равенства треугольников ACE и GBA вытекает равновеликость прямоугольника QPBD и квадрата CFGA; аналогично доказывается и равновеликость прямоугольника QPAE и квадрата CHIB. А отсюда, следует, что квадрат ABDE равновелик сумме квадратов ACFG и BCHI, т.е. теорема Пифагора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лгебраическ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70040" y="1849320"/>
            <a:ext cx="2568600" cy="1446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08360" y="17733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оказать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924280"/>
            <a:ext cx="669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 Проведем высот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з вершины прямого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 По определению косинуса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А=AD/AC=A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тсюда след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AD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 Аналогичн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В=BD/BC=B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зна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BD=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) Сложив полученные равенства почленно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(AD +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        </a:t>
            </a:r>
            <a:r>
              <a:rPr b="1" i="1" lang="ru-RU" sz="1600" spc="-1" strike="noStrike">
                <a:solidFill>
                  <a:srgbClr val="008000"/>
                </a:solidFill>
                <a:latin typeface="Comic Sans MS"/>
              </a:rPr>
              <a:t>Что и требовалось до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8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77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77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77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0" dur="77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Геометрическое доказательство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2519280" cy="1708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80600" y="16689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прямоугольный треуголь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зать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346840"/>
            <a:ext cx="594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) Построим отрезок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на продолжении катет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прямоугольного треугольник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Затем опустим перпендикуляр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к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соединим точк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) Площадь фигуры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можно найти, если рассматривать её как сумму площадей трёх треугольников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4076640"/>
            <a:ext cx="5867640" cy="34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2*AB*AC/2+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) Фигур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является трапецией, значит, её площадь равн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(DE+AB)*AD/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) Если приравнять левые части найденных выражений, то получи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(DE+AB)(CD+AC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(AC+A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*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то доказательство было опубликовано в 1882 году Гэрфилдом. 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path" presetID="1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8 0 L 0.25 0.16122 L 0.072 0.16122 L 0 0 Z">
                                      <p:cBhvr>
                                        <p:cTn id="408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600"/>
                            </p:stCondLst>
                            <p:childTnLst>
                              <p:par>
                                <p:cTn id="4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240"/>
                            </p:stCondLst>
                            <p:childTnLst>
                              <p:par>
                                <p:cTn id="4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2920"/>
                            </p:stCondLst>
                            <p:childTnLst>
                              <p:par>
                                <p:cTn id="4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3420"/>
                            </p:stCondLst>
                            <p:childTnLst>
                              <p:par>
                                <p:cTn id="4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540"/>
                            </p:stCondLst>
                            <p:childTnLst>
                              <p:par>
                                <p:cTn id="4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6040"/>
                            </p:stCondLst>
                            <p:childTnLst>
                              <p:par>
                                <p:cTn id="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8280"/>
                            </p:stCondLst>
                            <p:childTnLst>
                              <p:par>
                                <p:cTn id="4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9440"/>
                            </p:stCondLst>
                            <p:childTnLst>
                              <p:par>
                                <p:cTn id="4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360"/>
                            </p:stCondLst>
                            <p:childTnLst>
                              <p:par>
                                <p:cTn id="4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1560"/>
                            </p:stCondLst>
                            <p:childTnLst>
                              <p:par>
                                <p:cTn id="4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8560" y="2139480"/>
            <a:ext cx="719928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орема Пифагора- это одна из самых важных теорем геометрии. Значение её состоит в том, что из неё или с её помощью можно вывести большинство теорем геометри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514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азательство теоремы Пифагора учащиеся средних веков считали очень трудным и называли его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D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sinorum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ослиный мост, или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lefug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бегство «убогих», так как некоторые «убогие» ученики, не имевшие серьезной математической подготовки, бежали от геометрии. Слабые ученики, заучившие теоремы наизусть, без понимания, и прозванные поэтому «ослами», были не в состоянии преодолеть теорему Пифагора, служившую для них вроде непреодолимого моста. Из-за чертежей, сопровождающих теорему Пифагора, учащиеся называли ее также «ветряной мельницей», составляли стихи,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роде «Пифагоровы штаны на все стороны равны», рисовали карикату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916360" y="3414600"/>
          <a:ext cx="432108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414600"/>
                    <a:ext cx="43210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улировк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55160" y="430200"/>
            <a:ext cx="57358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Формулировк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теорем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13096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« Доказать, что квадрат, построенный на гипотенузе прямоугольного треугольника, равновелик сумме квадратов, построенных на катетах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« Площадь квадрата, построенного на гипотенузе прямоугольного треугольника, равна сумме площадей квадратов, построенных на его катетах»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628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 времена Пифагора теорема звучала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342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временная формулиров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30320" y="2665080"/>
            <a:ext cx="720072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« В прямоугольном треугольнике квадрат гипотенузы равен сумме квадратов катетов».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   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3360" y="2545920"/>
            <a:ext cx="7197480" cy="22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Существует около 500 различных доказательств этой теоремы (геометрических, алгебраических, механических и т.д.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6 -0.169 0.15589 C -0.169 0.2465 -0.114 0.32111 -0.044 0.32111 C -0.029 0.32111 -0.014 0.31711 0 0.31045 C -0.047 0.28647 -0.08 0.22651 -0.08 0.15589 C -0.08 0.08394 -0.047 0.02398 0 0 Z">
                                      <p:cBhvr>
                                        <p:cTn id="124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L 0.188 0.14523 L 0.125 0.28913 L 0 0.28913 L -0.063 0.14523 L 0 0 Z">
                                      <p:cBhvr>
                                        <p:cTn id="12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амое прост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163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смотрим квадрат, показанный на рисунк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орона квадрата равн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+ 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2484360" y="4005360"/>
            <a:ext cx="4533840" cy="2246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957360" y="45086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07720" y="53737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1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6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дном случае (слева) квадрат разбит на квадрат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1835280" y="260280"/>
            <a:ext cx="5184720" cy="2563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829520" y="69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7920" y="981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0960" y="18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115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7640" y="3141720"/>
            <a:ext cx="410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другом случае (справа) квадрат разбит на два квадрата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4960" y="2060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55560" y="105264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522936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аким образом, получаем, что площадь квадрата со стороной </a:t>
            </a:r>
            <a:r>
              <a:rPr b="1" lang="en-US" sz="2000" spc="-1" strike="noStrike">
                <a:solidFill>
                  <a:srgbClr val="98d743"/>
                </a:solidFill>
                <a:latin typeface="Comic Sans MS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авна сумме площадей квадратов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о Евклид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185640" y="2896920"/>
            <a:ext cx="317052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BDE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F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+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BCH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867280" y="1125360"/>
          <a:ext cx="2327400" cy="33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125360"/>
                    <a:ext cx="2327400" cy="33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256248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66600" y="165240"/>
            <a:ext cx="577188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985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усть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, построенный на гипотенузе прямоугольного треугольник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CF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CH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ы, построенные на его катетах. Опустим из вершины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прямого угла перпендикуляр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на гипотенузу и продолжим его до пересечения со стороной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квадрат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в точке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 соединим точк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073480" y="2027160"/>
            <a:ext cx="2773440" cy="2982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277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4:48:45Z</dcterms:created>
  <dc:creator>дидык юлия</dc:creator>
  <dc:description/>
  <dc:language>en-US</dc:language>
  <cp:lastModifiedBy>Natal'ia Vladimirovna</cp:lastModifiedBy>
  <dcterms:modified xsi:type="dcterms:W3CDTF">2008-06-06T10:03:28Z</dcterms:modified>
  <cp:revision>70</cp:revision>
  <dc:subject/>
  <dc:title>Теорема Пифагора</dc:title>
</cp:coreProperties>
</file>