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C65-FAF3-4405-AF84-64C1A0C0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B6E-99A7-4264-A0C6-6A396F3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629-9B1A-44EE-9127-52D4CE9C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EDB-A291-4F61-AFFF-20979869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946D-A515-4242-8C57-CEBC8D2F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F6B8-48ED-4FB8-9D24-8023D5E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42B9-F653-4D75-907B-5E667CD2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A48B-8CA9-4131-9637-FDE4B83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3491-F1F8-4F00-8B6A-26FD5742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B012-B2B9-445C-83B7-6A43D544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5315-7360-418D-9FEB-347A3BE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0E2-AADD-4D61-BC10-4EC9578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12A6-14E5-44E0-8414-05D27B5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FB3-F0C8-4970-9241-045ED49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C17F-883A-4E55-8B9C-3705CD9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ED5-CA5F-482F-8543-C590E06E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1A1F-2D8E-4C12-AAA2-9C48DC50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B31-C9D9-4CF0-A9D7-5B33DA0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C7D-3F97-4D4C-A41E-42271810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5E3-1B88-4AD0-BDD8-7A121E8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F0F-3762-4BC2-8BDF-D1DC857C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C23-8A79-4763-A35B-96DDD10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692-08FE-4240-98AE-7B705D2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E3B-8FF1-4506-8703-C509077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2AC-1153-40E4-B557-20C051BEF2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B7B8-BC1B-4D09-92EA-5F71C2327C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60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240"/>
                            </p:stCondLst>
                            <p:childTnLst>
                              <p:par>
                                <p:cTn id="4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54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5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