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B3B-007A-44CD-BDE3-EBAAFBF7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4AB-1E1A-4132-884C-D7A6936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303-0094-4DC3-9332-AB01C8B2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0C0-A094-412E-938E-3023D7D7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342A-95A3-4CDC-BA81-3FAE1559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BCE6-B1E8-4367-87BE-2008E200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B5E1-CCAC-40B9-84B0-B758605D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9F8-9BD4-40A9-85E9-1569C7DE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87A3-0747-4192-9B48-4A999A20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D89A-D778-4390-AA37-7A9459DD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6B99-F816-4803-A016-00B2A24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20E-D7B0-4623-A9A5-A2F21625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F3F-2DB8-4CE2-98F6-A43C1C25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F9FB-A023-4FB7-B98C-FAA6647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953D-F58F-4A63-8933-61EFA1D2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F6DB-6AD5-465E-9A81-68BA1664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16E1-D8A3-47E0-9B30-E0F5B047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DE6-7039-429E-81CE-5118AAC5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992-1005-4720-B3F4-BCA8E4EE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CF6-442F-4F2D-A786-01CDC0ED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5C6-40DC-4E3E-9DC2-45AD3E4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0FF-A421-4E57-9484-56747AD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456-A835-4F83-B8FB-1919B640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232-DC4B-42DD-9035-C4BB9B9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2FF0-F7AD-44B0-A20D-045B1997A8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D103-E752-472A-941F-50C0F430A8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0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9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3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09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6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24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2920"/>
                            </p:stCondLst>
                            <p:childTnLst>
                              <p:par>
                                <p:cTn id="4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540"/>
                            </p:stCondLst>
                            <p:childTnLst>
                              <p:par>
                                <p:cTn id="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604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44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156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1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