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69C-4090-4ADC-958A-5427D826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598-7F0F-43B0-ABDC-1CB91CE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C08-6DDD-4995-9732-E7B953D2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973-D4CC-4C30-A323-CAF49640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18C1-413D-47BA-893C-13944BB3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E2B-2DD6-44B7-89E0-AE0E292A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B60-3721-4DCE-A4A9-1CD3DEA8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1E8-B514-4612-BCA1-EFACAB9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55E-4640-4389-9B4E-841F26A4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42E-742B-4700-9A53-214A22A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43B7-08D3-4D4F-9016-5308A08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80E-C4B7-46B8-8C4D-2D98DE0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40D-9816-4FB6-8767-62A5FF6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468-E3E8-4B59-9AD5-E5FE750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48C2-188A-4451-B5DE-FFE7D52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654F-EBB9-4CB4-9AD4-B402297D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5452-6F83-4B6A-985A-F2440AC8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86E-B80A-46D4-B2F6-53866B66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A10-E19A-45C9-B21B-2DAF3F6F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7D7-37EB-44F8-A97A-2CAE47E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AAF-0E3A-43E0-AEF6-D5C14A73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8C2-34F4-49AD-8CF7-A1466123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F28-7CAD-4098-966C-0E642FF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34D-668A-4BF2-9449-8B819D1A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CEF6-40CD-4266-B4C5-B2AD49FBB2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FE84-DAE5-434F-AF4A-BF2D54E9F9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9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6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24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2920"/>
                            </p:stCondLst>
                            <p:childTnLst>
                              <p:par>
                                <p:cTn id="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342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604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28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944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36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2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5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