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CDE-7803-4C74-9E2D-D5237276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BBA-498F-4CCC-952B-72DF155A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BD6-3517-4ED9-A328-71A62336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CDC-B8F6-4EAB-8CD8-094DB9F3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CD71-315E-4C5D-9D9E-A0E2CD38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F5DA-20F4-457B-94A6-50DD444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11A8-8EF2-474E-96EE-DDC119BD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44AB-5A4C-433A-AACF-9F6A7497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2148-F6AD-46A6-BE5A-1F607FD5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E1C7-9CC5-4B8C-859F-0CD94A81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BD9A-C0DE-41C5-9E05-5BBB545A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414-9023-416D-9E95-651334C6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ACC9-517F-4A85-BCB1-2CF12A7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BDB0-BBCA-4C8F-A9B4-864A61AA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63D2-2C08-4E47-BFE4-FF71F3E5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DFB-28A2-4FA1-994F-3ED6DE99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F021-F25A-4350-BD64-F71E56F1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FB6-2741-48D1-84DD-6525C755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FD8-FC6E-4143-9ADD-88B731D2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B5B-B067-44A6-8EC5-FA2BBA24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770-26BA-4261-9584-5D62E087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1FE-C4F1-4695-83C1-52D9E12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FE7-735B-4680-8A0B-E11E8E4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8AD-EDF4-4A3B-9578-8FB8258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FE95-04F0-45BD-B759-0DF2B171EC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C12C-E5D4-4846-8863-C6BF97B59A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1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1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60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24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920"/>
                            </p:stCondLst>
                            <p:childTnLst>
                              <p:par>
                                <p:cTn id="4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342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540"/>
                            </p:stCondLst>
                            <p:childTnLst>
                              <p:par>
                                <p:cTn id="4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604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828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944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36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156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2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