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0B8-A767-4DAA-A352-044139B8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CDF2-3B10-45A5-9798-958B780C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80C-7D70-4953-A902-2345B97E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2FB7-5BB6-4958-9663-A5CF87A9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448D-21AE-4FD7-B6F6-374FAFD61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BD5F-0BDF-48BC-A2A8-41E2F539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EB89-1EF9-4064-B68F-4A9C629D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3B9A-9BB6-462F-BF28-30201E9A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062B-24EB-4B0F-B3A6-D5767EB7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61CF-98D2-4F0E-A75B-3FC610B4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ABA1C-E6A6-490D-8084-EE265EE5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982-6843-4C08-837F-3602899B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BAA1-60BD-406F-9933-53FF951C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C0B5-6AD0-40A4-B0F2-5FDC043B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7836-2892-499E-A693-A4C0CDB9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1872-5C60-45DB-BFDB-DFF6F4F6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B534-CA8A-4D87-9E5E-86749398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6BB-54ED-4506-96D9-1173A92B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C8A-ADEC-4280-8681-2998A251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724-813B-4BCF-B9CA-FA06A6B1B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69E1-D833-4AFA-AA0A-85703E03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A22-F835-4793-A7EC-B2E4F87C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DC3-320F-45B6-B4B2-98A730E7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C9B2-0DA4-4D45-B544-25643E8E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6726-C7E2-417C-88B8-9353B12C71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C85A-5F47-4883-A829-AEB91EA49B8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pifagor.home.nov.ru/stixi.htm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00000" y="188640"/>
            <a:ext cx="5272200" cy="825480"/>
          </a:xfrm>
          <a:prstGeom prst="rect">
            <a:avLst/>
          </a:prstGeom>
          <a:solidFill>
            <a:srgbClr val="73f3f3"/>
          </a:solidFill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Comic Sans MS"/>
              </a:rPr>
              <a:t>Теорема Пифагора</a:t>
            </a:r>
            <a:endParaRPr b="0" lang="en-US" sz="4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5390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ребудет вечной истина, как скор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Её познает слабый челове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И ныне теорема Пифаго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Верна, как и в его далёкий ве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6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4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-252360" y="333360"/>
            <a:ext cx="4968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чевидно, что углы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CAE=GAB(=A+90°)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тсюда следует, что треугольник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G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закрашенные на рисунке) равны между собой (по двум сторонам и углу, заключённому между ними). Сравним далее тре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C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прямоугольник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PQE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они имеют общее основание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E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высоту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пущенную на это основание, следовательно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PQEA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чно так же квадрат FCAG и треугольник BAG имеют общее основание GA и высоту AC; значит,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FCA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2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GA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79640" y="4597560"/>
            <a:ext cx="65516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Отсюда и из равенства треугольников ACE и GBA вытекает равновеликость прямоугольника QPBD и квадрата CFGA; аналогично доказывается и равновеликость прямоугольника QPAE и квадрата CHIB. А отсюда, следует, что квадрат ABDE равновелик сумме квадратов ACFG и BCHI, т.е. теорема Пифагора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Алгебраическ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70040" y="1849320"/>
            <a:ext cx="2568600" cy="14464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708360" y="1773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Доказать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     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8000" y="2924280"/>
            <a:ext cx="6696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1" lang="ru-RU" sz="2000" spc="-1" strike="noStrike">
                <a:solidFill>
                  <a:srgbClr val="008000"/>
                </a:solidFill>
                <a:latin typeface="Comic Sans MS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 Проведем высоту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з вершины прямого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 По определению косинуса угла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А=AD/AC=A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отсюда следу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AD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 Аналогично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sВ=BD/BC=BC/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знач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*BD=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) Сложив полученные равенства почленно, получи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А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*(AD + D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=A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+BC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.        </a:t>
            </a:r>
            <a:r>
              <a:rPr b="1" i="1" lang="ru-RU" sz="1600" spc="-1" strike="noStrike">
                <a:solidFill>
                  <a:srgbClr val="008000"/>
                </a:solidFill>
                <a:latin typeface="Comic Sans MS"/>
              </a:rPr>
              <a:t>Что и требовалось доказ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8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4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8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8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Геометрическое доказательств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2519280" cy="17082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80600" y="16689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о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прямоугольный треуголь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08080"/>
                <a:tab algn="r" pos="4016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оказать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=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+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2346840"/>
            <a:ext cx="59403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) Построим отрезок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на продолжении катет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прямоугольного треугольника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Затем опустим перпендикуляр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к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равный отрезку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, соединим точк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) Площадь фигуры 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можно найти, если рассматривать её как сумму площадей трёх треугольников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4076640"/>
            <a:ext cx="5867640" cy="34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2*AB*AC/2+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3) Фигура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ABED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является трапецией, значит, её площадь равн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1400" spc="-1" strike="noStrike" baseline="-25000">
                <a:solidFill>
                  <a:srgbClr val="000000"/>
                </a:solidFill>
                <a:latin typeface="Comic Sans MS"/>
              </a:rPr>
              <a:t>ABED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(DE+AB)*AD/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4) Если приравнять левые части найденных выражений, то получи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(DE+AB)(CD+AC)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(AC+AB)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B*AC+B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= AC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/2+AB*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B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=AB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+AC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Это доказательство было опубликовано в 1882 году Гэрфилдом. </a:t>
            </a:r>
            <a:br>
              <a:rPr sz="1400"/>
            </a:br>
            <a:br>
              <a:rPr sz="3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path" presetID="1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78 0 L 0.25 0.16122 L 0.072 0.16122 L 0 0 Z">
                                      <p:cBhvr>
                                        <p:cTn id="420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600"/>
                            </p:stCondLst>
                            <p:childTnLst>
                              <p:par>
                                <p:cTn id="4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3240"/>
                            </p:stCondLst>
                            <p:childTnLst>
                              <p:par>
                                <p:cTn id="4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920"/>
                            </p:stCondLst>
                            <p:childTnLst>
                              <p:par>
                                <p:cTn id="4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342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554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6040"/>
                            </p:stCondLst>
                            <p:childTnLst>
                              <p:par>
                                <p:cTn id="4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8280"/>
                            </p:stCondLst>
                            <p:childTnLst>
                              <p:par>
                                <p:cTn id="4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9440"/>
                            </p:stCondLst>
                            <p:childTnLst>
                              <p:par>
                                <p:cTn id="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8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36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156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98560" y="2139480"/>
            <a:ext cx="719928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орема Пифагора- это одна из самых важных теорем геометрии. Значение её состоит в том, что из неё или с её помощью можно вывести большинство теорем геометри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8 0.033 -0.05863 0.058 -0.05863 C 0.095 -0.05863 0.125 -0.02265 0.125 0.02265 C 0.125 0.03731 0.122 0.05063 0.116 0.06262 C 0.117 0.06262 0 0.2425 0 0.24383 C 0 0.2425 -0.117 0.06262 -0.116 0.06262 C -0.122 0.05063 -0.125 0.03731 -0.125 0.02265 C -0.125 -0.02265 -0.095 -0.05863 -0.057 -0.05863 C -0.033 -0.05863 -0.012 -0.02398 0 0 Z">
                                      <p:cBhvr>
                                        <p:cTn id="526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7920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оказательство теоремы Пифагора учащиеся средних веков считали очень трудным и называли его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D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sinorum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ослиный мост, или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lefug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- бегство «убогих», так как некоторые «убогие» ученики, не имевшие серьезной математической подготовки, бежали от геометрии. Слабые ученики, заучившие теоремы наизусть, без понимания, и прозванные поэтому «ослами», были не в состоянии преодолеть теорему Пифагора, служившую для них вроде непреодолимого моста. Из-за чертежей, сопровождающих теорему Пифагора, учащиеся называли ее также «ветряной мельницей», составляли стихи,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роде «Пифагоровы штаны на все стороны равны», рисовали карикатур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916360" y="3414600"/>
          <a:ext cx="4321080" cy="34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3414600"/>
                    <a:ext cx="432108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Формулировк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теоремы Пифагор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55160" y="430200"/>
            <a:ext cx="573588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ормулировка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теоремы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130960" cy="35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« Доказать, что квадрат, построенный на гипотенузе прямоугольного треугольника, равновелик сумме квадратов, построенных на катетах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 Площадь квадрата, построенного на гипотенузе прямоугольного треугольника, равна сумме площадей квадратов, построенных на его катетах». 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о времена Пифагора теорема звучала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4360" y="3429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2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овременная формулиров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30320" y="2665080"/>
            <a:ext cx="7200720" cy="22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« В прямоугольном треугольнике квадрат гипотенузы равен сумме квадратов катетов».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   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а теор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3360" y="2545920"/>
            <a:ext cx="719748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66ff"/>
                </a:solidFill>
                <a:latin typeface="Comic Sans MS"/>
              </a:rPr>
              <a:t>Существует около 500 различных доказательств этой теоремы (геометрических, алгебраических, механических и т.д.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6 -0.169 0.15589 C -0.169 0.2465 -0.114 0.32111 -0.044 0.32111 C -0.029 0.32111 -0.014 0.31711 0 0.31045 C -0.047 0.28647 -0.08 0.22651 -0.08 0.15589 C -0.08 0.08394 -0.047 0.02398 0 0 Z">
                                      <p:cBhvr>
                                        <p:cTn id="124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 L 0.188 0.14523 L 0.125 0.28913 L 0 0.28913 L -0.063 0.14523 L 0 0 Z">
                                      <p:cBhvr>
                                        <p:cTn id="12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Самое простое доказательст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163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ассмотрим квадрат, показанный на рисунке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торона квадрата равна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+ 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2484360" y="4005360"/>
            <a:ext cx="4533840" cy="2246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957360" y="4508640"/>
            <a:ext cx="37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07720" y="537372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100"/>
                            </p:stCondLst>
                            <p:childTnLst>
                              <p:par>
                                <p:cTn id="1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6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2205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дном случае (слева) квадрат разбит на квадрат со стороной </a:t>
            </a:r>
            <a:r>
              <a:rPr b="1" lang="ru-RU" sz="2000" spc="-1" strike="noStrike">
                <a:solidFill>
                  <a:srgbClr val="98d743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ru-RU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Теорема Пифагора. Доказательство 1"/>
          <p:cNvPicPr/>
          <p:nvPr/>
        </p:nvPicPr>
        <p:blipFill>
          <a:blip r:embed="rId1"/>
          <a:stretch/>
        </p:blipFill>
        <p:spPr>
          <a:xfrm>
            <a:off x="1835280" y="260280"/>
            <a:ext cx="5184720" cy="2563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829520" y="69228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7920" y="981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0960" y="1890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916360" y="115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427640" y="3141720"/>
            <a:ext cx="4103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другом случае (справа) квадрат разбит на два квадрата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четыре прямоугольных треугольника с катет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94960" y="20606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55560" y="105264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95640" y="522936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аким образом, получаем, что площадь квадрата со стороной </a:t>
            </a:r>
            <a:r>
              <a:rPr b="1" lang="en-US" sz="2000" spc="-1" strike="noStrike">
                <a:solidFill>
                  <a:srgbClr val="98d743"/>
                </a:solidFill>
                <a:latin typeface="Comic Sans MS"/>
              </a:rPr>
              <a:t>b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авна сумме площадей квадратов со сторонами </a:t>
            </a:r>
            <a:r>
              <a:rPr b="1" lang="en-US" sz="2000" spc="-1" strike="noStrike">
                <a:solidFill>
                  <a:srgbClr val="66ccff"/>
                </a:solidFill>
                <a:latin typeface="Comic Sans MS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en-US" sz="2000" spc="-1" strike="noStrike">
                <a:solidFill>
                  <a:srgbClr val="ff66ff"/>
                </a:solidFill>
                <a:latin typeface="Comic Sans MS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117440" indent="-1117440" algn="ctr">
              <a:buClr>
                <a:srgbClr val="00b200"/>
              </a:buClr>
              <a:buFont typeface="Comic Sans MS"/>
              <a:buAutoNum type="roman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Доказательство Евклид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185640" y="2896920"/>
            <a:ext cx="317052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ано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прямоугольный треугольник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BDE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=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ACFG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+S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Comic Sans MS"/>
              </a:rPr>
              <a:t>BCH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867280" y="1125360"/>
          <a:ext cx="2327400" cy="33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1125360"/>
                    <a:ext cx="2327400" cy="33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2562480" cy="31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4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66600" y="165240"/>
            <a:ext cx="577188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оказательство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98560" y="2081160"/>
            <a:ext cx="35272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усть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, построенный на гипотенузе прямоугольного треугольник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CF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CH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квадраты, построенные на его катетах. Опустим из вершины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рямого угла перпендикуляр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на гипотенузу и продолжим его до пересечения со стороной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вадрата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BD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в точке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; соединим точк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073480" y="2027160"/>
            <a:ext cx="2773440" cy="298296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27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4:48:45Z</dcterms:created>
  <dc:creator>дидык юлия</dc:creator>
  <dc:description/>
  <dc:language>en-US</dc:language>
  <cp:lastModifiedBy>Natal'ia Vladimirovna</cp:lastModifiedBy>
  <dcterms:modified xsi:type="dcterms:W3CDTF">2008-06-06T10:03:28Z</dcterms:modified>
  <cp:revision>70</cp:revision>
  <dc:subject/>
  <dc:title>Теорема Пифагора</dc:title>
</cp:coreProperties>
</file>