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007-D7FB-4F31-83D2-39B38F55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884-625D-4D55-8D2D-11CCC033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FC8-81D7-4D84-82CC-42F07938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E97-C36C-4235-B996-633DEF93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C313-1F31-4A02-BB49-D87BB458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606C-290C-4709-AC6F-9714AFA9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F62C-C799-4116-AF2C-FBEA0A84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AFB6-D12D-4E31-B9DC-3CF73A12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2E52-0A9E-4798-9324-2F79EA56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F15E-5B0F-47F3-8DBE-88320703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6610-D110-442F-9303-2A8152B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C26-35D2-458D-AAA2-3D6092F7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A128-B5AA-46F4-BD40-9C745AF6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FBAB-06D8-41E1-86CA-60C32FFA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B858-73B5-4037-A9CB-581CE552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FA53-4CCC-40C0-803B-4B7ADD4E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5A12-385B-42DF-99D4-82A58C07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DC8-8252-46B3-B0F7-B95684EB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FB7-2C2E-41A9-8869-36AD2215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B02-4A1B-4115-B10A-A70636C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1B8-F498-4E1A-913D-208B0FFB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A44-F03D-4458-BEFD-63E45DCB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EEC-3E95-44EE-8E48-AC6532F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F34-8449-4C72-8C48-F12471E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29EF-FCED-4799-B788-9F403D56B2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5BF2-A6DB-448D-9D46-F1C205AFDB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1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6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24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920"/>
                            </p:stCondLst>
                            <p:childTnLst>
                              <p:par>
                                <p:cTn id="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342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540"/>
                            </p:stCondLst>
                            <p:childTnLst>
                              <p:par>
                                <p:cTn id="4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604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828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944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36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1560"/>
                            </p:stCondLst>
                            <p:childTnLst>
                              <p:par>
                                <p:cTn id="5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24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