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989F-ACB6-4D7E-B4CB-26CC4631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7558-0B71-4FC9-AE18-010ED590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ECF8-CC93-4E8E-887D-3EEF5474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A960-70BF-4748-910C-85AFEDE1A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DD58-3998-445F-A777-3E9F6C7A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DBA9-B020-44E7-A6FD-64F2117E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B00F-B05D-4C54-8BF2-58831CE4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2484-7857-4456-A0EC-75997055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F1F3-F45E-48E6-8CCD-05A3E268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C271-9752-49F1-940A-593DA4FF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86E5-6902-44E2-A78D-394468DD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FBAE-A747-4739-971C-9F6BBEE7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9644-8D67-499F-A7D4-E11F92EA42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из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ногогранник, составленный из двух равных многоугольников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расположенных в параллельных плоскостях, 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араллелограммов,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из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1"/>
          <a:stretch/>
        </p:blipFill>
        <p:spPr>
          <a:xfrm>
            <a:off x="4719600" y="1800360"/>
            <a:ext cx="3895920" cy="4124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и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2060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Диагональю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 называется отрезок, соединяющий две вершины, не принадлежащие одной гр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581040" y="1695600"/>
            <a:ext cx="3790800" cy="4333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28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и параллелепипе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055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иагонали параллелепипеда пересекаются в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одной точк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делятся этой точкой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опо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978440" cy="394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16"/>
          <p:cNvGraphicFramePr/>
          <p:nvPr/>
        </p:nvGraphicFramePr>
        <p:xfrm>
          <a:off x="5751360" y="4437000"/>
          <a:ext cx="173988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51360" y="4437000"/>
                    <a:ext cx="17398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7"/>
          <p:cNvGraphicFramePr/>
          <p:nvPr/>
        </p:nvGraphicFramePr>
        <p:xfrm>
          <a:off x="5783400" y="5950080"/>
          <a:ext cx="1663560" cy="482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83400" y="5950080"/>
                    <a:ext cx="166356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18"/>
          <p:cNvGraphicFramePr/>
          <p:nvPr/>
        </p:nvGraphicFramePr>
        <p:xfrm>
          <a:off x="5757840" y="4941720"/>
          <a:ext cx="1714680" cy="482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57840" y="4941720"/>
                    <a:ext cx="17146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9"/>
          <p:cNvGraphicFramePr/>
          <p:nvPr/>
        </p:nvGraphicFramePr>
        <p:xfrm>
          <a:off x="5783400" y="5445000"/>
          <a:ext cx="1663560" cy="48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3" name="Object 1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83400" y="5445000"/>
                    <a:ext cx="16635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92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92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92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92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92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ьные сечения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чения призмы плоскостями, проходящими через два боковых ребра, не принадлежащих одной грани, называю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иагональными сеч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агональные сечения призмы являю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араллелограм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3" descr=""/>
          <p:cNvPicPr/>
          <p:nvPr/>
        </p:nvPicPr>
        <p:blipFill>
          <a:blip r:embed="rId1"/>
          <a:stretch/>
        </p:blipFill>
        <p:spPr>
          <a:xfrm>
            <a:off x="6804000" y="1484280"/>
            <a:ext cx="1992240" cy="2158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4" descr=""/>
          <p:cNvPicPr/>
          <p:nvPr/>
        </p:nvPicPr>
        <p:blipFill>
          <a:blip r:embed="rId2"/>
          <a:stretch/>
        </p:blipFill>
        <p:spPr>
          <a:xfrm>
            <a:off x="6659640" y="4005360"/>
            <a:ext cx="2125440" cy="2305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2016000" cy="218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8" descr=""/>
          <p:cNvPicPr/>
          <p:nvPr/>
        </p:nvPicPr>
        <p:blipFill>
          <a:blip r:embed="rId4"/>
          <a:stretch/>
        </p:blipFill>
        <p:spPr>
          <a:xfrm>
            <a:off x="4572000" y="4149720"/>
            <a:ext cx="2017800" cy="218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иагональные сечения </a:t>
            </a:r>
            <a:br>
              <a:rPr sz="3800"/>
            </a:b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араллелепипед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6" descr=""/>
          <p:cNvPicPr/>
          <p:nvPr/>
        </p:nvPicPr>
        <p:blipFill>
          <a:blip r:embed="rId1"/>
          <a:stretch/>
        </p:blipFill>
        <p:spPr>
          <a:xfrm>
            <a:off x="4648320" y="2138400"/>
            <a:ext cx="4038480" cy="3448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"/>
          <p:cNvPicPr/>
          <p:nvPr/>
        </p:nvPicPr>
        <p:blipFill>
          <a:blip r:embed="rId2"/>
          <a:stretch/>
        </p:blipFill>
        <p:spPr>
          <a:xfrm>
            <a:off x="457200" y="2138400"/>
            <a:ext cx="4038480" cy="3448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лощадь поверхности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ощадью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олной поверхност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ризмы называется сумма площадей всех её гра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ощадью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боковой поверхност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призмы называется сумма площадей её боковых гра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2030400" y="4941720"/>
          <a:ext cx="46864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4941720"/>
                    <a:ext cx="4686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5"/>
          <p:cNvGraphicFramePr/>
          <p:nvPr/>
        </p:nvGraphicFramePr>
        <p:xfrm>
          <a:off x="3865680" y="2560680"/>
          <a:ext cx="14428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65680" y="2560680"/>
                    <a:ext cx="1442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6"/>
          <p:cNvGraphicFramePr/>
          <p:nvPr/>
        </p:nvGraphicFramePr>
        <p:xfrm>
          <a:off x="4529160" y="4071960"/>
          <a:ext cx="131292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29160" y="4071960"/>
                    <a:ext cx="13129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68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68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52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52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Теорема о площади боковой поверхности прямой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8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орема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лощадь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ой поверхност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ямой призмы равна произведению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ериметра основани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высоту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2865600" y="4941720"/>
          <a:ext cx="33778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5600" y="4941720"/>
                    <a:ext cx="3377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ircl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6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84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Доказательство теоре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5292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оковые грани прямой призмы – прямоугольники, основания которых – стороны основания призмы, а высоты равны высоте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ризмы. Площадь боковой поверхности призмы равна сумме площадей указанных прямоугольников, т.е. равна сумме произведений сторон основания на высоту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Вынося множитель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а скобки, получим в скобках сумму сторон основания, т.е. периметр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92640" cy="4537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17"/>
          <p:cNvGraphicFramePr/>
          <p:nvPr/>
        </p:nvGraphicFramePr>
        <p:xfrm>
          <a:off x="596880" y="404640"/>
          <a:ext cx="83232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404640"/>
                    <a:ext cx="83232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21" descr=""/>
          <p:cNvPicPr/>
          <p:nvPr/>
        </p:nvPicPr>
        <p:blipFill>
          <a:blip r:embed="rId3"/>
          <a:stretch/>
        </p:blipFill>
        <p:spPr>
          <a:xfrm>
            <a:off x="6012000" y="2852640"/>
            <a:ext cx="2944800" cy="3673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19640" y="907560"/>
            <a:ext cx="5472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ногоугольник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основания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призм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5"/>
          <p:cNvSpPr/>
          <p:nvPr/>
        </p:nvSpPr>
        <p:spPr>
          <a:xfrm>
            <a:off x="395280" y="4508640"/>
            <a:ext cx="44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параллелограммы –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ыми граня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7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332160" cy="352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"/>
          <p:cNvPicPr/>
          <p:nvPr/>
        </p:nvPicPr>
        <p:blipFill>
          <a:blip r:embed="rId2"/>
          <a:stretch/>
        </p:blipFill>
        <p:spPr>
          <a:xfrm>
            <a:off x="4859280" y="2708280"/>
            <a:ext cx="3537000" cy="3743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3671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резк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…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боковыми ребра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оковые ребра призмы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равны и параллель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4140360" y="1700280"/>
            <a:ext cx="4487760" cy="4751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Боковые ребра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0920" y="549000"/>
            <a:ext cx="771516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зму с основаниям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бозначаю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называют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-угольной призмой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3" descr=""/>
          <p:cNvPicPr/>
          <p:nvPr/>
        </p:nvPicPr>
        <p:blipFill>
          <a:blip r:embed="rId1"/>
          <a:stretch/>
        </p:blipFill>
        <p:spPr>
          <a:xfrm>
            <a:off x="539640" y="2216160"/>
            <a:ext cx="8147160" cy="3683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36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42920" y="1773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пендикуляр, проведенный из какой-нибудь точки одного основания к плоскости другого основания,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высото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измы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8"/>
          <p:cNvGraphicFramePr/>
          <p:nvPr/>
        </p:nvGraphicFramePr>
        <p:xfrm>
          <a:off x="5213520" y="5445000"/>
          <a:ext cx="262872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3520" y="5445000"/>
                    <a:ext cx="26287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13" descr=""/>
          <p:cNvPicPr/>
          <p:nvPr/>
        </p:nvPicPr>
        <p:blipFill>
          <a:blip r:embed="rId3"/>
          <a:stretch/>
        </p:blipFill>
        <p:spPr>
          <a:xfrm>
            <a:off x="324000" y="1989000"/>
            <a:ext cx="3895560" cy="4124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Высота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боковые ребра призмы перпендикулярны к основаниям, то призма называется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рямо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противном случае –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накло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сота прямой призмы равна её боковому реб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ямая и наклонная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9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2284560" cy="338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"/>
          <p:cNvPicPr/>
          <p:nvPr/>
        </p:nvPicPr>
        <p:blipFill>
          <a:blip r:embed="rId2"/>
          <a:stretch/>
        </p:blipFill>
        <p:spPr>
          <a:xfrm>
            <a:off x="5435640" y="1125360"/>
            <a:ext cx="2685960" cy="3457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авильная призм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ямая призма называ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авильно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если её основания – правильные много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 правильной призмы  все боковые грани – равные прямо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185840" y="1967040"/>
            <a:ext cx="2581200" cy="3790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96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96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равильные призм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7" descr=""/>
          <p:cNvPicPr/>
          <p:nvPr/>
        </p:nvPicPr>
        <p:blipFill>
          <a:blip r:embed="rId1"/>
          <a:stretch/>
        </p:blipFill>
        <p:spPr>
          <a:xfrm>
            <a:off x="1360440" y="1600200"/>
            <a:ext cx="6421320" cy="4525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Arial"/>
              </a:rPr>
              <a:t>Параллелепипед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410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сли основания призмы - параллелограммы, то призма является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араллелепипе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параллелепипеде все грани являются параллелограмм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4103640" y="2133720"/>
            <a:ext cx="5040360" cy="4344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76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20:10:17Z</dcterms:created>
  <dc:creator>Tatiana</dc:creator>
  <dc:description/>
  <dc:language>en-US</dc:language>
  <cp:lastModifiedBy>Татьяна Дмитриевна</cp:lastModifiedBy>
  <dcterms:modified xsi:type="dcterms:W3CDTF">2011-03-20T08:55:05Z</dcterms:modified>
  <cp:revision>18</cp:revision>
  <dc:subject/>
  <dc:title>Слайд 1</dc:title>
</cp:coreProperties>
</file>