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29B-9B78-43ED-93A7-1D985275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4930-7F2F-4FF5-93B5-024E7F3C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735-C33E-414F-BF04-24FFF552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98B-E74B-4AD8-AF7C-135DA7E0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557-F92D-416C-8F46-204530A7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6CD-DCE0-45D0-A8A5-1F7A464A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359-C068-4918-A7B5-AB264E0B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1AC-D95E-4DF9-B26F-6AFAC8F4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52A-0A3A-4FC9-B93D-893E38ED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74E-BAF3-46B0-A269-2B4C03A4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CC7-D9E4-405A-9F65-2887E839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AFA-1A09-435D-8C08-2EAC16C1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49A2-0B24-473E-A49C-39DE47D00E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гранник, составленный из двух равных многоугольнико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расположенных в параллельных плоскостях, 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араллелограммов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из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4719600" y="1800360"/>
            <a:ext cx="3895920" cy="4124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Диагонал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 называется отрезок, соединяющий две вершины, не принадлежащие одной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81040" y="1695600"/>
            <a:ext cx="3790800" cy="4333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8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агонали параллелепипеда пересекаются в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дной точк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делятся этой точкой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по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978440" cy="394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16"/>
          <p:cNvGraphicFramePr/>
          <p:nvPr/>
        </p:nvGraphicFramePr>
        <p:xfrm>
          <a:off x="5751360" y="4437000"/>
          <a:ext cx="173988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51360" y="4437000"/>
                    <a:ext cx="1739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7"/>
          <p:cNvGraphicFramePr/>
          <p:nvPr/>
        </p:nvGraphicFramePr>
        <p:xfrm>
          <a:off x="5783400" y="5950080"/>
          <a:ext cx="1663560" cy="48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83400" y="5950080"/>
                    <a:ext cx="16635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8"/>
          <p:cNvGraphicFramePr/>
          <p:nvPr/>
        </p:nvGraphicFramePr>
        <p:xfrm>
          <a:off x="5757840" y="4941720"/>
          <a:ext cx="1714680" cy="4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57840" y="4941720"/>
                    <a:ext cx="17146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5783400" y="5445000"/>
          <a:ext cx="1663560" cy="4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83400" y="5445000"/>
                    <a:ext cx="16635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92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92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92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92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92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чения призмы плоскостями, проходящими через два боковых ребра, не принадлежащих одной грани, называ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иагональными сеч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агональные сечения призмы явля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ллелограм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"/>
          <p:cNvPicPr/>
          <p:nvPr/>
        </p:nvPicPr>
        <p:blipFill>
          <a:blip r:embed="rId1"/>
          <a:stretch/>
        </p:blipFill>
        <p:spPr>
          <a:xfrm>
            <a:off x="6804000" y="1484280"/>
            <a:ext cx="199224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212544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201600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8" descr=""/>
          <p:cNvPicPr/>
          <p:nvPr/>
        </p:nvPicPr>
        <p:blipFill>
          <a:blip r:embed="rId4"/>
          <a:stretch/>
        </p:blipFill>
        <p:spPr>
          <a:xfrm>
            <a:off x="4572000" y="4149720"/>
            <a:ext cx="2017800" cy="218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"/>
          <p:cNvPicPr/>
          <p:nvPr/>
        </p:nvPicPr>
        <p:blipFill>
          <a:blip r:embed="rId1"/>
          <a:stretch/>
        </p:blipFill>
        <p:spPr>
          <a:xfrm>
            <a:off x="4648320" y="2138400"/>
            <a:ext cx="4038480" cy="344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2"/>
          <a:stretch/>
        </p:blipFill>
        <p:spPr>
          <a:xfrm>
            <a:off x="457200" y="2138400"/>
            <a:ext cx="4038480" cy="34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лощадь поверхност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лн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всех её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её боковых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030400" y="4941720"/>
          <a:ext cx="46864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4941720"/>
                    <a:ext cx="4686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3865680" y="2560680"/>
          <a:ext cx="14428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5680" y="2560680"/>
                    <a:ext cx="1442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4529160" y="4071960"/>
          <a:ext cx="131292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9160" y="4071960"/>
                    <a:ext cx="13129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6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6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2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2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Теорема о площади боковой поверхности прямой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ощадь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ямой призмы равна произведению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ериметра основан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2865600" y="4941720"/>
          <a:ext cx="3377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4941720"/>
                    <a:ext cx="3377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6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84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29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ковые грани прямой призмы – прямоугольники, основания которых – стороны основания призмы, а высоты равны высоте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ризмы. Площадь боковой поверхности призмы равна сумме площадей указанных прямоугольников, т.е. равна сумме произведений сторон основания на высоту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Вынося множитель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а скобки, получим в скобках сумму сторон основания, т.е. периметр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2640" cy="4537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17"/>
          <p:cNvGraphicFramePr/>
          <p:nvPr/>
        </p:nvGraphicFramePr>
        <p:xfrm>
          <a:off x="596880" y="404640"/>
          <a:ext cx="83232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404640"/>
                    <a:ext cx="83232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21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944800" cy="3673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19640" y="907560"/>
            <a:ext cx="5472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сновани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395280" y="4508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араллелограммы –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гран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33216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537000" cy="3743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71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ез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ребр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ковые ребра призмы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авны и паралле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487760" cy="4751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Боковые ребр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0920" y="549000"/>
            <a:ext cx="7715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зму с основания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называют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-угольной призмой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" descr=""/>
          <p:cNvPicPr/>
          <p:nvPr/>
        </p:nvPicPr>
        <p:blipFill>
          <a:blip r:embed="rId1"/>
          <a:stretch/>
        </p:blipFill>
        <p:spPr>
          <a:xfrm>
            <a:off x="539640" y="2216160"/>
            <a:ext cx="8147160" cy="3683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36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пендикуляр, проведенный из какой-нибудь точки одного основания к плоскости другого основания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8"/>
          <p:cNvGraphicFramePr/>
          <p:nvPr/>
        </p:nvGraphicFramePr>
        <p:xfrm>
          <a:off x="5213520" y="5445000"/>
          <a:ext cx="262872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3520" y="5445000"/>
                    <a:ext cx="2628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3895560" cy="412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Высот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боковые ребра призмы перпендикулярны к основаниям, то призма называе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ям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ротивном случае –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кл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прямой призмы равна её боковому реб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ямая и наклонна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9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2284560" cy="338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2685960" cy="3457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ая приз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ямая призма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авиль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если её основания – 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правильной призмы  все боковые грани – равные прям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185840" y="1967040"/>
            <a:ext cx="2581200" cy="379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96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96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ые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" descr=""/>
          <p:cNvPicPr/>
          <p:nvPr/>
        </p:nvPicPr>
        <p:blipFill>
          <a:blip r:embed="rId1"/>
          <a:stretch/>
        </p:blipFill>
        <p:spPr>
          <a:xfrm>
            <a:off x="1360440" y="1600200"/>
            <a:ext cx="642132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ли основания призмы - параллелограммы, то призма явля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араллелепип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араллелепипеде все грани являются параллелограм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103640" y="2133720"/>
            <a:ext cx="5040360" cy="434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76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0:10:17Z</dcterms:created>
  <dc:creator>Tatiana</dc:creator>
  <dc:description/>
  <dc:language>en-US</dc:language>
  <cp:lastModifiedBy>Татьяна Дмитриевна</cp:lastModifiedBy>
  <dcterms:modified xsi:type="dcterms:W3CDTF">2011-03-20T08:55:05Z</dcterms:modified>
  <cp:revision>18</cp:revision>
  <dc:subject/>
  <dc:title>Слайд 1</dc:title>
</cp:coreProperties>
</file>