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gif" ContentType="image/gif"/>
  <Override PartName="/ppt/media/image27.gif" ContentType="image/gif"/>
  <Override PartName="/ppt/media/image1.jpeg" ContentType="image/jpeg"/>
  <Override PartName="/ppt/media/image4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.gif" ContentType="image/gif"/>
  <Override PartName="/ppt/media/image2.jpeg" ContentType="image/jpeg"/>
  <Override PartName="/ppt/media/image14.gif" ContentType="image/gif"/>
  <Override PartName="/ppt/media/image15.gif" ContentType="image/gif"/>
  <Override PartName="/ppt/media/image16.gif" ContentType="image/gif"/>
  <Override PartName="/ppt/media/image26.gif" ContentType="image/gif"/>
  <Override PartName="/ppt/media/image19.png" ContentType="image/png"/>
  <Override PartName="/ppt/media/image17.gif" ContentType="image/gif"/>
  <Override PartName="/ppt/media/image6.gif" ContentType="image/gif"/>
  <Override PartName="/ppt/media/image21.jpeg" ContentType="image/jpeg"/>
  <Override PartName="/ppt/media/image18.gif" ContentType="image/gif"/>
  <Override PartName="/ppt/media/image20.gif" ContentType="image/gif"/>
  <Override PartName="/ppt/media/image30.gif" ContentType="image/gif"/>
  <Override PartName="/ppt/media/image23.png" ContentType="image/png"/>
  <Override PartName="/ppt/media/image22.gif" ContentType="image/gif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14B0-B1B9-41F8-B20D-A9C19E5D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D9BD-4B6D-452D-9CCF-2E821F47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3A44-EA31-4763-92E8-3FAA5870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23F2-737D-4B20-B4B0-338F63EA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2A45-EF8A-40EC-B952-39001468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9D0A-B369-4DC2-BC5A-0888BE2E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76F6-E56D-4922-935E-B273E760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6F7D-4C88-4A33-B147-D5602CDC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80A7-465C-4724-974C-98CD6548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F3F6-0B27-4488-85F6-53E8445B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C440-6106-4702-B4AB-56C4F6E6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DB7F-909A-46BD-9A98-6D5A06A1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7167-3872-4BF7-83AA-064DF3B4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9E94-472B-4598-9540-B93C56ED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9B7A-CFDD-4799-8E75-FC86A8D3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907A-355E-44A3-AE39-068BA128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66FB-A979-4323-A89B-A33864E7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AA41-A7BA-443A-B470-AA25530B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9E5F-FA80-4651-8020-8D79E004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97EE-CBAC-4D74-AF06-F59D73DB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40BF-96BD-4F10-90D2-6984FF1A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80D8-9DCE-461A-AF38-EA8980EA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E326-7464-4225-A032-D9B36E08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7B13-1F77-4AE2-95FC-0E4C6367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738C-4E97-4DB9-B145-0C2CAF3011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FF77-D9EF-4FD8-9E0F-0EE3C40824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hyperlink" Target="mailto:galka-kul@yandex.ru" TargetMode="External"/><Relationship Id="rId6" Type="http://schemas.openxmlformats.org/officeDocument/2006/relationships/slide" Target="slide24.xml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" Target="slide3.xml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2.xml"/><Relationship Id="rId7" Type="http://schemas.openxmlformats.org/officeDocument/2006/relationships/slide" Target="slide18.xml"/><Relationship Id="rId8" Type="http://schemas.openxmlformats.org/officeDocument/2006/relationships/image" Target="../media/image4.gif"/><Relationship Id="rId9" Type="http://schemas.openxmlformats.org/officeDocument/2006/relationships/slide" Target="slide13.xml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slide" Target="slide21.xml"/><Relationship Id="rId19" Type="http://schemas.openxmlformats.org/officeDocument/2006/relationships/image" Target="../media/image6.gif"/><Relationship Id="rId2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" Target="slide3.xml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image" Target="../media/image28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image" Target="../media/image28.gif"/><Relationship Id="rId17" Type="http://schemas.openxmlformats.org/officeDocument/2006/relationships/image" Target="../media/image28.gif"/><Relationship Id="rId18" Type="http://schemas.openxmlformats.org/officeDocument/2006/relationships/image" Target="../media/image28.gif"/><Relationship Id="rId19" Type="http://schemas.openxmlformats.org/officeDocument/2006/relationships/image" Target="../media/image28.gif"/><Relationship Id="rId20" Type="http://schemas.openxmlformats.org/officeDocument/2006/relationships/image" Target="../media/image28.gif"/><Relationship Id="rId21" Type="http://schemas.openxmlformats.org/officeDocument/2006/relationships/image" Target="../media/image28.gif"/><Relationship Id="rId22" Type="http://schemas.openxmlformats.org/officeDocument/2006/relationships/image" Target="../media/image28.gif"/><Relationship Id="rId23" Type="http://schemas.openxmlformats.org/officeDocument/2006/relationships/image" Target="../media/image28.gif"/><Relationship Id="rId24" Type="http://schemas.openxmlformats.org/officeDocument/2006/relationships/image" Target="../media/image28.gif"/><Relationship Id="rId25" Type="http://schemas.openxmlformats.org/officeDocument/2006/relationships/image" Target="../media/image26.gif"/><Relationship Id="rId2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image" Target="../media/image30.gif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2440" y="63360"/>
            <a:ext cx="8979120" cy="6731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746520" y="4572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173480" y="1973880"/>
            <a:ext cx="2200320" cy="1013400"/>
            <a:chOff x="4173480" y="1973880"/>
            <a:chExt cx="2200320" cy="1013400"/>
          </a:xfrm>
        </p:grpSpPr>
        <p:sp>
          <p:nvSpPr>
            <p:cNvPr id="84" name=""/>
            <p:cNvSpPr/>
            <p:nvPr/>
          </p:nvSpPr>
          <p:spPr>
            <a:xfrm flipH="1" flipV="1">
              <a:off x="4791240" y="1973880"/>
              <a:ext cx="1582560" cy="1005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195440" y="1976400"/>
              <a:ext cx="600480" cy="9446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173480" y="2926440"/>
              <a:ext cx="2182680" cy="60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4688640" y="2109600"/>
              <a:ext cx="289800" cy="156240"/>
              <a:chOff x="4688640" y="2109600"/>
              <a:chExt cx="289800" cy="156240"/>
            </a:xfrm>
          </p:grpSpPr>
          <p:sp>
            <p:nvSpPr>
              <p:cNvPr id="88" name=""/>
              <p:cNvSpPr/>
              <p:nvPr/>
            </p:nvSpPr>
            <p:spPr>
              <a:xfrm>
                <a:off x="4688640" y="2170800"/>
                <a:ext cx="178920" cy="950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4867560" y="2109600"/>
                <a:ext cx="110880" cy="1562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380880" y="380880"/>
            <a:ext cx="1770840" cy="714600"/>
            <a:chOff x="380880" y="380880"/>
            <a:chExt cx="1770840" cy="714600"/>
          </a:xfrm>
        </p:grpSpPr>
        <p:sp>
          <p:nvSpPr>
            <p:cNvPr id="91" name=""/>
            <p:cNvSpPr/>
            <p:nvPr/>
          </p:nvSpPr>
          <p:spPr>
            <a:xfrm>
              <a:off x="1013760" y="46656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cc"/>
                  </a:solidFill>
                  <a:latin typeface="Arial Black"/>
                </a:rPr>
                <a:t>КЛАС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380880" y="380880"/>
              <a:ext cx="571680" cy="7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2286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17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321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31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34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571680" cy="714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5680" y="4722840"/>
            <a:ext cx="788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.к. сумма острых углов прямоугольного треугольника равна 9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два других острых угла также равн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343" name="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5" name="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 flipH="1" flipV="1" rot="17826000">
            <a:off x="673560" y="1656720"/>
            <a:ext cx="386640" cy="31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 flipV="1" rot="17826000">
            <a:off x="2580120" y="1648800"/>
            <a:ext cx="386640" cy="31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636720" y="3377160"/>
            <a:ext cx="480240" cy="414720"/>
            <a:chOff x="3636720" y="3377160"/>
            <a:chExt cx="480240" cy="414720"/>
          </a:xfrm>
        </p:grpSpPr>
        <p:sp>
          <p:nvSpPr>
            <p:cNvPr id="349" name=""/>
            <p:cNvSpPr/>
            <p:nvPr/>
          </p:nvSpPr>
          <p:spPr>
            <a:xfrm flipH="1" flipV="1" rot="4138800">
              <a:off x="3756600" y="34340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 rot="4138800">
              <a:off x="3677760" y="34268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738080" y="3404160"/>
            <a:ext cx="480240" cy="414720"/>
            <a:chOff x="1738080" y="3404160"/>
            <a:chExt cx="480240" cy="414720"/>
          </a:xfrm>
        </p:grpSpPr>
        <p:sp>
          <p:nvSpPr>
            <p:cNvPr id="352" name=""/>
            <p:cNvSpPr/>
            <p:nvPr/>
          </p:nvSpPr>
          <p:spPr>
            <a:xfrm flipH="1" flipV="1" rot="4138800">
              <a:off x="1857960" y="34610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 rot="4138800">
              <a:off x="1779120" y="34538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69720" y="5037120"/>
            <a:ext cx="8346960" cy="1041840"/>
            <a:chOff x="369720" y="5037120"/>
            <a:chExt cx="8346960" cy="1041840"/>
          </a:xfrm>
        </p:grpSpPr>
        <p:sp>
          <p:nvSpPr>
            <p:cNvPr id="355" name=""/>
            <p:cNvSpPr/>
            <p:nvPr/>
          </p:nvSpPr>
          <p:spPr>
            <a:xfrm>
              <a:off x="369720" y="5375160"/>
              <a:ext cx="774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 второму признаку равенства треугольников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(по стороне и прилежащим к ней углам)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04080" y="5037120"/>
              <a:ext cx="361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поэтому треугольники равн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43680" y="1477800"/>
            <a:ext cx="3336120" cy="2184480"/>
            <a:chOff x="643680" y="1477800"/>
            <a:chExt cx="3336120" cy="2184480"/>
          </a:xfrm>
        </p:grpSpPr>
        <p:grpSp>
          <p:nvGrpSpPr>
            <p:cNvPr id="358" name=""/>
            <p:cNvGrpSpPr/>
            <p:nvPr/>
          </p:nvGrpSpPr>
          <p:grpSpPr>
            <a:xfrm>
              <a:off x="2543760" y="1482480"/>
              <a:ext cx="1436040" cy="2179800"/>
              <a:chOff x="2543760" y="1482480"/>
              <a:chExt cx="1436040" cy="2179800"/>
            </a:xfrm>
          </p:grpSpPr>
          <p:sp>
            <p:nvSpPr>
              <p:cNvPr id="359" name=""/>
              <p:cNvSpPr/>
              <p:nvPr/>
            </p:nvSpPr>
            <p:spPr>
              <a:xfrm flipH="1" flipV="1" rot="17826000">
                <a:off x="2576880" y="1664640"/>
                <a:ext cx="386640" cy="31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692440" y="148248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43680" y="1477800"/>
              <a:ext cx="1419840" cy="2179800"/>
              <a:chOff x="643680" y="1477800"/>
              <a:chExt cx="1419840" cy="2179800"/>
            </a:xfrm>
          </p:grpSpPr>
          <p:sp>
            <p:nvSpPr>
              <p:cNvPr id="362" name=""/>
              <p:cNvSpPr/>
              <p:nvPr/>
            </p:nvSpPr>
            <p:spPr>
              <a:xfrm>
                <a:off x="776160" y="147780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 rot="17826000">
                <a:off x="676800" y="1666080"/>
                <a:ext cx="386640" cy="31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78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628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678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728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7780"/>
                            </p:stCondLst>
                            <p:childTnLst>
                              <p:par>
                                <p:cTn id="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28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78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928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978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28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78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128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90720" y="3049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67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84080" y="1447920"/>
            <a:ext cx="1295280" cy="2209680"/>
            <a:chOff x="784080" y="1447920"/>
            <a:chExt cx="1295280" cy="2209680"/>
          </a:xfrm>
        </p:grpSpPr>
        <p:sp>
          <p:nvSpPr>
            <p:cNvPr id="371" name=""/>
            <p:cNvSpPr/>
            <p:nvPr/>
          </p:nvSpPr>
          <p:spPr>
            <a:xfrm>
              <a:off x="7840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40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840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870200" y="36669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22640" y="1284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81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84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584680" y="1473120"/>
            <a:ext cx="3150000" cy="1056960"/>
            <a:chOff x="5584680" y="1473120"/>
            <a:chExt cx="3150000" cy="1056960"/>
          </a:xfrm>
        </p:grpSpPr>
        <p:sp>
          <p:nvSpPr>
            <p:cNvPr id="392" name=""/>
            <p:cNvSpPr/>
            <p:nvPr/>
          </p:nvSpPr>
          <p:spPr>
            <a:xfrm>
              <a:off x="5584680" y="1473120"/>
              <a:ext cx="311796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625360" y="153828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666880" y="1442880"/>
            <a:ext cx="1295280" cy="2209680"/>
            <a:chOff x="2666880" y="1442880"/>
            <a:chExt cx="1295280" cy="2209680"/>
          </a:xfrm>
        </p:grpSpPr>
        <p:sp>
          <p:nvSpPr>
            <p:cNvPr id="395" name=""/>
            <p:cNvSpPr/>
            <p:nvPr/>
          </p:nvSpPr>
          <p:spPr>
            <a:xfrm>
              <a:off x="2666880" y="1442880"/>
              <a:ext cx="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66880" y="3652560"/>
              <a:ext cx="12952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66880" y="1442880"/>
              <a:ext cx="129528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2285640" y="4368960"/>
            <a:ext cx="46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ложим  </a:t>
            </a:r>
            <a:r>
              <a:rPr b="1" i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на треугольник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АВС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1640" y="2625840"/>
            <a:ext cx="1587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76520" y="2655720"/>
            <a:ext cx="1587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401120" y="2597040"/>
            <a:ext cx="205200" cy="187200"/>
            <a:chOff x="1401120" y="2597040"/>
            <a:chExt cx="205200" cy="187200"/>
          </a:xfrm>
        </p:grpSpPr>
        <p:sp>
          <p:nvSpPr>
            <p:cNvPr id="402" name=""/>
            <p:cNvSpPr/>
            <p:nvPr/>
          </p:nvSpPr>
          <p:spPr>
            <a:xfrm flipH="1">
              <a:off x="1444320" y="264096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401120" y="259704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277440" y="2568600"/>
            <a:ext cx="205200" cy="187200"/>
            <a:chOff x="3277440" y="2568600"/>
            <a:chExt cx="205200" cy="187200"/>
          </a:xfrm>
        </p:grpSpPr>
        <p:sp>
          <p:nvSpPr>
            <p:cNvPr id="405" name=""/>
            <p:cNvSpPr/>
            <p:nvPr/>
          </p:nvSpPr>
          <p:spPr>
            <a:xfrm flipH="1">
              <a:off x="3320640" y="261252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277440" y="256860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2661840" y="1463760"/>
            <a:ext cx="11160" cy="21891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62520" y="4753080"/>
            <a:ext cx="616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.к. АС =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и АВ =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то они при наложении совпад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6960" y="5070600"/>
            <a:ext cx="484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огда вершина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совместиться с вершиной 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55680" y="5433840"/>
            <a:ext cx="496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о и тогда и вершины 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и В также совместя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657520" y="1477800"/>
            <a:ext cx="1307880" cy="21798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rot="11792400">
            <a:off x="2448000" y="1649880"/>
            <a:ext cx="555120" cy="53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475080" y="3390840"/>
            <a:ext cx="554400" cy="531720"/>
            <a:chOff x="3475080" y="3390840"/>
            <a:chExt cx="554400" cy="531720"/>
          </a:xfrm>
        </p:grpSpPr>
        <p:sp>
          <p:nvSpPr>
            <p:cNvPr id="414" name=""/>
            <p:cNvSpPr/>
            <p:nvPr/>
          </p:nvSpPr>
          <p:spPr>
            <a:xfrm flipH="1">
              <a:off x="3475080" y="3392280"/>
              <a:ext cx="554400" cy="53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3614760" y="3390840"/>
              <a:ext cx="319680" cy="52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355320" y="574992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ледовательно,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38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88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638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88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738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788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838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888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938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9880"/>
                            </p:stCondLst>
                            <p:childTnLst>
                              <p:par>
                                <p:cTn id="7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38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88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138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188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2380"/>
                            </p:stCondLst>
                            <p:childTnLst>
                              <p:par>
                                <p:cTn id="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32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820"/>
                            </p:stCondLst>
                            <p:childTnLst>
                              <p:par>
                                <p:cTn id="7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22222E-006 L -0.2059 2.22222E-006 E">
                                      <p:cBhvr>
                                        <p:cTn id="789" dur="3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4820"/>
                            </p:stCondLst>
                            <p:childTnLst>
                              <p:par>
                                <p:cTn id="7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820"/>
                            </p:stCondLst>
                            <p:childTnLst>
                              <p:par>
                                <p:cTn id="7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6820"/>
                            </p:stCondLst>
                            <p:childTnLst>
                              <p:par>
                                <p:cTn id="7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7820"/>
                            </p:stCondLst>
                            <p:childTnLst>
                              <p:par>
                                <p:cTn id="80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88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380"/>
                            </p:stCondLst>
                            <p:childTnLst>
                              <p:par>
                                <p:cTn id="8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380"/>
                            </p:stCondLst>
                            <p:childTnLst>
                              <p:par>
                                <p:cTn id="8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3.33333E-006 L -0.20469 -0.00139 E">
                                      <p:cBhvr>
                                        <p:cTn id="818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38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88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6380"/>
                            </p:stCondLst>
                            <p:childTnLst>
                              <p:par>
                                <p:cTn id="82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0.20243 0.00185 E">
                                      <p:cBhvr>
                                        <p:cTn id="829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52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020"/>
                            </p:stCondLst>
                            <p:childTnLst>
                              <p:par>
                                <p:cTn id="8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20"/>
                            </p:stCondLst>
                            <p:childTnLst>
                              <p:par>
                                <p:cTn id="8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4019"/>
                            </p:stCondLst>
                            <p:childTnLst>
                              <p:par>
                                <p:cTn id="8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1134 L -0.20087 0.01134 E">
                                      <p:cBhvr>
                                        <p:cTn id="849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6020"/>
                            </p:stCondLst>
                            <p:childTnLst>
                              <p:par>
                                <p:cTn id="8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7020"/>
                            </p:stCondLst>
                            <p:childTnLst>
                              <p:par>
                                <p:cTn id="8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2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20"/>
                            </p:stCondLst>
                            <p:childTnLst>
                              <p:par>
                                <p:cTn id="8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3020"/>
                            </p:stCondLst>
                            <p:childTnLst>
                              <p:par>
                                <p:cTn id="8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4019"/>
                            </p:stCondLst>
                            <p:childTnLst>
                              <p:par>
                                <p:cTn id="8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1.11111E-006 L -0.19774 -0.00162 E">
                                      <p:cBhvr>
                                        <p:cTn id="875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6020"/>
                            </p:stCondLst>
                            <p:childTnLst>
                              <p:par>
                                <p:cTn id="8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706680" y="304920"/>
            <a:ext cx="77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949680" y="4857120"/>
            <a:ext cx="2900520" cy="1321920"/>
            <a:chOff x="949680" y="4857120"/>
            <a:chExt cx="2900520" cy="1321920"/>
          </a:xfrm>
        </p:grpSpPr>
        <p:sp>
          <p:nvSpPr>
            <p:cNvPr id="420" name=""/>
            <p:cNvSpPr/>
            <p:nvPr/>
          </p:nvSpPr>
          <p:spPr>
            <a:xfrm flipH="1" flipV="1">
              <a:off x="1711080" y="4857120"/>
              <a:ext cx="2139120" cy="1321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949680" y="4857120"/>
              <a:ext cx="761400" cy="1231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949680" y="6088680"/>
              <a:ext cx="290052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609560" y="4979160"/>
            <a:ext cx="268200" cy="158040"/>
            <a:chOff x="1609560" y="4979160"/>
            <a:chExt cx="268200" cy="158040"/>
          </a:xfrm>
        </p:grpSpPr>
        <p:sp>
          <p:nvSpPr>
            <p:cNvPr id="424" name=""/>
            <p:cNvSpPr/>
            <p:nvPr/>
          </p:nvSpPr>
          <p:spPr>
            <a:xfrm flipH="1">
              <a:off x="1774440" y="4979160"/>
              <a:ext cx="1033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1609560" y="5019120"/>
              <a:ext cx="173160" cy="11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30280" y="137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2560" y="3600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14040" y="3600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83560" y="3743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245960" y="5694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743200" y="1219320"/>
            <a:ext cx="1295280" cy="2516040"/>
            <a:chOff x="2743200" y="1219320"/>
            <a:chExt cx="1295280" cy="2516040"/>
          </a:xfrm>
        </p:grpSpPr>
        <p:sp>
          <p:nvSpPr>
            <p:cNvPr id="432" name=""/>
            <p:cNvSpPr/>
            <p:nvPr/>
          </p:nvSpPr>
          <p:spPr>
            <a:xfrm>
              <a:off x="4038480" y="1219320"/>
              <a:ext cx="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743200" y="373536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743200" y="1219320"/>
              <a:ext cx="129528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H="1">
            <a:off x="3483000" y="1295280"/>
            <a:ext cx="53352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545640" y="1735920"/>
            <a:ext cx="470160" cy="468720"/>
            <a:chOff x="3545640" y="1735920"/>
            <a:chExt cx="470160" cy="468720"/>
          </a:xfrm>
        </p:grpSpPr>
        <p:sp>
          <p:nvSpPr>
            <p:cNvPr id="437" name=""/>
            <p:cNvSpPr/>
            <p:nvPr/>
          </p:nvSpPr>
          <p:spPr>
            <a:xfrm rot="8875800">
              <a:off x="3587400" y="1864080"/>
              <a:ext cx="36504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8875800">
              <a:off x="3609000" y="1812240"/>
              <a:ext cx="36432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0240" y="1964520"/>
            <a:ext cx="470160" cy="468720"/>
            <a:chOff x="3720240" y="1964520"/>
            <a:chExt cx="470160" cy="468720"/>
          </a:xfrm>
        </p:grpSpPr>
        <p:sp>
          <p:nvSpPr>
            <p:cNvPr id="440" name=""/>
            <p:cNvSpPr/>
            <p:nvPr/>
          </p:nvSpPr>
          <p:spPr>
            <a:xfrm rot="8875800">
              <a:off x="3762000" y="2092680"/>
              <a:ext cx="36504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875800">
              <a:off x="3783600" y="2040840"/>
              <a:ext cx="36432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880800" y="59342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3760" y="5888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564560" y="4464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7166400">
            <a:off x="658800" y="1834200"/>
            <a:ext cx="437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60320" y="23526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37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753480" y="1742760"/>
            <a:ext cx="1135080" cy="1900440"/>
            <a:chOff x="753480" y="1742760"/>
            <a:chExt cx="1135080" cy="1900440"/>
          </a:xfrm>
        </p:grpSpPr>
        <p:sp>
          <p:nvSpPr>
            <p:cNvPr id="448" name=""/>
            <p:cNvSpPr/>
            <p:nvPr/>
          </p:nvSpPr>
          <p:spPr>
            <a:xfrm flipH="1">
              <a:off x="753480" y="1742760"/>
              <a:ext cx="25560" cy="1874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3480" y="3611880"/>
              <a:ext cx="1119240" cy="1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94880" y="1753200"/>
              <a:ext cx="1093680" cy="1890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770760" y="3386880"/>
              <a:ext cx="204120" cy="214200"/>
              <a:chOff x="770760" y="3386880"/>
              <a:chExt cx="204120" cy="214200"/>
            </a:xfrm>
          </p:grpSpPr>
          <p:sp>
            <p:nvSpPr>
              <p:cNvPr id="452" name=""/>
              <p:cNvSpPr/>
              <p:nvPr/>
            </p:nvSpPr>
            <p:spPr>
              <a:xfrm flipH="1" flipV="1">
                <a:off x="962280" y="3399480"/>
                <a:ext cx="12600" cy="2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70760" y="3386880"/>
                <a:ext cx="19152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"/>
          <p:cNvSpPr/>
          <p:nvPr/>
        </p:nvSpPr>
        <p:spPr>
          <a:xfrm>
            <a:off x="1420560" y="32544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012840" y="57913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585440" y="3295080"/>
            <a:ext cx="496440" cy="526320"/>
            <a:chOff x="1585440" y="3295080"/>
            <a:chExt cx="496440" cy="526320"/>
          </a:xfrm>
        </p:grpSpPr>
        <p:sp>
          <p:nvSpPr>
            <p:cNvPr id="457" name=""/>
            <p:cNvSpPr/>
            <p:nvPr/>
          </p:nvSpPr>
          <p:spPr>
            <a:xfrm rot="14456400">
              <a:off x="1595160" y="3411360"/>
              <a:ext cx="42840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4456400">
              <a:off x="1643400" y="3429360"/>
              <a:ext cx="427680" cy="2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46560" y="344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588840" y="1055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079160" y="3495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514680" y="347184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7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886200" y="3527280"/>
            <a:ext cx="152280" cy="198360"/>
            <a:chOff x="3886200" y="3527280"/>
            <a:chExt cx="152280" cy="198360"/>
          </a:xfrm>
        </p:grpSpPr>
        <p:sp>
          <p:nvSpPr>
            <p:cNvPr id="464" name=""/>
            <p:cNvSpPr/>
            <p:nvPr/>
          </p:nvSpPr>
          <p:spPr>
            <a:xfrm>
              <a:off x="3894120" y="352728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86200" y="3538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2968560" y="3341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379800">
            <a:off x="2610720" y="3471480"/>
            <a:ext cx="437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105520" y="2362320"/>
            <a:ext cx="2743200" cy="1218960"/>
            <a:chOff x="5105520" y="2362320"/>
            <a:chExt cx="2743200" cy="1218960"/>
          </a:xfrm>
        </p:grpSpPr>
        <p:sp>
          <p:nvSpPr>
            <p:cNvPr id="469" name=""/>
            <p:cNvSpPr/>
            <p:nvPr/>
          </p:nvSpPr>
          <p:spPr>
            <a:xfrm>
              <a:off x="7848720" y="2362320"/>
              <a:ext cx="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5105520" y="2362320"/>
              <a:ext cx="2743200" cy="1218960"/>
              <a:chOff x="5105520" y="2362320"/>
              <a:chExt cx="2743200" cy="1218960"/>
            </a:xfrm>
          </p:grpSpPr>
          <p:sp>
            <p:nvSpPr>
              <p:cNvPr id="471" name=""/>
              <p:cNvSpPr/>
              <p:nvPr/>
            </p:nvSpPr>
            <p:spPr>
              <a:xfrm>
                <a:off x="5105520" y="3581280"/>
                <a:ext cx="2743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5105520" y="2362320"/>
                <a:ext cx="2743200" cy="121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"/>
          <p:cNvSpPr/>
          <p:nvPr/>
        </p:nvSpPr>
        <p:spPr>
          <a:xfrm>
            <a:off x="4743720" y="3332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832160" y="1994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870320" y="3319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7696080" y="3375000"/>
            <a:ext cx="152280" cy="198360"/>
            <a:chOff x="7696080" y="3375000"/>
            <a:chExt cx="152280" cy="198360"/>
          </a:xfrm>
        </p:grpSpPr>
        <p:sp>
          <p:nvSpPr>
            <p:cNvPr id="477" name=""/>
            <p:cNvSpPr/>
            <p:nvPr/>
          </p:nvSpPr>
          <p:spPr>
            <a:xfrm>
              <a:off x="7704000" y="337500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696080" y="3386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 rot="379800">
            <a:off x="5356080" y="333684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810040" y="327672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20058600">
            <a:off x="6109200" y="25052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5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854840" y="2819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21357600">
            <a:off x="6019200" y="595980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410080" y="5943600"/>
            <a:ext cx="152640" cy="228600"/>
            <a:chOff x="5410080" y="5943600"/>
            <a:chExt cx="152640" cy="228600"/>
          </a:xfrm>
        </p:grpSpPr>
        <p:sp>
          <p:nvSpPr>
            <p:cNvPr id="485" name=""/>
            <p:cNvSpPr/>
            <p:nvPr/>
          </p:nvSpPr>
          <p:spPr>
            <a:xfrm>
              <a:off x="5410080" y="59547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62720" y="59436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6350040" y="5802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2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21320" y="6172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 с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05960" y="61246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410080" y="4572000"/>
            <a:ext cx="914400" cy="1600200"/>
            <a:chOff x="5410080" y="4572000"/>
            <a:chExt cx="914400" cy="1600200"/>
          </a:xfrm>
        </p:grpSpPr>
        <p:sp>
          <p:nvSpPr>
            <p:cNvPr id="491" name=""/>
            <p:cNvSpPr/>
            <p:nvPr/>
          </p:nvSpPr>
          <p:spPr>
            <a:xfrm>
              <a:off x="5410080" y="6172200"/>
              <a:ext cx="914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10080" y="4572000"/>
              <a:ext cx="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10080" y="4572000"/>
              <a:ext cx="91440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5410080" y="6183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093640" y="6143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88400" y="6162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100120" y="441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883120" y="51339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2193000">
            <a:off x="2454120" y="5127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4,2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920960" y="612936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8,4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379800">
            <a:off x="857160" y="583236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3233520" y="5814360"/>
            <a:ext cx="496440" cy="526320"/>
            <a:chOff x="3233520" y="5814360"/>
            <a:chExt cx="496440" cy="526320"/>
          </a:xfrm>
        </p:grpSpPr>
        <p:sp>
          <p:nvSpPr>
            <p:cNvPr id="503" name=""/>
            <p:cNvSpPr/>
            <p:nvPr/>
          </p:nvSpPr>
          <p:spPr>
            <a:xfrm rot="14456400">
              <a:off x="3243240" y="5930640"/>
              <a:ext cx="42840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4456400">
              <a:off x="3291480" y="5948640"/>
              <a:ext cx="427680" cy="2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6934320" y="4191120"/>
            <a:ext cx="676080" cy="7617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447920" y="14479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4572000" y="13716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6"/>
          <a:stretch/>
        </p:blipFill>
        <p:spPr>
          <a:xfrm>
            <a:off x="7924680" y="1295280"/>
            <a:ext cx="704880" cy="7621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7"/>
          <a:stretch/>
        </p:blipFill>
        <p:spPr>
          <a:xfrm>
            <a:off x="3276720" y="4191120"/>
            <a:ext cx="695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00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5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3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4500"/>
                            </p:stCondLst>
                            <p:childTnLst>
                              <p:par>
                                <p:cTn id="9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4" dur="2000" fill="hold"/>
                                        <p:tgtEl>
                                          <p:spTgt spid="4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500"/>
                            </p:stCondLst>
                            <p:childTnLst>
                              <p:par>
                                <p:cTn id="9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3000"/>
                            </p:stCondLst>
                            <p:childTnLst>
                              <p:par>
                                <p:cTn id="9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3500"/>
                            </p:stCondLst>
                            <p:childTnLst>
                              <p:par>
                                <p:cTn id="9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0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4500"/>
                            </p:stCondLst>
                            <p:childTnLst>
                              <p:par>
                                <p:cTn id="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50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600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6500"/>
                            </p:stCondLst>
                            <p:childTnLst>
                              <p:par>
                                <p:cTn id="9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1" dur="2000" fill="hold"/>
                                        <p:tgtEl>
                                          <p:spTgt spid="4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6" dur="2000" fill="hold"/>
                                        <p:tgtEl>
                                          <p:spTgt spid="4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8" dur="2000" fill="hold"/>
                                        <p:tgtEl>
                                          <p:spTgt spid="4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0" dur="2000" fill="hold"/>
                                        <p:tgtEl>
                                          <p:spTgt spid="4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3" dur="2000" fill="hold"/>
                                        <p:tgtEl>
                                          <p:spTgt spid="4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20640" y="1798560"/>
            <a:ext cx="82584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се углы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два угла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один прямой уго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0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84960" y="1773360"/>
            <a:ext cx="92109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В прямоугольном треугольнике всег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два угла острых и один прям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дин острый угол, один прямой и один тупой угол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все углы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0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99360" y="1870200"/>
            <a:ext cx="940284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ямой угол, называю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торонами треугольник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катетами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ами треугольник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0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878040" y="1860480"/>
            <a:ext cx="743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стороной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катетом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гипотенузой треуголь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800280" y="1806480"/>
            <a:ext cx="7907040" cy="1985040"/>
            <a:chOff x="800280" y="1806480"/>
            <a:chExt cx="7907040" cy="1985040"/>
          </a:xfrm>
        </p:grpSpPr>
        <p:sp>
          <p:nvSpPr>
            <p:cNvPr id="520" name=""/>
            <p:cNvSpPr/>
            <p:nvPr/>
          </p:nvSpPr>
          <p:spPr>
            <a:xfrm>
              <a:off x="800280" y="1806480"/>
              <a:ext cx="790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ahoma"/>
                </a:rPr>
                <a:t>5.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Сумма острых углов прямоугольного треугольника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равн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314440" y="2600280"/>
              <a:ext cx="342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а) 18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б) 10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в) 9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0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673280" y="914400"/>
            <a:ext cx="27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Об  авто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55280" y="2209680"/>
            <a:ext cx="8143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нная разработка выполнена учителем математ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У «Средняя общеобразовательная школа № 33» г.Брянс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Tahoma"/>
              </a:rPr>
              <a:t>Кулешовой  Галиной  Николаевн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е отзывы, предложения и вопросы вы можете направить по адрес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 flipH="1">
            <a:off x="5866920" y="685800"/>
            <a:ext cx="1752840" cy="1557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1969920" y="4049640"/>
            <a:ext cx="428760" cy="3812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1881360" y="4811760"/>
            <a:ext cx="475920" cy="3333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438280" y="4114800"/>
            <a:ext cx="5791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-ma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galka-kul@yandex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478600" y="4800600"/>
            <a:ext cx="37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лефон: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8 – 920 – 607 – 20 – 9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>
            <a:hlinkClick r:id="rId6" action="ppaction://hlinksldjump"/>
          </p:cNvPr>
          <p:cNvSpPr/>
          <p:nvPr/>
        </p:nvSpPr>
        <p:spPr>
          <a:xfrm flipH="1" rot="10869600">
            <a:off x="8396280" y="6171840"/>
            <a:ext cx="388800" cy="382680"/>
          </a:xfrm>
          <a:custGeom>
            <a:avLst/>
            <a:gdLst>
              <a:gd name="textAreaLeft" fmla="*/ 24480 w 388800"/>
              <a:gd name="textAreaRight" fmla="*/ 364320 w 388800"/>
              <a:gd name="textAreaTop" fmla="*/ 24480 h 382680"/>
              <a:gd name="textAreaBottom" fmla="*/ 358200 h 382680"/>
            </a:gdLst>
            <a:ahLst/>
            <a:rect l="textAreaLeft" t="textAreaTop" r="textAreaRight" b="textAreaBottom"/>
            <a:pathLst>
              <a:path w="21945" h="21600">
                <a:moveTo>
                  <a:pt x="0" y="0"/>
                </a:moveTo>
                <a:lnTo>
                  <a:pt x="21945" y="0"/>
                </a:lnTo>
                <a:lnTo>
                  <a:pt x="21945" y="21600"/>
                </a:lnTo>
                <a:lnTo>
                  <a:pt x="0" y="21600"/>
                </a:lnTo>
                <a:close/>
              </a:path>
              <a:path fill="lightenLess" w="21945" h="21600">
                <a:moveTo>
                  <a:pt x="0" y="0"/>
                </a:moveTo>
                <a:lnTo>
                  <a:pt x="21945" y="0"/>
                </a:lnTo>
                <a:lnTo>
                  <a:pt x="20545" y="1400"/>
                </a:lnTo>
                <a:lnTo>
                  <a:pt x="1400" y="1400"/>
                </a:lnTo>
                <a:close/>
              </a:path>
              <a:path fill="darken" w="21945" h="21600">
                <a:moveTo>
                  <a:pt x="21945" y="0"/>
                </a:moveTo>
                <a:lnTo>
                  <a:pt x="21945" y="21600"/>
                </a:lnTo>
                <a:lnTo>
                  <a:pt x="20545" y="20200"/>
                </a:lnTo>
                <a:lnTo>
                  <a:pt x="20545" y="1400"/>
                </a:lnTo>
                <a:close/>
              </a:path>
              <a:path fill="darkenLess" w="21945" h="21600">
                <a:moveTo>
                  <a:pt x="21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45" y="20200"/>
                </a:lnTo>
                <a:close/>
              </a:path>
              <a:path fill="lighten" w="21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45" h="21600">
                <a:moveTo>
                  <a:pt x="3966" y="7493"/>
                </a:moveTo>
                <a:lnTo>
                  <a:pt x="7474" y="7493"/>
                </a:lnTo>
                <a:lnTo>
                  <a:pt x="7474" y="12828"/>
                </a:lnTo>
                <a:cubicBezTo>
                  <a:pt x="7474" y="13751"/>
                  <a:pt x="8274" y="14482"/>
                  <a:pt x="9310" y="14482"/>
                </a:cubicBezTo>
                <a:lnTo>
                  <a:pt x="10973" y="14482"/>
                </a:lnTo>
                <a:cubicBezTo>
                  <a:pt x="12008" y="14482"/>
                  <a:pt x="12809" y="13751"/>
                  <a:pt x="12809" y="12828"/>
                </a:cubicBezTo>
                <a:lnTo>
                  <a:pt x="12809" y="7493"/>
                </a:lnTo>
                <a:lnTo>
                  <a:pt x="10973" y="7493"/>
                </a:lnTo>
                <a:lnTo>
                  <a:pt x="14480" y="3985"/>
                </a:lnTo>
                <a:lnTo>
                  <a:pt x="18153" y="7493"/>
                </a:lnTo>
                <a:lnTo>
                  <a:pt x="16317" y="7493"/>
                </a:lnTo>
                <a:lnTo>
                  <a:pt x="16317" y="12828"/>
                </a:lnTo>
                <a:cubicBezTo>
                  <a:pt x="16317" y="15596"/>
                  <a:pt x="13740" y="18155"/>
                  <a:pt x="10973" y="18155"/>
                </a:cubicBezTo>
                <a:lnTo>
                  <a:pt x="9310" y="18155"/>
                </a:lnTo>
                <a:cubicBezTo>
                  <a:pt x="6542" y="18155"/>
                  <a:pt x="3966" y="15596"/>
                  <a:pt x="396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951520" y="5559480"/>
            <a:ext cx="28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0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7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3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80"/>
                            </p:stCondLst>
                            <p:childTnLst>
                              <p:par>
                                <p:cTn id="12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0580"/>
                            </p:stCondLst>
                            <p:childTnLst>
                              <p:par>
                                <p:cTn id="1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5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1540"/>
                            </p:stCondLst>
                            <p:childTnLst>
                              <p:par>
                                <p:cTn id="12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3237840" y="255600"/>
            <a:ext cx="35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819520" y="961920"/>
            <a:ext cx="6324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тематический папирус Ахмес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хмес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200px-Egyptian_A%27h-mosè_or_Rhind_Papyrus_%281065x1330%29" descr="Фрагмент папируса Ахмеса"/>
          <p:cNvPicPr/>
          <p:nvPr/>
        </p:nvPicPr>
        <p:blipFill>
          <a:blip r:embed="rId2"/>
          <a:stretch/>
        </p:blipFill>
        <p:spPr>
          <a:xfrm>
            <a:off x="228600" y="762120"/>
            <a:ext cx="2500200" cy="31240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2819520" y="2378160"/>
            <a:ext cx="61722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пирус Ахмеса был обнаружен в 1858 шотландским египтологом Генри Риндо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0200" y="3994200"/>
            <a:ext cx="867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69920" y="4758120"/>
            <a:ext cx="882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>
            <a:hlinkClick r:id="rId3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4"/>
          <a:stretch/>
        </p:blipFill>
        <p:spPr>
          <a:xfrm>
            <a:off x="7238880" y="228600"/>
            <a:ext cx="762120" cy="6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0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356640" y="60948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С о д е р ж а н и 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68040" y="1523880"/>
            <a:ext cx="2939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Из истории мате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18080" y="2057400"/>
            <a:ext cx="183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Опреде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0680" y="2590920"/>
            <a:ext cx="6147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Некоторые свойства прямоугольных треуголь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52840" y="3124080"/>
            <a:ext cx="621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Признаки равенства прямоугольных треугольни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62280" y="3657600"/>
            <a:ext cx="365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Задачи по готовым  чертеж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2240" y="5257800"/>
            <a:ext cx="1390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Об авто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 flipH="1">
            <a:off x="1676520" y="457200"/>
            <a:ext cx="838080" cy="857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96560" y="4191120"/>
            <a:ext cx="2248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Контрольный те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23720" y="228600"/>
            <a:ext cx="8426160" cy="6248160"/>
            <a:chOff x="423720" y="228600"/>
            <a:chExt cx="8426160" cy="6248160"/>
          </a:xfrm>
        </p:grpSpPr>
        <p:grpSp>
          <p:nvGrpSpPr>
            <p:cNvPr id="103" name=""/>
            <p:cNvGrpSpPr/>
            <p:nvPr/>
          </p:nvGrpSpPr>
          <p:grpSpPr>
            <a:xfrm>
              <a:off x="466560" y="6205680"/>
              <a:ext cx="8372160" cy="271080"/>
              <a:chOff x="466560" y="6205680"/>
              <a:chExt cx="8372160" cy="271080"/>
            </a:xfrm>
          </p:grpSpPr>
          <p:pic>
            <p:nvPicPr>
              <p:cNvPr id="10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6560" y="6205680"/>
                <a:ext cx="4190760" cy="27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647600" y="6205680"/>
                <a:ext cx="4191120" cy="27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" name=""/>
            <p:cNvGrpSpPr/>
            <p:nvPr/>
          </p:nvGrpSpPr>
          <p:grpSpPr>
            <a:xfrm>
              <a:off x="457200" y="228600"/>
              <a:ext cx="8390880" cy="190440"/>
              <a:chOff x="457200" y="228600"/>
              <a:chExt cx="8390880" cy="190440"/>
            </a:xfrm>
          </p:grpSpPr>
          <p:pic>
            <p:nvPicPr>
              <p:cNvPr id="10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57200" y="228600"/>
                <a:ext cx="420012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47600" y="228600"/>
                <a:ext cx="4200480" cy="190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423720" y="380880"/>
              <a:ext cx="228240" cy="5867280"/>
              <a:chOff x="423720" y="380880"/>
              <a:chExt cx="228240" cy="5867280"/>
            </a:xfrm>
          </p:grpSpPr>
          <p:pic>
            <p:nvPicPr>
              <p:cNvPr id="110" name="" descr=""/>
              <p:cNvPicPr/>
              <p:nvPr/>
            </p:nvPicPr>
            <p:blipFill>
              <a:blip r:embed="rId14"/>
              <a:stretch/>
            </p:blipFill>
            <p:spPr>
              <a:xfrm rot="16200000">
                <a:off x="-93024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5"/>
              <a:stretch/>
            </p:blipFill>
            <p:spPr>
              <a:xfrm rot="16200000">
                <a:off x="-93060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" name=""/>
            <p:cNvGrpSpPr/>
            <p:nvPr/>
          </p:nvGrpSpPr>
          <p:grpSpPr>
            <a:xfrm>
              <a:off x="8621640" y="380880"/>
              <a:ext cx="228240" cy="5867280"/>
              <a:chOff x="8621640" y="380880"/>
              <a:chExt cx="228240" cy="5867280"/>
            </a:xfrm>
          </p:grpSpPr>
          <p:pic>
            <p:nvPicPr>
              <p:cNvPr id="113" name="" descr=""/>
              <p:cNvPicPr/>
              <p:nvPr/>
            </p:nvPicPr>
            <p:blipFill>
              <a:blip r:embed="rId16"/>
              <a:stretch/>
            </p:blipFill>
            <p:spPr>
              <a:xfrm rot="16200000">
                <a:off x="726732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7"/>
              <a:stretch/>
            </p:blipFill>
            <p:spPr>
              <a:xfrm rot="16200000">
                <a:off x="726696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" name=""/>
          <p:cNvSpPr/>
          <p:nvPr/>
        </p:nvSpPr>
        <p:spPr>
          <a:xfrm>
            <a:off x="1121760" y="4724280"/>
            <a:ext cx="1826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18" action="ppaction://hlinksldjump"/>
              </a:rPr>
              <a:t>Это интерес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9"/>
          <a:stretch/>
        </p:blipFill>
        <p:spPr>
          <a:xfrm>
            <a:off x="6629400" y="4572000"/>
            <a:ext cx="167652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684240" y="40464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438280" y="1072440"/>
            <a:ext cx="629604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080" bIns="10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вкли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-4402080" y="137016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457200" y="1295280"/>
            <a:ext cx="1771560" cy="236232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04920" y="4019400"/>
            <a:ext cx="8458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>
            <a:hlinkClick r:id="rId4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5"/>
          <a:stretch/>
        </p:blipFill>
        <p:spPr>
          <a:xfrm>
            <a:off x="8001000" y="2895480"/>
            <a:ext cx="90000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>
            <a:hlinkClick r:id="rId2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59280" y="2556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9480" y="6404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реугольни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057400" y="2133720"/>
            <a:ext cx="4952880" cy="1523880"/>
            <a:chOff x="2057400" y="2133720"/>
            <a:chExt cx="4952880" cy="1523880"/>
          </a:xfrm>
        </p:grpSpPr>
        <p:grpSp>
          <p:nvGrpSpPr>
            <p:cNvPr id="550" name=""/>
            <p:cNvGrpSpPr/>
            <p:nvPr/>
          </p:nvGrpSpPr>
          <p:grpSpPr>
            <a:xfrm>
              <a:off x="3124080" y="2133720"/>
              <a:ext cx="3886200" cy="1523880"/>
              <a:chOff x="3124080" y="2133720"/>
              <a:chExt cx="3886200" cy="1523880"/>
            </a:xfrm>
          </p:grpSpPr>
          <p:pic>
            <p:nvPicPr>
              <p:cNvPr id="5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124080" y="2133720"/>
                <a:ext cx="388620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3262680" y="3454920"/>
                <a:ext cx="3600000" cy="18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2057400" y="2133720"/>
              <a:ext cx="3581280" cy="1523880"/>
              <a:chOff x="2057400" y="2133720"/>
              <a:chExt cx="3581280" cy="1523880"/>
            </a:xfrm>
          </p:grpSpPr>
          <p:pic>
            <p:nvPicPr>
              <p:cNvPr id="554" name="geo7a" descr=""/>
              <p:cNvPicPr/>
              <p:nvPr/>
            </p:nvPicPr>
            <p:blipFill>
              <a:blip r:embed="rId4"/>
              <a:stretch/>
            </p:blipFill>
            <p:spPr>
              <a:xfrm>
                <a:off x="2057400" y="2133720"/>
                <a:ext cx="358128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"/>
              <p:cNvSpPr/>
              <p:nvPr/>
            </p:nvSpPr>
            <p:spPr>
              <a:xfrm>
                <a:off x="2189520" y="3452400"/>
                <a:ext cx="3374640" cy="18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6" name=""/>
          <p:cNvSpPr/>
          <p:nvPr/>
        </p:nvSpPr>
        <p:spPr>
          <a:xfrm>
            <a:off x="228600" y="3734280"/>
            <a:ext cx="861048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 любом треугольнике: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 Против большей стороны лежит больший угол, и наобор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 Против равных сторон лежат равные углы, и наобор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 Сумма углов треугольника равна 180 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 Продолжая одну из сторон треуголь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ка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е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ешний угол треугольника равен сумме внутренних углов, не смежных с н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бая сторона треугольника меньше суммы двух других сторон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льше и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ст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 a &lt; b + c,  a &gt; b – c;  b &lt; a + c,  b &gt; a – c;  c &lt; a + b,  c &gt; a – b 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5"/>
          <a:stretch/>
        </p:blipFill>
        <p:spPr>
          <a:xfrm>
            <a:off x="7543800" y="152280"/>
            <a:ext cx="121932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0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9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9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9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-67680" y="2057400"/>
            <a:ext cx="923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Ответ  не  правильны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Более внимательно изучи данную тем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>
            <a:hlinkClick r:id="rId2" action="ppaction://hlinksldjump"/>
          </p:cNvPr>
          <p:cNvSpPr/>
          <p:nvPr/>
        </p:nvSpPr>
        <p:spPr>
          <a:xfrm>
            <a:off x="4038480" y="441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>
            <a:off x="3581280" y="7621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4"/>
          <a:stretch/>
        </p:blipFill>
        <p:spPr>
          <a:xfrm>
            <a:off x="533520" y="228600"/>
            <a:ext cx="8229600" cy="39996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5"/>
          <a:stretch/>
        </p:blipFill>
        <p:spPr>
          <a:xfrm rot="10800000">
            <a:off x="533520" y="6019560"/>
            <a:ext cx="8229600" cy="3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982160" y="2819520"/>
            <a:ext cx="52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>
            <a:hlinkClick r:id="rId2" action="ppaction://hlinksldjump"/>
          </p:cNvPr>
          <p:cNvSpPr/>
          <p:nvPr/>
        </p:nvSpPr>
        <p:spPr>
          <a:xfrm>
            <a:off x="411480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609480" y="457200"/>
            <a:ext cx="276120" cy="5931000"/>
            <a:chOff x="609480" y="457200"/>
            <a:chExt cx="276120" cy="5931000"/>
          </a:xfrm>
        </p:grpSpPr>
        <p:pic>
          <p:nvPicPr>
            <p:cNvPr id="566" name="" descr=""/>
            <p:cNvPicPr/>
            <p:nvPr/>
          </p:nvPicPr>
          <p:blipFill>
            <a:blip r:embed="rId3"/>
            <a:stretch/>
          </p:blipFill>
          <p:spPr>
            <a:xfrm>
              <a:off x="609480" y="16257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7" name=""/>
            <p:cNvGrpSpPr/>
            <p:nvPr/>
          </p:nvGrpSpPr>
          <p:grpSpPr>
            <a:xfrm>
              <a:off x="609480" y="2806920"/>
              <a:ext cx="276120" cy="3581280"/>
              <a:chOff x="609480" y="2806920"/>
              <a:chExt cx="276120" cy="3581280"/>
            </a:xfrm>
          </p:grpSpPr>
          <p:pic>
            <p:nvPicPr>
              <p:cNvPr id="56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09480" y="52452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9480" y="402588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09480" y="28069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1" name="" descr=""/>
            <p:cNvPicPr/>
            <p:nvPr/>
          </p:nvPicPr>
          <p:blipFill>
            <a:blip r:embed="rId7"/>
            <a:stretch/>
          </p:blipFill>
          <p:spPr>
            <a:xfrm>
              <a:off x="609480" y="45720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2" name=""/>
          <p:cNvGrpSpPr/>
          <p:nvPr/>
        </p:nvGrpSpPr>
        <p:grpSpPr>
          <a:xfrm>
            <a:off x="8229240" y="380520"/>
            <a:ext cx="276120" cy="5931000"/>
            <a:chOff x="8229240" y="380520"/>
            <a:chExt cx="276120" cy="5931000"/>
          </a:xfrm>
        </p:grpSpPr>
        <p:pic>
          <p:nvPicPr>
            <p:cNvPr id="573" name="" descr=""/>
            <p:cNvPicPr/>
            <p:nvPr/>
          </p:nvPicPr>
          <p:blipFill>
            <a:blip r:embed="rId8"/>
            <a:stretch/>
          </p:blipFill>
          <p:spPr>
            <a:xfrm rot="10800000">
              <a:off x="8229240" y="39999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"/>
            <p:cNvGrpSpPr/>
            <p:nvPr/>
          </p:nvGrpSpPr>
          <p:grpSpPr>
            <a:xfrm>
              <a:off x="8229240" y="380520"/>
              <a:ext cx="276120" cy="3581280"/>
              <a:chOff x="8229240" y="380520"/>
              <a:chExt cx="276120" cy="3581280"/>
            </a:xfrm>
          </p:grpSpPr>
          <p:pic>
            <p:nvPicPr>
              <p:cNvPr id="575" name="" descr=""/>
              <p:cNvPicPr/>
              <p:nvPr/>
            </p:nvPicPr>
            <p:blipFill>
              <a:blip r:embed="rId9"/>
              <a:stretch/>
            </p:blipFill>
            <p:spPr>
              <a:xfrm rot="10800000">
                <a:off x="8229240" y="3805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6" name="" descr=""/>
              <p:cNvPicPr/>
              <p:nvPr/>
            </p:nvPicPr>
            <p:blipFill>
              <a:blip r:embed="rId10"/>
              <a:stretch/>
            </p:blipFill>
            <p:spPr>
              <a:xfrm rot="10800000">
                <a:off x="8229240" y="159984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8229240" y="28188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8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8229240" y="516852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9" name=""/>
          <p:cNvGrpSpPr/>
          <p:nvPr/>
        </p:nvGrpSpPr>
        <p:grpSpPr>
          <a:xfrm>
            <a:off x="1015920" y="406440"/>
            <a:ext cx="7111440" cy="276120"/>
            <a:chOff x="1015920" y="406440"/>
            <a:chExt cx="7111440" cy="276120"/>
          </a:xfrm>
        </p:grpSpPr>
        <p:grpSp>
          <p:nvGrpSpPr>
            <p:cNvPr id="580" name=""/>
            <p:cNvGrpSpPr/>
            <p:nvPr/>
          </p:nvGrpSpPr>
          <p:grpSpPr>
            <a:xfrm>
              <a:off x="1015920" y="406440"/>
              <a:ext cx="2352600" cy="276120"/>
              <a:chOff x="1015920" y="406440"/>
              <a:chExt cx="2352600" cy="276120"/>
            </a:xfrm>
          </p:grpSpPr>
          <p:pic>
            <p:nvPicPr>
              <p:cNvPr id="581" name="" descr=""/>
              <p:cNvPicPr/>
              <p:nvPr/>
            </p:nvPicPr>
            <p:blipFill>
              <a:blip r:embed="rId13"/>
              <a:stretch/>
            </p:blipFill>
            <p:spPr>
              <a:xfrm rot="5400000">
                <a:off x="14626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2" name="" descr=""/>
              <p:cNvPicPr/>
              <p:nvPr/>
            </p:nvPicPr>
            <p:blipFill>
              <a:blip r:embed="rId14"/>
              <a:stretch/>
            </p:blipFill>
            <p:spPr>
              <a:xfrm rot="5400000">
                <a:off x="26452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3" name=""/>
            <p:cNvGrpSpPr/>
            <p:nvPr/>
          </p:nvGrpSpPr>
          <p:grpSpPr>
            <a:xfrm>
              <a:off x="3421080" y="406440"/>
              <a:ext cx="2352600" cy="276120"/>
              <a:chOff x="3421080" y="406440"/>
              <a:chExt cx="2352600" cy="276120"/>
            </a:xfrm>
          </p:grpSpPr>
          <p:pic>
            <p:nvPicPr>
              <p:cNvPr id="584" name="" descr=""/>
              <p:cNvPicPr/>
              <p:nvPr/>
            </p:nvPicPr>
            <p:blipFill>
              <a:blip r:embed="rId15"/>
              <a:stretch/>
            </p:blipFill>
            <p:spPr>
              <a:xfrm rot="5400000">
                <a:off x="38678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5" name="" descr=""/>
              <p:cNvPicPr/>
              <p:nvPr/>
            </p:nvPicPr>
            <p:blipFill>
              <a:blip r:embed="rId16"/>
              <a:stretch/>
            </p:blipFill>
            <p:spPr>
              <a:xfrm rot="5400000">
                <a:off x="50504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6" name=""/>
            <p:cNvGrpSpPr/>
            <p:nvPr/>
          </p:nvGrpSpPr>
          <p:grpSpPr>
            <a:xfrm>
              <a:off x="5774400" y="406440"/>
              <a:ext cx="2352960" cy="276120"/>
              <a:chOff x="5774400" y="406440"/>
              <a:chExt cx="2352960" cy="276120"/>
            </a:xfrm>
          </p:grpSpPr>
          <p:pic>
            <p:nvPicPr>
              <p:cNvPr id="587" name="" descr=""/>
              <p:cNvPicPr/>
              <p:nvPr/>
            </p:nvPicPr>
            <p:blipFill>
              <a:blip r:embed="rId17"/>
              <a:stretch/>
            </p:blipFill>
            <p:spPr>
              <a:xfrm rot="5400000">
                <a:off x="622116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8" name="" descr=""/>
              <p:cNvPicPr/>
              <p:nvPr/>
            </p:nvPicPr>
            <p:blipFill>
              <a:blip r:embed="rId18"/>
              <a:stretch/>
            </p:blipFill>
            <p:spPr>
              <a:xfrm rot="5400000">
                <a:off x="740412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89" name=""/>
          <p:cNvGrpSpPr/>
          <p:nvPr/>
        </p:nvGrpSpPr>
        <p:grpSpPr>
          <a:xfrm>
            <a:off x="1067400" y="6096240"/>
            <a:ext cx="7111440" cy="276120"/>
            <a:chOff x="1067400" y="6096240"/>
            <a:chExt cx="7111440" cy="276120"/>
          </a:xfrm>
        </p:grpSpPr>
        <p:grpSp>
          <p:nvGrpSpPr>
            <p:cNvPr id="590" name=""/>
            <p:cNvGrpSpPr/>
            <p:nvPr/>
          </p:nvGrpSpPr>
          <p:grpSpPr>
            <a:xfrm>
              <a:off x="5826240" y="6096240"/>
              <a:ext cx="2352600" cy="276120"/>
              <a:chOff x="5826240" y="6096240"/>
              <a:chExt cx="2352600" cy="276120"/>
            </a:xfrm>
          </p:grpSpPr>
          <p:pic>
            <p:nvPicPr>
              <p:cNvPr id="591" name="" descr=""/>
              <p:cNvPicPr/>
              <p:nvPr/>
            </p:nvPicPr>
            <p:blipFill>
              <a:blip r:embed="rId19"/>
              <a:stretch/>
            </p:blipFill>
            <p:spPr>
              <a:xfrm rot="16200000">
                <a:off x="74556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2" name="" descr=""/>
              <p:cNvPicPr/>
              <p:nvPr/>
            </p:nvPicPr>
            <p:blipFill>
              <a:blip r:embed="rId20"/>
              <a:stretch/>
            </p:blipFill>
            <p:spPr>
              <a:xfrm rot="16200000">
                <a:off x="62730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3" name=""/>
            <p:cNvGrpSpPr/>
            <p:nvPr/>
          </p:nvGrpSpPr>
          <p:grpSpPr>
            <a:xfrm>
              <a:off x="3421080" y="6096240"/>
              <a:ext cx="2352600" cy="276120"/>
              <a:chOff x="3421080" y="6096240"/>
              <a:chExt cx="2352600" cy="276120"/>
            </a:xfrm>
          </p:grpSpPr>
          <p:pic>
            <p:nvPicPr>
              <p:cNvPr id="594" name="" descr=""/>
              <p:cNvPicPr/>
              <p:nvPr/>
            </p:nvPicPr>
            <p:blipFill>
              <a:blip r:embed="rId21"/>
              <a:stretch/>
            </p:blipFill>
            <p:spPr>
              <a:xfrm rot="16200000">
                <a:off x="50504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5" name="" descr=""/>
              <p:cNvPicPr/>
              <p:nvPr/>
            </p:nvPicPr>
            <p:blipFill>
              <a:blip r:embed="rId22"/>
              <a:stretch/>
            </p:blipFill>
            <p:spPr>
              <a:xfrm rot="16200000">
                <a:off x="38678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6" name=""/>
            <p:cNvGrpSpPr/>
            <p:nvPr/>
          </p:nvGrpSpPr>
          <p:grpSpPr>
            <a:xfrm>
              <a:off x="1067400" y="6096240"/>
              <a:ext cx="2352960" cy="276120"/>
              <a:chOff x="1067400" y="6096240"/>
              <a:chExt cx="2352960" cy="276120"/>
            </a:xfrm>
          </p:grpSpPr>
          <p:pic>
            <p:nvPicPr>
              <p:cNvPr id="597" name="" descr=""/>
              <p:cNvPicPr/>
              <p:nvPr/>
            </p:nvPicPr>
            <p:blipFill>
              <a:blip r:embed="rId23"/>
              <a:stretch/>
            </p:blipFill>
            <p:spPr>
              <a:xfrm rot="16200000">
                <a:off x="269712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8" name="" descr=""/>
              <p:cNvPicPr/>
              <p:nvPr/>
            </p:nvPicPr>
            <p:blipFill>
              <a:blip r:embed="rId24"/>
              <a:stretch/>
            </p:blipFill>
            <p:spPr>
              <a:xfrm rot="16200000">
                <a:off x="151416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99" name="" descr=""/>
          <p:cNvPicPr/>
          <p:nvPr/>
        </p:nvPicPr>
        <p:blipFill>
          <a:blip r:embed="rId25"/>
          <a:stretch/>
        </p:blipFill>
        <p:spPr>
          <a:xfrm>
            <a:off x="3429000" y="1066680"/>
            <a:ext cx="22096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030680" y="1103400"/>
            <a:ext cx="731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715720" y="5715000"/>
            <a:ext cx="3018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2994120" y="3216240"/>
            <a:ext cx="28000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603" name=""/>
          <p:cNvGrpSpPr/>
          <p:nvPr/>
        </p:nvGrpSpPr>
        <p:grpSpPr>
          <a:xfrm>
            <a:off x="327240" y="317520"/>
            <a:ext cx="8562600" cy="6316560"/>
            <a:chOff x="327240" y="317520"/>
            <a:chExt cx="8562600" cy="6316560"/>
          </a:xfrm>
        </p:grpSpPr>
        <p:grpSp>
          <p:nvGrpSpPr>
            <p:cNvPr id="604" name=""/>
            <p:cNvGrpSpPr/>
            <p:nvPr/>
          </p:nvGrpSpPr>
          <p:grpSpPr>
            <a:xfrm>
              <a:off x="371520" y="317520"/>
              <a:ext cx="8518320" cy="177840"/>
              <a:chOff x="371520" y="317520"/>
              <a:chExt cx="8518320" cy="177840"/>
            </a:xfrm>
          </p:grpSpPr>
          <p:pic>
            <p:nvPicPr>
              <p:cNvPr id="605" name="" descr="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4630680" y="3236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6" name="" descr="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71520" y="31716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"/>
            <p:cNvGrpSpPr/>
            <p:nvPr/>
          </p:nvGrpSpPr>
          <p:grpSpPr>
            <a:xfrm>
              <a:off x="365040" y="6456240"/>
              <a:ext cx="8518320" cy="177840"/>
              <a:chOff x="365040" y="6456240"/>
              <a:chExt cx="8518320" cy="177840"/>
            </a:xfrm>
          </p:grpSpPr>
          <p:pic>
            <p:nvPicPr>
              <p:cNvPr id="608" name="" descr="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4624200" y="646272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9" name="" descr=""/>
              <p:cNvPicPr/>
              <p:nvPr/>
            </p:nvPicPr>
            <p:blipFill>
              <a:blip r:embed="rId7"/>
              <a:stretch/>
            </p:blipFill>
            <p:spPr>
              <a:xfrm flipH="1" rot="10800000">
                <a:off x="365040" y="64562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" name=""/>
            <p:cNvGrpSpPr/>
            <p:nvPr/>
          </p:nvGrpSpPr>
          <p:grpSpPr>
            <a:xfrm>
              <a:off x="327240" y="490680"/>
              <a:ext cx="188640" cy="5955840"/>
              <a:chOff x="327240" y="490680"/>
              <a:chExt cx="188640" cy="5955840"/>
            </a:xfrm>
          </p:grpSpPr>
          <p:pic>
            <p:nvPicPr>
              <p:cNvPr id="611" name="" descr="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-1070640" y="486648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" descr=""/>
              <p:cNvPicPr/>
              <p:nvPr/>
            </p:nvPicPr>
            <p:blipFill>
              <a:blip r:embed="rId9"/>
              <a:stretch/>
            </p:blipFill>
            <p:spPr>
              <a:xfrm flipH="1" rot="16200000">
                <a:off x="-1063800" y="188856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3" name=""/>
            <p:cNvGrpSpPr/>
            <p:nvPr/>
          </p:nvGrpSpPr>
          <p:grpSpPr>
            <a:xfrm>
              <a:off x="8701200" y="471600"/>
              <a:ext cx="188280" cy="5955840"/>
              <a:chOff x="8701200" y="471600"/>
              <a:chExt cx="188280" cy="5955840"/>
            </a:xfrm>
          </p:grpSpPr>
          <p:pic>
            <p:nvPicPr>
              <p:cNvPr id="614" name="" descr="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09800" y="186984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5" name="" descr=""/>
              <p:cNvPicPr/>
              <p:nvPr/>
            </p:nvPicPr>
            <p:blipFill>
              <a:blip r:embed="rId11"/>
              <a:stretch/>
            </p:blipFill>
            <p:spPr>
              <a:xfrm flipH="1" rot="5400000">
                <a:off x="7302960" y="484776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46200" y="228600"/>
            <a:ext cx="63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231120" y="1143000"/>
            <a:ext cx="938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ометрии, упоминание о нём часто встречается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папирусе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Ахме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2057400"/>
            <a:ext cx="8763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гипотену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</a:t>
            </a:r>
            <a:r>
              <a:rPr b="0" i="1" lang="en-US" sz="1800" spc="-1" strike="noStrike">
                <a:solidFill>
                  <a:srgbClr val="e5ffff"/>
                </a:solidFill>
                <a:latin typeface="Tahoma"/>
              </a:rPr>
              <a:t>hypotein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ющег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янущаяся под чем либо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стягивающ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слова «</a:t>
            </a:r>
            <a:r>
              <a:rPr b="0" i="1" lang="ru-RU" sz="1800" spc="-1" strike="noStrike">
                <a:solidFill>
                  <a:srgbClr val="e5ffff"/>
                </a:solidFill>
                <a:latin typeface="Tahoma"/>
              </a:rPr>
              <a:t>катетос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ое означал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тве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перпендикуля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В средние века словом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е слово </a:t>
            </a: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410080"/>
            <a:ext cx="80010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Евклид</a:t>
            </a:r>
            <a:r>
              <a:rPr b="1" lang="en-US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потребляет выражени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5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721600" y="304920"/>
            <a:ext cx="34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1160" y="2565360"/>
            <a:ext cx="57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ли один из углов треугольника прямо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о треугольник называется прямоуголь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1143000"/>
            <a:ext cx="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72320" y="1133640"/>
            <a:ext cx="182880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791400" y="3778200"/>
            <a:ext cx="228600" cy="228600"/>
            <a:chOff x="6791400" y="3778200"/>
            <a:chExt cx="228600" cy="228600"/>
          </a:xfrm>
        </p:grpSpPr>
        <p:sp>
          <p:nvSpPr>
            <p:cNvPr id="128" name=""/>
            <p:cNvSpPr/>
            <p:nvPr/>
          </p:nvSpPr>
          <p:spPr>
            <a:xfrm>
              <a:off x="6791400" y="37782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20000" y="37782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496200" y="784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487000" y="4037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4080" y="4002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6360" y="345600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тив прямого угла, называется </a:t>
            </a:r>
            <a:r>
              <a:rPr b="1" i="1" lang="en-US" sz="18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 rot="3415800">
            <a:off x="6720480" y="2324880"/>
            <a:ext cx="229104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Times New Roman"/>
              </a:rPr>
              <a:t>гипотенуз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Times New Roman"/>
              <a:ea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1143000"/>
            <a:ext cx="1828800" cy="28954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1133640"/>
            <a:ext cx="0" cy="289548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086600" y="4159080"/>
            <a:ext cx="10717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 rot="16200000">
            <a:off x="6017400" y="2669040"/>
            <a:ext cx="10717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2480" y="40514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 две другие – </a:t>
            </a:r>
            <a:r>
              <a:rPr b="1" i="1" lang="en-US" sz="18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181480"/>
            <a:ext cx="2895840" cy="1143000"/>
          </a:xfrm>
          <a:prstGeom prst="rtTriangle">
            <a:avLst/>
          </a:prstGeom>
          <a:solidFill>
            <a:srgbClr val="00ff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8024400">
            <a:off x="4469760" y="5524200"/>
            <a:ext cx="1600200" cy="1676520"/>
          </a:xfrm>
          <a:prstGeom prst="rtTriangle">
            <a:avLst/>
          </a:prstGeom>
          <a:solidFill>
            <a:srgbClr val="00c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7800200">
            <a:off x="6819840" y="4533480"/>
            <a:ext cx="838080" cy="1828800"/>
          </a:xfrm>
          <a:prstGeom prst="rtTriangle">
            <a:avLst/>
          </a:prstGeom>
          <a:solidFill>
            <a:srgbClr val="ffff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2819520" y="4495680"/>
            <a:ext cx="838080" cy="1828800"/>
          </a:xfrm>
          <a:prstGeom prst="rtTriangle">
            <a:avLst/>
          </a:prstGeom>
          <a:solidFill>
            <a:srgbClr val="0099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0880" y="6095880"/>
            <a:ext cx="228600" cy="228600"/>
            <a:chOff x="380880" y="6095880"/>
            <a:chExt cx="228600" cy="228600"/>
          </a:xfrm>
        </p:grpSpPr>
        <p:sp>
          <p:nvSpPr>
            <p:cNvPr id="147" name=""/>
            <p:cNvSpPr/>
            <p:nvPr/>
          </p:nvSpPr>
          <p:spPr>
            <a:xfrm>
              <a:off x="380880" y="6095880"/>
              <a:ext cx="228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60958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477960" y="4495320"/>
            <a:ext cx="152280" cy="228600"/>
            <a:chOff x="3477960" y="4495320"/>
            <a:chExt cx="152280" cy="228600"/>
          </a:xfrm>
        </p:grpSpPr>
        <p:sp>
          <p:nvSpPr>
            <p:cNvPr id="150" name=""/>
            <p:cNvSpPr/>
            <p:nvPr/>
          </p:nvSpPr>
          <p:spPr>
            <a:xfrm flipH="1">
              <a:off x="3477960" y="4723920"/>
              <a:ext cx="152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477960" y="449532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678800" y="5908320"/>
            <a:ext cx="288720" cy="199440"/>
            <a:chOff x="7678800" y="5908320"/>
            <a:chExt cx="288720" cy="199440"/>
          </a:xfrm>
        </p:grpSpPr>
        <p:sp>
          <p:nvSpPr>
            <p:cNvPr id="153" name=""/>
            <p:cNvSpPr/>
            <p:nvPr/>
          </p:nvSpPr>
          <p:spPr>
            <a:xfrm flipV="1">
              <a:off x="7678800" y="5908320"/>
              <a:ext cx="111960" cy="199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90760" y="5908320"/>
              <a:ext cx="176760" cy="993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090400" y="5363640"/>
            <a:ext cx="268920" cy="140760"/>
            <a:chOff x="5090400" y="5363640"/>
            <a:chExt cx="268920" cy="140760"/>
          </a:xfrm>
        </p:grpSpPr>
        <p:sp>
          <p:nvSpPr>
            <p:cNvPr id="156" name=""/>
            <p:cNvSpPr/>
            <p:nvPr/>
          </p:nvSpPr>
          <p:spPr>
            <a:xfrm flipH="1">
              <a:off x="5210280" y="5363640"/>
              <a:ext cx="149040" cy="140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5090400" y="5377320"/>
              <a:ext cx="119880" cy="127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95840" y="1339920"/>
            <a:ext cx="559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это геометрическая фигур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стоящая из трёх точек, не лежащих на од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ямо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61160" y="1133640"/>
            <a:ext cx="42840" cy="4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585280" y="401148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62600" y="402120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360" y="188748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трёх отрезков, соединяющих эти точ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24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74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24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74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24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74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24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64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14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64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88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28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780"/>
                            </p:stCondLst>
                            <p:childTnLst>
                              <p:par>
                                <p:cTn id="10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4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33680" y="48276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8840" y="229248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5480" y="3438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вен половине гипотенуз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4920" y="4719600"/>
            <a:ext cx="85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75" name="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6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86" name="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6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14400" y="380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196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00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10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13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H="1">
            <a:off x="1371600" y="35812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76360" y="358128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85440" y="2590920"/>
            <a:ext cx="160200" cy="52200"/>
            <a:chOff x="685440" y="2590920"/>
            <a:chExt cx="160200" cy="52200"/>
          </a:xfrm>
        </p:grpSpPr>
        <p:sp>
          <p:nvSpPr>
            <p:cNvPr id="218" name=""/>
            <p:cNvSpPr/>
            <p:nvPr/>
          </p:nvSpPr>
          <p:spPr>
            <a:xfrm flipH="1">
              <a:off x="685440" y="25909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93360" y="26431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590560" y="2514600"/>
            <a:ext cx="160200" cy="52560"/>
            <a:chOff x="2590560" y="2514600"/>
            <a:chExt cx="160200" cy="52560"/>
          </a:xfrm>
        </p:grpSpPr>
        <p:sp>
          <p:nvSpPr>
            <p:cNvPr id="221" name=""/>
            <p:cNvSpPr/>
            <p:nvPr/>
          </p:nvSpPr>
          <p:spPr>
            <a:xfrm flipH="1">
              <a:off x="2590560" y="25146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98480" y="2567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618160" y="1515960"/>
            <a:ext cx="3127680" cy="1037880"/>
            <a:chOff x="5618160" y="1515960"/>
            <a:chExt cx="3127680" cy="1037880"/>
          </a:xfrm>
        </p:grpSpPr>
        <p:sp>
          <p:nvSpPr>
            <p:cNvPr id="224" name=""/>
            <p:cNvSpPr/>
            <p:nvPr/>
          </p:nvSpPr>
          <p:spPr>
            <a:xfrm>
              <a:off x="5618160" y="1515960"/>
              <a:ext cx="3094200" cy="10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36520" y="15620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С =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АС = 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571320" cy="7142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7000" y="4853160"/>
            <a:ext cx="65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ледует из перв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по двум сторонам и углу между ним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1446120"/>
            <a:ext cx="3200400" cy="2210040"/>
            <a:chOff x="762120" y="1446120"/>
            <a:chExt cx="3200400" cy="2210040"/>
          </a:xfrm>
        </p:grpSpPr>
        <p:sp>
          <p:nvSpPr>
            <p:cNvPr id="230" name=""/>
            <p:cNvSpPr/>
            <p:nvPr/>
          </p:nvSpPr>
          <p:spPr>
            <a:xfrm>
              <a:off x="762120" y="365616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762120" y="3427560"/>
              <a:ext cx="228600" cy="228600"/>
              <a:chOff x="762120" y="3427560"/>
              <a:chExt cx="228600" cy="22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762120" y="342756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990720" y="3427560"/>
                <a:ext cx="0" cy="2286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762120" y="1446120"/>
              <a:ext cx="3200400" cy="2209680"/>
              <a:chOff x="762120" y="1446120"/>
              <a:chExt cx="3200400" cy="2209680"/>
            </a:xfrm>
          </p:grpSpPr>
          <p:sp>
            <p:nvSpPr>
              <p:cNvPr id="235" name=""/>
              <p:cNvSpPr/>
              <p:nvPr/>
            </p:nvSpPr>
            <p:spPr>
              <a:xfrm>
                <a:off x="76212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66688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666880" y="36558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2666880" y="3427200"/>
                <a:ext cx="228600" cy="228600"/>
                <a:chOff x="2666880" y="3427200"/>
                <a:chExt cx="228600" cy="2286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666880" y="34272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95480" y="34272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1" name=""/>
          <p:cNvGrpSpPr/>
          <p:nvPr/>
        </p:nvGrpSpPr>
        <p:grpSpPr>
          <a:xfrm>
            <a:off x="762120" y="1447920"/>
            <a:ext cx="3200400" cy="2209680"/>
            <a:chOff x="762120" y="1447920"/>
            <a:chExt cx="3200400" cy="2209680"/>
          </a:xfrm>
        </p:grpSpPr>
        <p:sp>
          <p:nvSpPr>
            <p:cNvPr id="242" name=""/>
            <p:cNvSpPr/>
            <p:nvPr/>
          </p:nvSpPr>
          <p:spPr>
            <a:xfrm>
              <a:off x="762120" y="365760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762120" y="3429000"/>
              <a:ext cx="228600" cy="228240"/>
              <a:chOff x="762120" y="3429000"/>
              <a:chExt cx="228600" cy="228240"/>
            </a:xfrm>
          </p:grpSpPr>
          <p:sp>
            <p:nvSpPr>
              <p:cNvPr id="244" name=""/>
              <p:cNvSpPr/>
              <p:nvPr/>
            </p:nvSpPr>
            <p:spPr>
              <a:xfrm>
                <a:off x="762120" y="342900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990720" y="342900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762120" y="1447920"/>
              <a:ext cx="3200400" cy="2209680"/>
              <a:chOff x="762120" y="1447920"/>
              <a:chExt cx="3200400" cy="2209680"/>
            </a:xfrm>
          </p:grpSpPr>
          <p:sp>
            <p:nvSpPr>
              <p:cNvPr id="247" name=""/>
              <p:cNvSpPr/>
              <p:nvPr/>
            </p:nvSpPr>
            <p:spPr>
              <a:xfrm>
                <a:off x="76212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66688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66880" y="36576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2666880" y="3429000"/>
                <a:ext cx="228600" cy="228600"/>
                <a:chOff x="2666880" y="3429000"/>
                <a:chExt cx="228600" cy="22860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2666880" y="34290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895480" y="34290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3" name=""/>
          <p:cNvGrpSpPr/>
          <p:nvPr/>
        </p:nvGrpSpPr>
        <p:grpSpPr>
          <a:xfrm>
            <a:off x="766800" y="1440000"/>
            <a:ext cx="3200400" cy="2209680"/>
            <a:chOff x="766800" y="1440000"/>
            <a:chExt cx="3200400" cy="2209680"/>
          </a:xfrm>
        </p:grpSpPr>
        <p:sp>
          <p:nvSpPr>
            <p:cNvPr id="254" name=""/>
            <p:cNvSpPr/>
            <p:nvPr/>
          </p:nvSpPr>
          <p:spPr>
            <a:xfrm>
              <a:off x="766800" y="364968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766800" y="3421080"/>
              <a:ext cx="228600" cy="228240"/>
              <a:chOff x="766800" y="3421080"/>
              <a:chExt cx="228600" cy="228240"/>
            </a:xfrm>
          </p:grpSpPr>
          <p:sp>
            <p:nvSpPr>
              <p:cNvPr id="256" name=""/>
              <p:cNvSpPr/>
              <p:nvPr/>
            </p:nvSpPr>
            <p:spPr>
              <a:xfrm>
                <a:off x="766800" y="342108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995400" y="342108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66800" y="1440000"/>
              <a:ext cx="3200400" cy="2209680"/>
              <a:chOff x="766800" y="1440000"/>
              <a:chExt cx="3200400" cy="2209680"/>
            </a:xfrm>
          </p:grpSpPr>
          <p:sp>
            <p:nvSpPr>
              <p:cNvPr id="259" name=""/>
              <p:cNvSpPr/>
              <p:nvPr/>
            </p:nvSpPr>
            <p:spPr>
              <a:xfrm>
                <a:off x="76680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67156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671560" y="364968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2671560" y="3421080"/>
                <a:ext cx="228600" cy="228600"/>
                <a:chOff x="2671560" y="3421080"/>
                <a:chExt cx="228600" cy="2286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2671560" y="342108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900160" y="342108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58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8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58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08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58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08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758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08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8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8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958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8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58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12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620"/>
                            </p:stCondLst>
                            <p:childTnLst>
                              <p:par>
                                <p:cTn id="3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12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62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12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5800" y="3808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68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72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82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85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6640" y="4853160"/>
            <a:ext cx="656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ледует из втор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по стороне и прилежащим к ней углам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4196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295" name="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6060600" y="314172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6490800">
            <a:off x="590040" y="1654200"/>
            <a:ext cx="468720" cy="4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6490800">
            <a:off x="2520000" y="1662120"/>
            <a:ext cx="469440" cy="4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63040" y="1467000"/>
            <a:ext cx="2469960" cy="2214360"/>
            <a:chOff x="563040" y="1467000"/>
            <a:chExt cx="2469960" cy="2214360"/>
          </a:xfrm>
        </p:grpSpPr>
        <p:grpSp>
          <p:nvGrpSpPr>
            <p:cNvPr id="302" name=""/>
            <p:cNvGrpSpPr/>
            <p:nvPr/>
          </p:nvGrpSpPr>
          <p:grpSpPr>
            <a:xfrm>
              <a:off x="563040" y="1467000"/>
              <a:ext cx="561960" cy="2195280"/>
              <a:chOff x="563040" y="1467000"/>
              <a:chExt cx="561960" cy="2195280"/>
            </a:xfrm>
          </p:grpSpPr>
          <p:sp>
            <p:nvSpPr>
              <p:cNvPr id="303" name=""/>
              <p:cNvSpPr/>
              <p:nvPr/>
            </p:nvSpPr>
            <p:spPr>
              <a:xfrm>
                <a:off x="765000" y="146700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6490800">
                <a:off x="609120" y="1640520"/>
                <a:ext cx="469440" cy="43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746280" y="3433680"/>
                <a:ext cx="228600" cy="228600"/>
                <a:chOff x="746280" y="3433680"/>
                <a:chExt cx="228600" cy="22860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746280" y="343368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974880" y="343368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8" name=""/>
            <p:cNvGrpSpPr/>
            <p:nvPr/>
          </p:nvGrpSpPr>
          <p:grpSpPr>
            <a:xfrm>
              <a:off x="2471040" y="1486080"/>
              <a:ext cx="561960" cy="2195280"/>
              <a:chOff x="2471040" y="1486080"/>
              <a:chExt cx="561960" cy="219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2673000" y="148608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6490800">
                <a:off x="2517120" y="1659600"/>
                <a:ext cx="469440" cy="43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2654280" y="3452760"/>
                <a:ext cx="228600" cy="228600"/>
                <a:chOff x="2654280" y="3452760"/>
                <a:chExt cx="228600" cy="2286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654280" y="345276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882880" y="345276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38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88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38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88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838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888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938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988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38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88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138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188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500"/>
                            </p:stCondLst>
                            <p:childTnLst>
                              <p:par>
                                <p:cTn id="4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500"/>
                            </p:stCondLst>
                            <p:childTnLst>
                              <p:par>
                                <p:cTn id="4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6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ья </cp:lastModifiedBy>
  <dcterms:modified xsi:type="dcterms:W3CDTF">2007-03-26T14:45:59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