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434-ED49-4929-A994-AFA86539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2AB-B2A0-4D05-BDC6-6DAB84B5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5EA-D690-45F7-BB38-82F18810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809-B720-41BC-8664-C6EF509F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4197-3115-4316-9085-AD6142B3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1691-89E0-4A81-9E36-E82AF274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F120-654D-489C-96ED-2B4B473F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A20F-C21A-4392-B074-14090C70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9D83-925C-43F9-8C47-22D17AEE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5BFD-D9EE-48CB-9C84-54A3D95D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B4F8-2E52-4620-A07B-D1F8691C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858-8E66-4937-9036-1BFB658A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CF71-6CE8-412D-97D2-5B6D7DFD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31E8-D012-4BEF-9144-C43CA31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AD97-747E-41DA-92D2-56859192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C96D-A55A-4961-B4BC-BA557899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2A2E-3131-4377-96D2-F8E56D3B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166-0CBB-4180-A02B-D4C595B8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EB6-8593-40D0-B368-59237609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05B-34F1-4E3A-9A53-CF2F5CC0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DA0-899E-4DC4-B04F-0C5336B6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62C-162B-4FCC-913E-DE7426C4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8E3-EB15-4941-8BB1-3AF1227F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C31-4C1A-4C2D-B95F-A7B220A8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3023-3CF7-4DD9-891A-3D5B4541DB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7D43-4A4D-438B-9F0A-B281A10F12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hyperlink" Target="mailto:galka-kul@yandex.ru" TargetMode="External"/><Relationship Id="rId6" Type="http://schemas.openxmlformats.org/officeDocument/2006/relationships/slide" Target="slide2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" Target="slide18.xml"/><Relationship Id="rId8" Type="http://schemas.openxmlformats.org/officeDocument/2006/relationships/image" Target="../media/image4.gif"/><Relationship Id="rId9" Type="http://schemas.openxmlformats.org/officeDocument/2006/relationships/slide" Target="slide13.xm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" Target="slide21.xml"/><Relationship Id="rId19" Type="http://schemas.openxmlformats.org/officeDocument/2006/relationships/image" Target="../media/image6.gif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3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6.gif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84" name="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91" name="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1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321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3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3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43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 flipV="1" rot="17826000">
            <a:off x="673560" y="165672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 rot="17826000">
            <a:off x="2580120" y="164880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36720" y="3377160"/>
            <a:ext cx="480240" cy="414720"/>
            <a:chOff x="3636720" y="3377160"/>
            <a:chExt cx="480240" cy="414720"/>
          </a:xfrm>
        </p:grpSpPr>
        <p:sp>
          <p:nvSpPr>
            <p:cNvPr id="349" name=""/>
            <p:cNvSpPr/>
            <p:nvPr/>
          </p:nvSpPr>
          <p:spPr>
            <a:xfrm flipH="1" flipV="1" rot="4138800">
              <a:off x="3756600" y="3434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 rot="4138800">
              <a:off x="3677760" y="3426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38080" y="3404160"/>
            <a:ext cx="480240" cy="414720"/>
            <a:chOff x="1738080" y="3404160"/>
            <a:chExt cx="480240" cy="414720"/>
          </a:xfrm>
        </p:grpSpPr>
        <p:sp>
          <p:nvSpPr>
            <p:cNvPr id="352" name=""/>
            <p:cNvSpPr/>
            <p:nvPr/>
          </p:nvSpPr>
          <p:spPr>
            <a:xfrm flipH="1" flipV="1" rot="4138800">
              <a:off x="1857960" y="3461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4138800">
              <a:off x="1779120" y="3453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55" name="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3680" y="1477800"/>
            <a:ext cx="3336120" cy="2184480"/>
            <a:chOff x="643680" y="1477800"/>
            <a:chExt cx="3336120" cy="2184480"/>
          </a:xfrm>
        </p:grpSpPr>
        <p:grpSp>
          <p:nvGrpSpPr>
            <p:cNvPr id="358" name=""/>
            <p:cNvGrpSpPr/>
            <p:nvPr/>
          </p:nvGrpSpPr>
          <p:grpSpPr>
            <a:xfrm>
              <a:off x="2543760" y="1482480"/>
              <a:ext cx="1436040" cy="2179800"/>
              <a:chOff x="2543760" y="1482480"/>
              <a:chExt cx="1436040" cy="2179800"/>
            </a:xfrm>
          </p:grpSpPr>
          <p:sp>
            <p:nvSpPr>
              <p:cNvPr id="359" name=""/>
              <p:cNvSpPr/>
              <p:nvPr/>
            </p:nvSpPr>
            <p:spPr>
              <a:xfrm flipH="1" flipV="1" rot="17826000">
                <a:off x="2576880" y="166464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43680" y="1477800"/>
              <a:ext cx="1419840" cy="2179800"/>
              <a:chOff x="643680" y="1477800"/>
              <a:chExt cx="1419840" cy="217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 rot="17826000">
                <a:off x="676800" y="166608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6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71" name="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8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8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92" name="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95" name="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402" name="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405" name="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rot="11792400">
            <a:off x="2448000" y="1649880"/>
            <a:ext cx="555120" cy="5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75080" y="3390840"/>
            <a:ext cx="554400" cy="531720"/>
            <a:chOff x="3475080" y="3390840"/>
            <a:chExt cx="554400" cy="531720"/>
          </a:xfrm>
        </p:grpSpPr>
        <p:sp>
          <p:nvSpPr>
            <p:cNvPr id="414" name=""/>
            <p:cNvSpPr/>
            <p:nvPr/>
          </p:nvSpPr>
          <p:spPr>
            <a:xfrm flipH="1">
              <a:off x="3475080" y="3392280"/>
              <a:ext cx="55440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14760" y="3390840"/>
              <a:ext cx="319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420" name="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24" name="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32" name="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545640" y="1735920"/>
            <a:ext cx="470160" cy="468720"/>
            <a:chOff x="3545640" y="1735920"/>
            <a:chExt cx="470160" cy="468720"/>
          </a:xfrm>
        </p:grpSpPr>
        <p:sp>
          <p:nvSpPr>
            <p:cNvPr id="437" name=""/>
            <p:cNvSpPr/>
            <p:nvPr/>
          </p:nvSpPr>
          <p:spPr>
            <a:xfrm rot="8875800">
              <a:off x="3587400" y="18640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8875800">
              <a:off x="3609000" y="18122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0240" y="1964520"/>
            <a:ext cx="470160" cy="468720"/>
            <a:chOff x="3720240" y="1964520"/>
            <a:chExt cx="470160" cy="468720"/>
          </a:xfrm>
        </p:grpSpPr>
        <p:sp>
          <p:nvSpPr>
            <p:cNvPr id="440" name=""/>
            <p:cNvSpPr/>
            <p:nvPr/>
          </p:nvSpPr>
          <p:spPr>
            <a:xfrm rot="8875800">
              <a:off x="3762000" y="20926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875800">
              <a:off x="3783600" y="20408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7166400">
            <a:off x="658800" y="183420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48" name="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52" name="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585440" y="3295080"/>
            <a:ext cx="496440" cy="526320"/>
            <a:chOff x="1585440" y="3295080"/>
            <a:chExt cx="496440" cy="526320"/>
          </a:xfrm>
        </p:grpSpPr>
        <p:sp>
          <p:nvSpPr>
            <p:cNvPr id="457" name=""/>
            <p:cNvSpPr/>
            <p:nvPr/>
          </p:nvSpPr>
          <p:spPr>
            <a:xfrm rot="14456400">
              <a:off x="1595160" y="341136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4456400">
              <a:off x="1643400" y="342936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64" name="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79800">
            <a:off x="2610720" y="347148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69" name="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71" name="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77" name="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rot="379800">
            <a:off x="5356080" y="333684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1357600">
            <a:off x="6019200" y="595980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85" name="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91" name="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79800">
            <a:off x="857160" y="583236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33520" y="5814360"/>
            <a:ext cx="496440" cy="526320"/>
            <a:chOff x="3233520" y="5814360"/>
            <a:chExt cx="496440" cy="526320"/>
          </a:xfrm>
        </p:grpSpPr>
        <p:sp>
          <p:nvSpPr>
            <p:cNvPr id="503" name=""/>
            <p:cNvSpPr/>
            <p:nvPr/>
          </p:nvSpPr>
          <p:spPr>
            <a:xfrm rot="14456400">
              <a:off x="3243240" y="593064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4456400">
              <a:off x="3291480" y="594864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0640" y="1798560"/>
            <a:ext cx="8258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два угла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один прямой уг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4960" y="1773360"/>
            <a:ext cx="9210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два угла острых и один прям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9360" y="1870200"/>
            <a:ext cx="94028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торон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ами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78040" y="1860480"/>
            <a:ext cx="743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стороной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ом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гипотенузой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00280" y="1806480"/>
            <a:ext cx="7907040" cy="1985040"/>
            <a:chOff x="800280" y="1806480"/>
            <a:chExt cx="7907040" cy="1985040"/>
          </a:xfrm>
        </p:grpSpPr>
        <p:sp>
          <p:nvSpPr>
            <p:cNvPr id="520" name="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14440" y="26002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18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>
            <a:hlinkClick r:id="rId6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200px-Egyptian_A%27h-mosè_or_Rhind_Papyrus_%281065x1330%29" descr="Фрагмент папируса Ахмеса"/>
          <p:cNvPicPr/>
          <p:nvPr/>
        </p:nvPicPr>
        <p:blipFill>
          <a:blip r:embed="rId2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103" name="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" name="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8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9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50" name="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54" name="geo7a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>
            <a:hlinkClick r:id="rId2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66" name="" descr=""/>
            <p:cNvPicPr/>
            <p:nvPr/>
          </p:nvPicPr>
          <p:blipFill>
            <a:blip r:embed="rId3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" descr=""/>
            <p:cNvPicPr/>
            <p:nvPr/>
          </p:nvPicPr>
          <p:blipFill>
            <a:blip r:embed="rId7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73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75" name="" descr="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80" name="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8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9" name="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90" name="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91" name="" descr="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3" name="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94" name="" descr="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6" name="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97" name="" descr="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9" name="" descr=""/>
          <p:cNvPicPr/>
          <p:nvPr/>
        </p:nvPicPr>
        <p:blipFill>
          <a:blip r:embed="rId25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604" name="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60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" descr="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60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7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11" name="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3" name="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14" name="" descr="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" descr=""/>
              <p:cNvPicPr/>
              <p:nvPr/>
            </p:nvPicPr>
            <p:blipFill>
              <a:blip r:embed="rId11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папирус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Евклид</a:t>
            </a:r>
            <a:r>
              <a:rPr b="1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128" name="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en-US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en-US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47" name="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50" name="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53" name="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56" name="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75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86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96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00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10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13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218" name="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221" name="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224" name="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30" name="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35" name="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" name="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42" name="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44" name="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47" name="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54" name="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59" name="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68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72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82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85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95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6490800">
            <a:off x="590040" y="1654200"/>
            <a:ext cx="46872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6490800">
            <a:off x="2520000" y="1662120"/>
            <a:ext cx="46944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3040" y="1467000"/>
            <a:ext cx="2469960" cy="2214360"/>
            <a:chOff x="563040" y="1467000"/>
            <a:chExt cx="2469960" cy="2214360"/>
          </a:xfrm>
        </p:grpSpPr>
        <p:grpSp>
          <p:nvGrpSpPr>
            <p:cNvPr id="302" name=""/>
            <p:cNvGrpSpPr/>
            <p:nvPr/>
          </p:nvGrpSpPr>
          <p:grpSpPr>
            <a:xfrm>
              <a:off x="563040" y="1467000"/>
              <a:ext cx="561960" cy="2195280"/>
              <a:chOff x="563040" y="1467000"/>
              <a:chExt cx="561960" cy="2195280"/>
            </a:xfrm>
          </p:grpSpPr>
          <p:sp>
            <p:nvSpPr>
              <p:cNvPr id="303" name="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490800">
                <a:off x="609120" y="164052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2471040" y="1486080"/>
              <a:ext cx="561960" cy="2195280"/>
              <a:chOff x="2471040" y="1486080"/>
              <a:chExt cx="561960" cy="219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490800">
                <a:off x="2517120" y="165960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</cp:lastModifiedBy>
  <dcterms:modified xsi:type="dcterms:W3CDTF">2007-03-26T14:45:5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