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gif" ContentType="image/gif"/>
  <Override PartName="/ppt/media/image27.gif" ContentType="image/gif"/>
  <Override PartName="/ppt/media/image1.jpeg" ContentType="image/jpeg"/>
  <Override PartName="/ppt/media/image4.gif" ContentType="image/gif"/>
  <Override PartName="/ppt/media/image28.gif" ContentType="image/gif"/>
  <Override PartName="/ppt/media/image5.gif" ContentType="image/gif"/>
  <Override PartName="/ppt/media/image10.gif" ContentType="image/gif"/>
  <Override PartName="/ppt/media/image29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3.gif" ContentType="image/gif"/>
  <Override PartName="/ppt/media/image2.jpeg" ContentType="image/jpeg"/>
  <Override PartName="/ppt/media/image14.gif" ContentType="image/gif"/>
  <Override PartName="/ppt/media/image15.gif" ContentType="image/gif"/>
  <Override PartName="/ppt/media/image16.gif" ContentType="image/gif"/>
  <Override PartName="/ppt/media/image26.gif" ContentType="image/gif"/>
  <Override PartName="/ppt/media/image19.png" ContentType="image/png"/>
  <Override PartName="/ppt/media/image17.gif" ContentType="image/gif"/>
  <Override PartName="/ppt/media/image6.gif" ContentType="image/gif"/>
  <Override PartName="/ppt/media/image21.jpeg" ContentType="image/jpeg"/>
  <Override PartName="/ppt/media/image18.gif" ContentType="image/gif"/>
  <Override PartName="/ppt/media/image20.gif" ContentType="image/gif"/>
  <Override PartName="/ppt/media/image30.gif" ContentType="image/gif"/>
  <Override PartName="/ppt/media/image23.png" ContentType="image/png"/>
  <Override PartName="/ppt/media/image22.gif" ContentType="image/gif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9DAC-1398-4064-8A55-E37B20C8E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8FFB-02D6-4ADD-A974-9660A535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81E1-56A2-4687-83B9-205BB8A04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41E4-8D38-4AF3-98DF-2DCC406F8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24F1-088A-4583-BBF2-9B2AA12CF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B0B7-3722-49A4-83B1-1AF1737F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3744-6C81-41D7-BB85-0254EDE5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271A-9EF5-4D6D-A205-FE63DB57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9E26-84BE-4C3D-96B3-8E2C355E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1F17-655C-4268-B5EE-0B6A1595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D9A3-D8E5-4E0C-85A7-D3E5BC73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A6F0-9B2C-42C2-8D20-9A56324E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0722-AE5F-4AA1-96D4-F4FF0E31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A075-940F-4946-B943-2384B4F6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F576-48CB-440C-AD15-6B83D3CA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0B65-AED0-42E3-AFBB-86AFDCB19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35EA-C1A9-4B92-B78D-FB992B446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E03B-0E3A-4565-B5DA-16EEE409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39A1-719A-49B6-B4AE-517820BF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8D86-4C90-4A71-89C2-21823594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3A8A-CC54-44E8-B375-C11800DF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EB59-1FEB-44DA-9B11-67889A65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897D-F9BF-4ADE-A84E-C3EE47BB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EB12-2191-46D0-9812-AAC30F62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3255-F09B-4C68-83BA-F8AFC05735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24BD-2832-466F-A520-AAB885AA33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hyperlink" Target="mailto:galka-kul@yandex.ru" TargetMode="External"/><Relationship Id="rId6" Type="http://schemas.openxmlformats.org/officeDocument/2006/relationships/slide" Target="slide24.xml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" Target="slide3.xml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2.xml"/><Relationship Id="rId7" Type="http://schemas.openxmlformats.org/officeDocument/2006/relationships/slide" Target="slide18.xml"/><Relationship Id="rId8" Type="http://schemas.openxmlformats.org/officeDocument/2006/relationships/image" Target="../media/image4.gif"/><Relationship Id="rId9" Type="http://schemas.openxmlformats.org/officeDocument/2006/relationships/slide" Target="slide13.xml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slide" Target="slide21.xml"/><Relationship Id="rId19" Type="http://schemas.openxmlformats.org/officeDocument/2006/relationships/image" Target="../media/image6.gif"/><Relationship Id="rId2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slide" Target="slide3.xml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8.gif"/><Relationship Id="rId9" Type="http://schemas.openxmlformats.org/officeDocument/2006/relationships/image" Target="../media/image28.gif"/><Relationship Id="rId10" Type="http://schemas.openxmlformats.org/officeDocument/2006/relationships/image" Target="../media/image28.gif"/><Relationship Id="rId11" Type="http://schemas.openxmlformats.org/officeDocument/2006/relationships/image" Target="../media/image28.gif"/><Relationship Id="rId12" Type="http://schemas.openxmlformats.org/officeDocument/2006/relationships/image" Target="../media/image28.gif"/><Relationship Id="rId13" Type="http://schemas.openxmlformats.org/officeDocument/2006/relationships/image" Target="../media/image28.gif"/><Relationship Id="rId14" Type="http://schemas.openxmlformats.org/officeDocument/2006/relationships/image" Target="../media/image28.gif"/><Relationship Id="rId15" Type="http://schemas.openxmlformats.org/officeDocument/2006/relationships/image" Target="../media/image28.gif"/><Relationship Id="rId16" Type="http://schemas.openxmlformats.org/officeDocument/2006/relationships/image" Target="../media/image28.gif"/><Relationship Id="rId17" Type="http://schemas.openxmlformats.org/officeDocument/2006/relationships/image" Target="../media/image28.gif"/><Relationship Id="rId18" Type="http://schemas.openxmlformats.org/officeDocument/2006/relationships/image" Target="../media/image28.gif"/><Relationship Id="rId19" Type="http://schemas.openxmlformats.org/officeDocument/2006/relationships/image" Target="../media/image28.gif"/><Relationship Id="rId20" Type="http://schemas.openxmlformats.org/officeDocument/2006/relationships/image" Target="../media/image28.gif"/><Relationship Id="rId21" Type="http://schemas.openxmlformats.org/officeDocument/2006/relationships/image" Target="../media/image28.gif"/><Relationship Id="rId22" Type="http://schemas.openxmlformats.org/officeDocument/2006/relationships/image" Target="../media/image28.gif"/><Relationship Id="rId23" Type="http://schemas.openxmlformats.org/officeDocument/2006/relationships/image" Target="../media/image28.gif"/><Relationship Id="rId24" Type="http://schemas.openxmlformats.org/officeDocument/2006/relationships/image" Target="../media/image28.gif"/><Relationship Id="rId25" Type="http://schemas.openxmlformats.org/officeDocument/2006/relationships/image" Target="../media/image26.gif"/><Relationship Id="rId2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30.gif"/><Relationship Id="rId6" Type="http://schemas.openxmlformats.org/officeDocument/2006/relationships/image" Target="../media/image30.gif"/><Relationship Id="rId7" Type="http://schemas.openxmlformats.org/officeDocument/2006/relationships/image" Target="../media/image30.gif"/><Relationship Id="rId8" Type="http://schemas.openxmlformats.org/officeDocument/2006/relationships/image" Target="../media/image30.gif"/><Relationship Id="rId9" Type="http://schemas.openxmlformats.org/officeDocument/2006/relationships/image" Target="../media/image30.gif"/><Relationship Id="rId10" Type="http://schemas.openxmlformats.org/officeDocument/2006/relationships/image" Target="../media/image30.gif"/><Relationship Id="rId11" Type="http://schemas.openxmlformats.org/officeDocument/2006/relationships/image" Target="../media/image30.gif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2440" y="63360"/>
            <a:ext cx="8979120" cy="6731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746520" y="45720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Tahoma"/>
              </a:rPr>
              <a:t>Прямоугольны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Tahoma"/>
              </a:rPr>
              <a:t>треугольни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173480" y="1973880"/>
            <a:ext cx="2200320" cy="1013400"/>
            <a:chOff x="4173480" y="1973880"/>
            <a:chExt cx="2200320" cy="1013400"/>
          </a:xfrm>
        </p:grpSpPr>
        <p:sp>
          <p:nvSpPr>
            <p:cNvPr id="84" name=""/>
            <p:cNvSpPr/>
            <p:nvPr/>
          </p:nvSpPr>
          <p:spPr>
            <a:xfrm flipH="1" flipV="1">
              <a:off x="4791240" y="1973880"/>
              <a:ext cx="1582560" cy="1005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195440" y="1976400"/>
              <a:ext cx="600480" cy="9446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4173480" y="2926440"/>
              <a:ext cx="2182680" cy="60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4688640" y="2109600"/>
              <a:ext cx="289800" cy="156240"/>
              <a:chOff x="4688640" y="2109600"/>
              <a:chExt cx="289800" cy="156240"/>
            </a:xfrm>
          </p:grpSpPr>
          <p:sp>
            <p:nvSpPr>
              <p:cNvPr id="88" name=""/>
              <p:cNvSpPr/>
              <p:nvPr/>
            </p:nvSpPr>
            <p:spPr>
              <a:xfrm>
                <a:off x="4688640" y="2170800"/>
                <a:ext cx="178920" cy="950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4867560" y="2109600"/>
                <a:ext cx="110880" cy="1562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0" name=""/>
          <p:cNvGrpSpPr/>
          <p:nvPr/>
        </p:nvGrpSpPr>
        <p:grpSpPr>
          <a:xfrm>
            <a:off x="380880" y="380880"/>
            <a:ext cx="1770840" cy="714600"/>
            <a:chOff x="380880" y="380880"/>
            <a:chExt cx="1770840" cy="714600"/>
          </a:xfrm>
        </p:grpSpPr>
        <p:sp>
          <p:nvSpPr>
            <p:cNvPr id="91" name=""/>
            <p:cNvSpPr/>
            <p:nvPr/>
          </p:nvSpPr>
          <p:spPr>
            <a:xfrm>
              <a:off x="1013760" y="466560"/>
              <a:ext cx="113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cc"/>
                  </a:solidFill>
                  <a:latin typeface="Arial Black"/>
                </a:rPr>
                <a:t>КЛАСС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>
              <a:off x="380880" y="380880"/>
              <a:ext cx="571680" cy="71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685800" y="22860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>
            <a:hlinkClick r:id="rId2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317" name="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321" name="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331" name="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334" name="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571680" cy="7146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55680" y="4722840"/>
            <a:ext cx="788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.к. сумма острых углов прямоугольного треугольника равна 90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 два других острых угла также равны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562720" y="1500120"/>
            <a:ext cx="3127680" cy="1068120"/>
            <a:chOff x="5562720" y="1500120"/>
            <a:chExt cx="3127680" cy="1068120"/>
          </a:xfrm>
        </p:grpSpPr>
        <p:sp>
          <p:nvSpPr>
            <p:cNvPr id="343" name=""/>
            <p:cNvSpPr/>
            <p:nvPr/>
          </p:nvSpPr>
          <p:spPr>
            <a:xfrm>
              <a:off x="5562720" y="1500120"/>
              <a:ext cx="311760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4" name=""/>
                <p:cNvSpPr txBox="1"/>
                <p:nvPr/>
              </p:nvSpPr>
              <p:spPr>
                <a:xfrm>
                  <a:off x="6912000" y="2128680"/>
                  <a:ext cx="106056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5" name=""/>
            <p:cNvSpPr/>
            <p:nvPr/>
          </p:nvSpPr>
          <p:spPr>
            <a:xfrm>
              <a:off x="5581080" y="15764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 flipH="1" flipV="1" rot="17826000">
            <a:off x="673560" y="1656720"/>
            <a:ext cx="386640" cy="311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 flipV="1" rot="17826000">
            <a:off x="2580120" y="1648800"/>
            <a:ext cx="386640" cy="311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3636720" y="3377160"/>
            <a:ext cx="480240" cy="414720"/>
            <a:chOff x="3636720" y="3377160"/>
            <a:chExt cx="480240" cy="414720"/>
          </a:xfrm>
        </p:grpSpPr>
        <p:sp>
          <p:nvSpPr>
            <p:cNvPr id="349" name=""/>
            <p:cNvSpPr/>
            <p:nvPr/>
          </p:nvSpPr>
          <p:spPr>
            <a:xfrm flipH="1" flipV="1" rot="4138800">
              <a:off x="3756600" y="3434040"/>
              <a:ext cx="318240" cy="30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flipV="1" rot="4138800">
              <a:off x="3677760" y="3426840"/>
              <a:ext cx="318240" cy="30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738080" y="3404160"/>
            <a:ext cx="480240" cy="414720"/>
            <a:chOff x="1738080" y="3404160"/>
            <a:chExt cx="480240" cy="414720"/>
          </a:xfrm>
        </p:grpSpPr>
        <p:sp>
          <p:nvSpPr>
            <p:cNvPr id="352" name=""/>
            <p:cNvSpPr/>
            <p:nvPr/>
          </p:nvSpPr>
          <p:spPr>
            <a:xfrm flipH="1" flipV="1" rot="4138800">
              <a:off x="1857960" y="3461040"/>
              <a:ext cx="318240" cy="30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 rot="4138800">
              <a:off x="1779120" y="3453840"/>
              <a:ext cx="318240" cy="30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69720" y="5037120"/>
            <a:ext cx="8346960" cy="1041840"/>
            <a:chOff x="369720" y="5037120"/>
            <a:chExt cx="8346960" cy="1041840"/>
          </a:xfrm>
        </p:grpSpPr>
        <p:sp>
          <p:nvSpPr>
            <p:cNvPr id="355" name=""/>
            <p:cNvSpPr/>
            <p:nvPr/>
          </p:nvSpPr>
          <p:spPr>
            <a:xfrm>
              <a:off x="369720" y="5375160"/>
              <a:ext cx="774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по второму признаку равенства треугольников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(по стороне и прилежащим к ней углам)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04080" y="5037120"/>
              <a:ext cx="361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поэтому треугольники равн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643680" y="1477800"/>
            <a:ext cx="3336120" cy="2184480"/>
            <a:chOff x="643680" y="1477800"/>
            <a:chExt cx="3336120" cy="2184480"/>
          </a:xfrm>
        </p:grpSpPr>
        <p:grpSp>
          <p:nvGrpSpPr>
            <p:cNvPr id="358" name=""/>
            <p:cNvGrpSpPr/>
            <p:nvPr/>
          </p:nvGrpSpPr>
          <p:grpSpPr>
            <a:xfrm>
              <a:off x="2543760" y="1482480"/>
              <a:ext cx="1436040" cy="2179800"/>
              <a:chOff x="2543760" y="1482480"/>
              <a:chExt cx="1436040" cy="2179800"/>
            </a:xfrm>
          </p:grpSpPr>
          <p:sp>
            <p:nvSpPr>
              <p:cNvPr id="359" name=""/>
              <p:cNvSpPr/>
              <p:nvPr/>
            </p:nvSpPr>
            <p:spPr>
              <a:xfrm flipH="1" flipV="1" rot="17826000">
                <a:off x="2576880" y="1664640"/>
                <a:ext cx="386640" cy="311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692440" y="1482480"/>
                <a:ext cx="1287360" cy="2179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643680" y="1477800"/>
              <a:ext cx="1419840" cy="2179800"/>
              <a:chOff x="643680" y="1477800"/>
              <a:chExt cx="1419840" cy="2179800"/>
            </a:xfrm>
          </p:grpSpPr>
          <p:sp>
            <p:nvSpPr>
              <p:cNvPr id="362" name=""/>
              <p:cNvSpPr/>
              <p:nvPr/>
            </p:nvSpPr>
            <p:spPr>
              <a:xfrm>
                <a:off x="776160" y="1477800"/>
                <a:ext cx="1287360" cy="2179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 rot="17826000">
                <a:off x="676800" y="1666080"/>
                <a:ext cx="386640" cy="311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78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6280"/>
                            </p:stCondLst>
                            <p:childTnLst>
                              <p:par>
                                <p:cTn id="5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678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728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7780"/>
                            </p:stCondLst>
                            <p:childTnLst>
                              <p:par>
                                <p:cTn id="5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8280"/>
                            </p:stCondLst>
                            <p:childTnLst>
                              <p:par>
                                <p:cTn id="5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8780"/>
                            </p:stCondLst>
                            <p:childTnLst>
                              <p:par>
                                <p:cTn id="5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9280"/>
                            </p:stCondLst>
                            <p:childTnLst>
                              <p:par>
                                <p:cTn id="5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9780"/>
                            </p:stCondLst>
                            <p:childTnLst>
                              <p:par>
                                <p:cTn id="5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280"/>
                            </p:stCondLst>
                            <p:childTnLst>
                              <p:par>
                                <p:cTn id="5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78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1280"/>
                            </p:stCondLst>
                            <p:childTnLst>
                              <p:par>
                                <p:cTn id="5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500"/>
                            </p:stCondLst>
                            <p:childTnLst>
                              <p:par>
                                <p:cTn id="5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5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3500"/>
                            </p:stCondLst>
                            <p:childTnLst>
                              <p:par>
                                <p:cTn id="59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450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5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35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4500"/>
                            </p:stCondLst>
                            <p:childTnLst>
                              <p:par>
                                <p:cTn id="6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500"/>
                            </p:stCondLst>
                            <p:childTnLst>
                              <p:par>
                                <p:cTn id="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990720" y="30492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>
            <a:hlinkClick r:id="rId2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367" name="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84080" y="1447920"/>
            <a:ext cx="1295280" cy="2209680"/>
            <a:chOff x="784080" y="1447920"/>
            <a:chExt cx="1295280" cy="2209680"/>
          </a:xfrm>
        </p:grpSpPr>
        <p:sp>
          <p:nvSpPr>
            <p:cNvPr id="371" name=""/>
            <p:cNvSpPr/>
            <p:nvPr/>
          </p:nvSpPr>
          <p:spPr>
            <a:xfrm>
              <a:off x="7840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840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840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870200" y="36669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22640" y="12841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381" name="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384" name="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571680" cy="71424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584680" y="1473120"/>
            <a:ext cx="3150000" cy="1056960"/>
            <a:chOff x="5584680" y="1473120"/>
            <a:chExt cx="3150000" cy="1056960"/>
          </a:xfrm>
        </p:grpSpPr>
        <p:sp>
          <p:nvSpPr>
            <p:cNvPr id="392" name=""/>
            <p:cNvSpPr/>
            <p:nvPr/>
          </p:nvSpPr>
          <p:spPr>
            <a:xfrm>
              <a:off x="5584680" y="1473120"/>
              <a:ext cx="311796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625360" y="153828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666880" y="1442880"/>
            <a:ext cx="1295280" cy="2209680"/>
            <a:chOff x="2666880" y="1442880"/>
            <a:chExt cx="1295280" cy="2209680"/>
          </a:xfrm>
        </p:grpSpPr>
        <p:sp>
          <p:nvSpPr>
            <p:cNvPr id="395" name=""/>
            <p:cNvSpPr/>
            <p:nvPr/>
          </p:nvSpPr>
          <p:spPr>
            <a:xfrm>
              <a:off x="2666880" y="1442880"/>
              <a:ext cx="0" cy="22096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66880" y="3652560"/>
              <a:ext cx="129528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666880" y="1442880"/>
              <a:ext cx="1295280" cy="22096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2285640" y="4368960"/>
            <a:ext cx="467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ложим  </a:t>
            </a:r>
            <a:r>
              <a:rPr b="1" i="1" lang="el-GR" sz="1800" spc="-1" strike="noStrike">
                <a:solidFill>
                  <a:srgbClr val="ffffff"/>
                </a:solidFill>
                <a:latin typeface="Times New Roman"/>
              </a:rPr>
              <a:t>∆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на треугольник </a:t>
            </a: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∆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АВС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01640" y="2625840"/>
            <a:ext cx="1587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76520" y="2655720"/>
            <a:ext cx="1587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1401120" y="2597040"/>
            <a:ext cx="205200" cy="187200"/>
            <a:chOff x="1401120" y="2597040"/>
            <a:chExt cx="205200" cy="187200"/>
          </a:xfrm>
        </p:grpSpPr>
        <p:sp>
          <p:nvSpPr>
            <p:cNvPr id="402" name=""/>
            <p:cNvSpPr/>
            <p:nvPr/>
          </p:nvSpPr>
          <p:spPr>
            <a:xfrm flipH="1">
              <a:off x="1444320" y="2640960"/>
              <a:ext cx="16200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1401120" y="2597040"/>
              <a:ext cx="16164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3277440" y="2568600"/>
            <a:ext cx="205200" cy="187200"/>
            <a:chOff x="3277440" y="2568600"/>
            <a:chExt cx="205200" cy="187200"/>
          </a:xfrm>
        </p:grpSpPr>
        <p:sp>
          <p:nvSpPr>
            <p:cNvPr id="405" name=""/>
            <p:cNvSpPr/>
            <p:nvPr/>
          </p:nvSpPr>
          <p:spPr>
            <a:xfrm flipH="1">
              <a:off x="3320640" y="2612520"/>
              <a:ext cx="16200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3277440" y="2568600"/>
              <a:ext cx="16164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2661840" y="1463760"/>
            <a:ext cx="11160" cy="218916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62520" y="4753080"/>
            <a:ext cx="6164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.к. АС = 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и АВ = 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то они при наложении совпаду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36960" y="5070600"/>
            <a:ext cx="4845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огда вершина 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совместиться с вершиной 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55680" y="5433840"/>
            <a:ext cx="496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о и тогда и вершины 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и В также совместя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657520" y="1477800"/>
            <a:ext cx="1307880" cy="21798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 rot="11792400">
            <a:off x="2448000" y="1649880"/>
            <a:ext cx="555120" cy="53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475080" y="3390840"/>
            <a:ext cx="554400" cy="531720"/>
            <a:chOff x="3475080" y="3390840"/>
            <a:chExt cx="554400" cy="531720"/>
          </a:xfrm>
        </p:grpSpPr>
        <p:sp>
          <p:nvSpPr>
            <p:cNvPr id="414" name=""/>
            <p:cNvSpPr/>
            <p:nvPr/>
          </p:nvSpPr>
          <p:spPr>
            <a:xfrm flipH="1">
              <a:off x="3475080" y="3392280"/>
              <a:ext cx="554400" cy="53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3614760" y="3390840"/>
              <a:ext cx="319680" cy="52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355320" y="5749920"/>
            <a:ext cx="381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ледовательно,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380"/>
                            </p:stCondLst>
                            <p:childTnLst>
                              <p:par>
                                <p:cTn id="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880"/>
                            </p:stCondLst>
                            <p:childTnLst>
                              <p:par>
                                <p:cTn id="7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6380"/>
                            </p:stCondLst>
                            <p:childTnLst>
                              <p:par>
                                <p:cTn id="7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6880"/>
                            </p:stCondLst>
                            <p:childTnLst>
                              <p:par>
                                <p:cTn id="7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7380"/>
                            </p:stCondLst>
                            <p:childTnLst>
                              <p:par>
                                <p:cTn id="7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7880"/>
                            </p:stCondLst>
                            <p:childTnLst>
                              <p:par>
                                <p:cTn id="7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8380"/>
                            </p:stCondLst>
                            <p:childTnLst>
                              <p:par>
                                <p:cTn id="7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8880"/>
                            </p:stCondLst>
                            <p:childTnLst>
                              <p:par>
                                <p:cTn id="7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9380"/>
                            </p:stCondLst>
                            <p:childTnLst>
                              <p:par>
                                <p:cTn id="7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9880"/>
                            </p:stCondLst>
                            <p:childTnLst>
                              <p:par>
                                <p:cTn id="7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380"/>
                            </p:stCondLst>
                            <p:childTnLst>
                              <p:par>
                                <p:cTn id="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0880"/>
                            </p:stCondLst>
                            <p:childTnLst>
                              <p:par>
                                <p:cTn id="7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1380"/>
                            </p:stCondLst>
                            <p:childTnLst>
                              <p:par>
                                <p:cTn id="7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1880"/>
                            </p:stCondLst>
                            <p:childTnLst>
                              <p:par>
                                <p:cTn id="7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2380"/>
                            </p:stCondLst>
                            <p:childTnLst>
                              <p:par>
                                <p:cTn id="7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1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320"/>
                            </p:stCondLst>
                            <p:childTnLst>
                              <p:par>
                                <p:cTn id="7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820"/>
                            </p:stCondLst>
                            <p:childTnLst>
                              <p:par>
                                <p:cTn id="78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2.22222E-006 L -0.2059 2.22222E-006 E">
                                      <p:cBhvr>
                                        <p:cTn id="789" dur="30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4820"/>
                            </p:stCondLst>
                            <p:childTnLst>
                              <p:par>
                                <p:cTn id="79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820"/>
                            </p:stCondLst>
                            <p:childTnLst>
                              <p:par>
                                <p:cTn id="79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6820"/>
                            </p:stCondLst>
                            <p:childTnLst>
                              <p:par>
                                <p:cTn id="79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7820"/>
                            </p:stCondLst>
                            <p:childTnLst>
                              <p:par>
                                <p:cTn id="80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880"/>
                            </p:stCondLst>
                            <p:childTnLst>
                              <p:par>
                                <p:cTn id="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2380"/>
                            </p:stCondLst>
                            <p:childTnLst>
                              <p:par>
                                <p:cTn id="8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3380"/>
                            </p:stCondLst>
                            <p:childTnLst>
                              <p:par>
                                <p:cTn id="81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2 3.33333E-006 L -0.20469 -0.00139 E">
                                      <p:cBhvr>
                                        <p:cTn id="818" dur="2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380"/>
                            </p:stCondLst>
                            <p:childTnLst>
                              <p:par>
                                <p:cTn id="8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880"/>
                            </p:stCondLst>
                            <p:childTnLst>
                              <p:par>
                                <p:cTn id="8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6380"/>
                            </p:stCondLst>
                            <p:childTnLst>
                              <p:par>
                                <p:cTn id="82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07407E-006 L -0.20243 0.00185 E">
                                      <p:cBhvr>
                                        <p:cTn id="829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5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6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520"/>
                            </p:stCondLst>
                            <p:childTnLst>
                              <p:par>
                                <p:cTn id="8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2020"/>
                            </p:stCondLst>
                            <p:childTnLst>
                              <p:par>
                                <p:cTn id="84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3020"/>
                            </p:stCondLst>
                            <p:childTnLst>
                              <p:par>
                                <p:cTn id="8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6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4019"/>
                            </p:stCondLst>
                            <p:childTnLst>
                              <p:par>
                                <p:cTn id="84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0.01134 L -0.20087 0.01134 E">
                                      <p:cBhvr>
                                        <p:cTn id="849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6020"/>
                            </p:stCondLst>
                            <p:childTnLst>
                              <p:par>
                                <p:cTn id="85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7020"/>
                            </p:stCondLst>
                            <p:childTnLst>
                              <p:par>
                                <p:cTn id="8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1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2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52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2020"/>
                            </p:stCondLst>
                            <p:childTnLst>
                              <p:par>
                                <p:cTn id="8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3020"/>
                            </p:stCondLst>
                            <p:childTnLst>
                              <p:par>
                                <p:cTn id="8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4019"/>
                            </p:stCondLst>
                            <p:childTnLst>
                              <p:par>
                                <p:cTn id="87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1.11111E-006 L -0.19774 -0.00162 E">
                                      <p:cBhvr>
                                        <p:cTn id="875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6020"/>
                            </p:stCondLst>
                            <p:childTnLst>
                              <p:par>
                                <p:cTn id="8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9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1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706680" y="304920"/>
            <a:ext cx="77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Задачи  по  готовым  чертежа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949680" y="4857120"/>
            <a:ext cx="2900520" cy="1321920"/>
            <a:chOff x="949680" y="4857120"/>
            <a:chExt cx="2900520" cy="1321920"/>
          </a:xfrm>
        </p:grpSpPr>
        <p:sp>
          <p:nvSpPr>
            <p:cNvPr id="420" name=""/>
            <p:cNvSpPr/>
            <p:nvPr/>
          </p:nvSpPr>
          <p:spPr>
            <a:xfrm flipH="1" flipV="1">
              <a:off x="1711080" y="4857120"/>
              <a:ext cx="2139120" cy="1321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949680" y="4857120"/>
              <a:ext cx="761400" cy="1231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949680" y="6088680"/>
              <a:ext cx="290052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1609560" y="4979160"/>
            <a:ext cx="268200" cy="158040"/>
            <a:chOff x="1609560" y="4979160"/>
            <a:chExt cx="268200" cy="158040"/>
          </a:xfrm>
        </p:grpSpPr>
        <p:sp>
          <p:nvSpPr>
            <p:cNvPr id="424" name=""/>
            <p:cNvSpPr/>
            <p:nvPr/>
          </p:nvSpPr>
          <p:spPr>
            <a:xfrm flipH="1">
              <a:off x="1774440" y="4979160"/>
              <a:ext cx="10332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flipV="1">
              <a:off x="1609560" y="5019120"/>
              <a:ext cx="173160" cy="11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530280" y="1371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02560" y="3600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14040" y="3600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283560" y="37432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245960" y="569448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2743200" y="1219320"/>
            <a:ext cx="1295280" cy="2516040"/>
            <a:chOff x="2743200" y="1219320"/>
            <a:chExt cx="1295280" cy="2516040"/>
          </a:xfrm>
        </p:grpSpPr>
        <p:sp>
          <p:nvSpPr>
            <p:cNvPr id="432" name=""/>
            <p:cNvSpPr/>
            <p:nvPr/>
          </p:nvSpPr>
          <p:spPr>
            <a:xfrm>
              <a:off x="4038480" y="1219320"/>
              <a:ext cx="0" cy="251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2743200" y="373536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2743200" y="1219320"/>
              <a:ext cx="1295280" cy="251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 flipH="1">
            <a:off x="3483000" y="1295280"/>
            <a:ext cx="533520" cy="2449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3545640" y="1735920"/>
            <a:ext cx="470160" cy="468720"/>
            <a:chOff x="3545640" y="1735920"/>
            <a:chExt cx="470160" cy="468720"/>
          </a:xfrm>
        </p:grpSpPr>
        <p:sp>
          <p:nvSpPr>
            <p:cNvPr id="437" name=""/>
            <p:cNvSpPr/>
            <p:nvPr/>
          </p:nvSpPr>
          <p:spPr>
            <a:xfrm rot="8875800">
              <a:off x="3587400" y="1864080"/>
              <a:ext cx="365040" cy="26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8875800">
              <a:off x="3609000" y="1812240"/>
              <a:ext cx="364320" cy="26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3720240" y="1964520"/>
            <a:ext cx="470160" cy="468720"/>
            <a:chOff x="3720240" y="1964520"/>
            <a:chExt cx="470160" cy="468720"/>
          </a:xfrm>
        </p:grpSpPr>
        <p:sp>
          <p:nvSpPr>
            <p:cNvPr id="440" name=""/>
            <p:cNvSpPr/>
            <p:nvPr/>
          </p:nvSpPr>
          <p:spPr>
            <a:xfrm rot="8875800">
              <a:off x="3762000" y="2092680"/>
              <a:ext cx="365040" cy="26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8875800">
              <a:off x="3783600" y="2040840"/>
              <a:ext cx="364320" cy="26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3880800" y="59342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63760" y="5888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564560" y="4464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rot="7166400">
            <a:off x="658800" y="1834200"/>
            <a:ext cx="437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60320" y="2352600"/>
            <a:ext cx="47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37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753480" y="1742760"/>
            <a:ext cx="1135080" cy="1900440"/>
            <a:chOff x="753480" y="1742760"/>
            <a:chExt cx="1135080" cy="1900440"/>
          </a:xfrm>
        </p:grpSpPr>
        <p:sp>
          <p:nvSpPr>
            <p:cNvPr id="448" name=""/>
            <p:cNvSpPr/>
            <p:nvPr/>
          </p:nvSpPr>
          <p:spPr>
            <a:xfrm flipH="1">
              <a:off x="753480" y="1742760"/>
              <a:ext cx="25560" cy="1874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53480" y="3611880"/>
              <a:ext cx="1119240" cy="15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94880" y="1753200"/>
              <a:ext cx="1093680" cy="1890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770760" y="3386880"/>
              <a:ext cx="204120" cy="214200"/>
              <a:chOff x="770760" y="3386880"/>
              <a:chExt cx="204120" cy="214200"/>
            </a:xfrm>
          </p:grpSpPr>
          <p:sp>
            <p:nvSpPr>
              <p:cNvPr id="452" name=""/>
              <p:cNvSpPr/>
              <p:nvPr/>
            </p:nvSpPr>
            <p:spPr>
              <a:xfrm flipH="1" flipV="1">
                <a:off x="962280" y="3399480"/>
                <a:ext cx="12600" cy="2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70760" y="3386880"/>
                <a:ext cx="19152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4" name=""/>
          <p:cNvSpPr/>
          <p:nvPr/>
        </p:nvSpPr>
        <p:spPr>
          <a:xfrm>
            <a:off x="1420560" y="325440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012840" y="57913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1585440" y="3295080"/>
            <a:ext cx="496440" cy="526320"/>
            <a:chOff x="1585440" y="3295080"/>
            <a:chExt cx="496440" cy="526320"/>
          </a:xfrm>
        </p:grpSpPr>
        <p:sp>
          <p:nvSpPr>
            <p:cNvPr id="457" name=""/>
            <p:cNvSpPr/>
            <p:nvPr/>
          </p:nvSpPr>
          <p:spPr>
            <a:xfrm rot="14456400">
              <a:off x="1595160" y="3411360"/>
              <a:ext cx="428400" cy="27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14456400">
              <a:off x="1643400" y="3429360"/>
              <a:ext cx="427680" cy="27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446560" y="3441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588840" y="1055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079160" y="3495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514680" y="347184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7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3886200" y="3527280"/>
            <a:ext cx="152280" cy="198360"/>
            <a:chOff x="3886200" y="3527280"/>
            <a:chExt cx="152280" cy="198360"/>
          </a:xfrm>
        </p:grpSpPr>
        <p:sp>
          <p:nvSpPr>
            <p:cNvPr id="464" name=""/>
            <p:cNvSpPr/>
            <p:nvPr/>
          </p:nvSpPr>
          <p:spPr>
            <a:xfrm>
              <a:off x="3894120" y="3527280"/>
              <a:ext cx="0" cy="19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886200" y="353844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2968560" y="33415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rot="379800">
            <a:off x="2610720" y="3471480"/>
            <a:ext cx="437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5105520" y="2362320"/>
            <a:ext cx="2743200" cy="1218960"/>
            <a:chOff x="5105520" y="2362320"/>
            <a:chExt cx="2743200" cy="1218960"/>
          </a:xfrm>
        </p:grpSpPr>
        <p:sp>
          <p:nvSpPr>
            <p:cNvPr id="469" name=""/>
            <p:cNvSpPr/>
            <p:nvPr/>
          </p:nvSpPr>
          <p:spPr>
            <a:xfrm>
              <a:off x="7848720" y="2362320"/>
              <a:ext cx="0" cy="121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5105520" y="2362320"/>
              <a:ext cx="2743200" cy="1218960"/>
              <a:chOff x="5105520" y="2362320"/>
              <a:chExt cx="2743200" cy="1218960"/>
            </a:xfrm>
          </p:grpSpPr>
          <p:sp>
            <p:nvSpPr>
              <p:cNvPr id="471" name=""/>
              <p:cNvSpPr/>
              <p:nvPr/>
            </p:nvSpPr>
            <p:spPr>
              <a:xfrm>
                <a:off x="5105520" y="3581280"/>
                <a:ext cx="2743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5105520" y="2362320"/>
                <a:ext cx="2743200" cy="1218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73" name=""/>
          <p:cNvSpPr/>
          <p:nvPr/>
        </p:nvSpPr>
        <p:spPr>
          <a:xfrm>
            <a:off x="4743720" y="3332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832160" y="1994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870320" y="3319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7696080" y="3375000"/>
            <a:ext cx="152280" cy="198360"/>
            <a:chOff x="7696080" y="3375000"/>
            <a:chExt cx="152280" cy="198360"/>
          </a:xfrm>
        </p:grpSpPr>
        <p:sp>
          <p:nvSpPr>
            <p:cNvPr id="477" name=""/>
            <p:cNvSpPr/>
            <p:nvPr/>
          </p:nvSpPr>
          <p:spPr>
            <a:xfrm>
              <a:off x="7704000" y="3375000"/>
              <a:ext cx="0" cy="19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696080" y="33861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"/>
          <p:cNvSpPr/>
          <p:nvPr/>
        </p:nvSpPr>
        <p:spPr>
          <a:xfrm rot="379800">
            <a:off x="5356080" y="3336840"/>
            <a:ext cx="4370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810040" y="327672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3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rot="20058600">
            <a:off x="6109200" y="250524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5 с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854840" y="28195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rot="21357600">
            <a:off x="6019200" y="5959800"/>
            <a:ext cx="4370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5410080" y="5943600"/>
            <a:ext cx="152640" cy="228600"/>
            <a:chOff x="5410080" y="5943600"/>
            <a:chExt cx="152640" cy="228600"/>
          </a:xfrm>
        </p:grpSpPr>
        <p:sp>
          <p:nvSpPr>
            <p:cNvPr id="485" name=""/>
            <p:cNvSpPr/>
            <p:nvPr/>
          </p:nvSpPr>
          <p:spPr>
            <a:xfrm>
              <a:off x="5410080" y="595476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62720" y="59436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6350040" y="5802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12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521320" y="617220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4 с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005960" y="61246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5410080" y="4572000"/>
            <a:ext cx="914400" cy="1600200"/>
            <a:chOff x="5410080" y="4572000"/>
            <a:chExt cx="914400" cy="1600200"/>
          </a:xfrm>
        </p:grpSpPr>
        <p:sp>
          <p:nvSpPr>
            <p:cNvPr id="491" name=""/>
            <p:cNvSpPr/>
            <p:nvPr/>
          </p:nvSpPr>
          <p:spPr>
            <a:xfrm>
              <a:off x="5410080" y="6172200"/>
              <a:ext cx="9144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410080" y="4572000"/>
              <a:ext cx="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10080" y="4572000"/>
              <a:ext cx="91440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5410080" y="618336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093640" y="6143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88400" y="61628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100120" y="4419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883120" y="513396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rot="2193000">
            <a:off x="2454120" y="512712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4,2 с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920960" y="612936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8,4 с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379800">
            <a:off x="857160" y="5832360"/>
            <a:ext cx="4370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3233520" y="5814360"/>
            <a:ext cx="496440" cy="526320"/>
            <a:chOff x="3233520" y="5814360"/>
            <a:chExt cx="496440" cy="526320"/>
          </a:xfrm>
        </p:grpSpPr>
        <p:sp>
          <p:nvSpPr>
            <p:cNvPr id="503" name=""/>
            <p:cNvSpPr/>
            <p:nvPr/>
          </p:nvSpPr>
          <p:spPr>
            <a:xfrm rot="14456400">
              <a:off x="3243240" y="5930640"/>
              <a:ext cx="428400" cy="27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14456400">
              <a:off x="3291480" y="5948640"/>
              <a:ext cx="427680" cy="27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>
            <a:off x="6934320" y="4191120"/>
            <a:ext cx="676080" cy="76176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1447920" y="1447920"/>
            <a:ext cx="685800" cy="76176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5"/>
          <a:stretch/>
        </p:blipFill>
        <p:spPr>
          <a:xfrm>
            <a:off x="4572000" y="137160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6"/>
          <a:stretch/>
        </p:blipFill>
        <p:spPr>
          <a:xfrm>
            <a:off x="7924680" y="1295280"/>
            <a:ext cx="704880" cy="76212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7"/>
          <a:stretch/>
        </p:blipFill>
        <p:spPr>
          <a:xfrm>
            <a:off x="3276720" y="4191120"/>
            <a:ext cx="6951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"/>
                            </p:stCondLst>
                            <p:childTnLst>
                              <p:par>
                                <p:cTn id="8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2000"/>
                            </p:stCondLst>
                            <p:childTnLst>
                              <p:par>
                                <p:cTn id="9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2500"/>
                            </p:stCondLst>
                            <p:childTnLst>
                              <p:par>
                                <p:cTn id="9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3500"/>
                            </p:stCondLst>
                            <p:childTnLst>
                              <p:par>
                                <p:cTn id="9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40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4500"/>
                            </p:stCondLst>
                            <p:childTnLst>
                              <p:par>
                                <p:cTn id="9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4" dur="2000" fill="hold"/>
                                        <p:tgtEl>
                                          <p:spTgt spid="4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1000"/>
                            </p:stCondLst>
                            <p:childTnLst>
                              <p:par>
                                <p:cTn id="9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1500"/>
                            </p:stCondLst>
                            <p:childTnLst>
                              <p:par>
                                <p:cTn id="9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2500"/>
                            </p:stCondLst>
                            <p:childTnLst>
                              <p:par>
                                <p:cTn id="9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3000"/>
                            </p:stCondLst>
                            <p:childTnLst>
                              <p:par>
                                <p:cTn id="9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3500"/>
                            </p:stCondLst>
                            <p:childTnLst>
                              <p:par>
                                <p:cTn id="9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4000"/>
                            </p:stCondLst>
                            <p:childTnLst>
                              <p:par>
                                <p:cTn id="9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4500"/>
                            </p:stCondLst>
                            <p:childTnLst>
                              <p:par>
                                <p:cTn id="9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5000"/>
                            </p:stCondLst>
                            <p:childTnLst>
                              <p:par>
                                <p:cTn id="9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5500"/>
                            </p:stCondLst>
                            <p:childTnLst>
                              <p:par>
                                <p:cTn id="9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6000"/>
                            </p:stCondLst>
                            <p:childTnLst>
                              <p:par>
                                <p:cTn id="9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6500"/>
                            </p:stCondLst>
                            <p:childTnLst>
                              <p:par>
                                <p:cTn id="9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1" dur="2000" fill="hold"/>
                                        <p:tgtEl>
                                          <p:spTgt spid="4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6" dur="2000" fill="hold"/>
                                        <p:tgtEl>
                                          <p:spTgt spid="4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50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8" dur="2000" fill="hold"/>
                                        <p:tgtEl>
                                          <p:spTgt spid="4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7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0" dur="2000" fill="hold"/>
                                        <p:tgtEl>
                                          <p:spTgt spid="4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5500"/>
                            </p:stCondLst>
                            <p:childTnLst>
                              <p:par>
                                <p:cTn id="1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3" dur="2000" fill="hold"/>
                                        <p:tgtEl>
                                          <p:spTgt spid="4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20640" y="1798560"/>
            <a:ext cx="82584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Прямоугольным называется треугольник, у котор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все углы прямые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два угла прямые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) один прямой уго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fill="hold">
                      <p:stCondLst>
                        <p:cond delay="0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84960" y="1773360"/>
            <a:ext cx="92109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В прямоугольном треугольнике всег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) два угла острых и один прямо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один острый угол, один прямой и один тупой угол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все углы прямые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0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99360" y="1870200"/>
            <a:ext cx="940284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ороны прямоугольного треугольника, образующ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ямой угол, называю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сторонами треугольник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) катетами треугольни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гипотенузами треугольник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0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878040" y="1860480"/>
            <a:ext cx="743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4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Сторона прямоугольного треугольника, противолежащая прямому углу, называ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) стороной треугольни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) катетом треугольни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) гипотенузой треугольн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0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800280" y="1806480"/>
            <a:ext cx="7907040" cy="1985040"/>
            <a:chOff x="800280" y="1806480"/>
            <a:chExt cx="7907040" cy="1985040"/>
          </a:xfrm>
        </p:grpSpPr>
        <p:sp>
          <p:nvSpPr>
            <p:cNvPr id="520" name=""/>
            <p:cNvSpPr/>
            <p:nvPr/>
          </p:nvSpPr>
          <p:spPr>
            <a:xfrm>
              <a:off x="800280" y="1806480"/>
              <a:ext cx="7907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Tahoma"/>
                </a:rPr>
                <a:t>5.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 Сумма острых углов прямоугольного треугольника 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равн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314440" y="2600280"/>
              <a:ext cx="3429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а) 180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б) 100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в) 90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0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1673280" y="914400"/>
            <a:ext cx="272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Об  автор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55280" y="2209680"/>
            <a:ext cx="81435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анная разработка выполнена учителем математи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ОУ «Средняя общеобразовательная школа № 33» г.Брянс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Tahoma"/>
              </a:rPr>
              <a:t>Кулешовой  Галиной  Николаевно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се отзывы, предложения и вопросы вы можете направить по адресу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 flipH="1">
            <a:off x="5866920" y="685800"/>
            <a:ext cx="1752840" cy="155736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1969920" y="4049640"/>
            <a:ext cx="428760" cy="38124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4"/>
          <a:stretch/>
        </p:blipFill>
        <p:spPr>
          <a:xfrm>
            <a:off x="1881360" y="4811760"/>
            <a:ext cx="475920" cy="33336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2438280" y="4114800"/>
            <a:ext cx="57913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-ma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   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galka-kul@yandex.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478600" y="4800600"/>
            <a:ext cx="37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елефон: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8 – 920 – 607 – 20 – 95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>
            <a:hlinkClick r:id="rId6" action="ppaction://hlinksldjump"/>
          </p:cNvPr>
          <p:cNvSpPr/>
          <p:nvPr/>
        </p:nvSpPr>
        <p:spPr>
          <a:xfrm flipH="1" rot="10869600">
            <a:off x="8396280" y="6171840"/>
            <a:ext cx="388800" cy="382680"/>
          </a:xfrm>
          <a:custGeom>
            <a:avLst/>
            <a:gdLst>
              <a:gd name="textAreaLeft" fmla="*/ 24480 w 388800"/>
              <a:gd name="textAreaRight" fmla="*/ 364320 w 388800"/>
              <a:gd name="textAreaTop" fmla="*/ 24480 h 382680"/>
              <a:gd name="textAreaBottom" fmla="*/ 358200 h 382680"/>
            </a:gdLst>
            <a:ahLst/>
            <a:rect l="textAreaLeft" t="textAreaTop" r="textAreaRight" b="textAreaBottom"/>
            <a:pathLst>
              <a:path w="21945" h="21600">
                <a:moveTo>
                  <a:pt x="0" y="0"/>
                </a:moveTo>
                <a:lnTo>
                  <a:pt x="21945" y="0"/>
                </a:lnTo>
                <a:lnTo>
                  <a:pt x="21945" y="21600"/>
                </a:lnTo>
                <a:lnTo>
                  <a:pt x="0" y="21600"/>
                </a:lnTo>
                <a:close/>
              </a:path>
              <a:path fill="lightenLess" w="21945" h="21600">
                <a:moveTo>
                  <a:pt x="0" y="0"/>
                </a:moveTo>
                <a:lnTo>
                  <a:pt x="21945" y="0"/>
                </a:lnTo>
                <a:lnTo>
                  <a:pt x="20545" y="1400"/>
                </a:lnTo>
                <a:lnTo>
                  <a:pt x="1400" y="1400"/>
                </a:lnTo>
                <a:close/>
              </a:path>
              <a:path fill="darken" w="21945" h="21600">
                <a:moveTo>
                  <a:pt x="21945" y="0"/>
                </a:moveTo>
                <a:lnTo>
                  <a:pt x="21945" y="21600"/>
                </a:lnTo>
                <a:lnTo>
                  <a:pt x="20545" y="20200"/>
                </a:lnTo>
                <a:lnTo>
                  <a:pt x="20545" y="1400"/>
                </a:lnTo>
                <a:close/>
              </a:path>
              <a:path fill="darkenLess" w="21945" h="21600">
                <a:moveTo>
                  <a:pt x="21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45" y="20200"/>
                </a:lnTo>
                <a:close/>
              </a:path>
              <a:path fill="lighten" w="21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45" h="21600">
                <a:moveTo>
                  <a:pt x="3966" y="7493"/>
                </a:moveTo>
                <a:lnTo>
                  <a:pt x="7474" y="7493"/>
                </a:lnTo>
                <a:lnTo>
                  <a:pt x="7474" y="12828"/>
                </a:lnTo>
                <a:cubicBezTo>
                  <a:pt x="7474" y="13751"/>
                  <a:pt x="8274" y="14482"/>
                  <a:pt x="9310" y="14482"/>
                </a:cubicBezTo>
                <a:lnTo>
                  <a:pt x="10973" y="14482"/>
                </a:lnTo>
                <a:cubicBezTo>
                  <a:pt x="12008" y="14482"/>
                  <a:pt x="12809" y="13751"/>
                  <a:pt x="12809" y="12828"/>
                </a:cubicBezTo>
                <a:lnTo>
                  <a:pt x="12809" y="7493"/>
                </a:lnTo>
                <a:lnTo>
                  <a:pt x="10973" y="7493"/>
                </a:lnTo>
                <a:lnTo>
                  <a:pt x="14480" y="3985"/>
                </a:lnTo>
                <a:lnTo>
                  <a:pt x="18153" y="7493"/>
                </a:lnTo>
                <a:lnTo>
                  <a:pt x="16317" y="7493"/>
                </a:lnTo>
                <a:lnTo>
                  <a:pt x="16317" y="12828"/>
                </a:lnTo>
                <a:cubicBezTo>
                  <a:pt x="16317" y="15596"/>
                  <a:pt x="13740" y="18155"/>
                  <a:pt x="10973" y="18155"/>
                </a:cubicBezTo>
                <a:lnTo>
                  <a:pt x="9310" y="18155"/>
                </a:lnTo>
                <a:cubicBezTo>
                  <a:pt x="6542" y="18155"/>
                  <a:pt x="3966" y="15596"/>
                  <a:pt x="3966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951520" y="5559480"/>
            <a:ext cx="28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ернуться к содержан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0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7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8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9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9000"/>
                            </p:stCondLst>
                            <p:childTnLst>
                              <p:par>
                                <p:cTn id="12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3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4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5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10080"/>
                            </p:stCondLst>
                            <p:childTnLst>
                              <p:par>
                                <p:cTn id="121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10580"/>
                            </p:stCondLst>
                            <p:childTnLst>
                              <p:par>
                                <p:cTn id="12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4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5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6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11540"/>
                            </p:stCondLst>
                            <p:childTnLst>
                              <p:par>
                                <p:cTn id="122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3237840" y="255600"/>
            <a:ext cx="35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ff"/>
                </a:solidFill>
                <a:latin typeface="Tahoma"/>
              </a:rPr>
              <a:t>Папирус  Ахме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819520" y="961920"/>
            <a:ext cx="63244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атематический папирус Ахмес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— древнеегипетское учебное руководство по арифметике и геометрии периода Среднего царства, переписанное около 1650 до н. э. писцом по имени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Ахмес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на свиток папируса  длиной 5,25 м. и                  шириной 33 с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200px-Egyptian_A%27h-mosè_or_Rhind_Papyrus_%281065x1330%29" descr="Фрагмент папируса Ахмеса"/>
          <p:cNvPicPr/>
          <p:nvPr/>
        </p:nvPicPr>
        <p:blipFill>
          <a:blip r:embed="rId2"/>
          <a:stretch/>
        </p:blipFill>
        <p:spPr>
          <a:xfrm>
            <a:off x="228600" y="762120"/>
            <a:ext cx="2500200" cy="312408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2819520" y="2378160"/>
            <a:ext cx="61722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апирус Ахмеса был обнаружен в 1858 шотландским египтологом Генри Риндо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 часто называется папирусом Райнда по имени его первого владельца. В 1870 папирус был расшифрован, переведён и издан. Ныне большая часть рукописи находится в Британском музеев Лондоне, а вторая часть — в Нью - Йорк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60200" y="3994200"/>
            <a:ext cx="867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Этот документ остается основным источником информации по математике древнего Египта. Он содержит чертежи треугольников с указаниями углов и формулами нахождения площад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69920" y="4758120"/>
            <a:ext cx="8821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 вступительной части папируса Райнда объясняется, что он посвящён «совершенному и основательному исследованию всех вещей, пониманию их сущности, познанию их тайн». Все задачи, приведённые в тексте, имеют в той или другой степени практический характер и могли быть применены в строительстве, размежевании земельных наделов и других сферах жизни и производства. По преимуществу это задачи на нахождение площадей треугольника, четырёхугольников и круга, разнообразные действия с целыми числами, пропорциональное деление, нахождение отношени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>
            <a:hlinkClick r:id="rId3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4"/>
          <a:stretch/>
        </p:blipFill>
        <p:spPr>
          <a:xfrm>
            <a:off x="7238880" y="228600"/>
            <a:ext cx="762120" cy="63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fill="hold">
                      <p:stCondLst>
                        <p:cond delay="0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500"/>
                            </p:stCondLst>
                            <p:childTnLst>
                              <p:par>
                                <p:cTn id="1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356640" y="609480"/>
            <a:ext cx="41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С о д е р ж а н и 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68040" y="1523880"/>
            <a:ext cx="2939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Из истории матема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18080" y="2057400"/>
            <a:ext cx="183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Определ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50680" y="2590920"/>
            <a:ext cx="6147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Некоторые свойства прямоугольных треугольн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52840" y="3124080"/>
            <a:ext cx="621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Признаки равенства прямоугольных треугольник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62280" y="3657600"/>
            <a:ext cx="365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Задачи по готовым  чертеж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92240" y="5257800"/>
            <a:ext cx="1390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7" action="ppaction://hlinksldjump"/>
              </a:rPr>
              <a:t>Об авто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 flipH="1">
            <a:off x="1676520" y="457200"/>
            <a:ext cx="838080" cy="8571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096560" y="4191120"/>
            <a:ext cx="2248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9" action="ppaction://hlinksldjump"/>
              </a:rPr>
              <a:t>Контрольный те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23720" y="228600"/>
            <a:ext cx="8426160" cy="6248160"/>
            <a:chOff x="423720" y="228600"/>
            <a:chExt cx="8426160" cy="6248160"/>
          </a:xfrm>
        </p:grpSpPr>
        <p:grpSp>
          <p:nvGrpSpPr>
            <p:cNvPr id="103" name=""/>
            <p:cNvGrpSpPr/>
            <p:nvPr/>
          </p:nvGrpSpPr>
          <p:grpSpPr>
            <a:xfrm>
              <a:off x="466560" y="6205680"/>
              <a:ext cx="8372160" cy="271080"/>
              <a:chOff x="466560" y="6205680"/>
              <a:chExt cx="8372160" cy="271080"/>
            </a:xfrm>
          </p:grpSpPr>
          <p:pic>
            <p:nvPicPr>
              <p:cNvPr id="10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66560" y="6205680"/>
                <a:ext cx="4190760" cy="27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647600" y="6205680"/>
                <a:ext cx="4191120" cy="271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" name=""/>
            <p:cNvGrpSpPr/>
            <p:nvPr/>
          </p:nvGrpSpPr>
          <p:grpSpPr>
            <a:xfrm>
              <a:off x="457200" y="228600"/>
              <a:ext cx="8390880" cy="190440"/>
              <a:chOff x="457200" y="228600"/>
              <a:chExt cx="8390880" cy="190440"/>
            </a:xfrm>
          </p:grpSpPr>
          <p:pic>
            <p:nvPicPr>
              <p:cNvPr id="10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57200" y="228600"/>
                <a:ext cx="4200120" cy="19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4647600" y="228600"/>
                <a:ext cx="4200480" cy="190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" name=""/>
            <p:cNvGrpSpPr/>
            <p:nvPr/>
          </p:nvGrpSpPr>
          <p:grpSpPr>
            <a:xfrm>
              <a:off x="423720" y="380880"/>
              <a:ext cx="228240" cy="5867280"/>
              <a:chOff x="423720" y="380880"/>
              <a:chExt cx="228240" cy="5867280"/>
            </a:xfrm>
          </p:grpSpPr>
          <p:pic>
            <p:nvPicPr>
              <p:cNvPr id="110" name="" descr=""/>
              <p:cNvPicPr/>
              <p:nvPr/>
            </p:nvPicPr>
            <p:blipFill>
              <a:blip r:embed="rId14"/>
              <a:stretch/>
            </p:blipFill>
            <p:spPr>
              <a:xfrm rot="16200000">
                <a:off x="-930240" y="4665600"/>
                <a:ext cx="293688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" descr=""/>
              <p:cNvPicPr/>
              <p:nvPr/>
            </p:nvPicPr>
            <p:blipFill>
              <a:blip r:embed="rId15"/>
              <a:stretch/>
            </p:blipFill>
            <p:spPr>
              <a:xfrm rot="16200000">
                <a:off x="-930600" y="1735200"/>
                <a:ext cx="2937240" cy="228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2" name=""/>
            <p:cNvGrpSpPr/>
            <p:nvPr/>
          </p:nvGrpSpPr>
          <p:grpSpPr>
            <a:xfrm>
              <a:off x="8621640" y="380880"/>
              <a:ext cx="228240" cy="5867280"/>
              <a:chOff x="8621640" y="380880"/>
              <a:chExt cx="228240" cy="5867280"/>
            </a:xfrm>
          </p:grpSpPr>
          <p:pic>
            <p:nvPicPr>
              <p:cNvPr id="113" name="" descr=""/>
              <p:cNvPicPr/>
              <p:nvPr/>
            </p:nvPicPr>
            <p:blipFill>
              <a:blip r:embed="rId16"/>
              <a:stretch/>
            </p:blipFill>
            <p:spPr>
              <a:xfrm rot="16200000">
                <a:off x="7267320" y="4665600"/>
                <a:ext cx="293688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17"/>
              <a:stretch/>
            </p:blipFill>
            <p:spPr>
              <a:xfrm rot="16200000">
                <a:off x="7266960" y="1735200"/>
                <a:ext cx="2937240" cy="228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5" name=""/>
          <p:cNvSpPr/>
          <p:nvPr/>
        </p:nvSpPr>
        <p:spPr>
          <a:xfrm>
            <a:off x="1121760" y="4724280"/>
            <a:ext cx="1826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18" action="ppaction://hlinksldjump"/>
              </a:rPr>
              <a:t>Это интерес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9"/>
          <a:stretch/>
        </p:blipFill>
        <p:spPr>
          <a:xfrm>
            <a:off x="6629400" y="4572000"/>
            <a:ext cx="167652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3684240" y="40464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ahoma"/>
              </a:rPr>
              <a:t>Е В К Л И 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438280" y="1072440"/>
            <a:ext cx="6296040" cy="28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080" bIns="10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вклид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(Eνκλειδηζ), древнегреческий математик, автор первого из дошедших до нас теоретических трактатов по математик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ведения об Евклиде крайне скудны. Достоверным можно считать лишь то, что его научная деятельность протекала в Александрии в III веке до н. э. Евклид – первый математик александрийской школы. Его главная работа «Начала»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в латинизированной форме – «Элементы») содержит изложение планиметрии, стереометрии и ряда вопросов теории чисел; в ней он подвел итог предшествующему развитию греческой математики и создал фундамент дальнейшего развития математик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-4402080" y="1370160"/>
            <a:ext cx="1428840" cy="190476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3"/>
          <a:stretch/>
        </p:blipFill>
        <p:spPr>
          <a:xfrm>
            <a:off x="457200" y="1295280"/>
            <a:ext cx="1771560" cy="236232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304920" y="4019400"/>
            <a:ext cx="8458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 других сочинений по математике надо отметить работу «О делении фигур», сохранившуюся в арабском переводе, четыре книги «Конические сечения», материал которых вошел в произведение того же названия Аполлония Пергского, а также «Поризмы», представление о которых можно получить из «Математического собрания» Паппа Александрийского. Евклид – автор работ по астрономии, оптике, музыке и др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ошедшие до нас произведения Евклида собраны в издании «Euclidis opera omnia», ed. J. L. Heibert et Н. Menge, v. 1–9, 1883–1916, дающем их греческие подлинники, латинские переводы и комментарии позднейших авторо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>
            <a:hlinkClick r:id="rId4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5"/>
          <a:stretch/>
        </p:blipFill>
        <p:spPr>
          <a:xfrm>
            <a:off x="8001000" y="2895480"/>
            <a:ext cx="900000" cy="112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0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500"/>
                            </p:stCondLst>
                            <p:childTnLst>
                              <p:par>
                                <p:cTn id="1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>
            <a:hlinkClick r:id="rId2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59280" y="25560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ahoma"/>
              </a:rPr>
              <a:t>Это  интерес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09480" y="64044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Треугольни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это многоугольник с тремя сторонами (или тремя углами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Стороны треугольника обозначаются часто малыми буквами, которые соответствуют заглавным буквам, обозначающим противоположные верши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2057400" y="2133720"/>
            <a:ext cx="4952880" cy="1523880"/>
            <a:chOff x="2057400" y="2133720"/>
            <a:chExt cx="4952880" cy="1523880"/>
          </a:xfrm>
        </p:grpSpPr>
        <p:grpSp>
          <p:nvGrpSpPr>
            <p:cNvPr id="550" name=""/>
            <p:cNvGrpSpPr/>
            <p:nvPr/>
          </p:nvGrpSpPr>
          <p:grpSpPr>
            <a:xfrm>
              <a:off x="3124080" y="2133720"/>
              <a:ext cx="3886200" cy="1523880"/>
              <a:chOff x="3124080" y="2133720"/>
              <a:chExt cx="3886200" cy="1523880"/>
            </a:xfrm>
          </p:grpSpPr>
          <p:pic>
            <p:nvPicPr>
              <p:cNvPr id="5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124080" y="2133720"/>
                <a:ext cx="388620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>
                <a:off x="3262680" y="3454920"/>
                <a:ext cx="3600000" cy="18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2057400" y="2133720"/>
              <a:ext cx="3581280" cy="1523880"/>
              <a:chOff x="2057400" y="2133720"/>
              <a:chExt cx="3581280" cy="1523880"/>
            </a:xfrm>
          </p:grpSpPr>
          <p:pic>
            <p:nvPicPr>
              <p:cNvPr id="554" name="geo7a" descr=""/>
              <p:cNvPicPr/>
              <p:nvPr/>
            </p:nvPicPr>
            <p:blipFill>
              <a:blip r:embed="rId4"/>
              <a:stretch/>
            </p:blipFill>
            <p:spPr>
              <a:xfrm>
                <a:off x="2057400" y="2133720"/>
                <a:ext cx="358128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5" name=""/>
              <p:cNvSpPr/>
              <p:nvPr/>
            </p:nvSpPr>
            <p:spPr>
              <a:xfrm>
                <a:off x="2189520" y="3452400"/>
                <a:ext cx="3374640" cy="184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6" name=""/>
          <p:cNvSpPr/>
          <p:nvPr/>
        </p:nvSpPr>
        <p:spPr>
          <a:xfrm>
            <a:off x="228600" y="3734280"/>
            <a:ext cx="861048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В любом треугольнике: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  Против большей стороны лежит больший угол, и наоборо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  Против равных сторон лежат равные углы, и наоборо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  Сумма углов треугольника равна 180 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  Продолжая одну из сторон треугольн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ка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чаем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ешний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ол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ешний угол треугольника равен сумме внутренних углов, не смежных с н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юбая сторона треугольника меньше суммы двух других сторон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льше их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ности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 a &lt; b + c,  a &gt; b – c;  b &lt; a + c,  b &gt; a – c;  c &lt; a + b,  c &gt; a – b 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5"/>
          <a:stretch/>
        </p:blipFill>
        <p:spPr>
          <a:xfrm>
            <a:off x="7543800" y="152280"/>
            <a:ext cx="121932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fill="hold">
                      <p:stCondLst>
                        <p:cond delay="0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9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9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9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-67680" y="2057400"/>
            <a:ext cx="923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ahoma"/>
              </a:rPr>
              <a:t>Ответ  не  правильны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Более внимательно изучи данную тему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>
            <a:hlinkClick r:id="rId2" action="ppaction://hlinksldjump"/>
          </p:cNvPr>
          <p:cNvSpPr/>
          <p:nvPr/>
        </p:nvSpPr>
        <p:spPr>
          <a:xfrm>
            <a:off x="4038480" y="4419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3"/>
          <a:stretch/>
        </p:blipFill>
        <p:spPr>
          <a:xfrm>
            <a:off x="3581280" y="762120"/>
            <a:ext cx="1905120" cy="119052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4"/>
          <a:stretch/>
        </p:blipFill>
        <p:spPr>
          <a:xfrm>
            <a:off x="533520" y="228600"/>
            <a:ext cx="8229600" cy="39996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5"/>
          <a:stretch/>
        </p:blipFill>
        <p:spPr>
          <a:xfrm rot="10800000">
            <a:off x="533520" y="6019560"/>
            <a:ext cx="8229600" cy="39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1982160" y="2819520"/>
            <a:ext cx="520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ahoma"/>
              </a:rPr>
              <a:t>Вы  верно  ответил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ahoma"/>
              </a:rPr>
              <a:t>на  все  вопросы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>
            <a:hlinkClick r:id="rId2" action="ppaction://hlinksldjump"/>
          </p:cNvPr>
          <p:cNvSpPr/>
          <p:nvPr/>
        </p:nvSpPr>
        <p:spPr>
          <a:xfrm>
            <a:off x="4114800" y="46483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609480" y="457200"/>
            <a:ext cx="276120" cy="5931000"/>
            <a:chOff x="609480" y="457200"/>
            <a:chExt cx="276120" cy="5931000"/>
          </a:xfrm>
        </p:grpSpPr>
        <p:pic>
          <p:nvPicPr>
            <p:cNvPr id="566" name="" descr=""/>
            <p:cNvPicPr/>
            <p:nvPr/>
          </p:nvPicPr>
          <p:blipFill>
            <a:blip r:embed="rId3"/>
            <a:stretch/>
          </p:blipFill>
          <p:spPr>
            <a:xfrm>
              <a:off x="609480" y="1625760"/>
              <a:ext cx="2761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7" name=""/>
            <p:cNvGrpSpPr/>
            <p:nvPr/>
          </p:nvGrpSpPr>
          <p:grpSpPr>
            <a:xfrm>
              <a:off x="609480" y="2806920"/>
              <a:ext cx="276120" cy="3581280"/>
              <a:chOff x="609480" y="2806920"/>
              <a:chExt cx="276120" cy="3581280"/>
            </a:xfrm>
          </p:grpSpPr>
          <p:pic>
            <p:nvPicPr>
              <p:cNvPr id="56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09480" y="524520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09480" y="402588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09480" y="280692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71" name="" descr=""/>
            <p:cNvPicPr/>
            <p:nvPr/>
          </p:nvPicPr>
          <p:blipFill>
            <a:blip r:embed="rId7"/>
            <a:stretch/>
          </p:blipFill>
          <p:spPr>
            <a:xfrm>
              <a:off x="609480" y="457200"/>
              <a:ext cx="27612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2" name=""/>
          <p:cNvGrpSpPr/>
          <p:nvPr/>
        </p:nvGrpSpPr>
        <p:grpSpPr>
          <a:xfrm>
            <a:off x="8229240" y="380520"/>
            <a:ext cx="276120" cy="5931000"/>
            <a:chOff x="8229240" y="380520"/>
            <a:chExt cx="276120" cy="5931000"/>
          </a:xfrm>
        </p:grpSpPr>
        <p:pic>
          <p:nvPicPr>
            <p:cNvPr id="573" name="" descr=""/>
            <p:cNvPicPr/>
            <p:nvPr/>
          </p:nvPicPr>
          <p:blipFill>
            <a:blip r:embed="rId8"/>
            <a:stretch/>
          </p:blipFill>
          <p:spPr>
            <a:xfrm rot="10800000">
              <a:off x="8229240" y="3999960"/>
              <a:ext cx="2761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4" name=""/>
            <p:cNvGrpSpPr/>
            <p:nvPr/>
          </p:nvGrpSpPr>
          <p:grpSpPr>
            <a:xfrm>
              <a:off x="8229240" y="380520"/>
              <a:ext cx="276120" cy="3581280"/>
              <a:chOff x="8229240" y="380520"/>
              <a:chExt cx="276120" cy="3581280"/>
            </a:xfrm>
          </p:grpSpPr>
          <p:pic>
            <p:nvPicPr>
              <p:cNvPr id="575" name="" descr=""/>
              <p:cNvPicPr/>
              <p:nvPr/>
            </p:nvPicPr>
            <p:blipFill>
              <a:blip r:embed="rId9"/>
              <a:stretch/>
            </p:blipFill>
            <p:spPr>
              <a:xfrm rot="10800000">
                <a:off x="8229240" y="38052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6" name="" descr=""/>
              <p:cNvPicPr/>
              <p:nvPr/>
            </p:nvPicPr>
            <p:blipFill>
              <a:blip r:embed="rId10"/>
              <a:stretch/>
            </p:blipFill>
            <p:spPr>
              <a:xfrm rot="10800000">
                <a:off x="8229240" y="159984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7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8229240" y="281880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78" name="" descr=""/>
            <p:cNvPicPr/>
            <p:nvPr/>
          </p:nvPicPr>
          <p:blipFill>
            <a:blip r:embed="rId12"/>
            <a:stretch/>
          </p:blipFill>
          <p:spPr>
            <a:xfrm rot="10800000">
              <a:off x="8229240" y="5168520"/>
              <a:ext cx="27612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9" name=""/>
          <p:cNvGrpSpPr/>
          <p:nvPr/>
        </p:nvGrpSpPr>
        <p:grpSpPr>
          <a:xfrm>
            <a:off x="1015920" y="406440"/>
            <a:ext cx="7111440" cy="276120"/>
            <a:chOff x="1015920" y="406440"/>
            <a:chExt cx="7111440" cy="276120"/>
          </a:xfrm>
        </p:grpSpPr>
        <p:grpSp>
          <p:nvGrpSpPr>
            <p:cNvPr id="580" name=""/>
            <p:cNvGrpSpPr/>
            <p:nvPr/>
          </p:nvGrpSpPr>
          <p:grpSpPr>
            <a:xfrm>
              <a:off x="1015920" y="406440"/>
              <a:ext cx="2352600" cy="276120"/>
              <a:chOff x="1015920" y="406440"/>
              <a:chExt cx="2352600" cy="276120"/>
            </a:xfrm>
          </p:grpSpPr>
          <p:pic>
            <p:nvPicPr>
              <p:cNvPr id="581" name="" descr=""/>
              <p:cNvPicPr/>
              <p:nvPr/>
            </p:nvPicPr>
            <p:blipFill>
              <a:blip r:embed="rId13"/>
              <a:stretch/>
            </p:blipFill>
            <p:spPr>
              <a:xfrm rot="5400000">
                <a:off x="146268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2" name="" descr=""/>
              <p:cNvPicPr/>
              <p:nvPr/>
            </p:nvPicPr>
            <p:blipFill>
              <a:blip r:embed="rId14"/>
              <a:stretch/>
            </p:blipFill>
            <p:spPr>
              <a:xfrm rot="5400000">
                <a:off x="264528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3" name=""/>
            <p:cNvGrpSpPr/>
            <p:nvPr/>
          </p:nvGrpSpPr>
          <p:grpSpPr>
            <a:xfrm>
              <a:off x="3421080" y="406440"/>
              <a:ext cx="2352600" cy="276120"/>
              <a:chOff x="3421080" y="406440"/>
              <a:chExt cx="2352600" cy="276120"/>
            </a:xfrm>
          </p:grpSpPr>
          <p:pic>
            <p:nvPicPr>
              <p:cNvPr id="584" name="" descr=""/>
              <p:cNvPicPr/>
              <p:nvPr/>
            </p:nvPicPr>
            <p:blipFill>
              <a:blip r:embed="rId15"/>
              <a:stretch/>
            </p:blipFill>
            <p:spPr>
              <a:xfrm rot="5400000">
                <a:off x="386784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5" name="" descr=""/>
              <p:cNvPicPr/>
              <p:nvPr/>
            </p:nvPicPr>
            <p:blipFill>
              <a:blip r:embed="rId16"/>
              <a:stretch/>
            </p:blipFill>
            <p:spPr>
              <a:xfrm rot="5400000">
                <a:off x="505044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6" name=""/>
            <p:cNvGrpSpPr/>
            <p:nvPr/>
          </p:nvGrpSpPr>
          <p:grpSpPr>
            <a:xfrm>
              <a:off x="5774400" y="406440"/>
              <a:ext cx="2352960" cy="276120"/>
              <a:chOff x="5774400" y="406440"/>
              <a:chExt cx="2352960" cy="276120"/>
            </a:xfrm>
          </p:grpSpPr>
          <p:pic>
            <p:nvPicPr>
              <p:cNvPr id="587" name="" descr=""/>
              <p:cNvPicPr/>
              <p:nvPr/>
            </p:nvPicPr>
            <p:blipFill>
              <a:blip r:embed="rId17"/>
              <a:stretch/>
            </p:blipFill>
            <p:spPr>
              <a:xfrm rot="5400000">
                <a:off x="622116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8" name="" descr=""/>
              <p:cNvPicPr/>
              <p:nvPr/>
            </p:nvPicPr>
            <p:blipFill>
              <a:blip r:embed="rId18"/>
              <a:stretch/>
            </p:blipFill>
            <p:spPr>
              <a:xfrm rot="5400000">
                <a:off x="740412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89" name=""/>
          <p:cNvGrpSpPr/>
          <p:nvPr/>
        </p:nvGrpSpPr>
        <p:grpSpPr>
          <a:xfrm>
            <a:off x="1067400" y="6096240"/>
            <a:ext cx="7111440" cy="276120"/>
            <a:chOff x="1067400" y="6096240"/>
            <a:chExt cx="7111440" cy="276120"/>
          </a:xfrm>
        </p:grpSpPr>
        <p:grpSp>
          <p:nvGrpSpPr>
            <p:cNvPr id="590" name=""/>
            <p:cNvGrpSpPr/>
            <p:nvPr/>
          </p:nvGrpSpPr>
          <p:grpSpPr>
            <a:xfrm>
              <a:off x="5826240" y="6096240"/>
              <a:ext cx="2352600" cy="276120"/>
              <a:chOff x="5826240" y="6096240"/>
              <a:chExt cx="2352600" cy="276120"/>
            </a:xfrm>
          </p:grpSpPr>
          <p:pic>
            <p:nvPicPr>
              <p:cNvPr id="591" name="" descr=""/>
              <p:cNvPicPr/>
              <p:nvPr/>
            </p:nvPicPr>
            <p:blipFill>
              <a:blip r:embed="rId19"/>
              <a:stretch/>
            </p:blipFill>
            <p:spPr>
              <a:xfrm rot="16200000">
                <a:off x="745560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2" name="" descr=""/>
              <p:cNvPicPr/>
              <p:nvPr/>
            </p:nvPicPr>
            <p:blipFill>
              <a:blip r:embed="rId20"/>
              <a:stretch/>
            </p:blipFill>
            <p:spPr>
              <a:xfrm rot="16200000">
                <a:off x="627300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3" name=""/>
            <p:cNvGrpSpPr/>
            <p:nvPr/>
          </p:nvGrpSpPr>
          <p:grpSpPr>
            <a:xfrm>
              <a:off x="3421080" y="6096240"/>
              <a:ext cx="2352600" cy="276120"/>
              <a:chOff x="3421080" y="6096240"/>
              <a:chExt cx="2352600" cy="276120"/>
            </a:xfrm>
          </p:grpSpPr>
          <p:pic>
            <p:nvPicPr>
              <p:cNvPr id="594" name="" descr=""/>
              <p:cNvPicPr/>
              <p:nvPr/>
            </p:nvPicPr>
            <p:blipFill>
              <a:blip r:embed="rId21"/>
              <a:stretch/>
            </p:blipFill>
            <p:spPr>
              <a:xfrm rot="16200000">
                <a:off x="505044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5" name="" descr=""/>
              <p:cNvPicPr/>
              <p:nvPr/>
            </p:nvPicPr>
            <p:blipFill>
              <a:blip r:embed="rId22"/>
              <a:stretch/>
            </p:blipFill>
            <p:spPr>
              <a:xfrm rot="16200000">
                <a:off x="386784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6" name=""/>
            <p:cNvGrpSpPr/>
            <p:nvPr/>
          </p:nvGrpSpPr>
          <p:grpSpPr>
            <a:xfrm>
              <a:off x="1067400" y="6096240"/>
              <a:ext cx="2352960" cy="276120"/>
              <a:chOff x="1067400" y="6096240"/>
              <a:chExt cx="2352960" cy="276120"/>
            </a:xfrm>
          </p:grpSpPr>
          <p:pic>
            <p:nvPicPr>
              <p:cNvPr id="597" name="" descr=""/>
              <p:cNvPicPr/>
              <p:nvPr/>
            </p:nvPicPr>
            <p:blipFill>
              <a:blip r:embed="rId23"/>
              <a:stretch/>
            </p:blipFill>
            <p:spPr>
              <a:xfrm rot="16200000">
                <a:off x="269712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8" name="" descr=""/>
              <p:cNvPicPr/>
              <p:nvPr/>
            </p:nvPicPr>
            <p:blipFill>
              <a:blip r:embed="rId24"/>
              <a:stretch/>
            </p:blipFill>
            <p:spPr>
              <a:xfrm rot="16200000">
                <a:off x="151416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99" name="" descr=""/>
          <p:cNvPicPr/>
          <p:nvPr/>
        </p:nvPicPr>
        <p:blipFill>
          <a:blip r:embed="rId25"/>
          <a:stretch/>
        </p:blipFill>
        <p:spPr>
          <a:xfrm>
            <a:off x="3429000" y="1066680"/>
            <a:ext cx="2209680" cy="13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1030680" y="1103400"/>
            <a:ext cx="731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ahoma"/>
              </a:rPr>
              <a:t>Желаю  удач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ahoma"/>
              </a:rPr>
              <a:t>в  изучении  математики 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715720" y="5715000"/>
            <a:ext cx="30182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Вернуться к содержан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3"/>
          <a:stretch/>
        </p:blipFill>
        <p:spPr>
          <a:xfrm>
            <a:off x="2994120" y="3216240"/>
            <a:ext cx="2800080" cy="2857680"/>
          </a:xfrm>
          <a:prstGeom prst="rect">
            <a:avLst/>
          </a:prstGeom>
          <a:ln w="0">
            <a:noFill/>
          </a:ln>
        </p:spPr>
      </p:pic>
      <p:grpSp>
        <p:nvGrpSpPr>
          <p:cNvPr id="603" name=""/>
          <p:cNvGrpSpPr/>
          <p:nvPr/>
        </p:nvGrpSpPr>
        <p:grpSpPr>
          <a:xfrm>
            <a:off x="327240" y="317520"/>
            <a:ext cx="8562600" cy="6316560"/>
            <a:chOff x="327240" y="317520"/>
            <a:chExt cx="8562600" cy="6316560"/>
          </a:xfrm>
        </p:grpSpPr>
        <p:grpSp>
          <p:nvGrpSpPr>
            <p:cNvPr id="604" name=""/>
            <p:cNvGrpSpPr/>
            <p:nvPr/>
          </p:nvGrpSpPr>
          <p:grpSpPr>
            <a:xfrm>
              <a:off x="371520" y="317520"/>
              <a:ext cx="8518320" cy="177840"/>
              <a:chOff x="371520" y="317520"/>
              <a:chExt cx="8518320" cy="177840"/>
            </a:xfrm>
          </p:grpSpPr>
          <p:pic>
            <p:nvPicPr>
              <p:cNvPr id="605" name="" descr="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4630680" y="32364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6" name="" descr=""/>
              <p:cNvPicPr/>
              <p:nvPr/>
            </p:nvPicPr>
            <p:blipFill>
              <a:blip r:embed="rId5"/>
              <a:stretch/>
            </p:blipFill>
            <p:spPr>
              <a:xfrm flipH="1" rot="10800000">
                <a:off x="371520" y="31716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"/>
            <p:cNvGrpSpPr/>
            <p:nvPr/>
          </p:nvGrpSpPr>
          <p:grpSpPr>
            <a:xfrm>
              <a:off x="365040" y="6456240"/>
              <a:ext cx="8518320" cy="177840"/>
              <a:chOff x="365040" y="6456240"/>
              <a:chExt cx="8518320" cy="177840"/>
            </a:xfrm>
          </p:grpSpPr>
          <p:pic>
            <p:nvPicPr>
              <p:cNvPr id="608" name="" descr=""/>
              <p:cNvPicPr/>
              <p:nvPr/>
            </p:nvPicPr>
            <p:blipFill>
              <a:blip r:embed="rId6"/>
              <a:stretch/>
            </p:blipFill>
            <p:spPr>
              <a:xfrm flipH="1" rot="10800000">
                <a:off x="4624200" y="646272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9" name="" descr=""/>
              <p:cNvPicPr/>
              <p:nvPr/>
            </p:nvPicPr>
            <p:blipFill>
              <a:blip r:embed="rId7"/>
              <a:stretch/>
            </p:blipFill>
            <p:spPr>
              <a:xfrm flipH="1" rot="10800000">
                <a:off x="365040" y="645624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0" name=""/>
            <p:cNvGrpSpPr/>
            <p:nvPr/>
          </p:nvGrpSpPr>
          <p:grpSpPr>
            <a:xfrm>
              <a:off x="327240" y="490680"/>
              <a:ext cx="188640" cy="5955840"/>
              <a:chOff x="327240" y="490680"/>
              <a:chExt cx="188640" cy="5955840"/>
            </a:xfrm>
          </p:grpSpPr>
          <p:pic>
            <p:nvPicPr>
              <p:cNvPr id="611" name="" descr=""/>
              <p:cNvPicPr/>
              <p:nvPr/>
            </p:nvPicPr>
            <p:blipFill>
              <a:blip r:embed="rId8"/>
              <a:stretch/>
            </p:blipFill>
            <p:spPr>
              <a:xfrm flipH="1" rot="16200000">
                <a:off x="-1070640" y="4866480"/>
                <a:ext cx="2977920" cy="18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" descr=""/>
              <p:cNvPicPr/>
              <p:nvPr/>
            </p:nvPicPr>
            <p:blipFill>
              <a:blip r:embed="rId9"/>
              <a:stretch/>
            </p:blipFill>
            <p:spPr>
              <a:xfrm flipH="1" rot="16200000">
                <a:off x="-1063800" y="1888560"/>
                <a:ext cx="2977920" cy="181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3" name=""/>
            <p:cNvGrpSpPr/>
            <p:nvPr/>
          </p:nvGrpSpPr>
          <p:grpSpPr>
            <a:xfrm>
              <a:off x="8701200" y="471600"/>
              <a:ext cx="188280" cy="5955840"/>
              <a:chOff x="8701200" y="471600"/>
              <a:chExt cx="188280" cy="5955840"/>
            </a:xfrm>
          </p:grpSpPr>
          <p:pic>
            <p:nvPicPr>
              <p:cNvPr id="614" name="" descr=""/>
              <p:cNvPicPr/>
              <p:nvPr/>
            </p:nvPicPr>
            <p:blipFill>
              <a:blip r:embed="rId10"/>
              <a:stretch/>
            </p:blipFill>
            <p:spPr>
              <a:xfrm flipH="1" rot="5400000">
                <a:off x="7309800" y="1869840"/>
                <a:ext cx="2977920" cy="18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5" name="" descr=""/>
              <p:cNvPicPr/>
              <p:nvPr/>
            </p:nvPicPr>
            <p:blipFill>
              <a:blip r:embed="rId11"/>
              <a:stretch/>
            </p:blipFill>
            <p:spPr>
              <a:xfrm flipH="1" rot="5400000">
                <a:off x="7302960" y="4847760"/>
                <a:ext cx="2977920" cy="181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46200" y="228600"/>
            <a:ext cx="63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Из  истории  математи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231120" y="1143000"/>
            <a:ext cx="93841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ямоугольный треугольник занимает почётное место в вавилонск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еометрии, упоминание о нём часто встречается в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папирусе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Ахмес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2057400"/>
            <a:ext cx="8763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lang="ru-RU" sz="1800" spc="-1" strike="noStrike">
                <a:solidFill>
                  <a:srgbClr val="00ff99"/>
                </a:solidFill>
                <a:latin typeface="Tahoma"/>
              </a:rPr>
              <a:t>гипотенуз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оисходит от греческого </a:t>
            </a:r>
            <a:r>
              <a:rPr b="0" i="1" lang="en-US" sz="1800" spc="-1" strike="noStrike">
                <a:solidFill>
                  <a:srgbClr val="e5ffff"/>
                </a:solidFill>
                <a:latin typeface="Tahoma"/>
              </a:rPr>
              <a:t>hypoteinsa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значающего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тянущаяся под чем либо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стягивающ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ово берёт начало от образа древнеегипетских арф, на которых струн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тягивались на концы двух взаимно перпендикулярных подстав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lang="ru-RU" sz="1800" spc="-1" strike="noStrike">
                <a:solidFill>
                  <a:srgbClr val="00ff99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оисходит от греческого слова «</a:t>
            </a:r>
            <a:r>
              <a:rPr b="0" i="1" lang="ru-RU" sz="1800" spc="-1" strike="noStrike">
                <a:solidFill>
                  <a:srgbClr val="e5ffff"/>
                </a:solidFill>
                <a:latin typeface="Tahoma"/>
              </a:rPr>
              <a:t>катетос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торое означало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отвес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перпендикуляр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В средние века словом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значали высоту прямоугольного треугольника, в то время, как другие е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ороны называли гипотенузой, соответственно основани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V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еке слово </a:t>
            </a: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чинает применяться в современном смысле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ироко распространяется, начиная с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VI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е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5410080"/>
            <a:ext cx="800100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Евклид</a:t>
            </a:r>
            <a:r>
              <a:rPr b="1" lang="en-US" sz="20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потребляет выражения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стороны, заключающие прямой угол», - для кате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сторона, стягивающая прямой угол», - для гипотенуз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5" action="ppaction://hlinksldjump"/>
          </p:cNvPr>
          <p:cNvSpPr/>
          <p:nvPr/>
        </p:nvSpPr>
        <p:spPr>
          <a:xfrm>
            <a:off x="845820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721600" y="304920"/>
            <a:ext cx="34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Определ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1160" y="2565360"/>
            <a:ext cx="57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сли один из углов треугольника прямой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о треугольник называется прямоугольны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1143000"/>
            <a:ext cx="0" cy="289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72320" y="1133640"/>
            <a:ext cx="1828800" cy="289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791400" y="3778200"/>
            <a:ext cx="228600" cy="228600"/>
            <a:chOff x="6791400" y="3778200"/>
            <a:chExt cx="228600" cy="228600"/>
          </a:xfrm>
        </p:grpSpPr>
        <p:sp>
          <p:nvSpPr>
            <p:cNvPr id="128" name=""/>
            <p:cNvSpPr/>
            <p:nvPr/>
          </p:nvSpPr>
          <p:spPr>
            <a:xfrm>
              <a:off x="6791400" y="37782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020000" y="37782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6496200" y="784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487000" y="4037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4080" y="40021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6360" y="3456000"/>
            <a:ext cx="58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торона прямоугольного треугольника, лежащ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отив прямого угла, называется </a:t>
            </a:r>
            <a:r>
              <a:rPr b="1" i="1" lang="en-US" sz="1800" spc="-1" strike="noStrike">
                <a:solidFill>
                  <a:srgbClr val="ff99ff"/>
                </a:solidFill>
                <a:latin typeface="Tahoma"/>
              </a:rPr>
              <a:t>гипотенузо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 rot="3415800">
            <a:off x="6720480" y="2324880"/>
            <a:ext cx="229104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99cc"/>
                </a:solidFill>
                <a:latin typeface="Times New Roman"/>
              </a:rPr>
              <a:t>гипотенуза</a:t>
            </a:r>
            <a:endParaRPr b="0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99cc"/>
              </a:solidFill>
              <a:latin typeface="Times New Roman"/>
              <a:ea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1143000"/>
            <a:ext cx="1828800" cy="289548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1133640"/>
            <a:ext cx="0" cy="289548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086600" y="4159080"/>
            <a:ext cx="107172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66ff99"/>
                </a:solidFill>
                <a:latin typeface="Times New Roman"/>
              </a:rPr>
              <a:t>катет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66ff99"/>
              </a:solidFill>
              <a:latin typeface="Times New Roman"/>
              <a:ea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 rot="16200000">
            <a:off x="6017400" y="2669040"/>
            <a:ext cx="10717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66ff99"/>
                </a:solidFill>
                <a:latin typeface="Times New Roman"/>
              </a:rPr>
              <a:t>катет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66ff99"/>
              </a:solidFill>
              <a:latin typeface="Times New Roman"/>
              <a:ea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2480" y="405144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 две другие – </a:t>
            </a:r>
            <a:r>
              <a:rPr b="1" i="1" lang="en-US" sz="1800" spc="-1" strike="noStrike">
                <a:solidFill>
                  <a:srgbClr val="66ff99"/>
                </a:solidFill>
                <a:latin typeface="Tahoma"/>
              </a:rPr>
              <a:t>катетам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5181480"/>
            <a:ext cx="2895840" cy="1143000"/>
          </a:xfrm>
          <a:prstGeom prst="rtTriangle">
            <a:avLst/>
          </a:prstGeom>
          <a:solidFill>
            <a:srgbClr val="00ff99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8024400">
            <a:off x="4469760" y="5524200"/>
            <a:ext cx="1600200" cy="1676520"/>
          </a:xfrm>
          <a:prstGeom prst="rtTriangle">
            <a:avLst/>
          </a:prstGeom>
          <a:solidFill>
            <a:srgbClr val="00c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7800200">
            <a:off x="6819840" y="4533480"/>
            <a:ext cx="838080" cy="1828800"/>
          </a:xfrm>
          <a:prstGeom prst="rtTriangle">
            <a:avLst/>
          </a:prstGeom>
          <a:solidFill>
            <a:srgbClr val="ffff66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2819520" y="4495680"/>
            <a:ext cx="838080" cy="1828800"/>
          </a:xfrm>
          <a:prstGeom prst="rtTriangle">
            <a:avLst/>
          </a:prstGeom>
          <a:solidFill>
            <a:srgbClr val="009999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80880" y="6095880"/>
            <a:ext cx="228600" cy="228600"/>
            <a:chOff x="380880" y="6095880"/>
            <a:chExt cx="228600" cy="228600"/>
          </a:xfrm>
        </p:grpSpPr>
        <p:sp>
          <p:nvSpPr>
            <p:cNvPr id="147" name=""/>
            <p:cNvSpPr/>
            <p:nvPr/>
          </p:nvSpPr>
          <p:spPr>
            <a:xfrm>
              <a:off x="380880" y="6095880"/>
              <a:ext cx="2286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480" y="609588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477960" y="4495320"/>
            <a:ext cx="152280" cy="228600"/>
            <a:chOff x="3477960" y="4495320"/>
            <a:chExt cx="152280" cy="228600"/>
          </a:xfrm>
        </p:grpSpPr>
        <p:sp>
          <p:nvSpPr>
            <p:cNvPr id="150" name=""/>
            <p:cNvSpPr/>
            <p:nvPr/>
          </p:nvSpPr>
          <p:spPr>
            <a:xfrm flipH="1">
              <a:off x="3477960" y="4723920"/>
              <a:ext cx="15228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3477960" y="449532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7678800" y="5908320"/>
            <a:ext cx="288720" cy="199440"/>
            <a:chOff x="7678800" y="5908320"/>
            <a:chExt cx="288720" cy="199440"/>
          </a:xfrm>
        </p:grpSpPr>
        <p:sp>
          <p:nvSpPr>
            <p:cNvPr id="153" name=""/>
            <p:cNvSpPr/>
            <p:nvPr/>
          </p:nvSpPr>
          <p:spPr>
            <a:xfrm flipV="1">
              <a:off x="7678800" y="5908320"/>
              <a:ext cx="111960" cy="1994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790760" y="5908320"/>
              <a:ext cx="176760" cy="993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090400" y="5363640"/>
            <a:ext cx="268920" cy="140760"/>
            <a:chOff x="5090400" y="5363640"/>
            <a:chExt cx="268920" cy="140760"/>
          </a:xfrm>
        </p:grpSpPr>
        <p:sp>
          <p:nvSpPr>
            <p:cNvPr id="156" name=""/>
            <p:cNvSpPr/>
            <p:nvPr/>
          </p:nvSpPr>
          <p:spPr>
            <a:xfrm flipH="1">
              <a:off x="5210280" y="5363640"/>
              <a:ext cx="149040" cy="1407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5090400" y="5377320"/>
              <a:ext cx="119880" cy="1270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95840" y="1339920"/>
            <a:ext cx="559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Tahoma"/>
              </a:rPr>
              <a:t>Треугольник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– это геометрическая фигур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стоящая из трёх точек, не лежащих на од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ямой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61160" y="1133640"/>
            <a:ext cx="42840" cy="4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585280" y="4011480"/>
            <a:ext cx="42840" cy="4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62600" y="4021200"/>
            <a:ext cx="42840" cy="4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16360" y="1887480"/>
            <a:ext cx="48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трёх отрезков, соединяющих эти точ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24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74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24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74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24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74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24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64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814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864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88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28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780"/>
                            </p:stCondLst>
                            <p:childTnLst>
                              <p:par>
                                <p:cTn id="10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84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33680" y="48276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Некоторые  свойств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8840" y="2292480"/>
            <a:ext cx="79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. Сумма двух острых углов прямоугольного треугольника равна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5480" y="343836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Катет прямоугольного треугольника, лежащий против угла в 3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вен половине гипотенуз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4920" y="4719600"/>
            <a:ext cx="85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Если катет прямоугольного треугольника равен половине гипотенуз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угол, лежащий против этого катета, равен 3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62280" y="22860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4040" y="1617840"/>
            <a:ext cx="88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8640" y="2630520"/>
            <a:ext cx="842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6680" y="3983040"/>
            <a:ext cx="83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7280" y="5313240"/>
            <a:ext cx="75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87000" y="2114640"/>
            <a:ext cx="1339200" cy="4395960"/>
            <a:chOff x="387000" y="2114640"/>
            <a:chExt cx="1339200" cy="4395960"/>
          </a:xfrm>
        </p:grpSpPr>
        <p:sp>
          <p:nvSpPr>
            <p:cNvPr id="175" name=""/>
            <p:cNvSpPr/>
            <p:nvPr/>
          </p:nvSpPr>
          <p:spPr>
            <a:xfrm>
              <a:off x="387000" y="21146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8400" y="342756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9040" y="47894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5160" y="610560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6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62280" y="22860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040" y="1617840"/>
            <a:ext cx="88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8640" y="2630520"/>
            <a:ext cx="842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6680" y="3983040"/>
            <a:ext cx="83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7280" y="5313240"/>
            <a:ext cx="75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87000" y="2114640"/>
            <a:ext cx="1339200" cy="4395960"/>
            <a:chOff x="387000" y="2114640"/>
            <a:chExt cx="1339200" cy="4395960"/>
          </a:xfrm>
        </p:grpSpPr>
        <p:sp>
          <p:nvSpPr>
            <p:cNvPr id="186" name=""/>
            <p:cNvSpPr/>
            <p:nvPr/>
          </p:nvSpPr>
          <p:spPr>
            <a:xfrm>
              <a:off x="387000" y="21146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8400" y="342756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9040" y="47894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5160" y="610560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6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14400" y="3808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196" name="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200" name="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210" name="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213" name="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 flipH="1">
            <a:off x="1371600" y="358128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276360" y="3581280"/>
            <a:ext cx="759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685440" y="2590920"/>
            <a:ext cx="160200" cy="52200"/>
            <a:chOff x="685440" y="2590920"/>
            <a:chExt cx="160200" cy="52200"/>
          </a:xfrm>
        </p:grpSpPr>
        <p:sp>
          <p:nvSpPr>
            <p:cNvPr id="218" name=""/>
            <p:cNvSpPr/>
            <p:nvPr/>
          </p:nvSpPr>
          <p:spPr>
            <a:xfrm flipH="1">
              <a:off x="685440" y="25909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693360" y="26431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2590560" y="2514600"/>
            <a:ext cx="160200" cy="52560"/>
            <a:chOff x="2590560" y="2514600"/>
            <a:chExt cx="160200" cy="52560"/>
          </a:xfrm>
        </p:grpSpPr>
        <p:sp>
          <p:nvSpPr>
            <p:cNvPr id="221" name=""/>
            <p:cNvSpPr/>
            <p:nvPr/>
          </p:nvSpPr>
          <p:spPr>
            <a:xfrm flipH="1">
              <a:off x="2590560" y="25146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598480" y="25671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618160" y="1515960"/>
            <a:ext cx="3127680" cy="1037880"/>
            <a:chOff x="5618160" y="1515960"/>
            <a:chExt cx="3127680" cy="1037880"/>
          </a:xfrm>
        </p:grpSpPr>
        <p:sp>
          <p:nvSpPr>
            <p:cNvPr id="224" name=""/>
            <p:cNvSpPr/>
            <p:nvPr/>
          </p:nvSpPr>
          <p:spPr>
            <a:xfrm>
              <a:off x="5618160" y="1515960"/>
              <a:ext cx="3094200" cy="103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36520" y="15620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С =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 АС = А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571320" cy="7142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97000" y="4853160"/>
            <a:ext cx="657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ледует из первого признака равенства треугольник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по двум сторонам и углу между ним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1446120"/>
            <a:ext cx="3200400" cy="2210040"/>
            <a:chOff x="762120" y="1446120"/>
            <a:chExt cx="3200400" cy="2210040"/>
          </a:xfrm>
        </p:grpSpPr>
        <p:sp>
          <p:nvSpPr>
            <p:cNvPr id="230" name=""/>
            <p:cNvSpPr/>
            <p:nvPr/>
          </p:nvSpPr>
          <p:spPr>
            <a:xfrm>
              <a:off x="762120" y="365616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762120" y="3427560"/>
              <a:ext cx="228600" cy="228600"/>
              <a:chOff x="762120" y="3427560"/>
              <a:chExt cx="228600" cy="22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762120" y="342756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990720" y="3427560"/>
                <a:ext cx="0" cy="22860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762120" y="1446120"/>
              <a:ext cx="3200400" cy="2209680"/>
              <a:chOff x="762120" y="1446120"/>
              <a:chExt cx="3200400" cy="2209680"/>
            </a:xfrm>
          </p:grpSpPr>
          <p:sp>
            <p:nvSpPr>
              <p:cNvPr id="235" name=""/>
              <p:cNvSpPr/>
              <p:nvPr/>
            </p:nvSpPr>
            <p:spPr>
              <a:xfrm>
                <a:off x="762120" y="14461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666880" y="14461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666880" y="365580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2666880" y="3427200"/>
                <a:ext cx="228600" cy="228600"/>
                <a:chOff x="2666880" y="3427200"/>
                <a:chExt cx="228600" cy="22860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2666880" y="342720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95480" y="342720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1" name=""/>
          <p:cNvGrpSpPr/>
          <p:nvPr/>
        </p:nvGrpSpPr>
        <p:grpSpPr>
          <a:xfrm>
            <a:off x="762120" y="1447920"/>
            <a:ext cx="3200400" cy="2209680"/>
            <a:chOff x="762120" y="1447920"/>
            <a:chExt cx="3200400" cy="2209680"/>
          </a:xfrm>
        </p:grpSpPr>
        <p:sp>
          <p:nvSpPr>
            <p:cNvPr id="242" name=""/>
            <p:cNvSpPr/>
            <p:nvPr/>
          </p:nvSpPr>
          <p:spPr>
            <a:xfrm>
              <a:off x="762120" y="365760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762120" y="3429000"/>
              <a:ext cx="228600" cy="228240"/>
              <a:chOff x="762120" y="3429000"/>
              <a:chExt cx="228600" cy="228240"/>
            </a:xfrm>
          </p:grpSpPr>
          <p:sp>
            <p:nvSpPr>
              <p:cNvPr id="244" name=""/>
              <p:cNvSpPr/>
              <p:nvPr/>
            </p:nvSpPr>
            <p:spPr>
              <a:xfrm>
                <a:off x="762120" y="342900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990720" y="3429000"/>
                <a:ext cx="0" cy="22824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762120" y="1447920"/>
              <a:ext cx="3200400" cy="2209680"/>
              <a:chOff x="762120" y="1447920"/>
              <a:chExt cx="3200400" cy="2209680"/>
            </a:xfrm>
          </p:grpSpPr>
          <p:sp>
            <p:nvSpPr>
              <p:cNvPr id="247" name=""/>
              <p:cNvSpPr/>
              <p:nvPr/>
            </p:nvSpPr>
            <p:spPr>
              <a:xfrm>
                <a:off x="762120" y="14479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666880" y="14479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666880" y="365760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2666880" y="3429000"/>
                <a:ext cx="228600" cy="228600"/>
                <a:chOff x="2666880" y="3429000"/>
                <a:chExt cx="228600" cy="22860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2666880" y="342900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895480" y="342900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3" name=""/>
          <p:cNvGrpSpPr/>
          <p:nvPr/>
        </p:nvGrpSpPr>
        <p:grpSpPr>
          <a:xfrm>
            <a:off x="766800" y="1440000"/>
            <a:ext cx="3200400" cy="2209680"/>
            <a:chOff x="766800" y="1440000"/>
            <a:chExt cx="3200400" cy="2209680"/>
          </a:xfrm>
        </p:grpSpPr>
        <p:sp>
          <p:nvSpPr>
            <p:cNvPr id="254" name=""/>
            <p:cNvSpPr/>
            <p:nvPr/>
          </p:nvSpPr>
          <p:spPr>
            <a:xfrm>
              <a:off x="766800" y="364968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766800" y="3421080"/>
              <a:ext cx="228600" cy="228240"/>
              <a:chOff x="766800" y="3421080"/>
              <a:chExt cx="228600" cy="228240"/>
            </a:xfrm>
          </p:grpSpPr>
          <p:sp>
            <p:nvSpPr>
              <p:cNvPr id="256" name=""/>
              <p:cNvSpPr/>
              <p:nvPr/>
            </p:nvSpPr>
            <p:spPr>
              <a:xfrm>
                <a:off x="766800" y="342108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995400" y="3421080"/>
                <a:ext cx="0" cy="22824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766800" y="1440000"/>
              <a:ext cx="3200400" cy="2209680"/>
              <a:chOff x="766800" y="1440000"/>
              <a:chExt cx="3200400" cy="2209680"/>
            </a:xfrm>
          </p:grpSpPr>
          <p:sp>
            <p:nvSpPr>
              <p:cNvPr id="259" name=""/>
              <p:cNvSpPr/>
              <p:nvPr/>
            </p:nvSpPr>
            <p:spPr>
              <a:xfrm>
                <a:off x="766800" y="144000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671560" y="144000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671560" y="364968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2671560" y="3421080"/>
                <a:ext cx="228600" cy="228600"/>
                <a:chOff x="2671560" y="3421080"/>
                <a:chExt cx="228600" cy="2286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2671560" y="342108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900160" y="342108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58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80"/>
                            </p:stCondLst>
                            <p:childTnLst>
                              <p:par>
                                <p:cTn id="2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58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08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580"/>
                            </p:stCondLst>
                            <p:childTnLst>
                              <p:par>
                                <p:cTn id="2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708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7580"/>
                            </p:stCondLst>
                            <p:childTnLst>
                              <p:par>
                                <p:cTn id="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808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8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8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9580"/>
                            </p:stCondLst>
                            <p:childTnLst>
                              <p:par>
                                <p:cTn id="3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8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58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12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620"/>
                            </p:stCondLst>
                            <p:childTnLst>
                              <p:par>
                                <p:cTn id="3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12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620"/>
                            </p:stCondLst>
                            <p:childTnLst>
                              <p:par>
                                <p:cTn id="3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12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85800" y="3808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>
            <a:hlinkClick r:id="rId2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268" name="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272" name="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282" name="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285" name="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571680" cy="7142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96640" y="4853160"/>
            <a:ext cx="656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ледует из второго признака равенства треугольник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по стороне и прилежащим к ней углам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41960" y="3695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62720" y="1500120"/>
            <a:ext cx="3127680" cy="1068120"/>
            <a:chOff x="5562720" y="1500120"/>
            <a:chExt cx="3127680" cy="1068120"/>
          </a:xfrm>
        </p:grpSpPr>
        <p:sp>
          <p:nvSpPr>
            <p:cNvPr id="295" name=""/>
            <p:cNvSpPr/>
            <p:nvPr/>
          </p:nvSpPr>
          <p:spPr>
            <a:xfrm>
              <a:off x="5562720" y="1500120"/>
              <a:ext cx="311760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6" name=""/>
                <p:cNvSpPr txBox="1"/>
                <p:nvPr/>
              </p:nvSpPr>
              <p:spPr>
                <a:xfrm>
                  <a:off x="6912000" y="2128680"/>
                  <a:ext cx="106056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97" name=""/>
            <p:cNvSpPr/>
            <p:nvPr/>
          </p:nvSpPr>
          <p:spPr>
            <a:xfrm>
              <a:off x="5581080" y="15764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6060600" y="314172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6490800">
            <a:off x="590040" y="1654200"/>
            <a:ext cx="468720" cy="43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6490800">
            <a:off x="2520000" y="1662120"/>
            <a:ext cx="469440" cy="43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63040" y="1467000"/>
            <a:ext cx="2469960" cy="2214360"/>
            <a:chOff x="563040" y="1467000"/>
            <a:chExt cx="2469960" cy="2214360"/>
          </a:xfrm>
        </p:grpSpPr>
        <p:grpSp>
          <p:nvGrpSpPr>
            <p:cNvPr id="302" name=""/>
            <p:cNvGrpSpPr/>
            <p:nvPr/>
          </p:nvGrpSpPr>
          <p:grpSpPr>
            <a:xfrm>
              <a:off x="563040" y="1467000"/>
              <a:ext cx="561960" cy="2195280"/>
              <a:chOff x="563040" y="1467000"/>
              <a:chExt cx="561960" cy="2195280"/>
            </a:xfrm>
          </p:grpSpPr>
          <p:sp>
            <p:nvSpPr>
              <p:cNvPr id="303" name=""/>
              <p:cNvSpPr/>
              <p:nvPr/>
            </p:nvSpPr>
            <p:spPr>
              <a:xfrm>
                <a:off x="765000" y="1467000"/>
                <a:ext cx="0" cy="2179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6490800">
                <a:off x="609120" y="1640520"/>
                <a:ext cx="469440" cy="437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5" name=""/>
              <p:cNvGrpSpPr/>
              <p:nvPr/>
            </p:nvGrpSpPr>
            <p:grpSpPr>
              <a:xfrm>
                <a:off x="746280" y="3433680"/>
                <a:ext cx="228600" cy="228600"/>
                <a:chOff x="746280" y="3433680"/>
                <a:chExt cx="228600" cy="22860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746280" y="3433680"/>
                  <a:ext cx="228600" cy="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974880" y="3433680"/>
                  <a:ext cx="0" cy="22860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8" name=""/>
            <p:cNvGrpSpPr/>
            <p:nvPr/>
          </p:nvGrpSpPr>
          <p:grpSpPr>
            <a:xfrm>
              <a:off x="2471040" y="1486080"/>
              <a:ext cx="561960" cy="2195280"/>
              <a:chOff x="2471040" y="1486080"/>
              <a:chExt cx="561960" cy="219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2673000" y="1486080"/>
                <a:ext cx="0" cy="2179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6490800">
                <a:off x="2517120" y="1659600"/>
                <a:ext cx="469440" cy="437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1" name=""/>
              <p:cNvGrpSpPr/>
              <p:nvPr/>
            </p:nvGrpSpPr>
            <p:grpSpPr>
              <a:xfrm>
                <a:off x="2654280" y="3452760"/>
                <a:ext cx="228600" cy="228600"/>
                <a:chOff x="2654280" y="3452760"/>
                <a:chExt cx="228600" cy="22860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2654280" y="3452760"/>
                  <a:ext cx="228600" cy="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882880" y="3452760"/>
                  <a:ext cx="0" cy="22860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638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6880"/>
                            </p:stCondLst>
                            <p:childTnLst>
                              <p:par>
                                <p:cTn id="3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7380"/>
                            </p:stCondLst>
                            <p:childTnLst>
                              <p:par>
                                <p:cTn id="3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788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838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888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938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9880"/>
                            </p:stCondLst>
                            <p:childTnLst>
                              <p:par>
                                <p:cTn id="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380"/>
                            </p:stCondLst>
                            <p:childTnLst>
                              <p:par>
                                <p:cTn id="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88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1380"/>
                            </p:stCondLst>
                            <p:childTnLst>
                              <p:par>
                                <p:cTn id="4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188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500"/>
                            </p:stCondLst>
                            <p:childTnLst>
                              <p:par>
                                <p:cTn id="4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3500"/>
                            </p:stCondLst>
                            <p:childTnLst>
                              <p:par>
                                <p:cTn id="4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4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500"/>
                            </p:stCondLst>
                            <p:childTnLst>
                              <p:par>
                                <p:cTn id="4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65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ья </cp:lastModifiedBy>
  <dcterms:modified xsi:type="dcterms:W3CDTF">2007-03-26T14:45:59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