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C0F8-A07B-4890-9211-22FB4FEC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919-4967-410F-860D-1BD6E8D8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A15-B771-4A92-BD1E-9A325A34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F74F-45E1-4C87-AA47-680794B4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511A-EFC3-4E9F-A20A-B14D1E01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7E1A-4D51-46F1-B6DD-FBEC0C1C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9163-F066-44BD-8197-99B577C8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8E7C-01C8-4FA2-966F-F4D11BA5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DAF4F-8938-4E23-8652-B4D2AE96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30C6-C764-4821-ADF1-90502523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3532-A1AA-4672-9AEA-ADC011A5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D5A-D9F7-4AC1-8627-402D7BF7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C8E5-0B25-4226-A019-67FEB39F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6C55-ACDC-4D60-BF61-CB236073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3A4D-EA1D-49DD-8024-6F2B5351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C7E1-28F1-4783-8E76-C43098DC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27ED-F4FF-415D-9CE9-D6713AF3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F60-3A9E-4930-86C3-8A63991A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3EC6-0C5B-422F-8079-E43DBC13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318-B23A-4E0E-9A0A-F324A0D6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58C-5F04-4F26-BF05-8FD8DF04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AD7-E70B-489F-9695-806E9E6E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47C0-4356-4F1E-B835-5CB545BA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8979-F6AD-4F69-8BA9-F3690F94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FCE4-E0CD-49B3-91CC-15C3200A9A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42E2-A88D-4EDD-9E68-41ADF017FC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hyperlink" Target="mailto:galka-kul@yandex.ru" TargetMode="External"/><Relationship Id="rId6" Type="http://schemas.openxmlformats.org/officeDocument/2006/relationships/slide" Target="slide2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slide3.xml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2.xml"/><Relationship Id="rId7" Type="http://schemas.openxmlformats.org/officeDocument/2006/relationships/slide" Target="slide18.xml"/><Relationship Id="rId8" Type="http://schemas.openxmlformats.org/officeDocument/2006/relationships/image" Target="../media/image4.gif"/><Relationship Id="rId9" Type="http://schemas.openxmlformats.org/officeDocument/2006/relationships/slide" Target="slide13.xml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slide" Target="slide21.xml"/><Relationship Id="rId19" Type="http://schemas.openxmlformats.org/officeDocument/2006/relationships/image" Target="../media/image6.gif"/><Relationship Id="rId2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slide" Target="slide3.xml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8.gif"/><Relationship Id="rId25" Type="http://schemas.openxmlformats.org/officeDocument/2006/relationships/image" Target="../media/image26.gif"/><Relationship Id="rId2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84" name="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91" name="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1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321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3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3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43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45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 flipH="1" flipV="1" rot="17826000">
            <a:off x="673560" y="165672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 flipV="1" rot="17826000">
            <a:off x="2580120" y="1648800"/>
            <a:ext cx="386640" cy="31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636720" y="3377160"/>
            <a:ext cx="480240" cy="414720"/>
            <a:chOff x="3636720" y="3377160"/>
            <a:chExt cx="480240" cy="414720"/>
          </a:xfrm>
        </p:grpSpPr>
        <p:sp>
          <p:nvSpPr>
            <p:cNvPr id="349" name=""/>
            <p:cNvSpPr/>
            <p:nvPr/>
          </p:nvSpPr>
          <p:spPr>
            <a:xfrm flipH="1" flipV="1" rot="4138800">
              <a:off x="3756600" y="3434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 rot="4138800">
              <a:off x="3677760" y="3426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38080" y="3404160"/>
            <a:ext cx="480240" cy="414720"/>
            <a:chOff x="1738080" y="3404160"/>
            <a:chExt cx="480240" cy="414720"/>
          </a:xfrm>
        </p:grpSpPr>
        <p:sp>
          <p:nvSpPr>
            <p:cNvPr id="352" name=""/>
            <p:cNvSpPr/>
            <p:nvPr/>
          </p:nvSpPr>
          <p:spPr>
            <a:xfrm flipH="1" flipV="1" rot="4138800">
              <a:off x="1857960" y="34610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 rot="4138800">
              <a:off x="1779120" y="3453840"/>
              <a:ext cx="318240" cy="307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55" name="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643680" y="1477800"/>
            <a:ext cx="3336120" cy="2184480"/>
            <a:chOff x="643680" y="1477800"/>
            <a:chExt cx="3336120" cy="2184480"/>
          </a:xfrm>
        </p:grpSpPr>
        <p:grpSp>
          <p:nvGrpSpPr>
            <p:cNvPr id="358" name=""/>
            <p:cNvGrpSpPr/>
            <p:nvPr/>
          </p:nvGrpSpPr>
          <p:grpSpPr>
            <a:xfrm>
              <a:off x="2543760" y="1482480"/>
              <a:ext cx="1436040" cy="2179800"/>
              <a:chOff x="2543760" y="1482480"/>
              <a:chExt cx="1436040" cy="2179800"/>
            </a:xfrm>
          </p:grpSpPr>
          <p:sp>
            <p:nvSpPr>
              <p:cNvPr id="359" name=""/>
              <p:cNvSpPr/>
              <p:nvPr/>
            </p:nvSpPr>
            <p:spPr>
              <a:xfrm flipH="1" flipV="1" rot="17826000">
                <a:off x="2576880" y="166464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43680" y="1477800"/>
              <a:ext cx="1419840" cy="2179800"/>
              <a:chOff x="643680" y="1477800"/>
              <a:chExt cx="1419840" cy="2179800"/>
            </a:xfrm>
          </p:grpSpPr>
          <p:sp>
            <p:nvSpPr>
              <p:cNvPr id="362" name="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 rot="17826000">
                <a:off x="676800" y="1666080"/>
                <a:ext cx="386640" cy="311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67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71" name="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81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84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92" name="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95" name="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402" name="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405" name="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rot="11792400">
            <a:off x="2448000" y="1649880"/>
            <a:ext cx="555120" cy="5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5080" y="3390840"/>
            <a:ext cx="554400" cy="531720"/>
            <a:chOff x="3475080" y="3390840"/>
            <a:chExt cx="554400" cy="531720"/>
          </a:xfrm>
        </p:grpSpPr>
        <p:sp>
          <p:nvSpPr>
            <p:cNvPr id="414" name=""/>
            <p:cNvSpPr/>
            <p:nvPr/>
          </p:nvSpPr>
          <p:spPr>
            <a:xfrm flipH="1">
              <a:off x="3475080" y="3392280"/>
              <a:ext cx="554400" cy="53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3614760" y="3390840"/>
              <a:ext cx="319680" cy="52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420" name="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24" name="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32" name="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545640" y="1735920"/>
            <a:ext cx="470160" cy="468720"/>
            <a:chOff x="3545640" y="1735920"/>
            <a:chExt cx="470160" cy="468720"/>
          </a:xfrm>
        </p:grpSpPr>
        <p:sp>
          <p:nvSpPr>
            <p:cNvPr id="437" name=""/>
            <p:cNvSpPr/>
            <p:nvPr/>
          </p:nvSpPr>
          <p:spPr>
            <a:xfrm rot="8875800">
              <a:off x="3587400" y="18640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8875800">
              <a:off x="3609000" y="18122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0240" y="1964520"/>
            <a:ext cx="470160" cy="468720"/>
            <a:chOff x="3720240" y="1964520"/>
            <a:chExt cx="470160" cy="468720"/>
          </a:xfrm>
        </p:grpSpPr>
        <p:sp>
          <p:nvSpPr>
            <p:cNvPr id="440" name=""/>
            <p:cNvSpPr/>
            <p:nvPr/>
          </p:nvSpPr>
          <p:spPr>
            <a:xfrm rot="8875800">
              <a:off x="3762000" y="2092680"/>
              <a:ext cx="36504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8875800">
              <a:off x="3783600" y="2040840"/>
              <a:ext cx="364320" cy="26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rot="7166400">
            <a:off x="658800" y="183420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en-US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48" name="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585440" y="3295080"/>
            <a:ext cx="496440" cy="526320"/>
            <a:chOff x="1585440" y="3295080"/>
            <a:chExt cx="496440" cy="526320"/>
          </a:xfrm>
        </p:grpSpPr>
        <p:sp>
          <p:nvSpPr>
            <p:cNvPr id="457" name=""/>
            <p:cNvSpPr/>
            <p:nvPr/>
          </p:nvSpPr>
          <p:spPr>
            <a:xfrm rot="14456400">
              <a:off x="1595160" y="341136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4456400">
              <a:off x="1643400" y="342936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64" name="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rot="379800">
            <a:off x="2610720" y="3471480"/>
            <a:ext cx="437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69" name="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71" name="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77" name="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 rot="379800">
            <a:off x="5356080" y="333684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rot="21357600">
            <a:off x="6019200" y="595980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85" name="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en-US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91" name="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rot="379800">
            <a:off x="857160" y="5832360"/>
            <a:ext cx="437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3233520" y="5814360"/>
            <a:ext cx="496440" cy="526320"/>
            <a:chOff x="3233520" y="5814360"/>
            <a:chExt cx="496440" cy="526320"/>
          </a:xfrm>
        </p:grpSpPr>
        <p:sp>
          <p:nvSpPr>
            <p:cNvPr id="503" name=""/>
            <p:cNvSpPr/>
            <p:nvPr/>
          </p:nvSpPr>
          <p:spPr>
            <a:xfrm rot="14456400">
              <a:off x="3243240" y="5930640"/>
              <a:ext cx="42840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4456400">
              <a:off x="3291480" y="5948640"/>
              <a:ext cx="42768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5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6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7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20640" y="1798560"/>
            <a:ext cx="82584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два угла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один прямой уг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0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84960" y="1773360"/>
            <a:ext cx="921096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два угла острых и один прямо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9360" y="1870200"/>
            <a:ext cx="940284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сторон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ами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878040" y="1860480"/>
            <a:ext cx="743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) стороной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) катетом треуголь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) гипотенузой треуголь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800280" y="1806480"/>
            <a:ext cx="7907040" cy="1985040"/>
            <a:chOff x="800280" y="1806480"/>
            <a:chExt cx="7907040" cy="1985040"/>
          </a:xfrm>
        </p:grpSpPr>
        <p:sp>
          <p:nvSpPr>
            <p:cNvPr id="520" name="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14440" y="260028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18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10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90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  <a:ea typeface="Times New Roman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0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>
            <a:hlinkClick r:id="rId6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fill="hold">
                      <p:stCondLst>
                        <p:cond delay="0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200px-Egyptian_A%27h-mosè_or_Rhind_Papyrus_%281065x1330%29" descr="Фрагмент папируса Ахмеса"/>
          <p:cNvPicPr/>
          <p:nvPr/>
        </p:nvPicPr>
        <p:blipFill>
          <a:blip r:embed="rId2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4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0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9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103" name="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10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" name="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10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110" name="" descr="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2" name="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113" name="" descr="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7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5" name="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18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9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5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0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50" name="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54" name="geo7a" descr=""/>
              <p:cNvPicPr/>
              <p:nvPr/>
            </p:nvPicPr>
            <p:blipFill>
              <a:blip r:embed="rId4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6" name="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62" name="" descr=""/>
          <p:cNvPicPr/>
          <p:nvPr/>
        </p:nvPicPr>
        <p:blipFill>
          <a:blip r:embed="rId5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>
            <a:hlinkClick r:id="rId2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66" name="" descr=""/>
            <p:cNvPicPr/>
            <p:nvPr/>
          </p:nvPicPr>
          <p:blipFill>
            <a:blip r:embed="rId3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" name="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6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1" name="" descr=""/>
            <p:cNvPicPr/>
            <p:nvPr/>
          </p:nvPicPr>
          <p:blipFill>
            <a:blip r:embed="rId7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2" name="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75" name="" descr="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6" name="" descr="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78" name="" descr=""/>
            <p:cNvPicPr/>
            <p:nvPr/>
          </p:nvPicPr>
          <p:blipFill>
            <a:blip r:embed="rId12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80" name="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81" name="" descr="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2" name="" descr="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3" name="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" descr="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6" name="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87" name="" descr="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8" name="" descr=""/>
              <p:cNvPicPr/>
              <p:nvPr/>
            </p:nvPicPr>
            <p:blipFill>
              <a:blip r:embed="rId18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89" name="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90" name="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91" name="" descr="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2" name="" descr="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3" name="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94" name="" descr="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6" name="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97" name="" descr="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8" name="" descr=""/>
              <p:cNvPicPr/>
              <p:nvPr/>
            </p:nvPicPr>
            <p:blipFill>
              <a:blip r:embed="rId24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99" name="" descr=""/>
          <p:cNvPicPr/>
          <p:nvPr/>
        </p:nvPicPr>
        <p:blipFill>
          <a:blip r:embed="rId25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603" name="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604" name="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60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6" name="" descr="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60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9" name="" descr=""/>
              <p:cNvPicPr/>
              <p:nvPr/>
            </p:nvPicPr>
            <p:blipFill>
              <a:blip r:embed="rId7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0" name="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11" name="" descr="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" descr=""/>
              <p:cNvPicPr/>
              <p:nvPr/>
            </p:nvPicPr>
            <p:blipFill>
              <a:blip r:embed="rId9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13" name="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14" name="" descr="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5" name="" descr=""/>
              <p:cNvPicPr/>
              <p:nvPr/>
            </p:nvPicPr>
            <p:blipFill>
              <a:blip r:embed="rId11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папирус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Евклид</a:t>
            </a:r>
            <a:r>
              <a:rPr b="1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5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128" name="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en-US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en-US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47" name="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50" name="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53" name="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56" name="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75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86" name="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ccff"/>
                  </a:solidFill>
                  <a:uFillTx/>
                  <a:latin typeface="Tahoma"/>
                  <a:hlinkClick r:id="rId6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96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00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10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13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218" name="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221" name="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224" name="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30" name="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35" name="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" name="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42" name="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44" name="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47" name="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3" name="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54" name="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56" name="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59" name="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68" name="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72" name="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82" name="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85" name="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95" name="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97" name="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6490800">
            <a:off x="590040" y="1654200"/>
            <a:ext cx="46872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6490800">
            <a:off x="2520000" y="1662120"/>
            <a:ext cx="469440" cy="43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63040" y="1467000"/>
            <a:ext cx="2469960" cy="2214360"/>
            <a:chOff x="563040" y="1467000"/>
            <a:chExt cx="2469960" cy="2214360"/>
          </a:xfrm>
        </p:grpSpPr>
        <p:grpSp>
          <p:nvGrpSpPr>
            <p:cNvPr id="302" name=""/>
            <p:cNvGrpSpPr/>
            <p:nvPr/>
          </p:nvGrpSpPr>
          <p:grpSpPr>
            <a:xfrm>
              <a:off x="563040" y="1467000"/>
              <a:ext cx="561960" cy="2195280"/>
              <a:chOff x="563040" y="1467000"/>
              <a:chExt cx="561960" cy="2195280"/>
            </a:xfrm>
          </p:grpSpPr>
          <p:sp>
            <p:nvSpPr>
              <p:cNvPr id="303" name="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6490800">
                <a:off x="609120" y="164052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8" name=""/>
            <p:cNvGrpSpPr/>
            <p:nvPr/>
          </p:nvGrpSpPr>
          <p:grpSpPr>
            <a:xfrm>
              <a:off x="2471040" y="1486080"/>
              <a:ext cx="561960" cy="2195280"/>
              <a:chOff x="2471040" y="1486080"/>
              <a:chExt cx="561960" cy="219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6490800">
                <a:off x="2517120" y="1659600"/>
                <a:ext cx="469440" cy="437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ья </cp:lastModifiedBy>
  <dcterms:modified xsi:type="dcterms:W3CDTF">2007-03-26T14:45:59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