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FA666-411E-4533-B5FF-3AB85CDE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4EAC8-BE9D-4815-A276-6AF31FDB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6CB41-AE04-4FB4-A3F3-EECD2C6F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4258-AE17-490F-BAF7-F2A0A330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B575-49F5-49B4-9FFE-2C61AB63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EA02-D4B9-47BF-8030-77C57098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15FB-92C5-4F08-87B8-5ACBFFEB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6147-D4B4-4696-BD69-30D47F6F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BA9A-A572-4013-8B0D-52257FC4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B262-01A5-4A29-B88C-833E40EF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8DF7-06C4-43EF-9C0B-9577835F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4B8AC-E324-4143-88D8-CACE4BD8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EA1B-DA24-4FC9-94FA-0382C00A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D969-5F18-439C-983C-339BB7C8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38E1-0C88-40A7-8A01-6DD7BCE2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0868-472C-43F2-B211-019EA40C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EDCD-281E-4B91-B832-DB7DD213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6FA4-E43B-4C92-B6B3-00382C1F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44D10-721D-4121-8A7A-99597031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AA046-90F6-4EE0-A7AB-3DF4683C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39C3-9E15-439F-96A3-24CE684E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5CF4A-C6A5-46EE-A249-6203D5CE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67E33-9D4C-4F03-99BB-FA7C5E67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69815-0137-4601-9469-7C1A2F92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D982-26E8-448D-B5B4-D418C5EA49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972B-5E0F-49F8-AE9E-37B013111E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8480" y="1974600"/>
            <a:ext cx="5686560" cy="18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остроение треугольника по трем элементам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Выполнил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Ученица 7-б клас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Меркушова Виктория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Отрезки: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3068640"/>
            <a:ext cx="14400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4149720"/>
            <a:ext cx="223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138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257004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61080" y="25653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818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Одну из точек перес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этих окружностей обознач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роведём отрезк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7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1919160"/>
            <a:ext cx="4462200" cy="4462560"/>
          </a:xfrm>
          <a:prstGeom prst="ellipse">
            <a:avLst/>
          </a:prstGeom>
          <a:noFill/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149720"/>
            <a:ext cx="324000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44000" y="371628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5080" y="2709720"/>
            <a:ext cx="2880000" cy="288000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3892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91280" y="234936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92720" y="2924280"/>
            <a:ext cx="1871640" cy="122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2924280"/>
            <a:ext cx="720720" cy="1225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элемент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 вариант - построение треугольника по двум сторонам и углу между 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2 вариант - построение треугольника по двум углам и стороне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3 вариант -построение треугольника по трем сторо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сторонам и углу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3068640"/>
            <a:ext cx="1800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2720" y="4005360"/>
            <a:ext cx="172872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508464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5516640"/>
            <a:ext cx="432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108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5440" y="357336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465768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3280" y="479736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40384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533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данному углу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На луч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отложим отрез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Проведём отрезок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C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76720" y="2637000"/>
            <a:ext cx="2735280" cy="13665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4005360"/>
            <a:ext cx="374472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76720" y="3212640"/>
            <a:ext cx="1582920" cy="79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26370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24720" y="21384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00536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59640" y="3213000"/>
            <a:ext cx="100800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углам и стороне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92720" y="2349000"/>
            <a:ext cx="172872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342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5440" y="198900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29973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3280" y="314172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86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292720" y="3716280"/>
            <a:ext cx="719280" cy="115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6000" y="4581360"/>
            <a:ext cx="145440" cy="29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35067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8360" y="444168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506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луч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К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с нач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в точк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от начала луч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мощью циркуля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равный 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От начала луча отло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Точку пересечения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бозначим 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292720" y="2637000"/>
            <a:ext cx="2448000" cy="151272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149720"/>
            <a:ext cx="309564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877080" y="2565000"/>
            <a:ext cx="1008000" cy="15843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7164360" y="2997000"/>
            <a:ext cx="71928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292720" y="2997000"/>
            <a:ext cx="1871640" cy="115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7440" y="2354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2421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80360" y="2852640"/>
            <a:ext cx="36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6764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4400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сторона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0:10:29Z</dcterms:created>
  <dc:creator>Общая</dc:creator>
  <dc:description/>
  <dc:language>en-US</dc:language>
  <cp:lastModifiedBy>Общая</cp:lastModifiedBy>
  <dcterms:modified xsi:type="dcterms:W3CDTF">2010-04-25T13:52:23Z</dcterms:modified>
  <cp:revision>41</cp:revision>
  <dc:subject/>
  <dc:title>Построение треугольника по трем элементам.</dc:title>
</cp:coreProperties>
</file>