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EAA8-300F-4F1F-935E-DB7AFAC7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63FAD-6B27-4D22-8C0B-A5ECC3AE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2D88D-D839-443B-8352-AB18FBAA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6A8B-72B7-42E0-BB46-B413CC42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90E4-E217-42D0-9E84-1331B3CC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B624-394F-4645-8DD5-A3CC8635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0DC2-C738-4018-BE50-26AC53F8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F5EC-5C2A-4651-BB45-7C5BF4B7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7EE8-2D07-4CA8-A6CE-5E97EC8F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0C49-447C-425B-8B32-1C89CAEE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7EEC-7BD8-4BE7-885A-80080C96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AF9C-9F6E-4A58-81EC-6A0EB28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4B48-EC37-4F18-9AEE-541DD824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0504-325A-445F-BECA-F9ED55F2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51FE-5622-42E1-9178-740C1322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556D-AE60-498F-9B2A-E122747B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AD3F-3F15-49F6-AEE0-798D4A5F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0DB3-D592-472A-B90F-59819D94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6D0B-F040-41B1-8B7A-A2BBE245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C0BED-837F-4B82-AD1B-B1616C56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F126-56F4-4AFA-8A7A-B24104FC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B8B03-7CB0-4086-8BB8-942E517D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E237-EBF7-4E4D-83D8-87DA51A2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7BAEF-DD09-4820-9AB2-CAAB39C6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3A49-B2F4-400B-B168-DE84E251AA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C54B-6FE5-4053-8864-98EF8CC0E9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8480" y="1974600"/>
            <a:ext cx="568656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остроение треугольника по трем элементам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Выполнил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Ученица 7-б клас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Меркушова Виктория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Отрезки: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3068640"/>
            <a:ext cx="14400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4149720"/>
            <a:ext cx="223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138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57004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61080" y="25653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818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Одну из точек перес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этих окружностей обознач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роведём отрезк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7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1919160"/>
            <a:ext cx="4462200" cy="4462560"/>
          </a:xfrm>
          <a:prstGeom prst="ellipse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149720"/>
            <a:ext cx="324000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44000" y="371628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5080" y="2709720"/>
            <a:ext cx="2880000" cy="288000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3892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91280" y="234936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92720" y="2924280"/>
            <a:ext cx="1871640" cy="122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2924280"/>
            <a:ext cx="720720" cy="1225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элемен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 вариант - построение треугольника по двум сторонам и углу между 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2 вариант - построение треугольника по двум углам и стороне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3 вариант -построение треугольника по трем сторо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сторонам и углу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068640"/>
            <a:ext cx="1800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4005360"/>
            <a:ext cx="172872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508464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5516640"/>
            <a:ext cx="432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108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5440" y="357336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465768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3280" y="479736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40384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533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данному углу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На луч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отложим отрез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Проведём отрезок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C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76720" y="2637000"/>
            <a:ext cx="2735280" cy="13665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4005360"/>
            <a:ext cx="374472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76720" y="3212640"/>
            <a:ext cx="1582920" cy="79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6370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720" y="21384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00536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59640" y="3213000"/>
            <a:ext cx="100800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углам и стороне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92720" y="2349000"/>
            <a:ext cx="172872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42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5440" y="198900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29973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3280" y="314172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86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292720" y="3716280"/>
            <a:ext cx="719280" cy="11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6000" y="4581360"/>
            <a:ext cx="145440" cy="29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35067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444168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506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луч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К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 нач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 точк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от начала луч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мощью циркуля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равный 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От начала луча отло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Точку пересечения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бозначим 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292720" y="2637000"/>
            <a:ext cx="2448000" cy="151272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149720"/>
            <a:ext cx="309564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877080" y="2565000"/>
            <a:ext cx="1008000" cy="15843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7164360" y="2997000"/>
            <a:ext cx="71928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292720" y="2997000"/>
            <a:ext cx="1871640" cy="115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7440" y="2354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2421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2852640"/>
            <a:ext cx="3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764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4400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сторона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0:10:29Z</dcterms:created>
  <dc:creator>Общая</dc:creator>
  <dc:description/>
  <dc:language>en-US</dc:language>
  <cp:lastModifiedBy>Общая</cp:lastModifiedBy>
  <dcterms:modified xsi:type="dcterms:W3CDTF">2010-04-25T13:52:23Z</dcterms:modified>
  <cp:revision>41</cp:revision>
  <dc:subject/>
  <dc:title>Построение треугольника по трем элементам.</dc:title>
</cp:coreProperties>
</file>