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5266-AD2A-4749-8DFC-E6A7B5ACB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6FCB3-A827-4A2F-A086-D0E812B0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41089-459C-4F0C-959F-817F00C6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57ECF-25C3-4DEE-BC22-FDF4058F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66E3-140E-484B-9045-16C6BC70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7021-022F-4050-A2D0-8F308CCC0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10CD1-B06D-40D2-B72D-44841270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33AD-387A-4E80-BFEC-27FCB368A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AFD85-E48E-4341-8127-D7CF2C56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A34D-2BB0-416E-A3B9-6C4274D5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E7A0-F784-4483-B355-5893ADF3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479BD-518C-436B-9FAB-AEEA6383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C087A-9C0A-41C3-98D9-DDC4CED90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5661-5A82-4751-81EA-96E110F9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ACAB9-22C3-47ED-A9F7-AD5F79543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E2225-ABA2-4591-A620-2901C4A5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2A00-4A97-443B-BD8A-FC4887B71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A629A-61BA-4E5B-B6FF-B8AA80CF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E0BF7-3072-48A0-897F-0C42681B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BC3BA-9D5F-4D74-B2C4-D9117720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709CB-80EF-49B5-AF5B-3971256C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6F461-7C5C-4C51-B49A-4619E403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7757-3193-434A-8B5A-B12FF8C37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8516-07BB-423A-9274-4C761B25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12F64-6B4E-44AD-88F7-7CC94998093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F10B-8262-463F-B714-E4DBDDF8BD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8480" y="1974600"/>
            <a:ext cx="5686560" cy="18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остроение треугольника по трем элементам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Выполнил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Ученица 7-б клас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Меркушова Виктория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Отрезки: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3068640"/>
            <a:ext cx="14400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4149720"/>
            <a:ext cx="223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138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257004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61080" y="25653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818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Одну из точек перес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этих окружностей обознач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роведём отрезк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7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59280" y="1919160"/>
            <a:ext cx="4462200" cy="4462560"/>
          </a:xfrm>
          <a:prstGeom prst="ellipse">
            <a:avLst/>
          </a:prstGeom>
          <a:noFill/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149720"/>
            <a:ext cx="324000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44000" y="371628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5080" y="2709720"/>
            <a:ext cx="2880000" cy="288000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3892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91280" y="234936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92720" y="2924280"/>
            <a:ext cx="1871640" cy="1225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2924280"/>
            <a:ext cx="720720" cy="1225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элемент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 вариант - построение треугольника по двум сторонам и углу между 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2 вариант - построение треугольника по двум углам и стороне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3 вариант -построение треугольника по трем сторо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сторонам и углу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3068640"/>
            <a:ext cx="1800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92720" y="4005360"/>
            <a:ext cx="172872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508464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5516640"/>
            <a:ext cx="432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108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5440" y="357336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465768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3280" y="479736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40384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533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данному углу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На луч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отложим отрез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Проведём отрезок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C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76720" y="2637000"/>
            <a:ext cx="2735280" cy="13665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4005360"/>
            <a:ext cx="374472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76720" y="3212640"/>
            <a:ext cx="1582920" cy="79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26370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24720" y="21384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59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400536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59640" y="3213000"/>
            <a:ext cx="100800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углам и стороне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92720" y="2349000"/>
            <a:ext cx="172872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342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5440" y="198900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29973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3280" y="314172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86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292720" y="3716280"/>
            <a:ext cx="719280" cy="115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6000" y="4581360"/>
            <a:ext cx="145440" cy="29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35067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8360" y="444168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506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луч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К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с нач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в точк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от начала луч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мощью циркуля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равный 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От начала луча отло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Точку пересечения лу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бозначим 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292720" y="2637000"/>
            <a:ext cx="2448000" cy="151272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4149720"/>
            <a:ext cx="309564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877080" y="2565000"/>
            <a:ext cx="1008000" cy="15843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7164360" y="2997000"/>
            <a:ext cx="719280" cy="115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292720" y="2997000"/>
            <a:ext cx="1871640" cy="115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7440" y="2354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2421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80360" y="2852640"/>
            <a:ext cx="36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6764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4400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сторона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0:10:29Z</dcterms:created>
  <dc:creator>Общая</dc:creator>
  <dc:description/>
  <dc:language>en-US</dc:language>
  <cp:lastModifiedBy>Общая</cp:lastModifiedBy>
  <dcterms:modified xsi:type="dcterms:W3CDTF">2010-04-25T13:52:23Z</dcterms:modified>
  <cp:revision>41</cp:revision>
  <dc:subject/>
  <dc:title>Построение треугольника по трем элементам.</dc:title>
</cp:coreProperties>
</file>