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20E2-949D-43A1-9A50-92E1EBA1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CD896-953B-49A7-A978-6BFCDEF9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4EC5B-A292-4E35-9D99-32B9D366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B783-70ED-4FA3-A488-EA6028CC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0AF5-DDE9-4867-AB97-9B2212B3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719A-27CC-4894-965B-5779F4A9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B53D-38DD-4486-B6A4-5B8B1EEC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2A23-F29B-4495-ADDE-36826818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3E4B-6852-47F4-A73F-209F80FC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109C-B86D-48CC-929A-80108878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CB17-3017-401A-876D-8AA8E3FD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C9AC8-ABD1-4060-A45F-E5F8E5DE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365C-32D5-4132-9010-047873B5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0AC5-1188-44E0-BE78-CE01D7C2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CFC2-8C47-41A9-84A4-6597616C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60E4-38DF-4536-BA52-E4BC8565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7D9B-B0F2-4C9C-8173-217A52C6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53259-6443-461E-871D-40DB5AC7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0F45-E566-47BF-A837-4690218E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C55C4-0AC1-44AC-AEE9-7D4C110D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FB902-A8DC-49BA-96A4-0DF69451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F7FB-83D2-4AC9-A358-B8E3D2B1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1AF09-E53C-4941-805B-051CB4DF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5402D-1CB6-4D4D-B61E-2C7E153C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D3BD-EF44-42DC-B613-CD72B59B7C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26B2-DD44-4BE6-ABE1-8C9668B4D8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8480" y="1974600"/>
            <a:ext cx="5686560" cy="18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остроение треугольника по трем элементам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Выполнил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Ученица 7-б клас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Меркушова Виктория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Отрезки: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3068640"/>
            <a:ext cx="14400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4149720"/>
            <a:ext cx="223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138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257004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61080" y="25653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818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Одну из точек перес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этих окружностей обознач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роведём отрезк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7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59280" y="1919160"/>
            <a:ext cx="4462200" cy="4462560"/>
          </a:xfrm>
          <a:prstGeom prst="ellipse">
            <a:avLst/>
          </a:prstGeom>
          <a:noFill/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149720"/>
            <a:ext cx="324000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44000" y="371628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5080" y="2709720"/>
            <a:ext cx="2880000" cy="288000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3892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91280" y="234936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92720" y="2924280"/>
            <a:ext cx="1871640" cy="1225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2924280"/>
            <a:ext cx="720720" cy="1225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элемент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 вариант - построение треугольника по двум сторонам и углу между 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2 вариант - построение треугольника по двум углам и стороне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3 вариант -построение треугольника по трем сторо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сторонам и углу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3068640"/>
            <a:ext cx="1800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2720" y="4005360"/>
            <a:ext cx="172872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508464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5516640"/>
            <a:ext cx="432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108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5440" y="357336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465768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3280" y="479736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40384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533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данному углу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На луч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отложим отрез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Проведём отрезок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C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76720" y="2637000"/>
            <a:ext cx="2735280" cy="13665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4005360"/>
            <a:ext cx="374472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76720" y="3212640"/>
            <a:ext cx="1582920" cy="79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26370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24720" y="21384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59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00536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59640" y="3213000"/>
            <a:ext cx="100800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углам и стороне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92720" y="2349000"/>
            <a:ext cx="172872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342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5440" y="198900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29973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3280" y="314172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86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292720" y="3716280"/>
            <a:ext cx="719280" cy="115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6000" y="4581360"/>
            <a:ext cx="145440" cy="29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35067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8360" y="444168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506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луч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К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с нач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в точк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от начала луч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мощью циркуля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равный 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От начала луча отло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Точку пересечения лу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бозначим 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292720" y="2637000"/>
            <a:ext cx="2448000" cy="151272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4149720"/>
            <a:ext cx="309564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877080" y="2565000"/>
            <a:ext cx="1008000" cy="15843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7164360" y="2997000"/>
            <a:ext cx="71928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292720" y="2997000"/>
            <a:ext cx="1871640" cy="115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7440" y="2354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2421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80360" y="2852640"/>
            <a:ext cx="36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6764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4400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сторона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0:10:29Z</dcterms:created>
  <dc:creator>Общая</dc:creator>
  <dc:description/>
  <dc:language>en-US</dc:language>
  <cp:lastModifiedBy>Общая</cp:lastModifiedBy>
  <dcterms:modified xsi:type="dcterms:W3CDTF">2010-04-25T13:52:23Z</dcterms:modified>
  <cp:revision>41</cp:revision>
  <dc:subject/>
  <dc:title>Построение треугольника по трем элементам.</dc:title>
</cp:coreProperties>
</file>