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96FF-4EC1-41E9-AE60-3F82F3D7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2D97-3501-493C-BF92-AE93AF61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E974-B94C-4D15-A667-927CEECE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893E1-3713-410B-9D8D-54EB47CE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358B-2D10-47C4-87A3-2434C26C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79C5-D341-467C-9110-D1BB8D51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3EE2-CE22-4E24-B84A-50D41F3A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6808-80CA-40F7-90E7-EC0A8E6D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198C-7ADC-4552-9EC5-ED21C12B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FF2F-26E7-42F2-A6B9-5402C9FC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66A0-8492-4284-97EC-D9F3B778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E3CF-97BE-4802-B3A0-12E0383F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037E-F890-4303-99F4-FBDC44F7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3F4F-FEC5-4B40-81D2-4AC2910C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928E-E59A-4EB8-A27D-EDA6A219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6F49-9B0A-4E80-B980-AA33547F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EE5C-5911-4FA3-ADD7-BBFC67CF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6629-6C72-4078-B80D-8AC1E846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ABC5-DDB2-4693-8219-CF6D7E5E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FF95-8642-484A-93A9-9F33AFDC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2A55E-7171-42B6-A863-12220C4B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53BE-92C4-4131-961C-A06A98A6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97D34-1C5D-4A2C-A42F-77764692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4A75-69D3-4CA1-9C02-CF4BB79A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58A5-313C-43D1-9EE9-791C1C474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2A8E-A1B5-41B2-A091-20A8EC4653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8480" y="1974600"/>
            <a:ext cx="568656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остроение треугольника по трем элементам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Выполнил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Ученица 7-б клас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Меркушова Виктория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Отрезки: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3068640"/>
            <a:ext cx="14400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4149720"/>
            <a:ext cx="223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138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57004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61080" y="25653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818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Одну из точек перес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этих окружностей обознач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роведём отрезк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7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1919160"/>
            <a:ext cx="4462200" cy="4462560"/>
          </a:xfrm>
          <a:prstGeom prst="ellipse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149720"/>
            <a:ext cx="324000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44000" y="371628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5080" y="2709720"/>
            <a:ext cx="2880000" cy="288000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3892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91280" y="234936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92720" y="2924280"/>
            <a:ext cx="1871640" cy="122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2924280"/>
            <a:ext cx="720720" cy="1225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элемен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 вариант - построение треугольника по двум сторонам и углу между 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2 вариант - построение треугольника по двум углам и стороне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3 вариант -построение треугольника по трем сторо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сторонам и углу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068640"/>
            <a:ext cx="1800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4005360"/>
            <a:ext cx="172872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508464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5516640"/>
            <a:ext cx="432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108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5440" y="357336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465768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3280" y="479736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40384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533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данному углу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На луч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отложим отрез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Проведём отрезок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C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76720" y="2637000"/>
            <a:ext cx="2735280" cy="13665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4005360"/>
            <a:ext cx="374472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76720" y="3212640"/>
            <a:ext cx="1582920" cy="79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6370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720" y="21384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00536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59640" y="3213000"/>
            <a:ext cx="100800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углам и стороне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92720" y="2349000"/>
            <a:ext cx="172872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42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5440" y="198900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29973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3280" y="314172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86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292720" y="3716280"/>
            <a:ext cx="719280" cy="11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6000" y="4581360"/>
            <a:ext cx="145440" cy="29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35067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444168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506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луч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К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 нач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 точк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от начала луч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мощью циркуля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равный 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От начала луча отло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Точку пересечения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бозначим 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292720" y="2637000"/>
            <a:ext cx="2448000" cy="151272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149720"/>
            <a:ext cx="309564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877080" y="2565000"/>
            <a:ext cx="1008000" cy="15843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7164360" y="2997000"/>
            <a:ext cx="71928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292720" y="2997000"/>
            <a:ext cx="1871640" cy="115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7440" y="2354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2421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2852640"/>
            <a:ext cx="3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764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4400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сторона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0:10:29Z</dcterms:created>
  <dc:creator>Общая</dc:creator>
  <dc:description/>
  <dc:language>en-US</dc:language>
  <cp:lastModifiedBy>Общая</cp:lastModifiedBy>
  <dcterms:modified xsi:type="dcterms:W3CDTF">2010-04-25T13:52:23Z</dcterms:modified>
  <cp:revision>41</cp:revision>
  <dc:subject/>
  <dc:title>Построение треугольника по трем элементам.</dc:title>
</cp:coreProperties>
</file>