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C0A2D-73A5-400F-92D0-DDE24F16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BF029-1908-4C9E-8130-9E4C0637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0DFAB-1BE4-4B3A-914F-B6B641F3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7CA65-E224-4F72-BCED-DF1BBAD8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346C-4B3A-4AD8-903D-047577FC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8BEC-6F32-4017-86A9-F28586AE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6226-C86B-4F6E-BBE0-896752DD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F8EF-5BDF-4AF1-9A80-615050E8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B5A5-A9B3-4395-910B-808395AD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7783-036C-4939-8384-0A63E945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7ECD-CD6C-4DC3-A404-2A8220A1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51C03-4008-43CA-BF79-A67AC0FF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3106-291D-45EA-8BC9-0A865CE4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85DD-9B5F-4FA2-AD70-3374B771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44C2-BF3A-4384-B8EB-06A7EF59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137F-F3E7-457E-910E-992EA093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AD21-0F93-47ED-ACE1-2E872E73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D34DC-8D0C-44E3-AFBF-A7F7A5C3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AD6F7-F58F-4B34-9BF0-690CA040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3E666-637C-4E5A-8387-387B5EDA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6C5B8-10CC-4650-86F0-A791BDCD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F3455-4F3B-49E6-809B-4369DCB2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78450-21DF-40F0-9F94-0C5A933C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7640C-919C-4C60-8654-20F4AA2C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FA55-8F25-4B9B-A3E0-0DB6EB42C3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95B4-3892-4346-91EC-B1ED082C1F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38480" y="1974600"/>
            <a:ext cx="5686560" cy="18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остроение треугольника по трем элементам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Выполнил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Ученица 7-б класс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Меркушова Виктория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Отрезки: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3068640"/>
            <a:ext cx="144000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64000" y="4149720"/>
            <a:ext cx="2232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400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1380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257004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61080" y="25653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3578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81800" y="3578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прямую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на ней с помощ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иркуля 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ку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Построим окружность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ентр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радиус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Построим окружность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ентр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радиус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Одну из точек перес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этих окружностей обознач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точкой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роведём отрезк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7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59280" y="1919160"/>
            <a:ext cx="4462200" cy="4462560"/>
          </a:xfrm>
          <a:prstGeom prst="ellipse">
            <a:avLst/>
          </a:prstGeom>
          <a:noFill/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149720"/>
            <a:ext cx="324000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44000" y="371628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414972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836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45080" y="2709720"/>
            <a:ext cx="2880000" cy="2880000"/>
          </a:xfrm>
          <a:prstGeom prst="ellipse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38920" y="4292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91280" y="234936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92720" y="2924280"/>
            <a:ext cx="1871640" cy="1225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4360" y="2924280"/>
            <a:ext cx="720720" cy="1225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Построение треугольника по трем элемент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1 вариант - построение треугольника по двум сторонам и углу между 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2 вариант - построение треугольника по двум углам и стороне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3 вариант -построение треугольника по трем сторо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двум сторонам и углу между ни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 отрезк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. угол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h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3068640"/>
            <a:ext cx="1800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292720" y="4005360"/>
            <a:ext cx="172872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508464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5516640"/>
            <a:ext cx="432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708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24969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5344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61080" y="24969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5440" y="357336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465768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23280" y="4797360"/>
            <a:ext cx="145440" cy="29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40384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533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прямую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на ней с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иркуля 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Построим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АМ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данному углу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k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На луче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М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отложим отрез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Проведём отрезок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C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76720" y="2637000"/>
            <a:ext cx="2735280" cy="13665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4005360"/>
            <a:ext cx="374472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076720" y="3212640"/>
            <a:ext cx="1582920" cy="792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7672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263700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24720" y="213840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5964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400536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59640" y="3213000"/>
            <a:ext cx="100800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двум углам и стороне между ни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 отрезк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. угол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hk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708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5344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292720" y="2349000"/>
            <a:ext cx="172872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3429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5440" y="198900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299736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3280" y="3141720"/>
            <a:ext cx="145440" cy="29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4869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292720" y="3716280"/>
            <a:ext cx="719280" cy="115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6000" y="4581360"/>
            <a:ext cx="145440" cy="296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350676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8360" y="444168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5000"/>
          </a:bodyPr>
          <a:p>
            <a:pPr marL="506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луч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К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с нач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в точке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от начала луч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мощью циркуля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равный угл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k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От начала луча отло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Построим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угл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n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Точку пересечения луч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бозначим точкой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292720" y="2637000"/>
            <a:ext cx="2448000" cy="151272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4149720"/>
            <a:ext cx="309564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92720" y="414972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877080" y="2565000"/>
            <a:ext cx="1008000" cy="15843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7164360" y="2997000"/>
            <a:ext cx="719280" cy="115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292720" y="2997000"/>
            <a:ext cx="1871640" cy="1152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7440" y="2354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5080" y="2421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80360" y="2852640"/>
            <a:ext cx="36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4836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67640" y="4292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4400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трем сторона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0:10:29Z</dcterms:created>
  <dc:creator>Общая</dc:creator>
  <dc:description/>
  <dc:language>en-US</dc:language>
  <cp:lastModifiedBy>Общая</cp:lastModifiedBy>
  <dcterms:modified xsi:type="dcterms:W3CDTF">2010-04-25T13:52:23Z</dcterms:modified>
  <cp:revision>41</cp:revision>
  <dc:subject/>
  <dc:title>Построение треугольника по трем элементам.</dc:title>
</cp:coreProperties>
</file>