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36BA4-1AF4-4A44-8E5D-411F68E6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E04B08-0615-48DE-8B45-8AF7B49AF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0496CB-5F46-4BBF-9EBC-B17266F57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2D5ECF-9A79-40A0-9D54-D6AC7DAB1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B7B7F-F392-4B65-B142-53D1895CE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2615A-8D29-4ADC-8FF9-E5692C50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43311-6555-4166-9B53-3890C8A3E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16D02-94C9-4B71-8033-CDDDB926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15076-B0CA-45B6-9C1F-110D95DEB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FC785-45EE-4F63-8755-4A07C5E69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714F0-EC0C-4ED4-81AA-687D15974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8490B-C8D1-4100-86ED-4AC7CA8BA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7A564-23EC-406F-96F5-B588A48F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6B88F-B644-4A38-BA80-172C08C7C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90815-1CEC-4837-8412-925E70673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20B83-DC65-4FA3-B498-1463F384A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8877F-3E89-4395-9B51-2CA25A413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ACF8EC-39F9-4AB1-B57F-6200E488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0333-EB48-49C2-A5F0-65497ADEE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B49CF-A362-40B0-979D-5209BDBD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EDDCB8-E948-4854-A916-F6269A7A5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D4E0C-520C-4052-AB6E-D61F7B5E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819D91-2FA0-43EE-922A-67DC758AB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A7D405-42F1-45FD-9B83-6A235715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D90E4-1953-4128-965F-96FB44498D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FDD6C-2C53-4B09-AE05-5D34F14B987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138480" y="1974600"/>
            <a:ext cx="5686560" cy="18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Построение треугольника по трем элементам.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Выполнила: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Ученица 7-б класс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7d"/>
                </a:solidFill>
                <a:latin typeface="Arial"/>
              </a:rPr>
              <a:t>Меркушова Виктория.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Отрезки: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,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64000" y="3068640"/>
            <a:ext cx="144000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364000" y="4149720"/>
            <a:ext cx="223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3640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1380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64000" y="257004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661080" y="25653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640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381800" y="3578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3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окружность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ентр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радиусом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Р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Одну из точек пересеч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этих окружностей обознач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роведём отрезк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7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059280" y="1919160"/>
            <a:ext cx="4462200" cy="4462560"/>
          </a:xfrm>
          <a:prstGeom prst="ellipse">
            <a:avLst/>
          </a:prstGeom>
          <a:noFill/>
          <a:ln w="64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92720" y="4149720"/>
            <a:ext cx="324000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244000" y="371628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445080" y="2709720"/>
            <a:ext cx="2880000" cy="2880000"/>
          </a:xfrm>
          <a:prstGeom prst="ellipse">
            <a:avLst/>
          </a:pr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3892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091280" y="234936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92720" y="2924280"/>
            <a:ext cx="1871640" cy="122544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164360" y="2924280"/>
            <a:ext cx="720720" cy="12254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элемента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1 вариант - построение треугольника по двум сторонам и углу между ни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2 вариант - построение треугольника по двум углам и стороне между ни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3 вариант -построение треугольника по трем сторон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сторонам и углу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64000" y="3068640"/>
            <a:ext cx="180036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292720" y="4005360"/>
            <a:ext cx="1728720" cy="10792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508464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643280" y="5516640"/>
            <a:ext cx="4320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6400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ru-RU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661080" y="249696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05440" y="357336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093080" y="465768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23280" y="479736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95280" y="620640"/>
            <a:ext cx="4038480" cy="52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/>
          </a:bodyPr>
          <a:p>
            <a:pPr marL="533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прямую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на ней с помощь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циркуля 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данному углу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На луч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М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отложим отрез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Проведём отрезок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BC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076720" y="2637000"/>
            <a:ext cx="2735280" cy="13665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88000" y="4005360"/>
            <a:ext cx="374472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076720" y="3212640"/>
            <a:ext cx="1582920" cy="79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7672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588000" y="26370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24720" y="213840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459640" y="4076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76720" y="400536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659640" y="3213000"/>
            <a:ext cx="1008000" cy="79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двум углам и стороне между ними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Дано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1. отрезк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20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2. угол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 hk</a:t>
            </a: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Надо: с помощью циркуля и линейки без масштабных делений построить треуголь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549360"/>
            <a:ext cx="4038840" cy="53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64000" y="1989000"/>
            <a:ext cx="25927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3708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453440" y="1413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5292720" y="2349000"/>
            <a:ext cx="1728720" cy="107964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292720" y="342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805440" y="198900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29973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723280" y="3141720"/>
            <a:ext cx="145440" cy="2962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292720" y="4869000"/>
            <a:ext cx="194472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292720" y="3716280"/>
            <a:ext cx="719280" cy="115272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436000" y="4581360"/>
            <a:ext cx="145440" cy="296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9560576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9560576"/>
              </a:path>
            </a:pathLst>
          </a:custGeom>
          <a:noFill/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508720" y="3506760"/>
            <a:ext cx="287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948360" y="4441680"/>
            <a:ext cx="2876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95000"/>
          </a:bodyPr>
          <a:p>
            <a:pPr marL="506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7d"/>
                </a:solidFill>
                <a:latin typeface="Arial"/>
              </a:rPr>
              <a:t>Алгоритм построения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1. Проведем луч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К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с нача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в точке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2. Отложим от начала луча 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помощью циркуля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равный 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hk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3. От начала луча отложи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трезок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 отрезк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P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Q</a:t>
            </a:r>
            <a:r>
              <a:rPr b="1" lang="en-US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4. Построим угол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, равны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углу </a:t>
            </a:r>
            <a:r>
              <a:rPr b="1" lang="en-US" sz="2000" spc="-1" strike="noStrike">
                <a:solidFill>
                  <a:srgbClr val="00007d"/>
                </a:solidFill>
                <a:latin typeface="Arial"/>
              </a:rPr>
              <a:t>mn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5. Точку пересечения луч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1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ВС</a:t>
            </a:r>
            <a:r>
              <a:rPr b="1" lang="ru-RU" sz="1400" spc="-1" strike="noStrike">
                <a:solidFill>
                  <a:srgbClr val="00007d"/>
                </a:solidFill>
                <a:latin typeface="Arial"/>
              </a:rPr>
              <a:t>2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обозначим точкой </a:t>
            </a: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6. Построенный треугольник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7d"/>
                </a:solidFill>
                <a:latin typeface="Arial"/>
              </a:rPr>
              <a:t>АВС </a:t>
            </a:r>
            <a:r>
              <a:rPr b="0" lang="ru-RU" sz="2000" spc="-1" strike="noStrike">
                <a:solidFill>
                  <a:srgbClr val="00007d"/>
                </a:solidFill>
                <a:latin typeface="Arial"/>
              </a:rPr>
              <a:t>– искомы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549360"/>
            <a:ext cx="4038480" cy="53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7d"/>
                </a:solidFill>
                <a:latin typeface="Arial"/>
              </a:rPr>
              <a:t>Построение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292720" y="2637000"/>
            <a:ext cx="2448000" cy="151272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92720" y="4149720"/>
            <a:ext cx="3095640" cy="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92720" y="4149720"/>
            <a:ext cx="2592360" cy="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H="1" flipV="1">
            <a:off x="6877080" y="2565000"/>
            <a:ext cx="1008000" cy="1584360"/>
          </a:xfrm>
          <a:prstGeom prst="line">
            <a:avLst/>
          </a:prstGeom>
          <a:ln w="1908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7164360" y="2997000"/>
            <a:ext cx="719280" cy="115236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292720" y="2997000"/>
            <a:ext cx="1871640" cy="11523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237440" y="23544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445080" y="2421000"/>
            <a:ext cx="503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r>
              <a:rPr b="0" lang="en-US" sz="1800" spc="-1" strike="noStrike">
                <a:solidFill>
                  <a:srgbClr val="00007d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380360" y="2852640"/>
            <a:ext cx="360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4836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667640" y="4292640"/>
            <a:ext cx="289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244000" y="4292640"/>
            <a:ext cx="288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Arial"/>
              </a:rPr>
              <a:t>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628640"/>
            <a:ext cx="82296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7d"/>
                </a:solidFill>
                <a:latin typeface="Arial"/>
              </a:rPr>
              <a:t>Построение треугольника по трем сторонам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5T10:10:29Z</dcterms:created>
  <dc:creator>Общая</dc:creator>
  <dc:description/>
  <dc:language>en-US</dc:language>
  <cp:lastModifiedBy>Общая</cp:lastModifiedBy>
  <dcterms:modified xsi:type="dcterms:W3CDTF">2010-04-25T13:52:23Z</dcterms:modified>
  <cp:revision>41</cp:revision>
  <dc:subject/>
  <dc:title>Построение треугольника по трем элементам.</dc:title>
</cp:coreProperties>
</file>