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2ACE-4D89-4EFF-84FA-B563B741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C9E5-1894-445E-AC92-7FA7002F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4663-3B7A-4C83-83BD-B011E0C4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2CA5-41FD-423A-AE9A-6943DCEC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E67E-7C22-4FAD-A8B6-9B49D2C1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A7A0-5CBC-4516-BF13-C3216DE5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653F-C5D5-4790-B33E-4B5307C0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533B-4C6F-4B0A-A4F5-36CF7633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580C-AED3-446A-B4D5-F88FB1CD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61A9-AB76-4CF7-923E-0CB726AD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26FC-CD4B-4496-872F-88E851B2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6888-9B8F-4E47-929C-6CD15270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B57B-2D7B-4840-AD34-7A90EB12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11F1-2A64-4CE6-90F7-7387B5ED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8ED9-73E2-48D6-9AD8-15CDEA7E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CA7C-FC14-4EDC-A717-862F7497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5CDB-6000-460A-8E7B-17991869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30BE-7477-4D28-A5DC-328FF4B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60FF-84A1-4B4C-9E1F-20064965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618C-B49B-4BFB-86A1-2838D551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5B72-5EA9-419E-AEA1-05D272EB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C342-4678-442C-999A-18FC2E32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3506-1B92-4DFE-A0DE-2B9E5A38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9AC0-3C7E-4A62-940E-3D80796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89D4-E468-4694-B02A-72C1C78CA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312E-6359-4E1D-9778-28A67D27A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8480" y="1974600"/>
            <a:ext cx="568656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строение треугольника по трем элементам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Ученица 7-б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Меркушова Виктория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Отрезки: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06864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4149720"/>
            <a:ext cx="223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57004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5653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18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Одну из точек пере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этих окружностей обозна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роведём отрезк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7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19160"/>
            <a:ext cx="4462200" cy="4462560"/>
          </a:xfrm>
          <a:prstGeom prst="ellipse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149720"/>
            <a:ext cx="3240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00" y="371628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2709720"/>
            <a:ext cx="2880000" cy="2880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3892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34936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92720" y="2924280"/>
            <a:ext cx="1871640" cy="122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2924280"/>
            <a:ext cx="7207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элемен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 вариант - построение треугольника по двум сторонам и углу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ариант - построение треугольника по двум углам и стороне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вариант -построение треугольника по трем стор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сторонам и углу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06864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4005360"/>
            <a:ext cx="172872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5516640"/>
            <a:ext cx="43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357336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465768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3280" y="479736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данному углу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На луч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отложим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Проведём отрезок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2637000"/>
            <a:ext cx="2735280" cy="1366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74472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3212640"/>
            <a:ext cx="1582920" cy="79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6370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1384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00536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59640" y="3213000"/>
            <a:ext cx="100800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углам и стороне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2349000"/>
            <a:ext cx="172872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5440" y="198900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314172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2720" y="3716280"/>
            <a:ext cx="71928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6000" y="4581360"/>
            <a:ext cx="145440" cy="2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5067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44168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506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луч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 нач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точк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от начала луч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мощью циркуля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вный 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От начала луча отл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Точку пересечения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бозначим 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92720" y="2637000"/>
            <a:ext cx="2448000" cy="1512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77080" y="2565000"/>
            <a:ext cx="1008000" cy="1584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164360" y="2997000"/>
            <a:ext cx="719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292720" y="2997000"/>
            <a:ext cx="1871640" cy="115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2354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2421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852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сторон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10:29Z</dcterms:created>
  <dc:creator>Общая</dc:creator>
  <dc:description/>
  <dc:language>en-US</dc:language>
  <cp:lastModifiedBy>Общая</cp:lastModifiedBy>
  <dcterms:modified xsi:type="dcterms:W3CDTF">2010-04-25T13:52:23Z</dcterms:modified>
  <cp:revision>41</cp:revision>
  <dc:subject/>
  <dc:title>Построение треугольника по трем элементам.</dc:title>
</cp:coreProperties>
</file>