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B93-ADB2-4D69-939C-38511E26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FA8-476C-4756-92D0-D6E444F5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26C-DEF9-4137-BEA8-F646A891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34D-856A-46DB-B1F1-B259906B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43D4-A759-4EE2-AA8E-38AFB26A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CBD2-A27F-4E4A-84C4-EFB91FDE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FAD7-A744-488E-8CA5-1B656354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475B-4C70-43E9-A4E0-3C50E954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D478-274B-4CB5-B96D-4594C935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A429-906C-4DE3-BDFC-E7689622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09C8-037B-4C0D-9ECD-6BF37D33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BA0-59A9-4F13-B6B5-D6F62A96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3076-AD18-4054-8880-28E6AC45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C1FB-7EC0-4B51-8060-674F128F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76B4-9712-49CE-AD39-65BF7752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54D3-A7BA-4DFA-8922-7090F28B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A970-3919-45C6-9869-75E0B54A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4BC-81F4-4DBA-B4E1-70A93866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207-E499-429F-967B-225696F7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C0AD-5ECE-4897-8572-D5DB976D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5E5-3DEF-4746-81A1-F29E5357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DCD-2B35-44BE-96EF-A05AC989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4E9-CB83-4C5D-A173-A3B10D69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C669-2094-464F-BD23-8070C63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1C0F-224C-4C20-A1FE-BCF714D766A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2D1F-9C1E-4146-8FB1-3A636E15851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59560" y="428760"/>
            <a:ext cx="90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Чтение и запись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500040" y="1200240"/>
            <a:ext cx="2143080" cy="129996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2428920" cy="131904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3"/>
          <a:stretch/>
        </p:blipFill>
        <p:spPr>
          <a:xfrm>
            <a:off x="642960" y="4143240"/>
            <a:ext cx="2071800" cy="1000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928240" y="15001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Две целых четыре деся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036600" y="29289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Нуль целых три со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834280" y="435780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Шесть целых тринадцать тыся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0040" y="5214960"/>
            <a:ext cx="792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сколько  нулей в знаменателе –столько цифр после запят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Совёнок.gif"/>
          <p:cNvPicPr/>
          <p:nvPr/>
        </p:nvPicPr>
        <p:blipFill>
          <a:blip r:embed="rId4"/>
          <a:stretch/>
        </p:blipFill>
        <p:spPr>
          <a:xfrm>
            <a:off x="7072200" y="2214720"/>
            <a:ext cx="1857600" cy="1657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14324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28760" y="30718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75120" y="322740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54348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85880" y="378612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642960" y="242892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320640" y="2428920"/>
            <a:ext cx="16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3071880" y="385776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3429000" y="39290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785960" y="0"/>
            <a:ext cx="92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Сложение и 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928880" y="15717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запятая под зап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859840" y="2857680"/>
            <a:ext cx="3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988600" y="2500200"/>
            <a:ext cx="188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546240" y="3143160"/>
            <a:ext cx="9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7358040" y="314316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mbri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215040" y="38577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5997960" y="3714840"/>
            <a:ext cx="186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5574960" y="30002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1" descr="Совёнок.gif"/>
          <p:cNvPicPr/>
          <p:nvPr/>
        </p:nvPicPr>
        <p:blipFill>
          <a:blip r:embed="rId1"/>
          <a:stretch/>
        </p:blipFill>
        <p:spPr>
          <a:xfrm>
            <a:off x="2143080" y="471492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6"/>
          <p:cNvSpPr/>
          <p:nvPr/>
        </p:nvSpPr>
        <p:spPr>
          <a:xfrm>
            <a:off x="428760" y="2858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2" descr="Совёнок.gif"/>
          <p:cNvPicPr/>
          <p:nvPr/>
        </p:nvPicPr>
        <p:blipFill>
          <a:blip r:embed="rId2"/>
          <a:stretch/>
        </p:blipFill>
        <p:spPr>
          <a:xfrm>
            <a:off x="5214960" y="478620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3"/>
          <p:cNvSpPr/>
          <p:nvPr/>
        </p:nvSpPr>
        <p:spPr>
          <a:xfrm>
            <a:off x="457200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071720" y="100008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4 2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57160" y="126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14240" y="20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5960" y="25146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8520" y="2220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5092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43080" y="31194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  <a:ea typeface="Arial Unicode MS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85920" y="2857680"/>
            <a:ext cx="2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851280" y="9730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6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492360" y="11685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462480" y="20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068640" y="2525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70280" y="223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98764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071880" y="3143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571920" y="307188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9" descr="14T3"/>
          <p:cNvPicPr/>
          <p:nvPr/>
        </p:nvPicPr>
        <p:blipFill>
          <a:blip r:embed="rId1"/>
          <a:stretch/>
        </p:blipFill>
        <p:spPr>
          <a:xfrm>
            <a:off x="6858000" y="5357880"/>
            <a:ext cx="1619280" cy="1190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1"/>
          <p:cNvSpPr/>
          <p:nvPr/>
        </p:nvSpPr>
        <p:spPr>
          <a:xfrm>
            <a:off x="1714680" y="214200"/>
            <a:ext cx="63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Умножение десятичн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142920" y="142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3"/>
          <p:cNvSpPr/>
          <p:nvPr/>
        </p:nvSpPr>
        <p:spPr>
          <a:xfrm>
            <a:off x="5176440" y="1428840"/>
            <a:ext cx="33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е обращ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а запятую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4"/>
          <p:cNvSpPr/>
          <p:nvPr/>
        </p:nvSpPr>
        <p:spPr>
          <a:xfrm>
            <a:off x="285840" y="4429080"/>
            <a:ext cx="100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7" descr="Совёнок.gif"/>
          <p:cNvPicPr/>
          <p:nvPr/>
        </p:nvPicPr>
        <p:blipFill>
          <a:blip r:embed="rId2"/>
          <a:stretch/>
        </p:blipFill>
        <p:spPr>
          <a:xfrm>
            <a:off x="3786120" y="5500800"/>
            <a:ext cx="127944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3"/>
          <p:cNvSpPr/>
          <p:nvPr/>
        </p:nvSpPr>
        <p:spPr>
          <a:xfrm>
            <a:off x="457200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714680" y="4287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935280" y="107172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не обращать внимания на запят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57160" y="16430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00040" y="52862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545480" y="221472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2880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952200" y="27860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1"/>
          <p:cNvSpPr/>
          <p:nvPr/>
        </p:nvSpPr>
        <p:spPr>
          <a:xfrm>
            <a:off x="1928880" y="3000240"/>
            <a:ext cx="357120" cy="21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4927680" y="164304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260320" y="214308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286240" y="26431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4980600" y="314316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4500720" y="3714840"/>
            <a:ext cx="22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5009760" y="25002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4795920" y="3500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643720" y="4000680"/>
            <a:ext cx="35712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69720" y="392904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целых девяно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сотых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0"/>
          <p:cNvSpPr/>
          <p:nvPr/>
        </p:nvSpPr>
        <p:spPr>
          <a:xfrm>
            <a:off x="4309560" y="464328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(нуль целых тридцать пять сот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1" descr="Совёнок.gif"/>
          <p:cNvPicPr/>
          <p:nvPr/>
        </p:nvPicPr>
        <p:blipFill>
          <a:blip r:embed="rId1"/>
          <a:stretch/>
        </p:blipFill>
        <p:spPr>
          <a:xfrm>
            <a:off x="6786720" y="2143080"/>
            <a:ext cx="1857240" cy="1657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3"/>
          <p:cNvSpPr/>
          <p:nvPr/>
        </p:nvSpPr>
        <p:spPr>
          <a:xfrm>
            <a:off x="428616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-50040" y="214200"/>
            <a:ext cx="92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370880" y="857160"/>
            <a:ext cx="27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28888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429560" y="192888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931120" y="421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1441800" y="2928960"/>
            <a:ext cx="26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359800" y="20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373400" y="4000680"/>
            <a:ext cx="32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571840" y="2928960"/>
            <a:ext cx="3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гнутая вниз стрелка 11"/>
          <p:cNvSpPr/>
          <p:nvPr/>
        </p:nvSpPr>
        <p:spPr>
          <a:xfrm>
            <a:off x="1857240" y="4643280"/>
            <a:ext cx="1071720" cy="428760"/>
          </a:xfrm>
          <a:custGeom>
            <a:avLst/>
            <a:gdLst>
              <a:gd name="textAreaLeft" fmla="*/ 227520 w 1071720"/>
              <a:gd name="textAreaRight" fmla="*/ 790560 w 10717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332063"/>
                <a:lnTo>
                  <a:pt x="21233" y="6049"/>
                </a:lnTo>
                <a:lnTo>
                  <a:pt x="19440" y="0"/>
                </a:lnTo>
                <a:lnTo>
                  <a:pt x="16913" y="6049"/>
                </a:lnTo>
                <a:lnTo>
                  <a:pt x="17993" y="6049"/>
                </a:lnTo>
                <a:arcTo wR="9180" hR="21600" stAng="2067937" swAng="3159120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12"/>
          <p:cNvSpPr/>
          <p:nvPr/>
        </p:nvSpPr>
        <p:spPr>
          <a:xfrm>
            <a:off x="1857240" y="3571920"/>
            <a:ext cx="785880" cy="357120"/>
          </a:xfrm>
          <a:custGeom>
            <a:avLst/>
            <a:gdLst>
              <a:gd name="textAreaLeft" fmla="*/ 162720 w 785880"/>
              <a:gd name="textAreaRight" fmla="*/ 578520 w 7858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-3292809"/>
                <a:lnTo>
                  <a:pt x="21242" y="6049"/>
                </a:lnTo>
                <a:lnTo>
                  <a:pt x="19146" y="0"/>
                </a:lnTo>
                <a:lnTo>
                  <a:pt x="16333" y="6049"/>
                </a:lnTo>
                <a:lnTo>
                  <a:pt x="17560" y="6049"/>
                </a:lnTo>
                <a:arcTo wR="8959" hR="21600" stAng="2107191" swAng="3095802"/>
                <a:lnTo>
                  <a:pt x="10187" y="21396"/>
                </a:lnTo>
                <a:arcTo wR="8959" hR="21600" stAng="5597007" swAng="5202993"/>
                <a:close/>
              </a:path>
              <a:path fill="darkenLess"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197007"/>
                <a:lnTo>
                  <a:pt x="10187" y="21396"/>
                </a:lnTo>
                <a:arcTo wR="8959" hR="21600" stAng="5597007" swAng="520299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Выгнутая вниз стрелка 13"/>
          <p:cNvSpPr/>
          <p:nvPr/>
        </p:nvSpPr>
        <p:spPr>
          <a:xfrm>
            <a:off x="1714680" y="1428840"/>
            <a:ext cx="428400" cy="428400"/>
          </a:xfrm>
          <a:custGeom>
            <a:avLst/>
            <a:gdLst>
              <a:gd name="textAreaLeft" fmla="*/ 66960 w 428400"/>
              <a:gd name="textAreaRight" fmla="*/ 308160 w 4284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Выгнутая вниз стрелка 14"/>
          <p:cNvSpPr/>
          <p:nvPr/>
        </p:nvSpPr>
        <p:spPr>
          <a:xfrm>
            <a:off x="1714680" y="2500200"/>
            <a:ext cx="642600" cy="357480"/>
          </a:xfrm>
          <a:custGeom>
            <a:avLst/>
            <a:gdLst>
              <a:gd name="textAreaLeft" fmla="*/ 127080 w 642600"/>
              <a:gd name="textAreaRight" fmla="*/ 470880 w 64260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216644"/>
                <a:lnTo>
                  <a:pt x="21258" y="6049"/>
                </a:lnTo>
                <a:lnTo>
                  <a:pt x="18600" y="0"/>
                </a:lnTo>
                <a:lnTo>
                  <a:pt x="15258" y="6049"/>
                </a:lnTo>
                <a:lnTo>
                  <a:pt x="16758" y="6049"/>
                </a:lnTo>
                <a:arcTo wR="8550" hR="21600" stAng="2183356" swAng="297455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6"/>
          <p:cNvSpPr/>
          <p:nvPr/>
        </p:nvSpPr>
        <p:spPr>
          <a:xfrm flipH="1">
            <a:off x="4214520" y="2357280"/>
            <a:ext cx="14292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228600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2289960" y="4143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0"/>
          <p:cNvSpPr/>
          <p:nvPr/>
        </p:nvSpPr>
        <p:spPr>
          <a:xfrm>
            <a:off x="3646080" y="928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4"/>
          <p:cNvSpPr/>
          <p:nvPr/>
        </p:nvSpPr>
        <p:spPr>
          <a:xfrm>
            <a:off x="4143240" y="2000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3935160" y="30718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4507560" y="41432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7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19120" y="285840"/>
            <a:ext cx="77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Деление на натуральн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246680" y="100008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тавим запятую, когда закончим делить целую ча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42960" y="14288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26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3"/>
          <p:cNvSpPr/>
          <p:nvPr/>
        </p:nvSpPr>
        <p:spPr>
          <a:xfrm flipH="1">
            <a:off x="1571760" y="1500120"/>
            <a:ext cx="1440" cy="85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>
            <a:off x="1571760" y="1928880"/>
            <a:ext cx="785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646280" y="1428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3"/>
          <p:cNvSpPr/>
          <p:nvPr/>
        </p:nvSpPr>
        <p:spPr>
          <a:xfrm>
            <a:off x="1571760" y="19288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646920" y="1785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6"/>
          <p:cNvSpPr/>
          <p:nvPr/>
        </p:nvSpPr>
        <p:spPr>
          <a:xfrm>
            <a:off x="642960" y="228600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8604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10746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932760" y="2643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5"/>
          <p:cNvSpPr/>
          <p:nvPr/>
        </p:nvSpPr>
        <p:spPr>
          <a:xfrm>
            <a:off x="1000080" y="3143160"/>
            <a:ext cx="500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8"/>
          <p:cNvSpPr/>
          <p:nvPr/>
        </p:nvSpPr>
        <p:spPr>
          <a:xfrm>
            <a:off x="1146240" y="3071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3220560" y="1500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0"/>
          <p:cNvSpPr/>
          <p:nvPr/>
        </p:nvSpPr>
        <p:spPr>
          <a:xfrm>
            <a:off x="4286160" y="1643040"/>
            <a:ext cx="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2"/>
          <p:cNvSpPr/>
          <p:nvPr/>
        </p:nvSpPr>
        <p:spPr>
          <a:xfrm>
            <a:off x="4357800" y="2071800"/>
            <a:ext cx="1000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4431960" y="1500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3217680" y="1928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43"/>
          <p:cNvSpPr/>
          <p:nvPr/>
        </p:nvSpPr>
        <p:spPr>
          <a:xfrm>
            <a:off x="3143160" y="242892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5"/>
          <p:cNvSpPr/>
          <p:nvPr/>
        </p:nvSpPr>
        <p:spPr>
          <a:xfrm>
            <a:off x="3288960" y="2357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571920" y="235728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7"/>
          <p:cNvSpPr/>
          <p:nvPr/>
        </p:nvSpPr>
        <p:spPr>
          <a:xfrm>
            <a:off x="3289680" y="2714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49"/>
          <p:cNvSpPr/>
          <p:nvPr/>
        </p:nvSpPr>
        <p:spPr>
          <a:xfrm>
            <a:off x="3500280" y="3286080"/>
            <a:ext cx="42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2"/>
          <p:cNvSpPr/>
          <p:nvPr/>
        </p:nvSpPr>
        <p:spPr>
          <a:xfrm>
            <a:off x="364608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3"/>
          <p:cNvSpPr/>
          <p:nvPr/>
        </p:nvSpPr>
        <p:spPr>
          <a:xfrm>
            <a:off x="393192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4"/>
          <p:cNvSpPr/>
          <p:nvPr/>
        </p:nvSpPr>
        <p:spPr>
          <a:xfrm>
            <a:off x="3718440" y="3643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56"/>
          <p:cNvSpPr/>
          <p:nvPr/>
        </p:nvSpPr>
        <p:spPr>
          <a:xfrm>
            <a:off x="3786120" y="421488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9"/>
          <p:cNvSpPr/>
          <p:nvPr/>
        </p:nvSpPr>
        <p:spPr>
          <a:xfrm>
            <a:off x="3931920" y="4214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0"/>
          <p:cNvSpPr/>
          <p:nvPr/>
        </p:nvSpPr>
        <p:spPr>
          <a:xfrm>
            <a:off x="4291560" y="20718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1"/>
          <p:cNvSpPr/>
          <p:nvPr/>
        </p:nvSpPr>
        <p:spPr>
          <a:xfrm>
            <a:off x="5929200" y="157176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63"/>
          <p:cNvSpPr/>
          <p:nvPr/>
        </p:nvSpPr>
        <p:spPr>
          <a:xfrm flipH="1">
            <a:off x="7143840" y="1571760"/>
            <a:ext cx="144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71"/>
          <p:cNvSpPr/>
          <p:nvPr/>
        </p:nvSpPr>
        <p:spPr>
          <a:xfrm>
            <a:off x="7215120" y="2000160"/>
            <a:ext cx="10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3"/>
          <p:cNvSpPr/>
          <p:nvPr/>
        </p:nvSpPr>
        <p:spPr>
          <a:xfrm>
            <a:off x="7150320" y="20001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4"/>
          <p:cNvSpPr/>
          <p:nvPr/>
        </p:nvSpPr>
        <p:spPr>
          <a:xfrm>
            <a:off x="593208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6"/>
          <p:cNvSpPr/>
          <p:nvPr/>
        </p:nvSpPr>
        <p:spPr>
          <a:xfrm>
            <a:off x="6000840" y="2571840"/>
            <a:ext cx="428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0"/>
          <p:cNvSpPr/>
          <p:nvPr/>
        </p:nvSpPr>
        <p:spPr>
          <a:xfrm>
            <a:off x="628956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7218000" y="13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3"/>
          <p:cNvSpPr/>
          <p:nvPr/>
        </p:nvSpPr>
        <p:spPr>
          <a:xfrm>
            <a:off x="6289560" y="285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4"/>
          <p:cNvSpPr/>
          <p:nvPr/>
        </p:nvSpPr>
        <p:spPr>
          <a:xfrm>
            <a:off x="6361560" y="335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86"/>
          <p:cNvSpPr/>
          <p:nvPr/>
        </p:nvSpPr>
        <p:spPr>
          <a:xfrm>
            <a:off x="6429240" y="3429000"/>
            <a:ext cx="500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0"/>
          <p:cNvSpPr/>
          <p:nvPr/>
        </p:nvSpPr>
        <p:spPr>
          <a:xfrm>
            <a:off x="6429240" y="3714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4"/>
          <p:cNvSpPr/>
          <p:nvPr/>
        </p:nvSpPr>
        <p:spPr>
          <a:xfrm flipH="1">
            <a:off x="6786000" y="1571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7"/>
          <p:cNvSpPr/>
          <p:nvPr/>
        </p:nvSpPr>
        <p:spPr>
          <a:xfrm>
            <a:off x="6500880" y="4286160"/>
            <a:ext cx="571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9"/>
          <p:cNvSpPr/>
          <p:nvPr/>
        </p:nvSpPr>
        <p:spPr>
          <a:xfrm>
            <a:off x="6718680" y="42148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0"/>
          <p:cNvSpPr/>
          <p:nvPr/>
        </p:nvSpPr>
        <p:spPr>
          <a:xfrm>
            <a:off x="6715080" y="464328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02"/>
          <p:cNvSpPr/>
          <p:nvPr/>
        </p:nvSpPr>
        <p:spPr>
          <a:xfrm>
            <a:off x="6858000" y="5214960"/>
            <a:ext cx="428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5"/>
          <p:cNvSpPr/>
          <p:nvPr/>
        </p:nvSpPr>
        <p:spPr>
          <a:xfrm>
            <a:off x="6929280" y="5072040"/>
            <a:ext cx="3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06" descr="Совёнок.gif"/>
          <p:cNvPicPr/>
          <p:nvPr/>
        </p:nvPicPr>
        <p:blipFill>
          <a:blip r:embed="rId1"/>
          <a:stretch/>
        </p:blipFill>
        <p:spPr>
          <a:xfrm>
            <a:off x="714240" y="3786120"/>
            <a:ext cx="2320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43000" y="142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Деление 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214880" y="3929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6"/>
          <p:cNvSpPr/>
          <p:nvPr/>
        </p:nvSpPr>
        <p:spPr>
          <a:xfrm>
            <a:off x="0" y="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9520" y="92880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пятую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нести вправо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столько цифр, сколько после запятой в делител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214280" y="128592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8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,8:2=3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248840" y="2428920"/>
            <a:ext cx="68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86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28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:2=14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ыгнутая вниз стрелка 9"/>
          <p:cNvSpPr/>
          <p:nvPr/>
        </p:nvSpPr>
        <p:spPr>
          <a:xfrm>
            <a:off x="1714680" y="2071800"/>
            <a:ext cx="571320" cy="500040"/>
          </a:xfrm>
          <a:custGeom>
            <a:avLst/>
            <a:gdLst>
              <a:gd name="textAreaLeft" fmla="*/ 95760 w 571320"/>
              <a:gd name="textAreaRight" fmla="*/ 412920 w 5713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3147322"/>
                <a:lnTo>
                  <a:pt x="21370" y="5400"/>
                </a:lnTo>
                <a:lnTo>
                  <a:pt x="16875" y="0"/>
                </a:lnTo>
                <a:lnTo>
                  <a:pt x="11920" y="5400"/>
                </a:lnTo>
                <a:lnTo>
                  <a:pt x="14283" y="5400"/>
                </a:lnTo>
                <a:arcTo wR="7257" hR="21600" stAng="2252678" swAng="2751505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1785960" y="3286080"/>
            <a:ext cx="785880" cy="428760"/>
          </a:xfrm>
          <a:custGeom>
            <a:avLst/>
            <a:gdLst>
              <a:gd name="textAreaLeft" fmla="*/ 156240 w 785880"/>
              <a:gd name="textAreaRight" fmla="*/ 576000 w 7858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-3224493"/>
                <a:lnTo>
                  <a:pt x="21256" y="6049"/>
                </a:lnTo>
                <a:lnTo>
                  <a:pt x="18655" y="0"/>
                </a:lnTo>
                <a:lnTo>
                  <a:pt x="15365" y="6049"/>
                </a:lnTo>
                <a:lnTo>
                  <a:pt x="16838" y="6049"/>
                </a:lnTo>
                <a:arcTo wR="8591" hR="21600" stAng="2175507" swAng="2986996"/>
                <a:lnTo>
                  <a:pt x="10064" y="21280"/>
                </a:lnTo>
                <a:arcTo wR="8591" hR="21600" stAng="5637497" swAng="5162503"/>
                <a:close/>
              </a:path>
              <a:path fill="darkenLess"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237497"/>
                <a:lnTo>
                  <a:pt x="10064" y="21280"/>
                </a:lnTo>
                <a:arcTo wR="8591" hR="21600" stAng="5637497" swAng="51625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гнутая вниз стрелка 12"/>
          <p:cNvSpPr/>
          <p:nvPr/>
        </p:nvSpPr>
        <p:spPr>
          <a:xfrm>
            <a:off x="3143160" y="2071800"/>
            <a:ext cx="571680" cy="500040"/>
          </a:xfrm>
          <a:custGeom>
            <a:avLst/>
            <a:gdLst>
              <a:gd name="textAreaLeft" fmla="*/ 95760 w 571680"/>
              <a:gd name="textAreaRight" fmla="*/ 413280 w 5716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2941849"/>
                <a:lnTo>
                  <a:pt x="21310" y="6049"/>
                </a:lnTo>
                <a:lnTo>
                  <a:pt x="16875" y="0"/>
                </a:lnTo>
                <a:lnTo>
                  <a:pt x="11860" y="6049"/>
                </a:lnTo>
                <a:lnTo>
                  <a:pt x="14223" y="6049"/>
                </a:lnTo>
                <a:arcTo wR="7257" hR="21600" stAng="2458151" swAng="2546032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гнутая вниз стрелка 13"/>
          <p:cNvSpPr/>
          <p:nvPr/>
        </p:nvSpPr>
        <p:spPr>
          <a:xfrm>
            <a:off x="3571920" y="3214800"/>
            <a:ext cx="785880" cy="500040"/>
          </a:xfrm>
          <a:custGeom>
            <a:avLst/>
            <a:gdLst>
              <a:gd name="textAreaLeft" fmla="*/ 149400 w 785880"/>
              <a:gd name="textAreaRight" fmla="*/ 573840 w 7858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-3152163"/>
                <a:lnTo>
                  <a:pt x="21271" y="6049"/>
                </a:lnTo>
                <a:lnTo>
                  <a:pt x="18164" y="0"/>
                </a:lnTo>
                <a:lnTo>
                  <a:pt x="14398" y="6049"/>
                </a:lnTo>
                <a:lnTo>
                  <a:pt x="16116" y="6049"/>
                </a:lnTo>
                <a:arcTo wR="8223" hR="21600" stAng="2247837" swAng="2873093"/>
                <a:lnTo>
                  <a:pt x="9941" y="21123"/>
                </a:lnTo>
                <a:arcTo wR="8223" hR="21600" stAng="5679070" swAng="5120930"/>
                <a:close/>
              </a:path>
              <a:path fill="darkenLess"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279070"/>
                <a:lnTo>
                  <a:pt x="9941" y="21123"/>
                </a:lnTo>
                <a:arcTo wR="8223" hR="21600" stAng="5679070" swAng="512093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1190880" y="3929040"/>
            <a:ext cx="72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0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05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2500:5=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гнутая вниз стрелка 16"/>
          <p:cNvSpPr/>
          <p:nvPr/>
        </p:nvSpPr>
        <p:spPr>
          <a:xfrm>
            <a:off x="1714680" y="4572000"/>
            <a:ext cx="1071360" cy="428760"/>
          </a:xfrm>
          <a:custGeom>
            <a:avLst/>
            <a:gdLst>
              <a:gd name="textAreaLeft" fmla="*/ 227520 w 1071360"/>
              <a:gd name="textAreaRight" fmla="*/ 790200 w 10713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Выгнутая вниз стрелка 17"/>
          <p:cNvSpPr/>
          <p:nvPr/>
        </p:nvSpPr>
        <p:spPr>
          <a:xfrm>
            <a:off x="3571920" y="4643280"/>
            <a:ext cx="1071360" cy="500400"/>
          </a:xfrm>
          <a:custGeom>
            <a:avLst/>
            <a:gdLst>
              <a:gd name="textAreaLeft" fmla="*/ 221040 w 1071360"/>
              <a:gd name="textAreaRight" fmla="*/ 788040 w 107136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-3477362"/>
                <a:lnTo>
                  <a:pt x="21317" y="5400"/>
                </a:lnTo>
                <a:lnTo>
                  <a:pt x="19080" y="0"/>
                </a:lnTo>
                <a:lnTo>
                  <a:pt x="16277" y="5400"/>
                </a:lnTo>
                <a:lnTo>
                  <a:pt x="17537" y="5400"/>
                </a:lnTo>
                <a:arcTo wR="8910" hR="21600" stAng="1922638" swAng="3275025"/>
                <a:lnTo>
                  <a:pt x="10170" y="21383"/>
                </a:lnTo>
                <a:arcTo wR="8910" hR="21600" stAng="5602337" swAng="5197663"/>
                <a:close/>
              </a:path>
              <a:path fill="darkenLess"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202337"/>
                <a:lnTo>
                  <a:pt x="10170" y="21383"/>
                </a:lnTo>
                <a:arcTo wR="8910" hR="21600" stAng="5602337" swAng="519766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8" descr="Совёнок.gif"/>
          <p:cNvPicPr/>
          <p:nvPr/>
        </p:nvPicPr>
        <p:blipFill>
          <a:blip r:embed="rId1"/>
          <a:stretch/>
        </p:blipFill>
        <p:spPr>
          <a:xfrm>
            <a:off x="5643720" y="5214960"/>
            <a:ext cx="160020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Совёнок.gif"/>
          <p:cNvPicPr/>
          <p:nvPr/>
        </p:nvPicPr>
        <p:blipFill>
          <a:blip r:embed="rId2"/>
          <a:stretch/>
        </p:blipFill>
        <p:spPr>
          <a:xfrm>
            <a:off x="2428920" y="5143680"/>
            <a:ext cx="1600200" cy="14284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0"/>
          <p:cNvSpPr/>
          <p:nvPr/>
        </p:nvSpPr>
        <p:spPr>
          <a:xfrm>
            <a:off x="457200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-9000" y="214200"/>
            <a:ext cx="86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Дел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370160" y="857160"/>
            <a:ext cx="25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288520" y="1000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371960" y="192888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1440360" y="29289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359800" y="2071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1285920" y="400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: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2214720" y="27860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Выгнутая вниз стрелка 11"/>
          <p:cNvSpPr/>
          <p:nvPr/>
        </p:nvSpPr>
        <p:spPr>
          <a:xfrm flipH="1">
            <a:off x="857160" y="4572000"/>
            <a:ext cx="1000080" cy="42876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311620"/>
                <a:lnTo>
                  <a:pt x="21237" y="6049"/>
                </a:lnTo>
                <a:lnTo>
                  <a:pt x="19286" y="0"/>
                </a:lnTo>
                <a:lnTo>
                  <a:pt x="16608" y="6049"/>
                </a:lnTo>
                <a:lnTo>
                  <a:pt x="17765" y="6049"/>
                </a:lnTo>
                <a:arcTo wR="9064" hR="21600" stAng="2088380" swAng="3126058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Выгнутая вниз стрелка 12"/>
          <p:cNvSpPr/>
          <p:nvPr/>
        </p:nvSpPr>
        <p:spPr>
          <a:xfrm flipH="1">
            <a:off x="1428840" y="3429000"/>
            <a:ext cx="714240" cy="357120"/>
          </a:xfrm>
          <a:custGeom>
            <a:avLst/>
            <a:gdLst>
              <a:gd name="textAreaLeft" fmla="*/ 145080 w 714240"/>
              <a:gd name="textAreaRight" fmla="*/ 524520 w 7142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259123"/>
                <a:lnTo>
                  <a:pt x="21249" y="6049"/>
                </a:lnTo>
                <a:lnTo>
                  <a:pt x="18900" y="0"/>
                </a:lnTo>
                <a:lnTo>
                  <a:pt x="15849" y="6049"/>
                </a:lnTo>
                <a:lnTo>
                  <a:pt x="17199" y="6049"/>
                </a:lnTo>
                <a:arcTo wR="8775" hR="21600" stAng="2140877" swAng="3041965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низ стрелка 14"/>
          <p:cNvSpPr/>
          <p:nvPr/>
        </p:nvSpPr>
        <p:spPr>
          <a:xfrm flipH="1">
            <a:off x="1785960" y="1357200"/>
            <a:ext cx="357120" cy="357480"/>
          </a:xfrm>
          <a:custGeom>
            <a:avLst/>
            <a:gdLst>
              <a:gd name="textAreaLeft" fmla="*/ 55800 w 357120"/>
              <a:gd name="textAreaRight" fmla="*/ 256680 w 35712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0"/>
          <p:cNvSpPr/>
          <p:nvPr/>
        </p:nvSpPr>
        <p:spPr>
          <a:xfrm>
            <a:off x="2074320" y="928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Выгнутая вниз стрелка 21"/>
          <p:cNvSpPr/>
          <p:nvPr/>
        </p:nvSpPr>
        <p:spPr>
          <a:xfrm flipH="1">
            <a:off x="1642320" y="2357280"/>
            <a:ext cx="500040" cy="428760"/>
          </a:xfrm>
          <a:custGeom>
            <a:avLst/>
            <a:gdLst>
              <a:gd name="textAreaLeft" fmla="*/ 84240 w 500040"/>
              <a:gd name="textAreaRight" fmla="*/ 361440 w 5000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-2958640"/>
                <a:lnTo>
                  <a:pt x="21307" y="6049"/>
                </a:lnTo>
                <a:lnTo>
                  <a:pt x="16972" y="0"/>
                </a:lnTo>
                <a:lnTo>
                  <a:pt x="12050" y="6049"/>
                </a:lnTo>
                <a:lnTo>
                  <a:pt x="14364" y="6049"/>
                </a:lnTo>
                <a:arcTo wR="7329" hR="21600" stAng="2441360" swAng="2572044"/>
                <a:lnTo>
                  <a:pt x="9643" y="20494"/>
                </a:lnTo>
                <a:arcTo wR="7329" hR="21600" stAng="5786597" swAng="5013403"/>
                <a:close/>
              </a:path>
              <a:path fill="darkenLess"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386597"/>
                <a:lnTo>
                  <a:pt x="9643" y="20494"/>
                </a:lnTo>
                <a:arcTo wR="7329" hR="21600" stAng="5786597" swAng="50134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3502440" y="9288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207432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357444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2074320" y="29289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3788640" y="3000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8"/>
          <p:cNvSpPr/>
          <p:nvPr/>
        </p:nvSpPr>
        <p:spPr>
          <a:xfrm>
            <a:off x="1143000" y="292896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9"/>
          <p:cNvSpPr/>
          <p:nvPr/>
        </p:nvSpPr>
        <p:spPr>
          <a:xfrm>
            <a:off x="3578040" y="2928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0"/>
          <p:cNvSpPr/>
          <p:nvPr/>
        </p:nvSpPr>
        <p:spPr>
          <a:xfrm>
            <a:off x="861120" y="4071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4008960" y="40006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4143240" y="400068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3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5:30:24Z</dcterms:created>
  <dc:creator>Admin</dc:creator>
  <dc:description/>
  <dc:language>en-US</dc:language>
  <cp:lastModifiedBy>Admin</cp:lastModifiedBy>
  <dcterms:modified xsi:type="dcterms:W3CDTF">2010-11-05T07:57:32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60000000000010250300207f7000400038000</vt:lpwstr>
  </property>
</Properties>
</file>