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8D83-D8EE-4278-86AC-B1A345F76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67D4-C3D0-436D-8DC5-3B8954B7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F9B0-E69F-4B0C-ADE7-3689CE2A3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BF49-C2BA-4D85-9A14-3B5F8CC02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CC73-AB58-4807-B7D6-318A490E9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B0898-ECE8-4857-A982-33DB2269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870C2-BA43-47D9-8217-98CA33FB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9C7B4-699E-4A32-8E08-CCE8812A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FE20-8A42-4522-AD69-2EDE7498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1862-C257-469E-8735-C0E1F0EA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36F6-75B8-4AA6-A13E-363AE7FA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3D83-CFB1-41C9-B4BB-C9FF43BB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28DC-9FB4-445B-AA17-04380954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DAB1-DC60-4FD2-842F-623FE0BB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6F649-ED0E-4AA7-840A-75982D9D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6897-DFE7-43AE-BB8A-DA62A0D32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9911-4E6C-489A-BD52-F067A4795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C0E3-C463-42EC-BAA1-57146F3F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9871-D566-436C-95FC-C8A248AC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B04C-D245-4F78-A363-C3757F5B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0256-F152-4036-B25A-B4467EA5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5F4B-5876-4722-8DFB-F16B5D18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82A1-22B8-4329-9D7B-86FEE46A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AFB7-2B3A-47B4-AB60-9383A45F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217D-0C5A-4390-BA51-326E65F7046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3349-3315-47ED-B5BF-81ABB1BFC0F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259560" y="428760"/>
            <a:ext cx="909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Чтение и запись десятичных дроб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500040" y="1200240"/>
            <a:ext cx="2143080" cy="1299960"/>
          </a:xfrm>
          <a:prstGeom prst="rect">
            <a:avLst/>
          </a:prstGeom>
          <a:ln w="0">
            <a:noFill/>
          </a:ln>
        </p:spPr>
      </p:pic>
      <p:pic>
        <p:nvPicPr>
          <p:cNvPr id="84" name="Object 3" descr=""/>
          <p:cNvPicPr/>
          <p:nvPr/>
        </p:nvPicPr>
        <p:blipFill>
          <a:blip r:embed="rId2"/>
          <a:stretch/>
        </p:blipFill>
        <p:spPr>
          <a:xfrm>
            <a:off x="500040" y="2571840"/>
            <a:ext cx="2428920" cy="1319040"/>
          </a:xfrm>
          <a:prstGeom prst="rect">
            <a:avLst/>
          </a:prstGeom>
          <a:ln w="0">
            <a:noFill/>
          </a:ln>
        </p:spPr>
      </p:pic>
      <p:pic>
        <p:nvPicPr>
          <p:cNvPr id="85" name="Object 4" descr=""/>
          <p:cNvPicPr/>
          <p:nvPr/>
        </p:nvPicPr>
        <p:blipFill>
          <a:blip r:embed="rId3"/>
          <a:stretch/>
        </p:blipFill>
        <p:spPr>
          <a:xfrm>
            <a:off x="642960" y="4143240"/>
            <a:ext cx="2071800" cy="1000440"/>
          </a:xfrm>
          <a:prstGeom prst="rect">
            <a:avLst/>
          </a:prstGeom>
          <a:ln w="0">
            <a:noFill/>
          </a:ln>
        </p:spPr>
      </p:pic>
      <p:sp>
        <p:nvSpPr>
          <p:cNvPr id="86" name="TextBox 7"/>
          <p:cNvSpPr/>
          <p:nvPr/>
        </p:nvSpPr>
        <p:spPr>
          <a:xfrm>
            <a:off x="2928240" y="1500120"/>
            <a:ext cx="530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Две целых четыре десят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3036600" y="2928960"/>
            <a:ext cx="442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Нуль целых три сот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2834280" y="4357800"/>
            <a:ext cx="60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mbria"/>
              </a:rPr>
              <a:t>Шесть целых тринадцать тысяч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500040" y="5214960"/>
            <a:ext cx="7929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mbria"/>
              </a:rPr>
              <a:t>…</a:t>
            </a: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сколько  нулей в знаменателе –столько цифр после запятой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12" descr="Совёнок.gif"/>
          <p:cNvPicPr/>
          <p:nvPr/>
        </p:nvPicPr>
        <p:blipFill>
          <a:blip r:embed="rId4"/>
          <a:stretch/>
        </p:blipFill>
        <p:spPr>
          <a:xfrm>
            <a:off x="7072200" y="2214720"/>
            <a:ext cx="1857600" cy="16570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0"/>
          <p:cNvSpPr/>
          <p:nvPr/>
        </p:nvSpPr>
        <p:spPr>
          <a:xfrm>
            <a:off x="4143240" y="635796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428760" y="307188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3975120" y="3227400"/>
            <a:ext cx="174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3543480" y="4956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6"/>
          <p:cNvSpPr/>
          <p:nvPr/>
        </p:nvSpPr>
        <p:spPr>
          <a:xfrm>
            <a:off x="785880" y="3786120"/>
            <a:ext cx="151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642960" y="2428920"/>
            <a:ext cx="4572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41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7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8"/>
          <p:cNvSpPr/>
          <p:nvPr/>
        </p:nvSpPr>
        <p:spPr>
          <a:xfrm>
            <a:off x="3320640" y="2428920"/>
            <a:ext cx="1614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26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7</a:t>
            </a: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2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0"/>
          <p:cNvSpPr/>
          <p:nvPr/>
        </p:nvSpPr>
        <p:spPr>
          <a:xfrm>
            <a:off x="3071880" y="3857760"/>
            <a:ext cx="264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9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1"/>
          <p:cNvSpPr/>
          <p:nvPr/>
        </p:nvSpPr>
        <p:spPr>
          <a:xfrm>
            <a:off x="3429000" y="392904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9"/>
          <p:cNvSpPr/>
          <p:nvPr/>
        </p:nvSpPr>
        <p:spPr>
          <a:xfrm>
            <a:off x="4101480" y="324576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0"/>
          <p:cNvSpPr/>
          <p:nvPr/>
        </p:nvSpPr>
        <p:spPr>
          <a:xfrm>
            <a:off x="4101480" y="324576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4"/>
          <p:cNvSpPr/>
          <p:nvPr/>
        </p:nvSpPr>
        <p:spPr>
          <a:xfrm>
            <a:off x="1785960" y="0"/>
            <a:ext cx="921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Сложение и вычит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десятичных дроб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5"/>
          <p:cNvSpPr/>
          <p:nvPr/>
        </p:nvSpPr>
        <p:spPr>
          <a:xfrm>
            <a:off x="1928880" y="1571760"/>
            <a:ext cx="59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…</a:t>
            </a: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запятая под запят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6"/>
          <p:cNvSpPr/>
          <p:nvPr/>
        </p:nvSpPr>
        <p:spPr>
          <a:xfrm>
            <a:off x="2859840" y="2857680"/>
            <a:ext cx="36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7"/>
          <p:cNvSpPr/>
          <p:nvPr/>
        </p:nvSpPr>
        <p:spPr>
          <a:xfrm>
            <a:off x="5988600" y="2500200"/>
            <a:ext cx="188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27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8"/>
          <p:cNvSpPr/>
          <p:nvPr/>
        </p:nvSpPr>
        <p:spPr>
          <a:xfrm>
            <a:off x="6546240" y="3143160"/>
            <a:ext cx="96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0</a:t>
            </a: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9"/>
          <p:cNvSpPr/>
          <p:nvPr/>
        </p:nvSpPr>
        <p:spPr>
          <a:xfrm>
            <a:off x="7358040" y="3143160"/>
            <a:ext cx="51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Cambria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6"/>
          <p:cNvSpPr/>
          <p:nvPr/>
        </p:nvSpPr>
        <p:spPr>
          <a:xfrm>
            <a:off x="6215040" y="3857760"/>
            <a:ext cx="15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1"/>
          <p:cNvSpPr/>
          <p:nvPr/>
        </p:nvSpPr>
        <p:spPr>
          <a:xfrm>
            <a:off x="5997960" y="3714840"/>
            <a:ext cx="186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127</a:t>
            </a: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5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2"/>
          <p:cNvSpPr/>
          <p:nvPr/>
        </p:nvSpPr>
        <p:spPr>
          <a:xfrm>
            <a:off x="5574960" y="300024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21" descr="Совёнок.gif"/>
          <p:cNvPicPr/>
          <p:nvPr/>
        </p:nvPicPr>
        <p:blipFill>
          <a:blip r:embed="rId1"/>
          <a:stretch/>
        </p:blipFill>
        <p:spPr>
          <a:xfrm>
            <a:off x="2143080" y="4714920"/>
            <a:ext cx="2286000" cy="187812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36"/>
          <p:cNvSpPr/>
          <p:nvPr/>
        </p:nvSpPr>
        <p:spPr>
          <a:xfrm>
            <a:off x="428760" y="28584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22" descr="Совёнок.gif"/>
          <p:cNvPicPr/>
          <p:nvPr/>
        </p:nvPicPr>
        <p:blipFill>
          <a:blip r:embed="rId2"/>
          <a:stretch/>
        </p:blipFill>
        <p:spPr>
          <a:xfrm>
            <a:off x="5214960" y="4786200"/>
            <a:ext cx="2286000" cy="187812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23"/>
          <p:cNvSpPr/>
          <p:nvPr/>
        </p:nvSpPr>
        <p:spPr>
          <a:xfrm>
            <a:off x="4572000" y="664200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5"/>
          <p:cNvSpPr/>
          <p:nvPr/>
        </p:nvSpPr>
        <p:spPr>
          <a:xfrm>
            <a:off x="1071720" y="1000080"/>
            <a:ext cx="122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4 2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5</a:t>
            </a: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Calibri"/>
                <a:ea typeface="Arial"/>
              </a:rPr>
              <a:t>,</a:t>
            </a:r>
            <a:r>
              <a:rPr b="1" i="1" lang="ru-RU" sz="3600" spc="-1" strike="noStrike" u="sng">
                <a:solidFill>
                  <a:srgbClr val="002060"/>
                </a:solidFill>
                <a:uFillTx/>
                <a:latin typeface="Calibri"/>
                <a:ea typeface="Arial"/>
              </a:rPr>
              <a:t>6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857160" y="1268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714240" y="20718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2 5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45960" y="25146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2 1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28520" y="22208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>
            <a:off x="250920" y="306864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343080" y="31194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mbria"/>
                <a:ea typeface="Arial Unicode MS"/>
              </a:rPr>
              <a:t>2 3 5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1285920" y="2857680"/>
            <a:ext cx="28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3851280" y="973080"/>
            <a:ext cx="12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i="1" lang="ru-RU" sz="3600" spc="-1" strike="noStrike">
                <a:solidFill>
                  <a:srgbClr val="1f497d"/>
                </a:solidFill>
                <a:latin typeface="Arial"/>
              </a:rPr>
              <a:t>2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5</a:t>
            </a: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,</a:t>
            </a:r>
            <a:r>
              <a:rPr b="1" i="1" lang="ru-RU" sz="3600" spc="-1" strike="noStrike" u="sng">
                <a:solidFill>
                  <a:srgbClr val="1f497d"/>
                </a:solidFill>
                <a:uFillTx/>
                <a:latin typeface="Arial"/>
                <a:ea typeface="Arial"/>
              </a:rPr>
              <a:t>6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3492360" y="11685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3462480" y="20718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2 5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3068640" y="252576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2 1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2870280" y="2232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2987640" y="306864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3071880" y="31431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2 3 5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2"/>
          <p:cNvSpPr/>
          <p:nvPr/>
        </p:nvSpPr>
        <p:spPr>
          <a:xfrm>
            <a:off x="3571920" y="3071880"/>
            <a:ext cx="2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9" descr="14T3"/>
          <p:cNvPicPr/>
          <p:nvPr/>
        </p:nvPicPr>
        <p:blipFill>
          <a:blip r:embed="rId1"/>
          <a:stretch/>
        </p:blipFill>
        <p:spPr>
          <a:xfrm>
            <a:off x="6858000" y="5357880"/>
            <a:ext cx="1619280" cy="119052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41"/>
          <p:cNvSpPr/>
          <p:nvPr/>
        </p:nvSpPr>
        <p:spPr>
          <a:xfrm>
            <a:off x="1714680" y="214200"/>
            <a:ext cx="63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  <a:ea typeface="Arial"/>
              </a:rPr>
              <a:t>Умножение десятичных дроб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6"/>
          <p:cNvSpPr/>
          <p:nvPr/>
        </p:nvSpPr>
        <p:spPr>
          <a:xfrm>
            <a:off x="142920" y="1429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43"/>
          <p:cNvSpPr/>
          <p:nvPr/>
        </p:nvSpPr>
        <p:spPr>
          <a:xfrm>
            <a:off x="5176440" y="1428840"/>
            <a:ext cx="3323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…</a:t>
            </a: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не обращ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вним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на запятую</a:t>
            </a: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44"/>
          <p:cNvSpPr/>
          <p:nvPr/>
        </p:nvSpPr>
        <p:spPr>
          <a:xfrm>
            <a:off x="285840" y="4429080"/>
            <a:ext cx="1000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…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осле запятой столько цифр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сколько после запятой в обоих  множителях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47" descr="Совёнок.gif"/>
          <p:cNvPicPr/>
          <p:nvPr/>
        </p:nvPicPr>
        <p:blipFill>
          <a:blip r:embed="rId2"/>
          <a:stretch/>
        </p:blipFill>
        <p:spPr>
          <a:xfrm>
            <a:off x="3786120" y="5500800"/>
            <a:ext cx="1279440" cy="114300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23"/>
          <p:cNvSpPr/>
          <p:nvPr/>
        </p:nvSpPr>
        <p:spPr>
          <a:xfrm>
            <a:off x="4572000" y="650088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1714680" y="428760"/>
            <a:ext cx="71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Умножение десятичных дроб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935280" y="1071720"/>
            <a:ext cx="734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…</a:t>
            </a: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не обращать внимания на запятую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3"/>
          <p:cNvSpPr/>
          <p:nvPr/>
        </p:nvSpPr>
        <p:spPr>
          <a:xfrm>
            <a:off x="857160" y="1643040"/>
            <a:ext cx="20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500040" y="5286240"/>
            <a:ext cx="89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…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осле запятой столько цифр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сколько после запятой в обоих  множителях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1545480" y="2214720"/>
            <a:ext cx="89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928800" y="257184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9"/>
          <p:cNvSpPr/>
          <p:nvPr/>
        </p:nvSpPr>
        <p:spPr>
          <a:xfrm>
            <a:off x="952200" y="2786040"/>
            <a:ext cx="145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9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11"/>
          <p:cNvSpPr/>
          <p:nvPr/>
        </p:nvSpPr>
        <p:spPr>
          <a:xfrm>
            <a:off x="1928880" y="3000240"/>
            <a:ext cx="357120" cy="214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8"/>
          <p:cNvSpPr/>
          <p:nvPr/>
        </p:nvSpPr>
        <p:spPr>
          <a:xfrm>
            <a:off x="4927680" y="1643040"/>
            <a:ext cx="11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9"/>
          <p:cNvSpPr/>
          <p:nvPr/>
        </p:nvSpPr>
        <p:spPr>
          <a:xfrm>
            <a:off x="5260320" y="2143080"/>
            <a:ext cx="89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0"/>
          <p:cNvSpPr/>
          <p:nvPr/>
        </p:nvSpPr>
        <p:spPr>
          <a:xfrm>
            <a:off x="5286240" y="2643120"/>
            <a:ext cx="20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1"/>
          <p:cNvSpPr/>
          <p:nvPr/>
        </p:nvSpPr>
        <p:spPr>
          <a:xfrm>
            <a:off x="4980600" y="314316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2"/>
          <p:cNvSpPr/>
          <p:nvPr/>
        </p:nvSpPr>
        <p:spPr>
          <a:xfrm>
            <a:off x="4500720" y="3714840"/>
            <a:ext cx="221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3"/>
          <p:cNvSpPr/>
          <p:nvPr/>
        </p:nvSpPr>
        <p:spPr>
          <a:xfrm>
            <a:off x="5009760" y="250020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4"/>
          <p:cNvSpPr/>
          <p:nvPr/>
        </p:nvSpPr>
        <p:spPr>
          <a:xfrm>
            <a:off x="4795920" y="350028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26"/>
          <p:cNvSpPr/>
          <p:nvPr/>
        </p:nvSpPr>
        <p:spPr>
          <a:xfrm>
            <a:off x="5643720" y="4000680"/>
            <a:ext cx="357120" cy="28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8"/>
          <p:cNvSpPr/>
          <p:nvPr/>
        </p:nvSpPr>
        <p:spPr>
          <a:xfrm>
            <a:off x="369720" y="3929040"/>
            <a:ext cx="32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(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четыре целых девяно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четыре сотых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30"/>
          <p:cNvSpPr/>
          <p:nvPr/>
        </p:nvSpPr>
        <p:spPr>
          <a:xfrm>
            <a:off x="4309560" y="4643280"/>
            <a:ext cx="41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(нуль целых тридцать пять соты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Рисунок 31" descr="Совёнок.gif"/>
          <p:cNvPicPr/>
          <p:nvPr/>
        </p:nvPicPr>
        <p:blipFill>
          <a:blip r:embed="rId1"/>
          <a:stretch/>
        </p:blipFill>
        <p:spPr>
          <a:xfrm>
            <a:off x="6786720" y="2143080"/>
            <a:ext cx="1857240" cy="165744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6"/>
          <p:cNvSpPr/>
          <p:nvPr/>
        </p:nvSpPr>
        <p:spPr>
          <a:xfrm>
            <a:off x="500040" y="2142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23"/>
          <p:cNvSpPr/>
          <p:nvPr/>
        </p:nvSpPr>
        <p:spPr>
          <a:xfrm>
            <a:off x="4286160" y="642924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1"/>
          <p:cNvSpPr/>
          <p:nvPr/>
        </p:nvSpPr>
        <p:spPr>
          <a:xfrm>
            <a:off x="-50040" y="214200"/>
            <a:ext cx="927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Умножение десятичных дробей на 10,100,1000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1370880" y="857160"/>
            <a:ext cx="270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4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228888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1429560" y="1928880"/>
            <a:ext cx="304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4 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2931120" y="4214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1441800" y="2928960"/>
            <a:ext cx="260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4 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7"/>
          <p:cNvSpPr/>
          <p:nvPr/>
        </p:nvSpPr>
        <p:spPr>
          <a:xfrm>
            <a:off x="2359800" y="2071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8"/>
          <p:cNvSpPr/>
          <p:nvPr/>
        </p:nvSpPr>
        <p:spPr>
          <a:xfrm>
            <a:off x="1373400" y="4000680"/>
            <a:ext cx="328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4     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2571840" y="2928960"/>
            <a:ext cx="37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Выгнутая вниз стрелка 11"/>
          <p:cNvSpPr/>
          <p:nvPr/>
        </p:nvSpPr>
        <p:spPr>
          <a:xfrm>
            <a:off x="1857240" y="4643280"/>
            <a:ext cx="1071720" cy="428760"/>
          </a:xfrm>
          <a:custGeom>
            <a:avLst/>
            <a:gdLst>
              <a:gd name="textAreaLeft" fmla="*/ 227520 w 1071720"/>
              <a:gd name="textAreaRight" fmla="*/ 790560 w 107172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80" hR="21600" stAng="10800000" swAng="-5400000"/>
                <a:lnTo>
                  <a:pt x="11340" y="21600"/>
                </a:lnTo>
                <a:arcTo wR="9180" hR="21600" stAng="5400000" swAng="-3332063"/>
                <a:lnTo>
                  <a:pt x="21233" y="6049"/>
                </a:lnTo>
                <a:lnTo>
                  <a:pt x="19440" y="0"/>
                </a:lnTo>
                <a:lnTo>
                  <a:pt x="16913" y="6049"/>
                </a:lnTo>
                <a:lnTo>
                  <a:pt x="17993" y="6049"/>
                </a:lnTo>
                <a:arcTo wR="9180" hR="21600" stAng="2067937" swAng="3159120"/>
                <a:lnTo>
                  <a:pt x="10260" y="21450"/>
                </a:lnTo>
                <a:arcTo wR="9180" hR="21600" stAng="5572943" swAng="5227057"/>
                <a:close/>
              </a:path>
              <a:path fill="darkenLess" w="21600" h="21600">
                <a:moveTo>
                  <a:pt x="0" y="0"/>
                </a:moveTo>
                <a:arcTo wR="9180" hR="21600" stAng="10800000" swAng="-5400000"/>
                <a:lnTo>
                  <a:pt x="11340" y="21600"/>
                </a:lnTo>
                <a:arcTo wR="9180" hR="21600" stAng="5400000" swAng="172943"/>
                <a:lnTo>
                  <a:pt x="10260" y="21450"/>
                </a:lnTo>
                <a:arcTo wR="9180" hR="21600" stAng="5572943" swAng="5227057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Выгнутая вниз стрелка 12"/>
          <p:cNvSpPr/>
          <p:nvPr/>
        </p:nvSpPr>
        <p:spPr>
          <a:xfrm>
            <a:off x="1857240" y="3571920"/>
            <a:ext cx="785880" cy="357120"/>
          </a:xfrm>
          <a:custGeom>
            <a:avLst/>
            <a:gdLst>
              <a:gd name="textAreaLeft" fmla="*/ 162720 w 785880"/>
              <a:gd name="textAreaRight" fmla="*/ 578520 w 785880"/>
              <a:gd name="textAreaTop" fmla="*/ 47880 h 357120"/>
              <a:gd name="textAreaBottom" fmla="*/ 309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59" hR="21600" stAng="10800000" swAng="-5400000"/>
                <a:lnTo>
                  <a:pt x="11414" y="21600"/>
                </a:lnTo>
                <a:arcTo wR="8959" hR="21600" stAng="5400000" swAng="-3292809"/>
                <a:lnTo>
                  <a:pt x="21242" y="6049"/>
                </a:lnTo>
                <a:lnTo>
                  <a:pt x="19146" y="0"/>
                </a:lnTo>
                <a:lnTo>
                  <a:pt x="16333" y="6049"/>
                </a:lnTo>
                <a:lnTo>
                  <a:pt x="17560" y="6049"/>
                </a:lnTo>
                <a:arcTo wR="8959" hR="21600" stAng="2107191" swAng="3095802"/>
                <a:lnTo>
                  <a:pt x="10187" y="21396"/>
                </a:lnTo>
                <a:arcTo wR="8959" hR="21600" stAng="5597007" swAng="5202993"/>
                <a:close/>
              </a:path>
              <a:path fill="darkenLess" w="21600" h="21600">
                <a:moveTo>
                  <a:pt x="0" y="0"/>
                </a:moveTo>
                <a:arcTo wR="8959" hR="21600" stAng="10800000" swAng="-5400000"/>
                <a:lnTo>
                  <a:pt x="11414" y="21600"/>
                </a:lnTo>
                <a:arcTo wR="8959" hR="21600" stAng="5400000" swAng="197007"/>
                <a:lnTo>
                  <a:pt x="10187" y="21396"/>
                </a:lnTo>
                <a:arcTo wR="8959" hR="21600" stAng="5597007" swAng="520299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Выгнутая вниз стрелка 13"/>
          <p:cNvSpPr/>
          <p:nvPr/>
        </p:nvSpPr>
        <p:spPr>
          <a:xfrm>
            <a:off x="1714680" y="1428840"/>
            <a:ext cx="428400" cy="428400"/>
          </a:xfrm>
          <a:custGeom>
            <a:avLst/>
            <a:gdLst>
              <a:gd name="textAreaLeft" fmla="*/ 66960 w 428400"/>
              <a:gd name="textAreaRight" fmla="*/ 308160 w 428400"/>
              <a:gd name="textAreaTop" fmla="*/ 57240 h 428400"/>
              <a:gd name="textAreaBottom" fmla="*/ 3711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2818188"/>
                <a:lnTo>
                  <a:pt x="21330" y="6049"/>
                </a:lnTo>
                <a:lnTo>
                  <a:pt x="16200" y="0"/>
                </a:lnTo>
                <a:lnTo>
                  <a:pt x="10530" y="6049"/>
                </a:lnTo>
                <a:lnTo>
                  <a:pt x="13230" y="6049"/>
                </a:lnTo>
                <a:arcTo wR="6750" hR="21600" stAng="2581812" swAng="2352202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Выгнутая вниз стрелка 14"/>
          <p:cNvSpPr/>
          <p:nvPr/>
        </p:nvSpPr>
        <p:spPr>
          <a:xfrm>
            <a:off x="1714680" y="2500200"/>
            <a:ext cx="642600" cy="357480"/>
          </a:xfrm>
          <a:custGeom>
            <a:avLst/>
            <a:gdLst>
              <a:gd name="textAreaLeft" fmla="*/ 127080 w 642600"/>
              <a:gd name="textAreaRight" fmla="*/ 470880 w 642600"/>
              <a:gd name="textAreaTop" fmla="*/ 47880 h 357480"/>
              <a:gd name="textAreaBottom" fmla="*/ 309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550" hR="21600" stAng="10800000" swAng="-5400000"/>
                <a:lnTo>
                  <a:pt x="11550" y="21600"/>
                </a:lnTo>
                <a:arcTo wR="8550" hR="21600" stAng="5400000" swAng="-3216644"/>
                <a:lnTo>
                  <a:pt x="21258" y="6049"/>
                </a:lnTo>
                <a:lnTo>
                  <a:pt x="18600" y="0"/>
                </a:lnTo>
                <a:lnTo>
                  <a:pt x="15258" y="6049"/>
                </a:lnTo>
                <a:lnTo>
                  <a:pt x="16758" y="6049"/>
                </a:lnTo>
                <a:arcTo wR="8550" hR="21600" stAng="2183356" swAng="2974552"/>
                <a:lnTo>
                  <a:pt x="10050" y="21265"/>
                </a:lnTo>
                <a:arcTo wR="8550" hR="21600" stAng="5642092" swAng="5157908"/>
                <a:close/>
              </a:path>
              <a:path fill="darkenLess" w="21600" h="21600">
                <a:moveTo>
                  <a:pt x="0" y="0"/>
                </a:moveTo>
                <a:arcTo wR="8550" hR="21600" stAng="10800000" swAng="-5400000"/>
                <a:lnTo>
                  <a:pt x="11550" y="21600"/>
                </a:lnTo>
                <a:arcTo wR="8550" hR="21600" stAng="5400000" swAng="242092"/>
                <a:lnTo>
                  <a:pt x="10050" y="21265"/>
                </a:lnTo>
                <a:arcTo wR="8550" hR="21600" stAng="5642092" swAng="5157908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ая соединительная линия 16"/>
          <p:cNvSpPr/>
          <p:nvPr/>
        </p:nvSpPr>
        <p:spPr>
          <a:xfrm flipH="1">
            <a:off x="4214520" y="2357280"/>
            <a:ext cx="142920" cy="21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8"/>
          <p:cNvSpPr/>
          <p:nvPr/>
        </p:nvSpPr>
        <p:spPr>
          <a:xfrm>
            <a:off x="2286000" y="307188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9"/>
          <p:cNvSpPr/>
          <p:nvPr/>
        </p:nvSpPr>
        <p:spPr>
          <a:xfrm>
            <a:off x="2289960" y="41432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1"/>
          <p:cNvSpPr/>
          <p:nvPr/>
        </p:nvSpPr>
        <p:spPr>
          <a:xfrm>
            <a:off x="285840" y="51436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апятую переносим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право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на столько цифр, сколь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нулей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после един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22" descr="Совёнок.gif"/>
          <p:cNvPicPr/>
          <p:nvPr/>
        </p:nvPicPr>
        <p:blipFill>
          <a:blip r:embed="rId1"/>
          <a:stretch/>
        </p:blipFill>
        <p:spPr>
          <a:xfrm>
            <a:off x="5572080" y="1500120"/>
            <a:ext cx="2320920" cy="2071800"/>
          </a:xfrm>
          <a:prstGeom prst="rect">
            <a:avLst/>
          </a:prstGeom>
          <a:ln w="0">
            <a:noFill/>
          </a:ln>
        </p:spPr>
      </p:pic>
      <p:sp>
        <p:nvSpPr>
          <p:cNvPr id="177" name="TextBox 20"/>
          <p:cNvSpPr/>
          <p:nvPr/>
        </p:nvSpPr>
        <p:spPr>
          <a:xfrm>
            <a:off x="3646080" y="9288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24"/>
          <p:cNvSpPr/>
          <p:nvPr/>
        </p:nvSpPr>
        <p:spPr>
          <a:xfrm>
            <a:off x="4143240" y="200016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5"/>
          <p:cNvSpPr/>
          <p:nvPr/>
        </p:nvSpPr>
        <p:spPr>
          <a:xfrm>
            <a:off x="3935160" y="30718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6"/>
          <p:cNvSpPr/>
          <p:nvPr/>
        </p:nvSpPr>
        <p:spPr>
          <a:xfrm>
            <a:off x="4507560" y="4143240"/>
            <a:ext cx="13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27"/>
          <p:cNvSpPr/>
          <p:nvPr/>
        </p:nvSpPr>
        <p:spPr>
          <a:xfrm>
            <a:off x="4286160" y="650088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1"/>
          <p:cNvSpPr/>
          <p:nvPr/>
        </p:nvSpPr>
        <p:spPr>
          <a:xfrm>
            <a:off x="1419120" y="285840"/>
            <a:ext cx="773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Деление на натуральное чис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6"/>
          <p:cNvSpPr/>
          <p:nvPr/>
        </p:nvSpPr>
        <p:spPr>
          <a:xfrm>
            <a:off x="500040" y="2142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"/>
          <p:cNvSpPr/>
          <p:nvPr/>
        </p:nvSpPr>
        <p:spPr>
          <a:xfrm>
            <a:off x="1246680" y="1000080"/>
            <a:ext cx="67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…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тавим запятую, когда закончим делить целую част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642960" y="142884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26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13"/>
          <p:cNvSpPr/>
          <p:nvPr/>
        </p:nvSpPr>
        <p:spPr>
          <a:xfrm flipH="1">
            <a:off x="1571760" y="1500120"/>
            <a:ext cx="1440" cy="857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ая соединительная линия 19"/>
          <p:cNvSpPr/>
          <p:nvPr/>
        </p:nvSpPr>
        <p:spPr>
          <a:xfrm>
            <a:off x="1571760" y="1928880"/>
            <a:ext cx="785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2"/>
          <p:cNvSpPr/>
          <p:nvPr/>
        </p:nvSpPr>
        <p:spPr>
          <a:xfrm>
            <a:off x="1646280" y="1428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3"/>
          <p:cNvSpPr/>
          <p:nvPr/>
        </p:nvSpPr>
        <p:spPr>
          <a:xfrm>
            <a:off x="1571760" y="1928880"/>
            <a:ext cx="142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4"/>
          <p:cNvSpPr/>
          <p:nvPr/>
        </p:nvSpPr>
        <p:spPr>
          <a:xfrm>
            <a:off x="646920" y="17859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ая соединительная линия 26"/>
          <p:cNvSpPr/>
          <p:nvPr/>
        </p:nvSpPr>
        <p:spPr>
          <a:xfrm>
            <a:off x="642960" y="2286000"/>
            <a:ext cx="571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30"/>
          <p:cNvSpPr/>
          <p:nvPr/>
        </p:nvSpPr>
        <p:spPr>
          <a:xfrm>
            <a:off x="860400" y="2286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1"/>
          <p:cNvSpPr/>
          <p:nvPr/>
        </p:nvSpPr>
        <p:spPr>
          <a:xfrm>
            <a:off x="1074600" y="2286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33"/>
          <p:cNvSpPr/>
          <p:nvPr/>
        </p:nvSpPr>
        <p:spPr>
          <a:xfrm>
            <a:off x="932760" y="26431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ая соединительная линия 35"/>
          <p:cNvSpPr/>
          <p:nvPr/>
        </p:nvSpPr>
        <p:spPr>
          <a:xfrm>
            <a:off x="1000080" y="3143160"/>
            <a:ext cx="5000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38"/>
          <p:cNvSpPr/>
          <p:nvPr/>
        </p:nvSpPr>
        <p:spPr>
          <a:xfrm>
            <a:off x="1146240" y="30718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7"/>
          <p:cNvSpPr/>
          <p:nvPr/>
        </p:nvSpPr>
        <p:spPr>
          <a:xfrm>
            <a:off x="3220560" y="150012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ая соединительная линия 20"/>
          <p:cNvSpPr/>
          <p:nvPr/>
        </p:nvSpPr>
        <p:spPr>
          <a:xfrm>
            <a:off x="4286160" y="1643040"/>
            <a:ext cx="0" cy="857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ая соединительная линия 32"/>
          <p:cNvSpPr/>
          <p:nvPr/>
        </p:nvSpPr>
        <p:spPr>
          <a:xfrm>
            <a:off x="4357800" y="2071800"/>
            <a:ext cx="1000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40"/>
          <p:cNvSpPr/>
          <p:nvPr/>
        </p:nvSpPr>
        <p:spPr>
          <a:xfrm>
            <a:off x="4431960" y="1500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41"/>
          <p:cNvSpPr/>
          <p:nvPr/>
        </p:nvSpPr>
        <p:spPr>
          <a:xfrm>
            <a:off x="3217680" y="19288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ая соединительная линия 43"/>
          <p:cNvSpPr/>
          <p:nvPr/>
        </p:nvSpPr>
        <p:spPr>
          <a:xfrm>
            <a:off x="3143160" y="2428920"/>
            <a:ext cx="5716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45"/>
          <p:cNvSpPr/>
          <p:nvPr/>
        </p:nvSpPr>
        <p:spPr>
          <a:xfrm>
            <a:off x="3288960" y="2357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46"/>
          <p:cNvSpPr/>
          <p:nvPr/>
        </p:nvSpPr>
        <p:spPr>
          <a:xfrm>
            <a:off x="3571920" y="2357280"/>
            <a:ext cx="51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47"/>
          <p:cNvSpPr/>
          <p:nvPr/>
        </p:nvSpPr>
        <p:spPr>
          <a:xfrm>
            <a:off x="3289680" y="271476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ая соединительная линия 49"/>
          <p:cNvSpPr/>
          <p:nvPr/>
        </p:nvSpPr>
        <p:spPr>
          <a:xfrm>
            <a:off x="3500280" y="3286080"/>
            <a:ext cx="4287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52"/>
          <p:cNvSpPr/>
          <p:nvPr/>
        </p:nvSpPr>
        <p:spPr>
          <a:xfrm>
            <a:off x="3646080" y="3214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53"/>
          <p:cNvSpPr/>
          <p:nvPr/>
        </p:nvSpPr>
        <p:spPr>
          <a:xfrm>
            <a:off x="3931920" y="3214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54"/>
          <p:cNvSpPr/>
          <p:nvPr/>
        </p:nvSpPr>
        <p:spPr>
          <a:xfrm>
            <a:off x="3718440" y="364320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56"/>
          <p:cNvSpPr/>
          <p:nvPr/>
        </p:nvSpPr>
        <p:spPr>
          <a:xfrm>
            <a:off x="3786120" y="4214880"/>
            <a:ext cx="5716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59"/>
          <p:cNvSpPr/>
          <p:nvPr/>
        </p:nvSpPr>
        <p:spPr>
          <a:xfrm>
            <a:off x="3931920" y="42148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60"/>
          <p:cNvSpPr/>
          <p:nvPr/>
        </p:nvSpPr>
        <p:spPr>
          <a:xfrm>
            <a:off x="4291560" y="207180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61"/>
          <p:cNvSpPr/>
          <p:nvPr/>
        </p:nvSpPr>
        <p:spPr>
          <a:xfrm>
            <a:off x="5929200" y="1571760"/>
            <a:ext cx="26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ая соединительная линия 63"/>
          <p:cNvSpPr/>
          <p:nvPr/>
        </p:nvSpPr>
        <p:spPr>
          <a:xfrm flipH="1">
            <a:off x="7143840" y="1571760"/>
            <a:ext cx="1440" cy="92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ая соединительная линия 71"/>
          <p:cNvSpPr/>
          <p:nvPr/>
        </p:nvSpPr>
        <p:spPr>
          <a:xfrm>
            <a:off x="7215120" y="2000160"/>
            <a:ext cx="1071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73"/>
          <p:cNvSpPr/>
          <p:nvPr/>
        </p:nvSpPr>
        <p:spPr>
          <a:xfrm>
            <a:off x="7150320" y="2000160"/>
            <a:ext cx="13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1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4"/>
          <p:cNvSpPr/>
          <p:nvPr/>
        </p:nvSpPr>
        <p:spPr>
          <a:xfrm>
            <a:off x="5932080" y="20001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ая соединительная линия 76"/>
          <p:cNvSpPr/>
          <p:nvPr/>
        </p:nvSpPr>
        <p:spPr>
          <a:xfrm>
            <a:off x="6000840" y="2571840"/>
            <a:ext cx="4284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80"/>
          <p:cNvSpPr/>
          <p:nvPr/>
        </p:nvSpPr>
        <p:spPr>
          <a:xfrm>
            <a:off x="6289560" y="2500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82"/>
          <p:cNvSpPr/>
          <p:nvPr/>
        </p:nvSpPr>
        <p:spPr>
          <a:xfrm>
            <a:off x="7218000" y="1357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83"/>
          <p:cNvSpPr/>
          <p:nvPr/>
        </p:nvSpPr>
        <p:spPr>
          <a:xfrm>
            <a:off x="6289560" y="28576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84"/>
          <p:cNvSpPr/>
          <p:nvPr/>
        </p:nvSpPr>
        <p:spPr>
          <a:xfrm>
            <a:off x="6361560" y="335772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ая соединительная линия 86"/>
          <p:cNvSpPr/>
          <p:nvPr/>
        </p:nvSpPr>
        <p:spPr>
          <a:xfrm>
            <a:off x="6429240" y="3429000"/>
            <a:ext cx="5000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90"/>
          <p:cNvSpPr/>
          <p:nvPr/>
        </p:nvSpPr>
        <p:spPr>
          <a:xfrm>
            <a:off x="6429240" y="3714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94"/>
          <p:cNvSpPr/>
          <p:nvPr/>
        </p:nvSpPr>
        <p:spPr>
          <a:xfrm flipH="1">
            <a:off x="6786000" y="157176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97"/>
          <p:cNvSpPr/>
          <p:nvPr/>
        </p:nvSpPr>
        <p:spPr>
          <a:xfrm>
            <a:off x="6500880" y="4286160"/>
            <a:ext cx="5713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99"/>
          <p:cNvSpPr/>
          <p:nvPr/>
        </p:nvSpPr>
        <p:spPr>
          <a:xfrm>
            <a:off x="6718680" y="421488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00"/>
          <p:cNvSpPr/>
          <p:nvPr/>
        </p:nvSpPr>
        <p:spPr>
          <a:xfrm>
            <a:off x="6715080" y="4643280"/>
            <a:ext cx="76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102"/>
          <p:cNvSpPr/>
          <p:nvPr/>
        </p:nvSpPr>
        <p:spPr>
          <a:xfrm>
            <a:off x="6858000" y="5214960"/>
            <a:ext cx="4287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05"/>
          <p:cNvSpPr/>
          <p:nvPr/>
        </p:nvSpPr>
        <p:spPr>
          <a:xfrm>
            <a:off x="6929280" y="5072040"/>
            <a:ext cx="37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Рисунок 106" descr="Совёнок.gif"/>
          <p:cNvPicPr/>
          <p:nvPr/>
        </p:nvPicPr>
        <p:blipFill>
          <a:blip r:embed="rId1"/>
          <a:stretch/>
        </p:blipFill>
        <p:spPr>
          <a:xfrm>
            <a:off x="714240" y="3786120"/>
            <a:ext cx="2320920" cy="2071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"/>
          <p:cNvSpPr/>
          <p:nvPr/>
        </p:nvSpPr>
        <p:spPr>
          <a:xfrm>
            <a:off x="1143000" y="1429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  <a:ea typeface="Arial"/>
              </a:rPr>
              <a:t>Деление десятичных дроб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"/>
          <p:cNvSpPr/>
          <p:nvPr/>
        </p:nvSpPr>
        <p:spPr>
          <a:xfrm>
            <a:off x="4214880" y="3929040"/>
            <a:ext cx="46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6"/>
          <p:cNvSpPr/>
          <p:nvPr/>
        </p:nvSpPr>
        <p:spPr>
          <a:xfrm>
            <a:off x="0" y="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0"/>
          <p:cNvSpPr/>
          <p:nvPr/>
        </p:nvSpPr>
        <p:spPr>
          <a:xfrm>
            <a:off x="29520" y="928800"/>
            <a:ext cx="92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…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запятую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еренести вправо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на столько цифр, сколько после запятой в делител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1"/>
          <p:cNvSpPr/>
          <p:nvPr/>
        </p:nvSpPr>
        <p:spPr>
          <a:xfrm>
            <a:off x="1214280" y="1285920"/>
            <a:ext cx="671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68: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0</a:t>
            </a:r>
            <a:r>
              <a:rPr b="1" lang="ru-RU" sz="5400" spc="-1" strike="noStrike">
                <a:solidFill>
                  <a:srgbClr val="ffff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,8:2=3,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2"/>
          <p:cNvSpPr/>
          <p:nvPr/>
        </p:nvSpPr>
        <p:spPr>
          <a:xfrm>
            <a:off x="1248840" y="2428920"/>
            <a:ext cx="681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286: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0</a:t>
            </a:r>
            <a:r>
              <a:rPr b="1" lang="ru-RU" sz="5400" spc="-1" strike="noStrike">
                <a:solidFill>
                  <a:srgbClr val="ffff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02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=28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6:2=14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Выгнутая вниз стрелка 9"/>
          <p:cNvSpPr/>
          <p:nvPr/>
        </p:nvSpPr>
        <p:spPr>
          <a:xfrm>
            <a:off x="1714680" y="2071800"/>
            <a:ext cx="571320" cy="500040"/>
          </a:xfrm>
          <a:custGeom>
            <a:avLst/>
            <a:gdLst>
              <a:gd name="textAreaLeft" fmla="*/ 95760 w 571320"/>
              <a:gd name="textAreaRight" fmla="*/ 412920 w 57132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7" hR="21600" stAng="10800000" swAng="-5400000"/>
                <a:lnTo>
                  <a:pt x="11981" y="21600"/>
                </a:lnTo>
                <a:arcTo wR="7257" hR="21600" stAng="5400000" swAng="-3147322"/>
                <a:lnTo>
                  <a:pt x="21370" y="5400"/>
                </a:lnTo>
                <a:lnTo>
                  <a:pt x="16875" y="0"/>
                </a:lnTo>
                <a:lnTo>
                  <a:pt x="11920" y="5400"/>
                </a:lnTo>
                <a:lnTo>
                  <a:pt x="14283" y="5400"/>
                </a:lnTo>
                <a:arcTo wR="7257" hR="21600" stAng="2252678" swAng="2751505"/>
                <a:lnTo>
                  <a:pt x="9619" y="20424"/>
                </a:lnTo>
                <a:arcTo wR="7257" hR="21600" stAng="5795817" swAng="5004183"/>
                <a:close/>
              </a:path>
              <a:path fill="darkenLess" w="21600" h="21600">
                <a:moveTo>
                  <a:pt x="0" y="0"/>
                </a:moveTo>
                <a:arcTo wR="7257" hR="21600" stAng="10800000" swAng="-5400000"/>
                <a:lnTo>
                  <a:pt x="11981" y="21600"/>
                </a:lnTo>
                <a:arcTo wR="7257" hR="21600" stAng="5400000" swAng="395817"/>
                <a:lnTo>
                  <a:pt x="9619" y="20424"/>
                </a:lnTo>
                <a:arcTo wR="7257" hR="21600" stAng="5795817" swAng="500418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Выгнутая вниз стрелка 10"/>
          <p:cNvSpPr/>
          <p:nvPr/>
        </p:nvSpPr>
        <p:spPr>
          <a:xfrm>
            <a:off x="1785960" y="3286080"/>
            <a:ext cx="785880" cy="428760"/>
          </a:xfrm>
          <a:custGeom>
            <a:avLst/>
            <a:gdLst>
              <a:gd name="textAreaLeft" fmla="*/ 156240 w 785880"/>
              <a:gd name="textAreaRight" fmla="*/ 576000 w 78588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591" hR="21600" stAng="10800000" swAng="-5400000"/>
                <a:lnTo>
                  <a:pt x="11536" y="21600"/>
                </a:lnTo>
                <a:arcTo wR="8591" hR="21600" stAng="5400000" swAng="-3224493"/>
                <a:lnTo>
                  <a:pt x="21256" y="6049"/>
                </a:lnTo>
                <a:lnTo>
                  <a:pt x="18655" y="0"/>
                </a:lnTo>
                <a:lnTo>
                  <a:pt x="15365" y="6049"/>
                </a:lnTo>
                <a:lnTo>
                  <a:pt x="16838" y="6049"/>
                </a:lnTo>
                <a:arcTo wR="8591" hR="21600" stAng="2175507" swAng="2986996"/>
                <a:lnTo>
                  <a:pt x="10064" y="21280"/>
                </a:lnTo>
                <a:arcTo wR="8591" hR="21600" stAng="5637497" swAng="5162503"/>
                <a:close/>
              </a:path>
              <a:path fill="darkenLess" w="21600" h="21600">
                <a:moveTo>
                  <a:pt x="0" y="0"/>
                </a:moveTo>
                <a:arcTo wR="8591" hR="21600" stAng="10800000" swAng="-5400000"/>
                <a:lnTo>
                  <a:pt x="11536" y="21600"/>
                </a:lnTo>
                <a:arcTo wR="8591" hR="21600" stAng="5400000" swAng="237497"/>
                <a:lnTo>
                  <a:pt x="10064" y="21280"/>
                </a:lnTo>
                <a:arcTo wR="8591" hR="21600" stAng="5637497" swAng="516250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Выгнутая вниз стрелка 12"/>
          <p:cNvSpPr/>
          <p:nvPr/>
        </p:nvSpPr>
        <p:spPr>
          <a:xfrm>
            <a:off x="3143160" y="2071800"/>
            <a:ext cx="571680" cy="500040"/>
          </a:xfrm>
          <a:custGeom>
            <a:avLst/>
            <a:gdLst>
              <a:gd name="textAreaLeft" fmla="*/ 95760 w 571680"/>
              <a:gd name="textAreaRight" fmla="*/ 413280 w 57168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7" hR="21600" stAng="10800000" swAng="-5400000"/>
                <a:lnTo>
                  <a:pt x="11981" y="21600"/>
                </a:lnTo>
                <a:arcTo wR="7257" hR="21600" stAng="5400000" swAng="-2941849"/>
                <a:lnTo>
                  <a:pt x="21310" y="6049"/>
                </a:lnTo>
                <a:lnTo>
                  <a:pt x="16875" y="0"/>
                </a:lnTo>
                <a:lnTo>
                  <a:pt x="11860" y="6049"/>
                </a:lnTo>
                <a:lnTo>
                  <a:pt x="14223" y="6049"/>
                </a:lnTo>
                <a:arcTo wR="7257" hR="21600" stAng="2458151" swAng="2546032"/>
                <a:lnTo>
                  <a:pt x="9619" y="20424"/>
                </a:lnTo>
                <a:arcTo wR="7257" hR="21600" stAng="5795817" swAng="5004183"/>
                <a:close/>
              </a:path>
              <a:path fill="darkenLess" w="21600" h="21600">
                <a:moveTo>
                  <a:pt x="0" y="0"/>
                </a:moveTo>
                <a:arcTo wR="7257" hR="21600" stAng="10800000" swAng="-5400000"/>
                <a:lnTo>
                  <a:pt x="11981" y="21600"/>
                </a:lnTo>
                <a:arcTo wR="7257" hR="21600" stAng="5400000" swAng="395817"/>
                <a:lnTo>
                  <a:pt x="9619" y="20424"/>
                </a:lnTo>
                <a:arcTo wR="7257" hR="21600" stAng="5795817" swAng="500418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Выгнутая вниз стрелка 13"/>
          <p:cNvSpPr/>
          <p:nvPr/>
        </p:nvSpPr>
        <p:spPr>
          <a:xfrm>
            <a:off x="3571920" y="3214800"/>
            <a:ext cx="785880" cy="500040"/>
          </a:xfrm>
          <a:custGeom>
            <a:avLst/>
            <a:gdLst>
              <a:gd name="textAreaLeft" fmla="*/ 149400 w 785880"/>
              <a:gd name="textAreaRight" fmla="*/ 573840 w 78588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223" hR="21600" stAng="10800000" swAng="-5400000"/>
                <a:lnTo>
                  <a:pt x="11660" y="21600"/>
                </a:lnTo>
                <a:arcTo wR="8223" hR="21600" stAng="5400000" swAng="-3152163"/>
                <a:lnTo>
                  <a:pt x="21271" y="6049"/>
                </a:lnTo>
                <a:lnTo>
                  <a:pt x="18164" y="0"/>
                </a:lnTo>
                <a:lnTo>
                  <a:pt x="14398" y="6049"/>
                </a:lnTo>
                <a:lnTo>
                  <a:pt x="16116" y="6049"/>
                </a:lnTo>
                <a:arcTo wR="8223" hR="21600" stAng="2247837" swAng="2873093"/>
                <a:lnTo>
                  <a:pt x="9941" y="21123"/>
                </a:lnTo>
                <a:arcTo wR="8223" hR="21600" stAng="5679070" swAng="5120930"/>
                <a:close/>
              </a:path>
              <a:path fill="darkenLess" w="21600" h="21600">
                <a:moveTo>
                  <a:pt x="0" y="0"/>
                </a:moveTo>
                <a:arcTo wR="8223" hR="21600" stAng="10800000" swAng="-5400000"/>
                <a:lnTo>
                  <a:pt x="11660" y="21600"/>
                </a:lnTo>
                <a:arcTo wR="8223" hR="21600" stAng="5400000" swAng="279070"/>
                <a:lnTo>
                  <a:pt x="9941" y="21123"/>
                </a:lnTo>
                <a:arcTo wR="8223" hR="21600" stAng="5679070" swAng="512093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5"/>
          <p:cNvSpPr/>
          <p:nvPr/>
        </p:nvSpPr>
        <p:spPr>
          <a:xfrm>
            <a:off x="1190880" y="3929040"/>
            <a:ext cx="722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00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005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=2500:5=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Выгнутая вниз стрелка 16"/>
          <p:cNvSpPr/>
          <p:nvPr/>
        </p:nvSpPr>
        <p:spPr>
          <a:xfrm>
            <a:off x="1714680" y="4572000"/>
            <a:ext cx="1071360" cy="428760"/>
          </a:xfrm>
          <a:custGeom>
            <a:avLst/>
            <a:gdLst>
              <a:gd name="textAreaLeft" fmla="*/ 227520 w 1071360"/>
              <a:gd name="textAreaRight" fmla="*/ 790200 w 107136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80" hR="21600" stAng="10800000" swAng="-5400000"/>
                <a:lnTo>
                  <a:pt x="11340" y="21600"/>
                </a:lnTo>
                <a:arcTo wR="9180" hR="21600" stAng="5400000" swAng="-3523212"/>
                <a:lnTo>
                  <a:pt x="21308" y="5400"/>
                </a:lnTo>
                <a:lnTo>
                  <a:pt x="19440" y="0"/>
                </a:lnTo>
                <a:lnTo>
                  <a:pt x="16988" y="5400"/>
                </a:lnTo>
                <a:lnTo>
                  <a:pt x="18068" y="5400"/>
                </a:lnTo>
                <a:arcTo wR="9180" hR="21600" stAng="1876788" swAng="3350269"/>
                <a:lnTo>
                  <a:pt x="10260" y="21450"/>
                </a:lnTo>
                <a:arcTo wR="9180" hR="21600" stAng="5572943" swAng="5227057"/>
                <a:close/>
              </a:path>
              <a:path fill="darkenLess" w="21600" h="21600">
                <a:moveTo>
                  <a:pt x="0" y="0"/>
                </a:moveTo>
                <a:arcTo wR="9180" hR="21600" stAng="10800000" swAng="-5400000"/>
                <a:lnTo>
                  <a:pt x="11340" y="21600"/>
                </a:lnTo>
                <a:arcTo wR="9180" hR="21600" stAng="5400000" swAng="172943"/>
                <a:lnTo>
                  <a:pt x="10260" y="21450"/>
                </a:lnTo>
                <a:arcTo wR="9180" hR="21600" stAng="5572943" swAng="5227057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Выгнутая вниз стрелка 17"/>
          <p:cNvSpPr/>
          <p:nvPr/>
        </p:nvSpPr>
        <p:spPr>
          <a:xfrm>
            <a:off x="3571920" y="4643280"/>
            <a:ext cx="1071360" cy="500400"/>
          </a:xfrm>
          <a:custGeom>
            <a:avLst/>
            <a:gdLst>
              <a:gd name="textAreaLeft" fmla="*/ 221040 w 1071360"/>
              <a:gd name="textAreaRight" fmla="*/ 788040 w 1071360"/>
              <a:gd name="textAreaTop" fmla="*/ 66960 h 500400"/>
              <a:gd name="textAreaBottom" fmla="*/ 433440 h 5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10" hR="21600" stAng="10800000" swAng="-5400000"/>
                <a:lnTo>
                  <a:pt x="11430" y="21600"/>
                </a:lnTo>
                <a:arcTo wR="8910" hR="21600" stAng="5400000" swAng="-3477362"/>
                <a:lnTo>
                  <a:pt x="21317" y="5400"/>
                </a:lnTo>
                <a:lnTo>
                  <a:pt x="19080" y="0"/>
                </a:lnTo>
                <a:lnTo>
                  <a:pt x="16277" y="5400"/>
                </a:lnTo>
                <a:lnTo>
                  <a:pt x="17537" y="5400"/>
                </a:lnTo>
                <a:arcTo wR="8910" hR="21600" stAng="1922638" swAng="3275025"/>
                <a:lnTo>
                  <a:pt x="10170" y="21383"/>
                </a:lnTo>
                <a:arcTo wR="8910" hR="21600" stAng="5602337" swAng="5197663"/>
                <a:close/>
              </a:path>
              <a:path fill="darkenLess" w="21600" h="21600">
                <a:moveTo>
                  <a:pt x="0" y="0"/>
                </a:moveTo>
                <a:arcTo wR="8910" hR="21600" stAng="10800000" swAng="-5400000"/>
                <a:lnTo>
                  <a:pt x="11430" y="21600"/>
                </a:lnTo>
                <a:arcTo wR="8910" hR="21600" stAng="5400000" swAng="202337"/>
                <a:lnTo>
                  <a:pt x="10170" y="21383"/>
                </a:lnTo>
                <a:arcTo wR="8910" hR="21600" stAng="5602337" swAng="519766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Рисунок 18" descr="Совёнок.gif"/>
          <p:cNvPicPr/>
          <p:nvPr/>
        </p:nvPicPr>
        <p:blipFill>
          <a:blip r:embed="rId1"/>
          <a:stretch/>
        </p:blipFill>
        <p:spPr>
          <a:xfrm>
            <a:off x="5643720" y="5214960"/>
            <a:ext cx="1600200" cy="142884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19" descr="Совёнок.gif"/>
          <p:cNvPicPr/>
          <p:nvPr/>
        </p:nvPicPr>
        <p:blipFill>
          <a:blip r:embed="rId2"/>
          <a:stretch/>
        </p:blipFill>
        <p:spPr>
          <a:xfrm>
            <a:off x="2428920" y="5143680"/>
            <a:ext cx="1600200" cy="142848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20"/>
          <p:cNvSpPr/>
          <p:nvPr/>
        </p:nvSpPr>
        <p:spPr>
          <a:xfrm>
            <a:off x="4572000" y="642924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1"/>
          <p:cNvSpPr/>
          <p:nvPr/>
        </p:nvSpPr>
        <p:spPr>
          <a:xfrm>
            <a:off x="-9000" y="214200"/>
            <a:ext cx="86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Деление десятичных дробей на 10,100,1000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2"/>
          <p:cNvSpPr/>
          <p:nvPr/>
        </p:nvSpPr>
        <p:spPr>
          <a:xfrm>
            <a:off x="1370160" y="857160"/>
            <a:ext cx="25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4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2288520" y="1000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1371960" y="1928880"/>
            <a:ext cx="289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4  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1440360" y="2928960"/>
            <a:ext cx="22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4 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7"/>
          <p:cNvSpPr/>
          <p:nvPr/>
        </p:nvSpPr>
        <p:spPr>
          <a:xfrm>
            <a:off x="2359800" y="20718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1285920" y="400068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 : 1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0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9"/>
          <p:cNvSpPr/>
          <p:nvPr/>
        </p:nvSpPr>
        <p:spPr>
          <a:xfrm>
            <a:off x="2214720" y="278604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Выгнутая вниз стрелка 11"/>
          <p:cNvSpPr/>
          <p:nvPr/>
        </p:nvSpPr>
        <p:spPr>
          <a:xfrm flipH="1">
            <a:off x="857160" y="4572000"/>
            <a:ext cx="1000080" cy="428760"/>
          </a:xfrm>
          <a:custGeom>
            <a:avLst/>
            <a:gdLst>
              <a:gd name="textAreaLeft" fmla="*/ 209880 w 1000080"/>
              <a:gd name="textAreaRight" fmla="*/ 736920 w 100008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64" hR="21600" stAng="10800000" swAng="-5400000"/>
                <a:lnTo>
                  <a:pt x="11379" y="21600"/>
                </a:lnTo>
                <a:arcTo wR="9064" hR="21600" stAng="5400000" swAng="-3311620"/>
                <a:lnTo>
                  <a:pt x="21237" y="6049"/>
                </a:lnTo>
                <a:lnTo>
                  <a:pt x="19286" y="0"/>
                </a:lnTo>
                <a:lnTo>
                  <a:pt x="16608" y="6049"/>
                </a:lnTo>
                <a:lnTo>
                  <a:pt x="17765" y="6049"/>
                </a:lnTo>
                <a:arcTo wR="9064" hR="21600" stAng="2088380" swAng="3126058"/>
                <a:lnTo>
                  <a:pt x="10222" y="21423"/>
                </a:lnTo>
                <a:arcTo wR="9064" hR="21600" stAng="5585562" swAng="5214438"/>
                <a:close/>
              </a:path>
              <a:path fill="darkenLess" w="21600" h="21600">
                <a:moveTo>
                  <a:pt x="0" y="0"/>
                </a:moveTo>
                <a:arcTo wR="9064" hR="21600" stAng="10800000" swAng="-5400000"/>
                <a:lnTo>
                  <a:pt x="11379" y="21600"/>
                </a:lnTo>
                <a:arcTo wR="9064" hR="21600" stAng="5400000" swAng="185562"/>
                <a:lnTo>
                  <a:pt x="10222" y="21423"/>
                </a:lnTo>
                <a:arcTo wR="9064" hR="21600" stAng="5585562" swAng="5214438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Выгнутая вниз стрелка 12"/>
          <p:cNvSpPr/>
          <p:nvPr/>
        </p:nvSpPr>
        <p:spPr>
          <a:xfrm flipH="1">
            <a:off x="1428840" y="3429000"/>
            <a:ext cx="714240" cy="357120"/>
          </a:xfrm>
          <a:custGeom>
            <a:avLst/>
            <a:gdLst>
              <a:gd name="textAreaLeft" fmla="*/ 145080 w 714240"/>
              <a:gd name="textAreaRight" fmla="*/ 524520 w 714240"/>
              <a:gd name="textAreaTop" fmla="*/ 47880 h 357120"/>
              <a:gd name="textAreaBottom" fmla="*/ 309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-3259123"/>
                <a:lnTo>
                  <a:pt x="21249" y="6049"/>
                </a:lnTo>
                <a:lnTo>
                  <a:pt x="18900" y="0"/>
                </a:lnTo>
                <a:lnTo>
                  <a:pt x="15849" y="6049"/>
                </a:lnTo>
                <a:lnTo>
                  <a:pt x="17199" y="6049"/>
                </a:lnTo>
                <a:arcTo wR="8775" hR="21600" stAng="2140877" swAng="3041965"/>
                <a:lnTo>
                  <a:pt x="10125" y="21343"/>
                </a:lnTo>
                <a:arcTo wR="8775" hR="21600" stAng="5617159" swAng="5182841"/>
                <a:close/>
              </a:path>
              <a:path fill="darkenLess" w="21600" h="21600">
                <a:moveTo>
                  <a:pt x="0" y="0"/>
                </a:moveTo>
                <a:arcTo wR="8775" hR="21600" stAng="10800000" swAng="-5400000"/>
                <a:lnTo>
                  <a:pt x="11475" y="21600"/>
                </a:lnTo>
                <a:arcTo wR="8775" hR="21600" stAng="5400000" swAng="217159"/>
                <a:lnTo>
                  <a:pt x="10125" y="21343"/>
                </a:lnTo>
                <a:arcTo wR="8775" hR="21600" stAng="5617159" swAng="5182841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Выгнутая вниз стрелка 14"/>
          <p:cNvSpPr/>
          <p:nvPr/>
        </p:nvSpPr>
        <p:spPr>
          <a:xfrm flipH="1">
            <a:off x="1785960" y="1357200"/>
            <a:ext cx="357120" cy="357480"/>
          </a:xfrm>
          <a:custGeom>
            <a:avLst/>
            <a:gdLst>
              <a:gd name="textAreaLeft" fmla="*/ 55800 w 357120"/>
              <a:gd name="textAreaRight" fmla="*/ 256680 w 357120"/>
              <a:gd name="textAreaTop" fmla="*/ 47880 h 357480"/>
              <a:gd name="textAreaBottom" fmla="*/ 30960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2818188"/>
                <a:lnTo>
                  <a:pt x="21330" y="6049"/>
                </a:lnTo>
                <a:lnTo>
                  <a:pt x="16200" y="0"/>
                </a:lnTo>
                <a:lnTo>
                  <a:pt x="10530" y="6049"/>
                </a:lnTo>
                <a:lnTo>
                  <a:pt x="13230" y="6049"/>
                </a:lnTo>
                <a:arcTo wR="6750" hR="21600" stAng="2581812" swAng="2352202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285840" y="51436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апятую переносим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право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на столько цифр, сколь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нулей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после един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Рисунок 22" descr="Совёнок.gif"/>
          <p:cNvPicPr/>
          <p:nvPr/>
        </p:nvPicPr>
        <p:blipFill>
          <a:blip r:embed="rId1"/>
          <a:stretch/>
        </p:blipFill>
        <p:spPr>
          <a:xfrm>
            <a:off x="5572080" y="1500120"/>
            <a:ext cx="2320920" cy="2071800"/>
          </a:xfrm>
          <a:prstGeom prst="rect">
            <a:avLst/>
          </a:prstGeom>
          <a:ln w="0">
            <a:noFill/>
          </a:ln>
        </p:spPr>
      </p:pic>
      <p:sp>
        <p:nvSpPr>
          <p:cNvPr id="261" name="TextBox 20"/>
          <p:cNvSpPr/>
          <p:nvPr/>
        </p:nvSpPr>
        <p:spPr>
          <a:xfrm>
            <a:off x="2074320" y="9288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Выгнутая вниз стрелка 21"/>
          <p:cNvSpPr/>
          <p:nvPr/>
        </p:nvSpPr>
        <p:spPr>
          <a:xfrm flipH="1">
            <a:off x="1642320" y="2357280"/>
            <a:ext cx="500040" cy="428760"/>
          </a:xfrm>
          <a:custGeom>
            <a:avLst/>
            <a:gdLst>
              <a:gd name="textAreaLeft" fmla="*/ 84240 w 500040"/>
              <a:gd name="textAreaRight" fmla="*/ 361440 w 50004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329" hR="21600" stAng="10800000" swAng="-5400000"/>
                <a:lnTo>
                  <a:pt x="11958" y="21600"/>
                </a:lnTo>
                <a:arcTo wR="7329" hR="21600" stAng="5400000" swAng="-2958640"/>
                <a:lnTo>
                  <a:pt x="21307" y="6049"/>
                </a:lnTo>
                <a:lnTo>
                  <a:pt x="16972" y="0"/>
                </a:lnTo>
                <a:lnTo>
                  <a:pt x="12050" y="6049"/>
                </a:lnTo>
                <a:lnTo>
                  <a:pt x="14364" y="6049"/>
                </a:lnTo>
                <a:arcTo wR="7329" hR="21600" stAng="2441360" swAng="2572044"/>
                <a:lnTo>
                  <a:pt x="9643" y="20494"/>
                </a:lnTo>
                <a:arcTo wR="7329" hR="21600" stAng="5786597" swAng="5013403"/>
                <a:close/>
              </a:path>
              <a:path fill="darkenLess" w="21600" h="21600">
                <a:moveTo>
                  <a:pt x="0" y="0"/>
                </a:moveTo>
                <a:arcTo wR="7329" hR="21600" stAng="10800000" swAng="-5400000"/>
                <a:lnTo>
                  <a:pt x="11958" y="21600"/>
                </a:lnTo>
                <a:arcTo wR="7329" hR="21600" stAng="5400000" swAng="386597"/>
                <a:lnTo>
                  <a:pt x="9643" y="20494"/>
                </a:lnTo>
                <a:arcTo wR="7329" hR="21600" stAng="5786597" swAng="5013403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23"/>
          <p:cNvSpPr/>
          <p:nvPr/>
        </p:nvSpPr>
        <p:spPr>
          <a:xfrm>
            <a:off x="3502440" y="92880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24"/>
          <p:cNvSpPr/>
          <p:nvPr/>
        </p:nvSpPr>
        <p:spPr>
          <a:xfrm>
            <a:off x="2074320" y="19288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5"/>
          <p:cNvSpPr/>
          <p:nvPr/>
        </p:nvSpPr>
        <p:spPr>
          <a:xfrm>
            <a:off x="3574440" y="19288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6"/>
          <p:cNvSpPr/>
          <p:nvPr/>
        </p:nvSpPr>
        <p:spPr>
          <a:xfrm>
            <a:off x="2074320" y="29289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7"/>
          <p:cNvSpPr/>
          <p:nvPr/>
        </p:nvSpPr>
        <p:spPr>
          <a:xfrm>
            <a:off x="3788640" y="30002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8"/>
          <p:cNvSpPr/>
          <p:nvPr/>
        </p:nvSpPr>
        <p:spPr>
          <a:xfrm>
            <a:off x="1143000" y="2928960"/>
            <a:ext cx="2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9"/>
          <p:cNvSpPr/>
          <p:nvPr/>
        </p:nvSpPr>
        <p:spPr>
          <a:xfrm>
            <a:off x="3578040" y="292896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0"/>
          <p:cNvSpPr/>
          <p:nvPr/>
        </p:nvSpPr>
        <p:spPr>
          <a:xfrm>
            <a:off x="861120" y="40719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31"/>
          <p:cNvSpPr/>
          <p:nvPr/>
        </p:nvSpPr>
        <p:spPr>
          <a:xfrm>
            <a:off x="4008960" y="4000680"/>
            <a:ext cx="15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00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32"/>
          <p:cNvSpPr/>
          <p:nvPr/>
        </p:nvSpPr>
        <p:spPr>
          <a:xfrm>
            <a:off x="4143240" y="4000680"/>
            <a:ext cx="2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33"/>
          <p:cNvSpPr/>
          <p:nvPr/>
        </p:nvSpPr>
        <p:spPr>
          <a:xfrm>
            <a:off x="4286160" y="650088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2T15:30:24Z</dcterms:created>
  <dc:creator>Admin</dc:creator>
  <dc:description/>
  <dc:language>en-US</dc:language>
  <cp:lastModifiedBy>Admin</cp:lastModifiedBy>
  <dcterms:modified xsi:type="dcterms:W3CDTF">2010-11-05T07:57:32Z</dcterms:modified>
  <cp:revision>3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60000000000010250300207f7000400038000</vt:lpwstr>
  </property>
</Properties>
</file>