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A5A-C33B-4B57-87E0-672846DE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7B83-6922-40CC-A973-EDBF787A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F56-7D92-4BDB-83CB-C46EDF5A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D04F-C0F6-414C-AC11-6DABC7E4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2FB-1180-4058-8A56-BFF18EB1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B38-1AFF-429E-A389-65F6ECAD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ED2-F5B9-405B-86E9-397624A0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7E1-8CB0-4B98-B2F3-23E9A95E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F59-E392-462B-8A2E-BE64A6D9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A33-7E96-404C-AC5A-59F8AAEA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9E4-87FF-4306-85A9-299D3E8E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8D9-E727-4D6F-9B11-EE3FDBE9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2619-65DA-4405-8E46-BFC5D00E4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,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а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5 с углублё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языков» г.Новочебокса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44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исел, имеющих 5 деся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9258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98100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59500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99ff">
                  <a:alpha val="99215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54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  <a:ea typeface="Arial"/>
              </a:rPr>
              <a:t>•11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=5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36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Arial"/>
              </a:rPr>
              <a:t>•111=6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42•33=13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65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=42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5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=25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792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2144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ножение способом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ерро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62064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2144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усы называют ег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лниенос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реки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азм»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тальянцы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per  crocett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что означает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1•43=         71•3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43•16=        52•7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51560" y="4292640"/>
            <a:ext cx="1792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иги и сай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тлер Э. Мак-Шейн Р. Система быстрого счёта по Трахтенбер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ьман Я.И. Быстрый с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 простых приёмов устного сч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www.superidea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тие творческого мышления 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http://www.all-fizika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ка быстрого счета. Быстрый счет в 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4018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92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5472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765000"/>
            <a:ext cx="180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3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м большое спасибо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ы – молодц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иёмы быстрого сч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оить способы быстрого умножения     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Деви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знающие пусть научатся,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Comic Sans MS"/>
              </a:rPr>
              <a:t>урока: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знающие - вспомнят ещё р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нтичный аф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7920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КИЕ 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1673280" cy="237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908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185580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ЭЙНШТЕЙН 1879-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 1623-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МЕД 287-212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ОНАЧЧИ 1180-1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84836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ое свойство умножения относительно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48360" cy="5256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6•10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7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8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95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36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Умножение трёхзначных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чисел на1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848360" cy="4969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2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475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Arial"/>
              </a:rPr>
              <a:t>359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138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8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04640"/>
            <a:ext cx="7192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4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на числ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а 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74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12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6280"/>
            <a:ext cx="7189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1700280"/>
            <a:ext cx="792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777080" cy="106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36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59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543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416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76280"/>
            <a:ext cx="7207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076640"/>
            <a:ext cx="244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422100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87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 чисел, оканчивающихся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765000"/>
            <a:ext cx="720720" cy="64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4:28Z</dcterms:created>
  <dc:creator>Elena</dc:creator>
  <dc:description/>
  <dc:language>en-US</dc:language>
  <cp:lastModifiedBy>Елена</cp:lastModifiedBy>
  <dcterms:modified xsi:type="dcterms:W3CDTF">2012-02-07T19:37:4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50300207f7000400038000</vt:lpwstr>
  </property>
</Properties>
</file>