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86F-431F-4AD3-9373-43FBB778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4B5-942A-49DE-B840-2A0A5D0F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F22-FB9C-48E1-9D55-CF308021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B6CB-24DD-4EAB-B6D5-6CB03F73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818-4D22-4C0F-B47F-63EFB5E8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305B-3649-4FD7-A696-79DC0C50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89F-4B1C-474D-BFE4-C9550646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3B50-6666-4587-922E-88C0B61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E02-CCF5-43FB-83BE-B25711E6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08B-1136-49B3-9855-B568EF61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0C15-2146-414B-A882-3FDCB6A9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D9EB-4622-43DB-A996-0CD943A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972-3B06-41E1-B91D-C9E70FBFF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Урок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ff"/>
                </a:solidFill>
                <a:latin typeface="Arial"/>
              </a:rPr>
              <a:t>в 6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вто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, информа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ванова Елена Васил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5 с углублё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х языков» г.Новочебокса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вашской Респу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440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чисел, имеющих 5 десят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848360" cy="49258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7280" y="98100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42920" y="595008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1341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99ff">
                  <a:alpha val="99215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54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  <a:ea typeface="Arial"/>
              </a:rPr>
              <a:t>•11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=5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36</a:t>
            </a:r>
            <a:r>
              <a:rPr b="0" lang="en-US" sz="4400" spc="-1" strike="noStrike">
                <a:solidFill>
                  <a:srgbClr val="ff33cc"/>
                </a:solidFill>
                <a:latin typeface="Arial"/>
                <a:ea typeface="Arial"/>
              </a:rPr>
              <a:t>•111=6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en-US" sz="4400" spc="-1" strike="noStrike">
                <a:solidFill>
                  <a:srgbClr val="ff3399"/>
                </a:solidFill>
                <a:latin typeface="Arial"/>
                <a:ea typeface="Arial"/>
              </a:rPr>
              <a:t>42•33=138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65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=42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51</a:t>
            </a:r>
            <a:r>
              <a:rPr b="0" lang="en-US" sz="4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Arial"/>
              </a:rPr>
              <a:t>=25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236000" y="4221000"/>
            <a:ext cx="179208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7000"/>
                            </p:stCondLst>
                            <p:childTnLst>
                              <p:par>
                                <p:cTn id="84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91" nodeType="after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92144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множение способом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Ферро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58920" y="620640"/>
            <a:ext cx="576360" cy="576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268280"/>
            <a:ext cx="792144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ндусы называют его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олниеносным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греки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«хиазм»,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итальянцы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per  crocetta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что означает –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на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1•43=         71•3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43•16=        52•7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Arial"/>
                <a:ea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351560" y="4292640"/>
            <a:ext cx="1792440" cy="2303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иги и сай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1599840"/>
            <a:ext cx="7777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тлер Э. Мак-Шейн Р. Система быстрого счёта по Трахтенбер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ерельман Я.И. Быстрый счё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0 простых приёмов устного счё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http://www.superidea.ru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звитие творческого мышления и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http://www.all-fizika.co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хника быстрого счета. Быстрый счет в у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24720" y="4653000"/>
            <a:ext cx="140184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922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848360" cy="5472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4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3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765000"/>
            <a:ext cx="18000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5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6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31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24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ff"/>
                </a:solidFill>
                <a:latin typeface="Arial"/>
              </a:rPr>
              <a:t>14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сем большое спасибо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Вы – молодцы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143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Приёмы быстрого сч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Цел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своить способы быстрого умножения      натуральных 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Девиз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незнающие пусть научатся,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Comic Sans MS"/>
              </a:rPr>
              <a:t>урока: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 знающие - вспомнят ещё ра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431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Античный афор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20000" y="4365720"/>
            <a:ext cx="179208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ЕЛИКИЕ 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1684440" cy="194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1673280" cy="2373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4005360"/>
            <a:ext cx="2090880" cy="21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76360" y="1268280"/>
            <a:ext cx="185580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29272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. ЭЙНШТЕЙН 1879-19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6165720"/>
            <a:ext cx="2808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ЕЗ ПАСКАЛЬ 1623-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РХИМЕД 287-212 до н.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3429000"/>
            <a:ext cx="280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БОНАЧЧИ 1180-1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848360" cy="100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ое свойство умножения относительно с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341000"/>
            <a:ext cx="7848360" cy="5256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9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76•10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Умножение на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27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8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95•11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848360" cy="1368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Умножение трёхзначных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Comic Sans MS"/>
              </a:rPr>
              <a:t>чисел на11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848360" cy="4969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27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475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Arial"/>
                <a:ea typeface="Arial"/>
              </a:rPr>
              <a:t>359•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206064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138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848360" cy="51847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3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58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04640"/>
            <a:ext cx="71928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0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4680"/>
            <a:ext cx="7848360" cy="1425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множение на число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а а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848360" cy="4897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3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74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22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19640" y="112536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476280"/>
            <a:ext cx="7189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08000" y="1700280"/>
            <a:ext cx="792360" cy="792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46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777080" cy="1066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Умножение чисел на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268280"/>
            <a:ext cx="7848360" cy="53294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36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•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159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543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  <a:ea typeface="Arial"/>
              </a:rPr>
              <a:t>416•1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476280"/>
            <a:ext cx="720720" cy="72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7280" y="4076640"/>
            <a:ext cx="244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92720" y="4221000"/>
            <a:ext cx="2521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2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848360" cy="1873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cc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Возведение в квадрат двузначных чисел, оканчивающихся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280" y="2133720"/>
            <a:ext cx="7848360" cy="4464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4800" spc="-1" strike="noStrike">
                <a:solidFill>
                  <a:srgbClr val="a50021"/>
                </a:solidFill>
                <a:latin typeface="Arial"/>
                <a:ea typeface="Arial"/>
              </a:rPr>
              <a:t>5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765000"/>
            <a:ext cx="720720" cy="648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164360" y="4221000"/>
            <a:ext cx="179244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5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44:28Z</dcterms:created>
  <dc:creator>Elena</dc:creator>
  <dc:description/>
  <dc:language>en-US</dc:language>
  <cp:lastModifiedBy>Елена</cp:lastModifiedBy>
  <dcterms:modified xsi:type="dcterms:W3CDTF">2012-02-07T19:37:44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20000000000010250300207f7000400038000</vt:lpwstr>
  </property>
</Properties>
</file>