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gif" ContentType="image/gif"/>
  <Override PartName="/ppt/media/image12.png" ContentType="image/png"/>
  <Override PartName="/ppt/media/image4.png" ContentType="image/png"/>
  <Override PartName="/ppt/media/image8.jpeg" ContentType="image/jpeg"/>
  <Override PartName="/ppt/media/image13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3365-2005-4C05-8868-E7F3FE8F2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ECC1-C80B-4212-8BF7-0AFDA47F5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EA70-FC08-4570-91E5-5F8D403FF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62F2-D652-40DA-8D9A-6C85FC3E1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EC07-037E-4321-9E24-F821D780E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8681-9185-4E51-AE77-58F44924A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565A-F466-4B79-84B6-AA2EEB54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BE33-1813-41E3-BC82-71E084110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625D-C625-4AEB-B4DB-868D80A75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271B-5336-4C5A-82C6-3100E500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BD9D-6C15-48DF-9051-AE308B90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DB7E-68E1-4ECD-AB4E-C371693E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28567-F099-4821-931C-8DCA6C8E8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ff"/>
                </a:solidFill>
                <a:latin typeface="Arial"/>
              </a:rPr>
              <a:t>Урок матема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ff"/>
                </a:solidFill>
                <a:latin typeface="Arial"/>
              </a:rPr>
              <a:t>в 6 класс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Авто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учитель математики, информа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ванова Елена Василь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БОУ «СОШ №5 с углублённым изучени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остранных языков» г.Новочебоксар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увашской Республ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848360" cy="1440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Возведение в квадрат двузначных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чисел, имеющих 5 десят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848360" cy="49258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5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5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5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87280" y="981000"/>
            <a:ext cx="576360" cy="576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7164360" y="4221000"/>
            <a:ext cx="1792440" cy="2303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042920" y="5950080"/>
            <a:ext cx="1944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изкультмину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7280" y="1341360"/>
            <a:ext cx="431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848360" cy="1143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99ff">
                  <a:alpha val="99215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ФИЗКУЛЬТ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71280" y="1413000"/>
            <a:ext cx="7848360" cy="51847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ff"/>
                </a:solidFill>
                <a:latin typeface="Arial"/>
              </a:rPr>
              <a:t>54</a:t>
            </a:r>
            <a:r>
              <a:rPr b="0" lang="en-US" sz="4400" spc="-1" strike="noStrike">
                <a:solidFill>
                  <a:srgbClr val="ff66ff"/>
                </a:solidFill>
                <a:latin typeface="Arial"/>
                <a:ea typeface="Arial"/>
              </a:rPr>
              <a:t>•11</a:t>
            </a:r>
            <a:r>
              <a:rPr b="0" lang="en-US" sz="4400" spc="-1" strike="noStrike">
                <a:solidFill>
                  <a:srgbClr val="ff66ff"/>
                </a:solidFill>
                <a:latin typeface="Arial"/>
              </a:rPr>
              <a:t>=59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36</a:t>
            </a:r>
            <a:r>
              <a:rPr b="0" lang="en-US" sz="4400" spc="-1" strike="noStrike">
                <a:solidFill>
                  <a:srgbClr val="ff33cc"/>
                </a:solidFill>
                <a:latin typeface="Arial"/>
                <a:ea typeface="Arial"/>
              </a:rPr>
              <a:t>•111=69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en-US" sz="4400" spc="-1" strike="noStrike">
                <a:solidFill>
                  <a:srgbClr val="ff3399"/>
                </a:solidFill>
                <a:latin typeface="Arial"/>
                <a:ea typeface="Arial"/>
              </a:rPr>
              <a:t>42•33=138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  <a:ea typeface="Arial"/>
              </a:rPr>
              <a:t>65</a:t>
            </a:r>
            <a:r>
              <a:rPr b="0" lang="en-US" sz="4400" spc="-1" strike="noStrike" baseline="30000">
                <a:solidFill>
                  <a:srgbClr val="ff0066"/>
                </a:solidFill>
                <a:latin typeface="Arial"/>
                <a:ea typeface="Arial"/>
              </a:rPr>
              <a:t>2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  <a:ea typeface="Arial"/>
              </a:rPr>
              <a:t>=42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51</a:t>
            </a:r>
            <a:r>
              <a:rPr b="0" lang="en-US" sz="44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=25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7236000" y="4221000"/>
            <a:ext cx="1792080" cy="23036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3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3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7000"/>
                            </p:stCondLst>
                            <p:childTnLst>
                              <p:par>
                                <p:cTn id="84" nodeType="afterEffect" fill="hold" presetClass="entr" presetID="3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7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8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9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2000"/>
                            </p:stCondLst>
                            <p:childTnLst>
                              <p:par>
                                <p:cTn id="91" nodeType="afterEffect" fill="hold" presetClass="entr" presetID="3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7921440" cy="1008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множение способом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Феррол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58920" y="620640"/>
            <a:ext cx="576360" cy="576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71640" y="1268280"/>
            <a:ext cx="7921440" cy="532944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ндусы называют его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молниеносным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греки –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«хиазм»,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итальянцы –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per  crocetta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что означает –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накре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21•43=         71•35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99"/>
                </a:solidFill>
                <a:latin typeface="Arial"/>
                <a:ea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Arial"/>
                <a:ea typeface="Arial"/>
              </a:rPr>
              <a:t>43•16=        52•71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Arial"/>
                <a:ea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7351560" y="4292640"/>
            <a:ext cx="1792440" cy="23032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02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ниги и сай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42560" y="1599840"/>
            <a:ext cx="77770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тлер Э. Мак-Шейн Р. Система быстрого счёта по Трахтенбер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ерельман Я.И. Быстрый сч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0 простых приёмов устного счё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http://www.superidea.r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Развитие творческого мышления и интелл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http://www.all-fizika.co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ехника быстрого счета. Быстрый счет в у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524720" y="4653000"/>
            <a:ext cx="1401840" cy="18003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08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280" y="274680"/>
            <a:ext cx="7848360" cy="922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оверь себя!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848360" cy="547236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1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4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3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3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3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372360" y="765000"/>
            <a:ext cx="180000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6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15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699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20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31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14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243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14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Всем большое спасибо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Вы – молодцы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6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8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7848360" cy="1143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Приёмы быстрого сч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848360" cy="532944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43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omic Sans MS"/>
              </a:rPr>
              <a:t>Цель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освоить способы быстрого умножения      натуральных чис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43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omic Sans MS"/>
              </a:rPr>
              <a:t>Девиз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езнающие пусть научатся,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43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Comic Sans MS"/>
              </a:rPr>
              <a:t>урока: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 знающие - вспомнят ещё ра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43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нтичный афор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020000" y="4365720"/>
            <a:ext cx="1792080" cy="21603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ЕЛИКИЕ У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724360" y="4149720"/>
            <a:ext cx="1684440" cy="1943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724360" y="1341360"/>
            <a:ext cx="1673280" cy="2373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1403280" y="4005360"/>
            <a:ext cx="2090880" cy="2187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1476360" y="1268280"/>
            <a:ext cx="1855800" cy="2187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292720" y="6165720"/>
            <a:ext cx="2808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. ЭЙНШТЕЙН 1879-19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87280" y="6165720"/>
            <a:ext cx="2808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ЛЕЗ ПАСКАЛЬ 1623-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3429000"/>
            <a:ext cx="2808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РХИМЕД 287-212 до н.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19640" y="3429000"/>
            <a:ext cx="2808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ИБОНАЧЧИ 1180-12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848360" cy="1008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Распределительное свойство умножения относительно с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341000"/>
            <a:ext cx="7848360" cy="525636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•9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76•101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Умножение на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27•11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8•11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  <a:ea typeface="Arial"/>
              </a:rPr>
              <a:t>95•11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7164360" y="4221000"/>
            <a:ext cx="1792440" cy="23036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8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7848360" cy="13683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mic Sans MS"/>
              </a:rPr>
              <a:t>Умножение трёхзначных</a:t>
            </a:r>
            <a:br>
              <a:rPr sz="3900"/>
            </a:br>
            <a:r>
              <a:rPr b="0" lang="en-US" sz="3900" spc="-1" strike="noStrike">
                <a:solidFill>
                  <a:srgbClr val="000000"/>
                </a:solidFill>
                <a:latin typeface="Comic Sans MS"/>
              </a:rPr>
              <a:t>чисел на11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71280" y="1628280"/>
            <a:ext cx="7848360" cy="49690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27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•11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475•11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  <a:ea typeface="Arial"/>
              </a:rPr>
              <a:t>359•11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7164360" y="4221000"/>
            <a:ext cx="1792440" cy="2303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4000" y="206064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4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71280" y="274680"/>
            <a:ext cx="7848360" cy="1138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Умножение чисел на 1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71280" y="1413000"/>
            <a:ext cx="7848360" cy="51847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11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73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11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58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  <a:ea typeface="Arial"/>
              </a:rPr>
              <a:t>•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111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04640"/>
            <a:ext cx="719280" cy="792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7164360" y="4221000"/>
            <a:ext cx="1792440" cy="23036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0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274680"/>
            <a:ext cx="7848360" cy="14256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множение на число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ида а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700280"/>
            <a:ext cx="7848360" cy="489744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5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3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74</a:t>
            </a:r>
            <a:r>
              <a:rPr b="0" lang="en-US" sz="4400" spc="-1" strike="noStrike">
                <a:solidFill>
                  <a:srgbClr val="a50021"/>
                </a:solidFill>
                <a:latin typeface="Arial"/>
                <a:ea typeface="Arial"/>
              </a:rPr>
              <a:t>•</a:t>
            </a: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22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219640" y="1125360"/>
            <a:ext cx="5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332000" y="476280"/>
            <a:ext cx="718920" cy="720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7164360" y="4221000"/>
            <a:ext cx="1792440" cy="23036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908000" y="1700280"/>
            <a:ext cx="792360" cy="792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6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777080" cy="10666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Умножение чисел на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848360" cy="532944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36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  <a:ea typeface="Arial"/>
              </a:rPr>
              <a:t>•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12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159•12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543•12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  <a:ea typeface="Arial"/>
              </a:rPr>
              <a:t>416•12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87280" y="476280"/>
            <a:ext cx="720720" cy="720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067280" y="4076640"/>
            <a:ext cx="2449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92720" y="4221000"/>
            <a:ext cx="252108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7164360" y="4221000"/>
            <a:ext cx="1792440" cy="23036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52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848360" cy="18734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Возведение в квадрат двузначных чисел, оканчивающихся на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71280" y="2133720"/>
            <a:ext cx="7848360" cy="44640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0" lang="en-US" sz="4800" spc="-1" strike="noStrike">
                <a:solidFill>
                  <a:srgbClr val="a50021"/>
                </a:solidFill>
                <a:latin typeface="Arial"/>
                <a:ea typeface="Arial"/>
              </a:rPr>
              <a:t>5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4800" spc="-1" strike="noStrike">
                <a:solidFill>
                  <a:srgbClr val="a50021"/>
                </a:solidFill>
                <a:latin typeface="Arial"/>
                <a:ea typeface="Arial"/>
              </a:rPr>
              <a:t>5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4800" spc="-1" strike="noStrike">
                <a:solidFill>
                  <a:srgbClr val="a50021"/>
                </a:solidFill>
                <a:latin typeface="Arial"/>
                <a:ea typeface="Arial"/>
              </a:rPr>
              <a:t>5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87280" y="765000"/>
            <a:ext cx="720720" cy="648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7164360" y="4221000"/>
            <a:ext cx="1792440" cy="23036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58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10:44:28Z</dcterms:created>
  <dc:creator>Elena</dc:creator>
  <dc:description/>
  <dc:language>en-US</dc:language>
  <cp:lastModifiedBy>Елена</cp:lastModifiedBy>
  <dcterms:modified xsi:type="dcterms:W3CDTF">2012-02-07T19:37:44Z</dcterms:modified>
  <cp:revision>1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6020000000000010250300207f7000400038000</vt:lpwstr>
  </property>
</Properties>
</file>