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4BC-E813-4304-8A9D-6883FE7A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2B4-57C9-43E1-8477-F5248093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32A-B5AA-4A95-9A20-3E9FFB38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C19-3C46-4FCB-A303-D874AB1F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86E-50C9-4C1C-8BCD-34F95BAA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D86-EF17-4C6D-98C5-84D1B76A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3A9-516B-4B1C-9A10-9903B6B5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B9A-376E-4799-B50C-12B29542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320-D323-4E2C-8900-0A326D2A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14E-2D3F-4354-8A42-A12445DE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E8D-FED2-445D-BA0B-1927556D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EE6-D943-4851-86CD-C3476609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5ADF-8B57-42F2-9D0A-7365902BB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Урок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итель математики,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ванова Еле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5 с углублённым изу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х языков» г.Новочебокса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ашской 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44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чисел, имеющих 5 деся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848360" cy="49258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98100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59500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134136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99ff">
                  <a:alpha val="99215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54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  <a:ea typeface="Arial"/>
              </a:rPr>
              <a:t>•11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=5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36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  <a:ea typeface="Arial"/>
              </a:rPr>
              <a:t>•111=6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Arial"/>
              </a:rPr>
              <a:t>42•33=13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65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=42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51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=25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6000" y="4221000"/>
            <a:ext cx="1792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2144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ножение способом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ерро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62064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2144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дусы называют его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олниеносны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греки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«хиазм»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тальянцы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per  crocett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что означает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ак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1•43=         71•3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43•16=        52•7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351560" y="4292640"/>
            <a:ext cx="179244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ниги и сай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тлер Э. Мак-Шейн Р. Система быстрого счёта по Трахтенбер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льман Я.И. Быстрый с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0 простых приёмов устного сч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http://www.superidea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тие творческого мышления и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http://www.all-fizika.c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ка быстрого счета. Быстрый счет в у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24720" y="4653000"/>
            <a:ext cx="14018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922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848360" cy="5472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765000"/>
            <a:ext cx="1800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3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4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сем большое спасибо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ы – молодцы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иёмы быстрого сч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воить способы быстрого умножения      натураль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Девиз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езнающие пусть научатся,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Comic Sans MS"/>
              </a:rPr>
              <a:t>урока: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знающие - вспомнят ещё ра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нтичный афо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7920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ЛИКИЕ У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168444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1673280" cy="237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209088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185580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ЭЙНШТЕЙН 1879-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З ПАСКАЛЬ 1623-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ИМЕД 287-212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БОНАЧЧИ 1180-1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84836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ое свойство умножения относительно с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848360" cy="5256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76•10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множение на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7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8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95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368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Умножение трёхзначных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чисел на1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848360" cy="4969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2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475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  <a:ea typeface="Arial"/>
              </a:rPr>
              <a:t>359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206064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138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8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04640"/>
            <a:ext cx="7192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425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ножение на числ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а 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74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2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1125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476280"/>
            <a:ext cx="7189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1700280"/>
            <a:ext cx="792360" cy="79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777080" cy="1066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36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59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543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416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476280"/>
            <a:ext cx="7207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076640"/>
            <a:ext cx="244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4221000"/>
            <a:ext cx="2521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87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 чисел, оканчивающихся на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848360" cy="4464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765000"/>
            <a:ext cx="720720" cy="64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44:28Z</dcterms:created>
  <dc:creator>Elena</dc:creator>
  <dc:description/>
  <dc:language>en-US</dc:language>
  <cp:lastModifiedBy>Елена</cp:lastModifiedBy>
  <dcterms:modified xsi:type="dcterms:W3CDTF">2012-02-07T19:37:4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20000000000010250300207f7000400038000</vt:lpwstr>
  </property>
</Properties>
</file>