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gif" ContentType="image/gif"/>
  <Override PartName="/ppt/media/image5.wmf" ContentType="image/x-wmf"/>
  <Override PartName="/ppt/media/image10.wmf" ContentType="image/x-wmf"/>
  <Override PartName="/ppt/media/image3.wmf" ContentType="image/x-wmf"/>
  <Override PartName="/ppt/media/image4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FFB9-FDBC-4A5D-91D8-BEEF1A1A1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5CD5-506F-4BDD-9CFC-2F4B057FA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6ED6-544F-4475-94CE-6ED36956E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7760-1E02-4A15-806A-801274887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9304F-5777-443E-A09D-6202523E2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61825-3EB9-42EB-8EFD-3A7B8082B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8B639-8642-448A-AA7A-976497557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1494D-AC97-44ED-A4DE-6410E381C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B45D6-3F8A-4415-BBA7-48C05039C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A804E-E76B-4105-859B-27FEA854D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6386A-C91A-4CA4-82CA-1DEC31A77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8DAD-4B9A-48B8-BD1A-7617D6E6C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B44B8-525A-4E3B-B2CA-62AC4B32B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DB32D-AEB7-4E1A-8788-4BBDF806F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40F28-DA5D-4C13-B930-3A33B85DB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C0F2D-11E3-4556-85DF-02CCCDC93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A60EC-A449-454F-A2EB-519011F5F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0269-EEB3-48A6-B69C-2F6BD052F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405D-A35A-4A54-8A4C-BA6CEA56D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8551-137E-40CA-AE4F-1ED038825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924B-2FF2-4067-BB33-AA3428D48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6031-C7CB-498E-A837-131CD1DC1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9A6A-E532-4A9F-9532-F9066795F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1F7B-E8EF-4AA2-AA85-6EBD8BEE8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9F2FA-5DBA-43D7-AADF-D1F03542E5D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3915C-F1E4-4AFE-87C2-D24408E0337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3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1" name="Object 11"/>
          <p:cNvGraphicFramePr/>
          <p:nvPr/>
        </p:nvGraphicFramePr>
        <p:xfrm>
          <a:off x="587520" y="260280"/>
          <a:ext cx="7854840" cy="58896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2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7520" y="260280"/>
                    <a:ext cx="785484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Алгебра 9класс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ля тех ,кто хочет знать больш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Picture 4" descr="8рожа"/>
          <p:cNvPicPr/>
          <p:nvPr/>
        </p:nvPicPr>
        <p:blipFill>
          <a:blip r:embed="rId1"/>
          <a:stretch/>
        </p:blipFill>
        <p:spPr>
          <a:xfrm>
            <a:off x="3772080" y="2738520"/>
            <a:ext cx="160020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Преобразование двойных радикалов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7" name="Object 4" descr=""/>
          <p:cNvPicPr/>
          <p:nvPr/>
        </p:nvPicPr>
        <p:blipFill>
          <a:blip r:embed="rId1"/>
          <a:stretch/>
        </p:blipFill>
        <p:spPr>
          <a:xfrm>
            <a:off x="2419200" y="258588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027760" y="1599840"/>
            <a:ext cx="3278160" cy="21906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17"/>
          <p:cNvSpPr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18" descr=""/>
          <p:cNvPicPr/>
          <p:nvPr/>
        </p:nvPicPr>
        <p:blipFill>
          <a:blip r:embed="rId3"/>
          <a:stretch/>
        </p:blipFill>
        <p:spPr>
          <a:xfrm>
            <a:off x="1332000" y="620640"/>
            <a:ext cx="6095880" cy="4064040"/>
          </a:xfrm>
          <a:prstGeom prst="rect">
            <a:avLst/>
          </a:prstGeom>
          <a:ln w="0">
            <a:noFill/>
          </a:ln>
        </p:spPr>
      </p:pic>
      <p:pic>
        <p:nvPicPr>
          <p:cNvPr id="131" name="Object 19" descr=""/>
          <p:cNvPicPr/>
          <p:nvPr/>
        </p:nvPicPr>
        <p:blipFill>
          <a:blip r:embed="rId4"/>
          <a:stretch/>
        </p:blipFill>
        <p:spPr>
          <a:xfrm>
            <a:off x="324000" y="2421000"/>
            <a:ext cx="7416720" cy="16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77072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Освободимся от внешнего радикала</a:t>
            </a: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в выражении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71280" y="1700280"/>
            <a:ext cx="6985080" cy="41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Object 6" descr=""/>
          <p:cNvPicPr/>
          <p:nvPr/>
        </p:nvPicPr>
        <p:blipFill>
          <a:blip r:embed="rId1"/>
          <a:stretch/>
        </p:blipFill>
        <p:spPr>
          <a:xfrm>
            <a:off x="6610320" y="258588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135" name="Object 4" descr=""/>
          <p:cNvPicPr/>
          <p:nvPr/>
        </p:nvPicPr>
        <p:blipFill>
          <a:blip r:embed="rId2"/>
          <a:stretch/>
        </p:blipFill>
        <p:spPr>
          <a:xfrm>
            <a:off x="179280" y="2060640"/>
            <a:ext cx="783612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eec94"/>
                </a:solidFill>
                <a:latin typeface="Times New Roman"/>
              </a:rPr>
              <a:t>Метод неопределенных коэффициентов</a:t>
            </a:r>
            <a:endParaRPr b="1" lang="en-US" sz="35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7" name="Object 4" descr="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57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Формула двойного радикал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9" name="Object 4" descr=""/>
          <p:cNvPicPr/>
          <p:nvPr/>
        </p:nvPicPr>
        <p:blipFill>
          <a:blip r:embed="rId1"/>
          <a:stretch/>
        </p:blipFill>
        <p:spPr>
          <a:xfrm>
            <a:off x="836640" y="1774800"/>
            <a:ext cx="74692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Найди значение выражени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Object 6" descr=""/>
          <p:cNvPicPr/>
          <p:nvPr/>
        </p:nvPicPr>
        <p:blipFill>
          <a:blip r:embed="rId1"/>
          <a:stretch/>
        </p:blipFill>
        <p:spPr>
          <a:xfrm>
            <a:off x="1085760" y="1847880"/>
            <a:ext cx="6740640" cy="38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роверь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77920" y="1819080"/>
            <a:ext cx="6789600" cy="40906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1557000"/>
            <a:ext cx="72169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Object 6" descr=""/>
          <p:cNvPicPr/>
          <p:nvPr/>
        </p:nvPicPr>
        <p:blipFill>
          <a:blip r:embed="rId2"/>
          <a:stretch/>
        </p:blipFill>
        <p:spPr>
          <a:xfrm>
            <a:off x="539640" y="2708280"/>
            <a:ext cx="74170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Спасибо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8" name="Picture 4" descr="8рожа"/>
          <p:cNvPicPr/>
          <p:nvPr/>
        </p:nvPicPr>
        <p:blipFill>
          <a:blip r:embed="rId1"/>
          <a:stretch/>
        </p:blipFill>
        <p:spPr>
          <a:xfrm>
            <a:off x="3772080" y="2738520"/>
            <a:ext cx="1600200" cy="13809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8рожа"/>
          <p:cNvPicPr/>
          <p:nvPr/>
        </p:nvPicPr>
        <p:blipFill>
          <a:blip r:embed="rId2"/>
          <a:stretch/>
        </p:blipFill>
        <p:spPr>
          <a:xfrm>
            <a:off x="4788000" y="4365720"/>
            <a:ext cx="1600200" cy="1380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8рожа"/>
          <p:cNvPicPr/>
          <p:nvPr/>
        </p:nvPicPr>
        <p:blipFill>
          <a:blip r:embed="rId3"/>
          <a:stretch/>
        </p:blipFill>
        <p:spPr>
          <a:xfrm>
            <a:off x="1332000" y="2565360"/>
            <a:ext cx="1600200" cy="13813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8рожа"/>
          <p:cNvPicPr/>
          <p:nvPr/>
        </p:nvPicPr>
        <p:blipFill>
          <a:blip r:embed="rId4"/>
          <a:stretch/>
        </p:blipFill>
        <p:spPr>
          <a:xfrm>
            <a:off x="2063880" y="4300560"/>
            <a:ext cx="1711080" cy="16812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8рожа"/>
          <p:cNvPicPr/>
          <p:nvPr/>
        </p:nvPicPr>
        <p:blipFill>
          <a:blip r:embed="rId5"/>
          <a:stretch/>
        </p:blipFill>
        <p:spPr>
          <a:xfrm>
            <a:off x="5651640" y="2852640"/>
            <a:ext cx="1600200" cy="1381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14:39:13Z</dcterms:created>
  <dc:creator>Гусева </dc:creator>
  <dc:description/>
  <dc:language>en-US</dc:language>
  <cp:lastModifiedBy>Олег</cp:lastModifiedBy>
  <dcterms:modified xsi:type="dcterms:W3CDTF">2010-11-25T12:25:24Z</dcterms:modified>
  <cp:revision>1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610000000000001024140</vt:lpwstr>
  </property>
</Properties>
</file>