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gif" ContentType="image/gif"/>
  <Override PartName="/ppt/media/image5.wmf" ContentType="image/x-wmf"/>
  <Override PartName="/ppt/media/image10.wmf" ContentType="image/x-wmf"/>
  <Override PartName="/ppt/media/image3.wmf" ContentType="image/x-wmf"/>
  <Override PartName="/ppt/media/image4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093A-9FA8-4753-ABB4-CAC6D4376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3197-908B-42B9-9FFF-67AF6367F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3B7E-50DF-4907-9CDC-9EB4505BE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0055-67A8-442F-9D24-8BA22E29D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8A0BC-2E5C-4A4A-A8F3-773DA792B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A24D1-84C5-4FA0-8FEC-8D81887EC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E5C3D-E333-4E01-B625-924785C44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4E44D-FFBA-42AC-9E5C-60D626B13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F93BD-6A99-4EDD-9C07-C7BBE445C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AC58F-C843-4602-B512-B83FFE916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6FB3C-E5B4-4CEA-BF8F-886820FA6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4178-B4C1-46AA-804A-994290B29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679B7-4C58-4B6C-8C05-62A159657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3B273-EAB1-4662-B991-7E96030EA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F5AFE-CED8-4F72-B641-34633B109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5EEDC-5885-47D0-90ED-11F186C9A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648F9-38C8-437F-B0DD-51170F5ED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C887-E1CC-41D9-B9C9-C25654C9E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9B9A-F58E-4E82-83FF-DBB39ABE9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213C-B918-4ACA-B17D-D0100A9DA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F0C5-EC0F-45E8-A73A-A1074AF13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42FF-F5DB-4624-95AE-C8779694D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97E6-A04A-4896-A0FC-DF796A0D7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283C-AB1D-4441-8E49-E92479BEC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C5EA6-2CAB-4D57-8836-4013DC770A6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3794F-BE20-49E1-8944-00504AA6E2C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image" Target="../media/image3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21" name="Object 11"/>
          <p:cNvGraphicFramePr/>
          <p:nvPr/>
        </p:nvGraphicFramePr>
        <p:xfrm>
          <a:off x="587520" y="260280"/>
          <a:ext cx="7854840" cy="58896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2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7520" y="260280"/>
                    <a:ext cx="785484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Алгебра 9класс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ля тех ,кто хочет знать больш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Picture 4" descr="8рожа"/>
          <p:cNvPicPr/>
          <p:nvPr/>
        </p:nvPicPr>
        <p:blipFill>
          <a:blip r:embed="rId1"/>
          <a:stretch/>
        </p:blipFill>
        <p:spPr>
          <a:xfrm>
            <a:off x="3772080" y="2738520"/>
            <a:ext cx="1600200" cy="138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Преобразование двойных радикалов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7" name="Object 4" descr=""/>
          <p:cNvPicPr/>
          <p:nvPr/>
        </p:nvPicPr>
        <p:blipFill>
          <a:blip r:embed="rId1"/>
          <a:stretch/>
        </p:blipFill>
        <p:spPr>
          <a:xfrm>
            <a:off x="2419200" y="2585880"/>
            <a:ext cx="114480" cy="2160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5027760" y="1599840"/>
            <a:ext cx="3278160" cy="219060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17"/>
          <p:cNvSpPr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Picture 18" descr=""/>
          <p:cNvPicPr/>
          <p:nvPr/>
        </p:nvPicPr>
        <p:blipFill>
          <a:blip r:embed="rId3"/>
          <a:stretch/>
        </p:blipFill>
        <p:spPr>
          <a:xfrm>
            <a:off x="1332000" y="620640"/>
            <a:ext cx="6095880" cy="4064040"/>
          </a:xfrm>
          <a:prstGeom prst="rect">
            <a:avLst/>
          </a:prstGeom>
          <a:ln w="0">
            <a:noFill/>
          </a:ln>
        </p:spPr>
      </p:pic>
      <p:pic>
        <p:nvPicPr>
          <p:cNvPr id="131" name="Object 19" descr=""/>
          <p:cNvPicPr/>
          <p:nvPr/>
        </p:nvPicPr>
        <p:blipFill>
          <a:blip r:embed="rId4"/>
          <a:stretch/>
        </p:blipFill>
        <p:spPr>
          <a:xfrm>
            <a:off x="324000" y="2421000"/>
            <a:ext cx="7416720" cy="169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02920" y="290520"/>
            <a:ext cx="770724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Освободимся от внешнего радикала</a:t>
            </a:r>
            <a:br>
              <a:rPr sz="3200"/>
            </a:b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в выражении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71280" y="1700280"/>
            <a:ext cx="6985080" cy="41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Object 6" descr=""/>
          <p:cNvPicPr/>
          <p:nvPr/>
        </p:nvPicPr>
        <p:blipFill>
          <a:blip r:embed="rId1"/>
          <a:stretch/>
        </p:blipFill>
        <p:spPr>
          <a:xfrm>
            <a:off x="6610320" y="2585880"/>
            <a:ext cx="114480" cy="216000"/>
          </a:xfrm>
          <a:prstGeom prst="rect">
            <a:avLst/>
          </a:prstGeom>
          <a:ln w="0">
            <a:noFill/>
          </a:ln>
        </p:spPr>
      </p:pic>
      <p:pic>
        <p:nvPicPr>
          <p:cNvPr id="135" name="Object 4" descr=""/>
          <p:cNvPicPr/>
          <p:nvPr/>
        </p:nvPicPr>
        <p:blipFill>
          <a:blip r:embed="rId2"/>
          <a:stretch/>
        </p:blipFill>
        <p:spPr>
          <a:xfrm>
            <a:off x="179280" y="2060640"/>
            <a:ext cx="783612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feec94"/>
                </a:solidFill>
                <a:latin typeface="Times New Roman"/>
              </a:rPr>
              <a:t>Метод неопределенных коэффициентов</a:t>
            </a:r>
            <a:endParaRPr b="1" lang="en-US" sz="35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7" name="Object 4" descr=""/>
          <p:cNvPicPr/>
          <p:nvPr/>
        </p:nvPicPr>
        <p:blipFill>
          <a:blip r:embed="rId1"/>
          <a:stretch/>
        </p:blipFill>
        <p:spPr>
          <a:xfrm>
            <a:off x="0" y="1214280"/>
            <a:ext cx="9144000" cy="572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Формула двойного радикал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9" name="Object 4" descr=""/>
          <p:cNvPicPr/>
          <p:nvPr/>
        </p:nvPicPr>
        <p:blipFill>
          <a:blip r:embed="rId1"/>
          <a:stretch/>
        </p:blipFill>
        <p:spPr>
          <a:xfrm>
            <a:off x="836640" y="1774800"/>
            <a:ext cx="746928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Найди значение выражения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Object 6" descr=""/>
          <p:cNvPicPr/>
          <p:nvPr/>
        </p:nvPicPr>
        <p:blipFill>
          <a:blip r:embed="rId1"/>
          <a:stretch/>
        </p:blipFill>
        <p:spPr>
          <a:xfrm>
            <a:off x="1085760" y="1847880"/>
            <a:ext cx="6740640" cy="38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Проверь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177920" y="1819080"/>
            <a:ext cx="6789600" cy="409068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1557000"/>
            <a:ext cx="721692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Object 6" descr=""/>
          <p:cNvPicPr/>
          <p:nvPr/>
        </p:nvPicPr>
        <p:blipFill>
          <a:blip r:embed="rId2"/>
          <a:stretch/>
        </p:blipFill>
        <p:spPr>
          <a:xfrm>
            <a:off x="539640" y="2708280"/>
            <a:ext cx="741708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Спасибо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8" name="Picture 4" descr="8рожа"/>
          <p:cNvPicPr/>
          <p:nvPr/>
        </p:nvPicPr>
        <p:blipFill>
          <a:blip r:embed="rId1"/>
          <a:stretch/>
        </p:blipFill>
        <p:spPr>
          <a:xfrm>
            <a:off x="3772080" y="2738520"/>
            <a:ext cx="1600200" cy="13809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" descr="8рожа"/>
          <p:cNvPicPr/>
          <p:nvPr/>
        </p:nvPicPr>
        <p:blipFill>
          <a:blip r:embed="rId2"/>
          <a:stretch/>
        </p:blipFill>
        <p:spPr>
          <a:xfrm>
            <a:off x="4788000" y="4365720"/>
            <a:ext cx="1600200" cy="13809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8рожа"/>
          <p:cNvPicPr/>
          <p:nvPr/>
        </p:nvPicPr>
        <p:blipFill>
          <a:blip r:embed="rId3"/>
          <a:stretch/>
        </p:blipFill>
        <p:spPr>
          <a:xfrm>
            <a:off x="1332000" y="2565360"/>
            <a:ext cx="1600200" cy="13813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8рожа"/>
          <p:cNvPicPr/>
          <p:nvPr/>
        </p:nvPicPr>
        <p:blipFill>
          <a:blip r:embed="rId4"/>
          <a:stretch/>
        </p:blipFill>
        <p:spPr>
          <a:xfrm>
            <a:off x="2063880" y="4300560"/>
            <a:ext cx="1711080" cy="16812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8" descr="8рожа"/>
          <p:cNvPicPr/>
          <p:nvPr/>
        </p:nvPicPr>
        <p:blipFill>
          <a:blip r:embed="rId5"/>
          <a:stretch/>
        </p:blipFill>
        <p:spPr>
          <a:xfrm>
            <a:off x="5651640" y="2852640"/>
            <a:ext cx="1600200" cy="1381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14:39:13Z</dcterms:created>
  <dc:creator>Гусева </dc:creator>
  <dc:description/>
  <dc:language>en-US</dc:language>
  <cp:lastModifiedBy>Олег</cp:lastModifiedBy>
  <dcterms:modified xsi:type="dcterms:W3CDTF">2010-11-25T12:25:24Z</dcterms:modified>
  <cp:revision>10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610000000000001024140</vt:lpwstr>
  </property>
</Properties>
</file>