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4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159E-6761-4D2C-B636-501A69EDA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9A47-5EA4-4524-B0E7-0DEEC826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FB52-417B-40F6-840D-F6D447131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AE46-444E-491C-8FAD-1EA61A929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2270A-9182-47A4-ADDB-DA6C96DBF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C846-CE04-4BE5-A644-B7B176DC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233B-5ABA-4DBA-814E-955CB4C5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E0F1-B325-43EE-9269-5F2B7D3E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5AEE-C7D9-4DD0-8F32-623ED575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76F0-7322-4A30-B804-52FF7C33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C9BC-0656-47A8-8F99-974964B3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B485-EF59-421D-9691-84D77A43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4748A-3461-4013-9FFC-BB13E86A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F0A9-EFE9-4424-A523-E86DE643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393E-8501-4BA4-AFFD-F53A6E7A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A950-778C-4827-BA0A-834B13DF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9246-68DC-471C-ABDC-D6CA271C4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3F9D-B4E7-4F0D-8012-281D4F6D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9F82-DBEB-4FAD-8033-B3EEFFEB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94F8-CB0C-4CE7-AEC6-9948994A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CBA6-2F55-46F3-ACB9-F88DB96B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58A2-D1EE-4701-8CEB-42FBB756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6B24-EB67-4861-BC29-6EF4A40C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0A89-78AE-4D27-BFD6-8BAC1193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5E6D-B9AE-4167-9E76-E5543E6DD2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E5BE-2B31-4635-A4EB-123A74CA7AD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3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1" name="Object 11"/>
          <p:cNvGraphicFramePr/>
          <p:nvPr/>
        </p:nvGraphicFramePr>
        <p:xfrm>
          <a:off x="587520" y="260280"/>
          <a:ext cx="7854840" cy="5889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7520" y="260280"/>
                    <a:ext cx="785484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Алгебра 9класс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ля тех ,кто хочет знать больш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4" descr="8рожа"/>
          <p:cNvPicPr/>
          <p:nvPr/>
        </p:nvPicPr>
        <p:blipFill>
          <a:blip r:embed="rId1"/>
          <a:stretch/>
        </p:blipFill>
        <p:spPr>
          <a:xfrm>
            <a:off x="3772080" y="2738520"/>
            <a:ext cx="160020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реобразование двойных радикалов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7" name="Object 4" descr=""/>
          <p:cNvPicPr/>
          <p:nvPr/>
        </p:nvPicPr>
        <p:blipFill>
          <a:blip r:embed="rId1"/>
          <a:stretch/>
        </p:blipFill>
        <p:spPr>
          <a:xfrm>
            <a:off x="2419200" y="258588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027760" y="1599840"/>
            <a:ext cx="3278160" cy="21906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7"/>
          <p:cNvSpPr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18" descr=""/>
          <p:cNvPicPr/>
          <p:nvPr/>
        </p:nvPicPr>
        <p:blipFill>
          <a:blip r:embed="rId3"/>
          <a:stretch/>
        </p:blipFill>
        <p:spPr>
          <a:xfrm>
            <a:off x="1332000" y="620640"/>
            <a:ext cx="6095880" cy="4064040"/>
          </a:xfrm>
          <a:prstGeom prst="rect">
            <a:avLst/>
          </a:prstGeom>
          <a:ln w="0">
            <a:noFill/>
          </a:ln>
        </p:spPr>
      </p:pic>
      <p:pic>
        <p:nvPicPr>
          <p:cNvPr id="131" name="Object 19" descr=""/>
          <p:cNvPicPr/>
          <p:nvPr/>
        </p:nvPicPr>
        <p:blipFill>
          <a:blip r:embed="rId4"/>
          <a:stretch/>
        </p:blipFill>
        <p:spPr>
          <a:xfrm>
            <a:off x="324000" y="2421000"/>
            <a:ext cx="741672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77072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Освободимся от внешнего радикала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в выражении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698508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Object 6" descr=""/>
          <p:cNvPicPr/>
          <p:nvPr/>
        </p:nvPicPr>
        <p:blipFill>
          <a:blip r:embed="rId1"/>
          <a:stretch/>
        </p:blipFill>
        <p:spPr>
          <a:xfrm>
            <a:off x="6610320" y="258588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35" name="Object 4" descr=""/>
          <p:cNvPicPr/>
          <p:nvPr/>
        </p:nvPicPr>
        <p:blipFill>
          <a:blip r:embed="rId2"/>
          <a:stretch/>
        </p:blipFill>
        <p:spPr>
          <a:xfrm>
            <a:off x="179280" y="2060640"/>
            <a:ext cx="78361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eec94"/>
                </a:solidFill>
                <a:latin typeface="Times New Roman"/>
              </a:rPr>
              <a:t>Метод неопределенных коэффициентов</a:t>
            </a:r>
            <a:endParaRPr b="1" lang="en-US" sz="35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Object 4" descr="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7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Формула двойного радикал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Object 4" descr=""/>
          <p:cNvPicPr/>
          <p:nvPr/>
        </p:nvPicPr>
        <p:blipFill>
          <a:blip r:embed="rId1"/>
          <a:stretch/>
        </p:blipFill>
        <p:spPr>
          <a:xfrm>
            <a:off x="836640" y="1774800"/>
            <a:ext cx="74692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Найди значение выраже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Object 6" descr=""/>
          <p:cNvPicPr/>
          <p:nvPr/>
        </p:nvPicPr>
        <p:blipFill>
          <a:blip r:embed="rId1"/>
          <a:stretch/>
        </p:blipFill>
        <p:spPr>
          <a:xfrm>
            <a:off x="1085760" y="1847880"/>
            <a:ext cx="674064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ровер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77920" y="1819080"/>
            <a:ext cx="6789600" cy="40906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1557000"/>
            <a:ext cx="72169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Object 6" descr=""/>
          <p:cNvPicPr/>
          <p:nvPr/>
        </p:nvPicPr>
        <p:blipFill>
          <a:blip r:embed="rId2"/>
          <a:stretch/>
        </p:blipFill>
        <p:spPr>
          <a:xfrm>
            <a:off x="539640" y="2708280"/>
            <a:ext cx="7417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пасибо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8" name="Picture 4" descr="8рожа"/>
          <p:cNvPicPr/>
          <p:nvPr/>
        </p:nvPicPr>
        <p:blipFill>
          <a:blip r:embed="rId1"/>
          <a:stretch/>
        </p:blipFill>
        <p:spPr>
          <a:xfrm>
            <a:off x="3772080" y="2738520"/>
            <a:ext cx="1600200" cy="1380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8рожа"/>
          <p:cNvPicPr/>
          <p:nvPr/>
        </p:nvPicPr>
        <p:blipFill>
          <a:blip r:embed="rId2"/>
          <a:stretch/>
        </p:blipFill>
        <p:spPr>
          <a:xfrm>
            <a:off x="4788000" y="4365720"/>
            <a:ext cx="1600200" cy="1380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8рожа"/>
          <p:cNvPicPr/>
          <p:nvPr/>
        </p:nvPicPr>
        <p:blipFill>
          <a:blip r:embed="rId3"/>
          <a:stretch/>
        </p:blipFill>
        <p:spPr>
          <a:xfrm>
            <a:off x="1332000" y="2565360"/>
            <a:ext cx="1600200" cy="1381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8рожа"/>
          <p:cNvPicPr/>
          <p:nvPr/>
        </p:nvPicPr>
        <p:blipFill>
          <a:blip r:embed="rId4"/>
          <a:stretch/>
        </p:blipFill>
        <p:spPr>
          <a:xfrm>
            <a:off x="2063880" y="4300560"/>
            <a:ext cx="1711080" cy="1681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8рожа"/>
          <p:cNvPicPr/>
          <p:nvPr/>
        </p:nvPicPr>
        <p:blipFill>
          <a:blip r:embed="rId5"/>
          <a:stretch/>
        </p:blipFill>
        <p:spPr>
          <a:xfrm>
            <a:off x="5651640" y="2852640"/>
            <a:ext cx="1600200" cy="1381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4:39:13Z</dcterms:created>
  <dc:creator>Гусева </dc:creator>
  <dc:description/>
  <dc:language>en-US</dc:language>
  <cp:lastModifiedBy>Олег</cp:lastModifiedBy>
  <dcterms:modified xsi:type="dcterms:W3CDTF">2010-11-25T12:25:24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610000000000001024140</vt:lpwstr>
  </property>
</Properties>
</file>