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68A-528C-4919-A584-760FC6B0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651D-797C-4884-8FE9-A3CC614F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0E5-7BAF-4A77-B6C7-F550A5DA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6B27-6E2E-4E95-A6C6-1D6D1BDC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DA4A-4694-47D4-B068-C48C72E7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1B60-EC9C-4731-9B2A-E89E5870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25E6-F2E7-4381-9A8A-2099A58D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A6AC-948F-46EF-9444-3BF4BEF3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31BB-3895-432B-A1D6-6133939E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9FB7-9E20-4806-8EB2-12701AEF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C12E-F882-4699-9E26-B09D31F4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C15-5C9A-4F67-98BC-FA15B253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82F8-0E50-486E-968E-823190EF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B29F-4F96-422B-BED3-6C344D88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2832-32A5-4F45-AEFE-2D6C74A1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6A3E-696C-414F-B905-3D8F9465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B954-F551-42DE-BC70-ED91A49C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B43-A3E8-4979-B64A-4B10E514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FA6-C9AB-4421-9324-1C3FD00B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766F-F1A6-47F7-A384-0503A5BF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6A2-C63A-4477-B172-FC1AF868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6BA-AA66-47AB-A326-7E32FBFF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040-9AC3-4403-ABFF-A9E5BE63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91E-1895-47E2-9F06-643C28D0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1D1C-9DE7-4BBC-BDC2-A3EA16404B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952C-7523-4C9C-9AAA-CDEBE94E8F2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587520" y="260280"/>
          <a:ext cx="7854840" cy="5889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260280"/>
                    <a:ext cx="785484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лгебра 9клас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тех ,кто хочет знать больш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еобразование двойных радикал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241920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27760" y="1599840"/>
            <a:ext cx="3278160" cy="2190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7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18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6095880" cy="406404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19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74167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7707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свободимся от внешнего радикала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 выражени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6985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Object 6" descr=""/>
          <p:cNvPicPr/>
          <p:nvPr/>
        </p:nvPicPr>
        <p:blipFill>
          <a:blip r:embed="rId1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4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78361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ec94"/>
                </a:solidFill>
                <a:latin typeface="Times New Roman"/>
              </a:rPr>
              <a:t>Метод неопределенных коэффициентов</a:t>
            </a:r>
            <a:endParaRPr b="1" lang="en-US" sz="35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ормула двойного радикал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Object 4" descr=""/>
          <p:cNvPicPr/>
          <p:nvPr/>
        </p:nvPicPr>
        <p:blipFill>
          <a:blip r:embed="rId1"/>
          <a:stretch/>
        </p:blipFill>
        <p:spPr>
          <a:xfrm>
            <a:off x="836640" y="1774800"/>
            <a:ext cx="746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йди значение выра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Object 6" descr=""/>
          <p:cNvPicPr/>
          <p:nvPr/>
        </p:nvPicPr>
        <p:blipFill>
          <a:blip r:embed="rId1"/>
          <a:stretch/>
        </p:blipFill>
        <p:spPr>
          <a:xfrm>
            <a:off x="1085760" y="1847880"/>
            <a:ext cx="674064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ове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77920" y="1819080"/>
            <a:ext cx="6789600" cy="4090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2169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Object 6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741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8рожа"/>
          <p:cNvPicPr/>
          <p:nvPr/>
        </p:nvPicPr>
        <p:blipFill>
          <a:blip r:embed="rId2"/>
          <a:stretch/>
        </p:blipFill>
        <p:spPr>
          <a:xfrm>
            <a:off x="4788000" y="43657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8рожа"/>
          <p:cNvPicPr/>
          <p:nvPr/>
        </p:nvPicPr>
        <p:blipFill>
          <a:blip r:embed="rId3"/>
          <a:stretch/>
        </p:blipFill>
        <p:spPr>
          <a:xfrm>
            <a:off x="1332000" y="2565360"/>
            <a:ext cx="1600200" cy="138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8рожа"/>
          <p:cNvPicPr/>
          <p:nvPr/>
        </p:nvPicPr>
        <p:blipFill>
          <a:blip r:embed="rId4"/>
          <a:stretch/>
        </p:blipFill>
        <p:spPr>
          <a:xfrm>
            <a:off x="2063880" y="4300560"/>
            <a:ext cx="1711080" cy="1681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8рожа"/>
          <p:cNvPicPr/>
          <p:nvPr/>
        </p:nvPicPr>
        <p:blipFill>
          <a:blip r:embed="rId5"/>
          <a:stretch/>
        </p:blipFill>
        <p:spPr>
          <a:xfrm>
            <a:off x="5651640" y="2852640"/>
            <a:ext cx="1600200" cy="13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4:39:13Z</dcterms:created>
  <dc:creator>Гусева </dc:creator>
  <dc:description/>
  <dc:language>en-US</dc:language>
  <cp:lastModifiedBy>Олег</cp:lastModifiedBy>
  <dcterms:modified xsi:type="dcterms:W3CDTF">2010-11-25T12:25:24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0000000000001024140</vt:lpwstr>
  </property>
</Properties>
</file>