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FF5-FDAE-49C0-9930-F640E49D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C3C-D567-4CE8-BB67-6A394A30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534-76CB-4EEE-B902-3A00107F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5D0-263C-4492-BF54-60CBD610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82DE-3A36-448C-A70C-0D514ECB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F856-1CD5-4023-8E33-896F009E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86FD-5C50-4838-9381-3E5D5345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C2CD-AB86-4820-81E3-6C826784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0DC9-149C-4E61-85D1-531BCDF0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B569-7853-46B4-9898-5F04872D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BA24-AFF6-404B-BE1D-EB6D0FD8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AE5-4DF1-420F-9C5F-02DDA114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827E-30FB-4799-B571-4B01E178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BEE7-A401-47B0-9F31-DBFB4798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490A-14CC-4BD4-BED3-D22AD691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03F6-6591-4770-A23E-853FD4C6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1B27-369F-49D5-8235-B0911C0F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62D-DC82-47F0-B477-5E9ABB34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3EF-FA52-476E-9CC8-8968D371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C61-0A8F-417F-BE42-38EBC3AA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D1C-09DB-4442-BC42-94924892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B72-71FC-4330-B3B0-7F4AF560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3DF-AC58-4CE7-BA96-772183A2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1AC-5F86-4CFB-8DAA-E6508147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6742-63F6-45DC-A37B-C307CB9094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BBEC-C2E8-440F-B7A6-7AD40E0511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587520" y="260280"/>
          <a:ext cx="7854840" cy="5889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260280"/>
                    <a:ext cx="785484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лгебра 9клас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тех ,кто хочет знать больш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еобразование двойных радикал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241920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27760" y="1599840"/>
            <a:ext cx="3278160" cy="2190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7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18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6095880" cy="406404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19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74167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7707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свободимся от внешнего радикала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 выражени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6985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Object 6" descr=""/>
          <p:cNvPicPr/>
          <p:nvPr/>
        </p:nvPicPr>
        <p:blipFill>
          <a:blip r:embed="rId1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4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78361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ec94"/>
                </a:solidFill>
                <a:latin typeface="Times New Roman"/>
              </a:rPr>
              <a:t>Метод неопределенных коэффициентов</a:t>
            </a:r>
            <a:endParaRPr b="1" lang="en-US" sz="35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ормула двойного радикал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Object 4" descr=""/>
          <p:cNvPicPr/>
          <p:nvPr/>
        </p:nvPicPr>
        <p:blipFill>
          <a:blip r:embed="rId1"/>
          <a:stretch/>
        </p:blipFill>
        <p:spPr>
          <a:xfrm>
            <a:off x="836640" y="1774800"/>
            <a:ext cx="746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йди значение выра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Object 6" descr=""/>
          <p:cNvPicPr/>
          <p:nvPr/>
        </p:nvPicPr>
        <p:blipFill>
          <a:blip r:embed="rId1"/>
          <a:stretch/>
        </p:blipFill>
        <p:spPr>
          <a:xfrm>
            <a:off x="1085760" y="1847880"/>
            <a:ext cx="674064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ове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77920" y="1819080"/>
            <a:ext cx="6789600" cy="4090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2169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Object 6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741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8рожа"/>
          <p:cNvPicPr/>
          <p:nvPr/>
        </p:nvPicPr>
        <p:blipFill>
          <a:blip r:embed="rId2"/>
          <a:stretch/>
        </p:blipFill>
        <p:spPr>
          <a:xfrm>
            <a:off x="4788000" y="43657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8рожа"/>
          <p:cNvPicPr/>
          <p:nvPr/>
        </p:nvPicPr>
        <p:blipFill>
          <a:blip r:embed="rId3"/>
          <a:stretch/>
        </p:blipFill>
        <p:spPr>
          <a:xfrm>
            <a:off x="1332000" y="2565360"/>
            <a:ext cx="1600200" cy="138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8рожа"/>
          <p:cNvPicPr/>
          <p:nvPr/>
        </p:nvPicPr>
        <p:blipFill>
          <a:blip r:embed="rId4"/>
          <a:stretch/>
        </p:blipFill>
        <p:spPr>
          <a:xfrm>
            <a:off x="2063880" y="4300560"/>
            <a:ext cx="1711080" cy="1681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8рожа"/>
          <p:cNvPicPr/>
          <p:nvPr/>
        </p:nvPicPr>
        <p:blipFill>
          <a:blip r:embed="rId5"/>
          <a:stretch/>
        </p:blipFill>
        <p:spPr>
          <a:xfrm>
            <a:off x="5651640" y="2852640"/>
            <a:ext cx="1600200" cy="13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4:39:13Z</dcterms:created>
  <dc:creator>Гусева </dc:creator>
  <dc:description/>
  <dc:language>en-US</dc:language>
  <cp:lastModifiedBy>Олег</cp:lastModifiedBy>
  <dcterms:modified xsi:type="dcterms:W3CDTF">2010-11-25T12:25:24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0000000000001024140</vt:lpwstr>
  </property>
</Properties>
</file>