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3A13-15A3-476A-A81A-DB79AE8A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207C-4A7A-4ED6-918D-F06255E3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BD7-A3EC-46D5-A08E-1AA98D08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C50-9483-41B2-A3AD-AEB0F8C4A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8B8D-0A6A-4DD6-926B-4400F17B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238A-8ED9-4E8B-9DBA-717F1E0E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45A9-721B-4247-9261-A7831328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5E33-2F05-4501-A168-FB022F11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BFB8-051B-4499-B484-44785923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DF76-75A7-492E-A615-5A2DFF72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5C6A-FA20-43C5-A394-66B395F2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F98-B49C-491B-95FB-59EF4D6C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EEEE-6D74-4895-AF14-9FED12E1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B2FB-5D2C-42E3-936B-9E09366D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C190-73F5-41CA-80A5-732E3223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D225-7EF9-49D9-B793-22C9817B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912F-EAAD-4148-83F9-C22724C0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9C0-ABFC-4D27-B4D2-CF34D39F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EF53-33F0-43F1-9416-6790AD9B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0CBE-4864-4451-8B84-1C7CCFDC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92A-2DB2-4721-AEA2-CC762D54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74C-C418-44B3-9CB4-1282E651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B02-56CD-4B8B-9625-2FEA64C1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554-A0C4-43B2-8DB6-401BCA40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DF7C-F9AD-461F-9143-C97F5AC247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58D3-8680-40FD-B7E1-F039DE3EB5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587520" y="260280"/>
          <a:ext cx="7854840" cy="5889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260280"/>
                    <a:ext cx="785484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лгебра 9клас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ля тех ,кто хочет знать больш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еобразование двойных радика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241920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27760" y="1599840"/>
            <a:ext cx="3278160" cy="21906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7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8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095880" cy="40640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19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741672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7707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Освободимся от внешнего радика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 выражении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698508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Object 6" descr=""/>
          <p:cNvPicPr/>
          <p:nvPr/>
        </p:nvPicPr>
        <p:blipFill>
          <a:blip r:embed="rId1"/>
          <a:stretch/>
        </p:blipFill>
        <p:spPr>
          <a:xfrm>
            <a:off x="6610320" y="258588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4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78361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eec94"/>
                </a:solidFill>
                <a:latin typeface="Times New Roman"/>
              </a:rPr>
              <a:t>Метод неопределенных коэффициентов</a:t>
            </a:r>
            <a:endParaRPr b="1" lang="en-US" sz="35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Object 4" descr=""/>
          <p:cNvPicPr/>
          <p:nvPr/>
        </p:nvPicPr>
        <p:blipFill>
          <a:blip r:embed="rId1"/>
          <a:stretch/>
        </p:blipFill>
        <p:spPr>
          <a:xfrm>
            <a:off x="0" y="1214280"/>
            <a:ext cx="9144000" cy="57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рмула двойного радикал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Object 4" descr=""/>
          <p:cNvPicPr/>
          <p:nvPr/>
        </p:nvPicPr>
        <p:blipFill>
          <a:blip r:embed="rId1"/>
          <a:stretch/>
        </p:blipFill>
        <p:spPr>
          <a:xfrm>
            <a:off x="836640" y="1774800"/>
            <a:ext cx="746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йди значение выраж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Object 6" descr=""/>
          <p:cNvPicPr/>
          <p:nvPr/>
        </p:nvPicPr>
        <p:blipFill>
          <a:blip r:embed="rId1"/>
          <a:stretch/>
        </p:blipFill>
        <p:spPr>
          <a:xfrm>
            <a:off x="1085760" y="1847880"/>
            <a:ext cx="674064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ве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77920" y="1819080"/>
            <a:ext cx="6789600" cy="40906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2169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Object 6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7417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асиб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8рожа"/>
          <p:cNvPicPr/>
          <p:nvPr/>
        </p:nvPicPr>
        <p:blipFill>
          <a:blip r:embed="rId1"/>
          <a:stretch/>
        </p:blipFill>
        <p:spPr>
          <a:xfrm>
            <a:off x="3772080" y="27385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8рожа"/>
          <p:cNvPicPr/>
          <p:nvPr/>
        </p:nvPicPr>
        <p:blipFill>
          <a:blip r:embed="rId2"/>
          <a:stretch/>
        </p:blipFill>
        <p:spPr>
          <a:xfrm>
            <a:off x="4788000" y="4365720"/>
            <a:ext cx="1600200" cy="138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8рожа"/>
          <p:cNvPicPr/>
          <p:nvPr/>
        </p:nvPicPr>
        <p:blipFill>
          <a:blip r:embed="rId3"/>
          <a:stretch/>
        </p:blipFill>
        <p:spPr>
          <a:xfrm>
            <a:off x="1332000" y="2565360"/>
            <a:ext cx="1600200" cy="138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8рожа"/>
          <p:cNvPicPr/>
          <p:nvPr/>
        </p:nvPicPr>
        <p:blipFill>
          <a:blip r:embed="rId4"/>
          <a:stretch/>
        </p:blipFill>
        <p:spPr>
          <a:xfrm>
            <a:off x="2063880" y="4300560"/>
            <a:ext cx="1711080" cy="1681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8рожа"/>
          <p:cNvPicPr/>
          <p:nvPr/>
        </p:nvPicPr>
        <p:blipFill>
          <a:blip r:embed="rId5"/>
          <a:stretch/>
        </p:blipFill>
        <p:spPr>
          <a:xfrm>
            <a:off x="5651640" y="2852640"/>
            <a:ext cx="160020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14:39:13Z</dcterms:created>
  <dc:creator>Гусева </dc:creator>
  <dc:description/>
  <dc:language>en-US</dc:language>
  <cp:lastModifiedBy>Олег</cp:lastModifiedBy>
  <dcterms:modified xsi:type="dcterms:W3CDTF">2010-11-25T12:25:24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610000000000001024140</vt:lpwstr>
  </property>
</Properties>
</file>