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9.wmf" ContentType="image/x-wmf"/>
  <Override PartName="/ppt/media/image6.gif" ContentType="image/gif"/>
  <Override PartName="/ppt/media/image17.gif" ContentType="image/gif"/>
  <Override PartName="/ppt/media/image2.gif" ContentType="image/gif"/>
  <Override PartName="/ppt/media/image10.wmf" ContentType="image/x-wmf"/>
  <Override PartName="/ppt/media/image14.wmf" ContentType="image/x-wmf"/>
  <Override PartName="/ppt/media/image3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16.wmf" ContentType="image/x-wmf"/>
  <Override PartName="/ppt/media/image5.gif" ContentType="image/gi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49E-F2E3-4E3D-A41D-E3EF4349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068-77F4-44D2-8055-D12CF253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601-B4B1-4F76-AC55-CC900F01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1D0-F978-46F7-BE07-E1801F51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214A6-D341-443C-9C8F-7B4161F6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4845F-A7ED-4857-8F8C-F84EC3AE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49C46-4511-4AFD-B6A4-B7BEED19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FE8A9-67CD-46D2-AD66-08BAB694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258B7-BC96-4DDC-A09C-75A6BFC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97587-6AAD-4657-BBBE-124E85E7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CDFC0-8102-442F-BD52-68843C2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BEB-942A-49BC-9898-247B0DCC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8240E-A848-4FC2-98DE-C5B33F99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9AC70-7D7B-4424-9700-71431C3B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0940F-50CE-43DB-A638-CF441BC5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350F3-D689-4066-952F-2A5206E6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B8665-EA81-4649-A067-F935EAB3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A85-7220-433D-BC26-DCDD4250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1BC-C92E-4C9E-B6D8-2359E2CA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AF1-058F-409B-BADF-C7751195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A53-1557-4463-81CC-C6CAD771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361-BF7C-48A3-9DB9-56F67453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DD1-F793-40C4-9911-4019D339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577-FFC8-4B35-A158-9D44A5BA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7AB1-2755-4B4B-8074-A0D0D283E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B75B-97C7-4A80-A981-B2FAC56D5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10.wm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../&#1052;&#1086;&#1080;%20&#1076;&#1086;&#1082;&#1091;&#1084;&#1077;&#1085;&#1090;&#1099;/&#1087;&#1088;&#1080;&#1083;&#1086;&#1078;&#1077;&#1085;&#1080;&#1077;.doc" TargetMode="External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Построение графиков функций, содержащих моду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00720" y="4076280"/>
            <a:ext cx="4319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итель мате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БОУ СОШ № 1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Щербина Антонин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75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5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5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Квадратичная функ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3816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    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 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263700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1467400">
            <a:off x="5916600" y="359208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363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588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648800">
            <a:off x="5965200" y="419544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08472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53200" y="3632040"/>
            <a:ext cx="0" cy="115272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2492280"/>
            <a:ext cx="230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g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= 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br>
              <a:rPr sz="4000"/>
            </a:br>
            <a:r>
              <a:rPr b="0" lang="ru-RU" sz="4000" spc="-1" strike="noStrike">
                <a:solidFill>
                  <a:srgbClr val="e06ce6"/>
                </a:solidFill>
                <a:latin typeface="Tahoma"/>
              </a:rPr>
              <a:t>Постройте графики функц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|, y=|    |+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- 4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     - 1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-           + 3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430200" cy="49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441360" cy="50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908000" y="2421000"/>
            <a:ext cx="430560" cy="49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908000" y="2975040"/>
            <a:ext cx="1079640" cy="512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2181240" y="3429000"/>
            <a:ext cx="1135080" cy="522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85928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bx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        +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6372360" y="184464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6354720" y="236376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6357960" y="288288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6357960" y="3500280"/>
            <a:ext cx="1133280" cy="522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1"/>
          <a:stretch/>
        </p:blipFill>
        <p:spPr>
          <a:xfrm>
            <a:off x="826920" y="4149720"/>
            <a:ext cx="65534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19564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56000" y="256536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206064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0" y="5734080"/>
            <a:ext cx="80820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1323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123640" y="1341000"/>
            <a:ext cx="40388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56000" y="1413000"/>
            <a:ext cx="0" cy="424800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+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635280" y="5805360"/>
            <a:ext cx="808200" cy="924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1209600" cy="1511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578400" y="1492200"/>
            <a:ext cx="1511280" cy="2160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- 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24360" y="4221000"/>
            <a:ext cx="863640" cy="936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780000" y="5805360"/>
            <a:ext cx="807840" cy="924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92400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7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78800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1209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      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382400" cy="172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-1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4221000"/>
            <a:ext cx="863640" cy="43200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4716000" y="3716280"/>
            <a:ext cx="863640" cy="504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14036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580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27640" y="371628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427640" y="465300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851280" y="5950080"/>
            <a:ext cx="15303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340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1209600" cy="1513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-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+ 3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320328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62692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06728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995280" y="400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20880" y="3941640"/>
            <a:ext cx="576360" cy="165600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35280" y="3284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211640" y="5877000"/>
            <a:ext cx="1655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Домашнее задание на следующий урок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имов: № 133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карычев: № 1209 (а;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желанию: Построить график функц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4-      |; y=|x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610320" y="27874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547640" y="4586400"/>
            <a:ext cx="600120" cy="685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419640" y="4581360"/>
            <a:ext cx="599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Comic Sans MS"/>
              </a:rPr>
              <a:t>Молодцы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Спасибо за урок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403280" y="4292640"/>
            <a:ext cx="2232000" cy="21654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724360" y="4365720"/>
            <a:ext cx="2305080" cy="223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3492360" y="1484280"/>
            <a:ext cx="2159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500"/>
                            </p:stCondLst>
                            <p:childTnLst>
                              <p:par>
                                <p:cTn id="5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Алимов Ш.А. и др., Алгебра. Учебник для 8 класса., М., «Просвещение», 200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Макарычев Ю.Н. и др., Алгебра. Учебник для 8 класса., М., «Просвещение», 2000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Жохов В.И. и др., Дидактические материалы по алгебре для 8 класса., М., «Просвещение», 1999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а построения графиков функций, содержащих моду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тить внимание на геометрический смысл моду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учить применять полученные знания при построении графиков квадратичной фун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атематический дикта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2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-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2| =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-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+ 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3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3| 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+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48360" y="630864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ри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6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2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8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44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8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96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24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2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971280" y="278100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11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48360" y="4221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588000" y="4221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|              y = - |x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11280" y="3644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71640" y="3644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88000" y="227628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148000" y="227628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- |x| + 2          y = |x| + 2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364500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      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619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059280" y="2924280"/>
            <a:ext cx="129672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94036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642920" y="2924280"/>
            <a:ext cx="129708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 - 2|      y = |x+2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149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971280" y="198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411280" y="198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42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500360" y="342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3357720"/>
            <a:ext cx="14436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79736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+ 4     y = |x+2| - 2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   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54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8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48360" y="4868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588000" y="4868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4797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      y =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3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0:20:43Z</dcterms:created>
  <dc:creator>User</dc:creator>
  <dc:description/>
  <dc:language>en-US</dc:language>
  <cp:lastModifiedBy>Stas</cp:lastModifiedBy>
  <dcterms:modified xsi:type="dcterms:W3CDTF">2011-10-20T14:09:09Z</dcterms:modified>
  <cp:revision>15</cp:revision>
  <dc:subject/>
  <dc:title>Построение графиков функций, содержащих моду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60000000000010250300207f7000400038000</vt:lpwstr>
  </property>
</Properties>
</file>