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9.wmf" ContentType="image/x-wmf"/>
  <Override PartName="/ppt/media/image6.gif" ContentType="image/gif"/>
  <Override PartName="/ppt/media/image17.gif" ContentType="image/gif"/>
  <Override PartName="/ppt/media/image2.gif" ContentType="image/gif"/>
  <Override PartName="/ppt/media/image10.wmf" ContentType="image/x-wmf"/>
  <Override PartName="/ppt/media/image14.wmf" ContentType="image/x-wmf"/>
  <Override PartName="/ppt/media/image3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16.wmf" ContentType="image/x-wmf"/>
  <Override PartName="/ppt/media/image5.gif" ContentType="image/gi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FA5-966E-498D-8F3F-95F47484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519-D0BC-4456-B61D-4EE6149B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15E-4DAE-4DD2-BA05-AB5C3D45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96E-1938-4BD3-9254-D7DD1030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8C66A-A634-40D9-9987-8DF2FC7F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DB3DC-4136-436D-BDCE-D520EFE3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C439C-CCE5-4664-A206-EF655D61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A5BB8-C0AE-4C23-AC45-5D09273B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828B9-4005-4551-93FA-58FF8B67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A036E-D28E-4D16-BCFD-D1FAF709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9D28C-A80B-4E39-80F3-68DEE145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6EBC-9E6D-4BBB-8D0A-69A49259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16DDC-1A34-4C90-9AAB-EE326869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25B95-0F22-429F-B345-F19F322F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4A236-CDDE-4EAB-A855-0A4B8808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1388C-30DF-481F-AFB8-AB823CC0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B0E7F-B2E9-491E-8E5E-00B713E7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3257-4E1A-4C06-B149-10C553EC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08C7-2592-446F-AD98-446A5C11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06B-FDC7-4455-80A3-8CD99F69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71D-CA07-48A1-9044-B46B897E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4596-F02E-4400-8562-CE4BCAF1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3A4-A4FA-4FB6-9A20-335D5267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DE9-2A85-4744-B36E-87133A99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A004-862C-4BF4-9D1A-E4CF65552F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F0FC-297C-4829-8D6E-0A6E95C533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10.wmf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../&#1052;&#1086;&#1080;%20&#1076;&#1086;&#1082;&#1091;&#1084;&#1077;&#1085;&#1090;&#1099;/&#1087;&#1088;&#1080;&#1083;&#1086;&#1078;&#1077;&#1085;&#1080;&#1077;.doc" TargetMode="External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Построение графиков функций, содержащих моду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00720" y="4076280"/>
            <a:ext cx="43192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итель матема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БОУ СОШ № 1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Щербина Антонина Никола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750"/>
                            </p:stCondLst>
                            <p:childTnLst>
                              <p:par>
                                <p:cTn id="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50"/>
                            </p:stCondLst>
                            <p:childTnLst>
                              <p:par>
                                <p:cTn id="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50"/>
                            </p:stCondLst>
                            <p:childTnLst>
                              <p:par>
                                <p:cTn id="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Квадратичная функ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055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3816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y = </a:t>
            </a:r>
            <a:r>
              <a:rPr b="0" i="1" lang="en-US" sz="4400" spc="-1" strike="noStrike">
                <a:solidFill>
                  <a:srgbClr val="ffff33"/>
                </a:solidFill>
                <a:latin typeface="Tahoma"/>
              </a:rPr>
              <a:t>f (x)          </a:t>
            </a: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 y = </a:t>
            </a:r>
            <a:r>
              <a:rPr b="0" i="1" lang="en-US" sz="4400" spc="-1" strike="noStrike">
                <a:solidFill>
                  <a:srgbClr val="ffff33"/>
                </a:solidFill>
                <a:latin typeface="Tahoma"/>
              </a:rPr>
              <a:t>f (x)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2637000"/>
            <a:ext cx="1511280" cy="2160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1467400">
            <a:off x="5916600" y="359208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cubicBezTo>
                  <a:pt x="79" y="181"/>
                  <a:pt x="159" y="0"/>
                  <a:pt x="227" y="0"/>
                </a:cubicBezTo>
                <a:cubicBezTo>
                  <a:pt x="295" y="0"/>
                  <a:pt x="351" y="181"/>
                  <a:pt x="408" y="363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36364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58800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648800">
            <a:off x="5965200" y="419544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cubicBezTo>
                  <a:pt x="79" y="181"/>
                  <a:pt x="159" y="0"/>
                  <a:pt x="227" y="0"/>
                </a:cubicBezTo>
                <a:cubicBezTo>
                  <a:pt x="295" y="0"/>
                  <a:pt x="351" y="181"/>
                  <a:pt x="408" y="363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084720" y="3860640"/>
            <a:ext cx="0" cy="64800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3860640"/>
            <a:ext cx="0" cy="64800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253200" y="3632040"/>
            <a:ext cx="0" cy="115272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6360" y="2492280"/>
            <a:ext cx="2305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&g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&l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= 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амостоятельная работа</a:t>
            </a:r>
            <a:br>
              <a:rPr sz="4000"/>
            </a:br>
            <a:r>
              <a:rPr b="0" lang="ru-RU" sz="4000" spc="-1" strike="noStrike">
                <a:solidFill>
                  <a:srgbClr val="e06ce6"/>
                </a:solidFill>
                <a:latin typeface="Tahoma"/>
              </a:rPr>
              <a:t>Постройте графики функц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|, y=|    |+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 - 4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      - 1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-           + 3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76720" y="1916280"/>
            <a:ext cx="430200" cy="492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908000" y="1916280"/>
            <a:ext cx="441360" cy="504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908000" y="2421000"/>
            <a:ext cx="430560" cy="492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908000" y="2975040"/>
            <a:ext cx="1079640" cy="512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2181240" y="3429000"/>
            <a:ext cx="1135080" cy="522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85928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+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+ bx +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        +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6372360" y="184464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6354720" y="236376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/>
          <a:stretch/>
        </p:blipFill>
        <p:spPr>
          <a:xfrm>
            <a:off x="6357960" y="288288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6357960" y="3500280"/>
            <a:ext cx="1133280" cy="522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1"/>
          <a:stretch/>
        </p:blipFill>
        <p:spPr>
          <a:xfrm>
            <a:off x="826920" y="4149720"/>
            <a:ext cx="65534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19564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56000" y="256536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2060640"/>
            <a:ext cx="1511280" cy="2160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572000" y="5734080"/>
            <a:ext cx="808200" cy="923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1323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123640" y="1341000"/>
            <a:ext cx="403884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56000" y="1413000"/>
            <a:ext cx="0" cy="424800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+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635280" y="5805360"/>
            <a:ext cx="808200" cy="924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1209600" cy="1511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578400" y="1492200"/>
            <a:ext cx="1511280" cy="2160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12364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- 4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24360" y="4221000"/>
            <a:ext cx="863640" cy="936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780000" y="5805360"/>
            <a:ext cx="807840" cy="924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924000" y="3284280"/>
            <a:ext cx="863640" cy="936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34764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78800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12096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12364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1      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1382400" cy="172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-1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16360" y="4221000"/>
            <a:ext cx="863640" cy="43200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4716000" y="3716280"/>
            <a:ext cx="863640" cy="504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14036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58000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427640" y="371628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427640" y="465300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48360" y="2708280"/>
            <a:ext cx="0" cy="2952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851280" y="5950080"/>
            <a:ext cx="15303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34000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1209600" cy="1513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-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+ 3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3203280" y="3284280"/>
            <a:ext cx="863640" cy="936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262692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06728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995280" y="400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720880" y="3941640"/>
            <a:ext cx="576360" cy="1656000"/>
          </a:xfrm>
          <a:prstGeom prst="line">
            <a:avLst/>
          </a:prstGeom>
          <a:ln w="38160">
            <a:solidFill>
              <a:srgbClr val="ff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2708280"/>
            <a:ext cx="0" cy="2952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35280" y="328464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4211640" y="5877000"/>
            <a:ext cx="1655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Домашнее задание на следующий урок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имов: № 133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карычев: № 1209 (а;б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желанию: Построить график функц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4-      |; y=|x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610320" y="27874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1547640" y="4586400"/>
            <a:ext cx="600120" cy="685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3419640" y="4581360"/>
            <a:ext cx="599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3"/>
                </a:solidFill>
                <a:latin typeface="Comic Sans MS"/>
              </a:rPr>
              <a:t>Молодцы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Спасибо за урок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403280" y="4292640"/>
            <a:ext cx="2232000" cy="21654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724360" y="4365720"/>
            <a:ext cx="2305080" cy="223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3492360" y="1484280"/>
            <a:ext cx="2159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8500"/>
                            </p:stCondLst>
                            <p:childTnLst>
                              <p:par>
                                <p:cTn id="5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Литератур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Алимов Ш.А. и др., Алгебра. Учебник для 8 класса., М., «Просвещение», 2002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Макарычев Ю.Н. и др., Алгебра. Учебник для 8 класса., М., «Просвещение», 2000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Жохов В.И. и др., Дидактические материалы по алгебре для 8 класса., М., «Просвещение», 1999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5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а построения графиков функций, содержащих модул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ратить внимание на геометрический смысл модул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учить применять полученные знания при построении графиков квадратичной фун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Математический диктан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быть отрицательным значение суммы 2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равняться нулю значение разно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 - |x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аких значения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рно равенств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y = |-y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ите уравн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|x - 2| =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- |x| +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 - 2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иант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быть отрицательным значение сумм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 + 6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равняться нулю значение разно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3|x| - |x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аких значения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рно равенств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y = |y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ите уравн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|x - 3| =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- |x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| +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 + 2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564000" y="5229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948360" y="630864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ри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 ≤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7, X =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 ≤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7, X = 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6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2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80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8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44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80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96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24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2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971280" y="278100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41128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48360" y="4221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588000" y="4221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|x|              y = - |x|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11280" y="364464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71640" y="364464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588000" y="227628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148000" y="227628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- |x| + 2          y = |x| + 2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3573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16720" y="364500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      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61928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059280" y="2924280"/>
            <a:ext cx="1296720" cy="129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94036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642920" y="2924280"/>
            <a:ext cx="1297080" cy="129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|x - 2|      y = |x+2|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414972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ние: Прочитайте графики функц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971280" y="1989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411280" y="1989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429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500360" y="3429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3357720"/>
            <a:ext cx="144360" cy="142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479736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 = |x|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+ 4     y = |x+2| - 2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806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ние: Прочитайте графики функц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   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54764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98764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148360" y="486864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6588000" y="486864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3573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1636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6720" y="4797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 = |x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|      y =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|x|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-3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806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0:20:43Z</dcterms:created>
  <dc:creator>User</dc:creator>
  <dc:description/>
  <dc:language>en-US</dc:language>
  <cp:lastModifiedBy>Stas</cp:lastModifiedBy>
  <dcterms:modified xsi:type="dcterms:W3CDTF">2011-10-20T14:09:09Z</dcterms:modified>
  <cp:revision>15</cp:revision>
  <dc:subject/>
  <dc:title>Построение графиков функций, содержащих моду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60000000000010250300207f7000400038000</vt:lpwstr>
  </property>
</Properties>
</file>