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9.wmf" ContentType="image/x-wmf"/>
  <Override PartName="/ppt/media/image6.gif" ContentType="image/gif"/>
  <Override PartName="/ppt/media/image17.gif" ContentType="image/gif"/>
  <Override PartName="/ppt/media/image2.gif" ContentType="image/gif"/>
  <Override PartName="/ppt/media/image10.wmf" ContentType="image/x-wmf"/>
  <Override PartName="/ppt/media/image14.wmf" ContentType="image/x-wmf"/>
  <Override PartName="/ppt/media/image3.gif" ContentType="image/gif"/>
  <Override PartName="/ppt/media/image15.wmf" ContentType="image/x-wmf"/>
  <Override PartName="/ppt/media/image1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16.wmf" ContentType="image/x-wmf"/>
  <Override PartName="/ppt/media/image5.gif" ContentType="image/gi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B49-7336-409A-B256-44DA1384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A64-8358-4F09-9B28-E392B07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8FA-A699-4503-95DB-FC660EB7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9FB8-5EEC-41A2-BAA6-1788584C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BE94D-006B-4AEE-9E6A-A511BC21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22DEE-B487-4AE1-8A86-9409A3FC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FF438-DC6E-4F91-9637-CACA7776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93C15-8AD3-47D7-A761-129392F9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A00E5-86DD-4FFB-9928-90ABC882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81BBC-0D0C-4BDD-981A-2ADB13E2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F7708-D363-4820-BFE1-C8C334E7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65C-1BCA-4C70-B389-F1D87A27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EB629-99CA-4C08-B220-7D9A614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2B479-CD6F-4320-A2C0-59882DA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3EEFF-154D-4ABC-AEBA-5E405E75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110CA-4026-48C2-9BD9-E9A2EEB4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E4CDB-E211-479F-A614-E5F0613D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9C66-2E41-47CB-8C01-FDB1592E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E6B-1D32-4EAF-B391-798865D2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8B7-772B-46AF-BFD2-FC890114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E7F-E354-4CAF-B184-BCF1EA9A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F31E-48C2-438D-83A7-10EC7C3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7CE-7013-429B-9065-C60D6351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2A1-0AE2-4747-93B8-E8E9C36B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71B5-FFD0-4E22-BEF7-5542283C0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0D89-F5CF-43F2-A3DB-C19D6243F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10.wm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../&#1052;&#1086;&#1080;%20&#1076;&#1086;&#1082;&#1091;&#1084;&#1077;&#1085;&#1090;&#1099;/&#1087;&#1088;&#1080;&#1083;&#1086;&#1078;&#1077;&#1085;&#1080;&#1077;.doc" TargetMode="External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197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Построение графиков функций, содержащих моду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00720" y="4076280"/>
            <a:ext cx="4319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итель матема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БОУ СОШ № 11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Щербина Антонина Николае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75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50"/>
                            </p:stCondLst>
                            <p:childTnLst>
                              <p:par>
                                <p:cTn id="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50"/>
                            </p:stCondLst>
                            <p:childTnLst>
                              <p:par>
                                <p:cTn id="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Квадратичная функ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3816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          </a:t>
            </a: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 y = </a:t>
            </a:r>
            <a:r>
              <a:rPr b="0" i="1" lang="en-US" sz="4400" spc="-1" strike="noStrike">
                <a:solidFill>
                  <a:srgbClr val="ffff33"/>
                </a:solidFill>
                <a:latin typeface="Tahoma"/>
              </a:rPr>
              <a:t>f (x)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63700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1467400">
            <a:off x="5916600" y="359208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363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588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648800">
            <a:off x="5965200" y="4195440"/>
            <a:ext cx="647640" cy="576360"/>
          </a:xfrm>
          <a:custGeom>
            <a:avLst/>
            <a:gdLst/>
            <a:ahLst/>
            <a:rect l="l" t="t" r="r" b="b"/>
            <a:pathLst>
              <a:path w="408" h="363">
                <a:moveTo>
                  <a:pt x="0" y="363"/>
                </a:moveTo>
                <a:cubicBezTo>
                  <a:pt x="79" y="181"/>
                  <a:pt x="159" y="0"/>
                  <a:pt x="227" y="0"/>
                </a:cubicBezTo>
                <a:cubicBezTo>
                  <a:pt x="295" y="0"/>
                  <a:pt x="351" y="181"/>
                  <a:pt x="408" y="363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08472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3860640"/>
            <a:ext cx="0" cy="64800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53200" y="3632040"/>
            <a:ext cx="0" cy="1152720"/>
          </a:xfrm>
          <a:prstGeom prst="line">
            <a:avLst/>
          </a:prstGeom>
          <a:ln cap="rnd" w="3168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916360" y="2492280"/>
            <a:ext cx="2305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g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&lt;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де </a:t>
            </a:r>
            <a:r>
              <a:rPr b="0" i="1" lang="en-US" sz="1800" spc="-1" strike="noStrike">
                <a:solidFill>
                  <a:srgbClr val="ff3300"/>
                </a:solidFill>
                <a:latin typeface="Tahoma"/>
              </a:rPr>
              <a:t>f (x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= 0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4000"/>
            </a:br>
            <a:r>
              <a:rPr b="0" lang="ru-RU" sz="4000" spc="-1" strike="noStrike">
                <a:solidFill>
                  <a:srgbClr val="e06ce6"/>
                </a:solidFill>
                <a:latin typeface="Tahoma"/>
              </a:rPr>
              <a:t>Постройте графики функц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|, y=|    |+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- 4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         - 1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| -           + 3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430200" cy="49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441360" cy="504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908000" y="2421000"/>
            <a:ext cx="430560" cy="492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1908000" y="2975040"/>
            <a:ext cx="1079640" cy="5126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2181240" y="3429000"/>
            <a:ext cx="1135080" cy="522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85928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+ bx +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 = a            +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6372360" y="184464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6354720" y="236376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6357960" y="2882880"/>
            <a:ext cx="503280" cy="57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6357960" y="3500280"/>
            <a:ext cx="1133280" cy="522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1"/>
          <a:stretch/>
        </p:blipFill>
        <p:spPr>
          <a:xfrm>
            <a:off x="826920" y="4149720"/>
            <a:ext cx="6553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19564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56000" y="256536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2060640"/>
            <a:ext cx="1511280" cy="2160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0" y="5734080"/>
            <a:ext cx="80820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1323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123640" y="1341000"/>
            <a:ext cx="40388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56000" y="1413000"/>
            <a:ext cx="0" cy="424800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+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635280" y="5805360"/>
            <a:ext cx="808200" cy="924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1209600" cy="1511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8400" y="1492200"/>
            <a:ext cx="1511280" cy="2160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-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4221000"/>
            <a:ext cx="863640" cy="936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780000" y="5805360"/>
            <a:ext cx="807840" cy="924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92400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764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78800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24000" y="2060640"/>
            <a:ext cx="120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123640" y="1844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       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1382400" cy="172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1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16360" y="4221000"/>
            <a:ext cx="863640" cy="43200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0800000">
            <a:off x="4716000" y="3716280"/>
            <a:ext cx="863640" cy="50472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4036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58000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640" y="3716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465300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4836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851280" y="5950080"/>
            <a:ext cx="15303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340000" y="1916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1209600" cy="151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771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356000" y="270828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=|-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+ 3|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4149720"/>
            <a:ext cx="144360" cy="142920"/>
          </a:xfrm>
          <a:prstGeom prst="ellipse">
            <a:avLst/>
          </a:prstGeom>
          <a:solidFill>
            <a:srgbClr val="ff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33336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0800000">
            <a:off x="3203280" y="3284280"/>
            <a:ext cx="863640" cy="936360"/>
          </a:xfrm>
          <a:custGeom>
            <a:avLst/>
            <a:gdLst/>
            <a:ahLst/>
            <a:rect l="l" t="t" r="r" b="b"/>
            <a:pathLst>
              <a:path w="952" h="1361">
                <a:moveTo>
                  <a:pt x="0" y="0"/>
                </a:moveTo>
                <a:cubicBezTo>
                  <a:pt x="170" y="680"/>
                  <a:pt x="340" y="1361"/>
                  <a:pt x="499" y="1361"/>
                </a:cubicBezTo>
                <a:cubicBezTo>
                  <a:pt x="658" y="1361"/>
                  <a:pt x="869" y="234"/>
                  <a:pt x="952" y="0"/>
                </a:cubicBezTo>
              </a:path>
            </a:pathLst>
          </a:custGeom>
          <a:noFill/>
          <a:ln w="38160">
            <a:solidFill>
              <a:srgbClr val="ff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626920" y="256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067280" y="2565000"/>
            <a:ext cx="576000" cy="1655640"/>
          </a:xfrm>
          <a:prstGeom prst="line">
            <a:avLst/>
          </a:prstGeom>
          <a:ln w="38160">
            <a:solidFill>
              <a:srgbClr val="ff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995280" y="4005000"/>
            <a:ext cx="576360" cy="165564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20880" y="3941640"/>
            <a:ext cx="576360" cy="1656000"/>
          </a:xfrm>
          <a:prstGeom prst="line">
            <a:avLst/>
          </a:prstGeom>
          <a:ln w="38160">
            <a:solidFill>
              <a:srgbClr val="ff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35280" y="2708280"/>
            <a:ext cx="0" cy="2952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35280" y="328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211640" y="5877000"/>
            <a:ext cx="16556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600"/>
                </a:solidFill>
                <a:latin typeface="Tahoma"/>
              </a:rPr>
              <a:t>Домашнее задание на следующий урок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лимов: № 133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арычев: № 1209 (а;б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желанию: Построить график функци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=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4-      |; y=|x|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610320" y="27874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1547640" y="4586400"/>
            <a:ext cx="600120" cy="685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419640" y="4581360"/>
            <a:ext cx="5997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403280" y="4292640"/>
            <a:ext cx="2232000" cy="21654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724360" y="4365720"/>
            <a:ext cx="2305080" cy="223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159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500"/>
                            </p:stCondLst>
                            <p:childTnLst>
                              <p:par>
                                <p:cTn id="5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Литератур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Алимов Ш.А. и др., Алгебра. Учебник для 8 класса., М., «Просвещение», 2002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Макарычев Ю.Н. и др., Алгебра. Учебник для 8 класса., М., «Просвещение», 2000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Жохов В.И. и др., Дидактические материалы по алгебре для 8 класса., М., «Просвещение», 1999 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5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3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а построения графиков функций, содержащих модул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ратить внимание на геометрический смысл моду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учить применять полученные знания при построении графиков квадратичной функц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Математический диктан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2+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-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2| =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-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иант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быть отрицательным значение суммы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|x| + 6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жет ли равняться нулю значение разно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3|x| - |x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каких значениях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рно равенство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y = |y|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шите уравне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|x - 3| 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- |x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| +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хематично постройте график функци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 = |x + 2|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64000" y="5229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48360" y="630864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Прило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 ≤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7, X =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60"/>
                            </p:stCondLst>
                            <p:childTnLst>
                              <p:par>
                                <p:cTn id="2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20"/>
                            </p:stCondLst>
                            <p:childTnLst>
                              <p:par>
                                <p:cTn id="2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8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440"/>
                            </p:stCondLst>
                            <p:childTnLst>
                              <p:par>
                                <p:cTn id="2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8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96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24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2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971280" y="278100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11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48360" y="4221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6588000" y="4221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|              y = - |x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1672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411280" y="3644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71640" y="3644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88000" y="227628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5148000" y="227628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- |x| + 2          y = |x| + 2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16720" y="364500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      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риант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61928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059280" y="2924280"/>
            <a:ext cx="129672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479840" y="3292560"/>
          <a:ext cx="185760" cy="272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036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642920" y="2924280"/>
            <a:ext cx="1297080" cy="1296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y = |x - 2|      y = |x+2|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149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971280" y="198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411280" y="198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429000"/>
            <a:ext cx="144000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500360" y="3429000"/>
            <a:ext cx="1439640" cy="1440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357720"/>
            <a:ext cx="144360" cy="142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79736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+ 4     y = |x+2| - 2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адание: Прочитайте графики функц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   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-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41128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4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87640" y="278100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79840" y="3292560"/>
          <a:ext cx="18576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 flipV="1">
            <a:off x="6588000" y="2637000"/>
            <a:ext cx="0" cy="295272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3640" y="4221000"/>
            <a:ext cx="3097440" cy="0"/>
          </a:xfrm>
          <a:prstGeom prst="line">
            <a:avLst/>
          </a:prstGeom>
          <a:ln w="41400">
            <a:solidFill>
              <a:srgbClr val="19f5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4868640"/>
            <a:ext cx="143964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88000" y="4868640"/>
            <a:ext cx="1440000" cy="143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3573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16360" y="414972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16720" y="4797360"/>
            <a:ext cx="14436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6021360"/>
            <a:ext cx="8353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 = |x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      y =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|x|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-3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863640" cy="1079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806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0:20:43Z</dcterms:created>
  <dc:creator>User</dc:creator>
  <dc:description/>
  <dc:language>en-US</dc:language>
  <cp:lastModifiedBy>Stas</cp:lastModifiedBy>
  <dcterms:modified xsi:type="dcterms:W3CDTF">2011-10-20T14:09:09Z</dcterms:modified>
  <cp:revision>15</cp:revision>
  <dc:subject/>
  <dc:title>Построение графиков функций, содержащих моду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60000000000010250300207f7000400038000</vt:lpwstr>
  </property>
</Properties>
</file>