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1.gif" ContentType="image/gif"/>
  <Override PartName="/ppt/media/image9.wmf" ContentType="image/x-wmf"/>
  <Override PartName="/ppt/media/image6.gif" ContentType="image/gif"/>
  <Override PartName="/ppt/media/image17.gif" ContentType="image/gif"/>
  <Override PartName="/ppt/media/image2.gif" ContentType="image/gif"/>
  <Override PartName="/ppt/media/image10.wmf" ContentType="image/x-wmf"/>
  <Override PartName="/ppt/media/image14.wmf" ContentType="image/x-wmf"/>
  <Override PartName="/ppt/media/image3.gif" ContentType="image/gif"/>
  <Override PartName="/ppt/media/image15.wmf" ContentType="image/x-wmf"/>
  <Override PartName="/ppt/media/image1.jpeg" ContentType="image/jpeg"/>
  <Override PartName="/ppt/media/image4.gif" ContentType="image/gif"/>
  <Override PartName="/ppt/media/image7.wmf" ContentType="image/x-wmf"/>
  <Override PartName="/ppt/media/image12.wmf" ContentType="image/x-wmf"/>
  <Override PartName="/ppt/media/image16.wmf" ContentType="image/x-wmf"/>
  <Override PartName="/ppt/media/image5.gif" ContentType="image/gi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0D4F-48D7-41E8-9DDE-741F0F5F0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7102-ABF3-47F3-AFF3-EF5B5C1D3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485F-D80E-4A20-BCF4-542C07BF6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E320-BA27-4C7D-A445-463A3E666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0EA426-F7B1-4F7D-A303-D5AA0E45C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736C7F-D272-4EE9-A187-8DF06491F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B07BAE-F9B2-4A9E-A3A4-998A38045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658524-F813-4895-A02C-74B8C5803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222E62-0409-4BDE-8830-7A73B18E4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5544A8-175D-4D02-9471-E66FF0080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576C28-5CFF-4D44-8DA5-BDE8F7BA4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1A2A-35C6-40BA-8072-116E6AE10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93B718-1DE8-4C4E-B435-D67D98657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F7A5D2-9BE3-409D-9AAA-22A2B975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2509C0-EABF-41BE-822E-EE3F4987E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0EDD3C-2EA5-40AD-9C0D-93C867F3F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10DD96-1C89-41BE-8F31-34C811CC4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BBA1-330E-448F-BF4D-BE46246C1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5CAC-2C78-43D5-87D1-982BAB92F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EF0B-EB58-4D5F-B92E-CDD21179C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D7BF-03F9-45E6-A352-A143A5C6D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0A09-FD21-458D-910A-069209B9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4A2A-953D-4151-8674-9791A68E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C42F-6939-4E89-83B5-704C142A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5B2C2-D17C-46D0-BACC-51D7EAD3F5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D755B-9984-4EE8-A852-D5B36FFAF6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image" Target="../media/image7.wmf"/><Relationship Id="rId10" Type="http://schemas.openxmlformats.org/officeDocument/2006/relationships/image" Target="../media/image10.wmf"/><Relationship Id="rId11" Type="http://schemas.openxmlformats.org/officeDocument/2006/relationships/image" Target="../media/image11.gif"/><Relationship Id="rId1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hyperlink" Target="file:///../&#1052;&#1086;&#1080;%20&#1076;&#1086;&#1082;&#1091;&#1084;&#1077;&#1085;&#1090;&#1099;/&#1087;&#1088;&#1080;&#1083;&#1086;&#1078;&#1077;&#1085;&#1080;&#1077;.doc" TargetMode="External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119700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Построение графиков функций, содержащих модул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00720" y="4076280"/>
            <a:ext cx="431928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8 клас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читель математи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БОУ СОШ № 11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Щербина Антонина Николаев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750"/>
                            </p:stCondLst>
                            <p:childTnLst>
                              <p:par>
                                <p:cTn id="1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50"/>
                            </p:stCondLst>
                            <p:childTnLst>
                              <p:par>
                                <p:cTn id="2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50"/>
                            </p:stCondLst>
                            <p:childTnLst>
                              <p:par>
                                <p:cTn id="3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Квадратичная функц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1055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82692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2411280" y="263700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4479840" y="3292560"/>
          <a:ext cx="185760" cy="3650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"/>
          <p:cNvSpPr/>
          <p:nvPr/>
        </p:nvSpPr>
        <p:spPr>
          <a:xfrm flipV="1">
            <a:off x="6588000" y="2637000"/>
            <a:ext cx="0" cy="2952720"/>
          </a:xfrm>
          <a:prstGeom prst="line">
            <a:avLst/>
          </a:prstGeom>
          <a:ln w="3816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00364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6021360"/>
            <a:ext cx="83534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4400" spc="-1" strike="noStrike">
                <a:solidFill>
                  <a:srgbClr val="ffff33"/>
                </a:solidFill>
                <a:latin typeface="Tahoma"/>
              </a:rPr>
              <a:t>y = </a:t>
            </a:r>
            <a:r>
              <a:rPr b="0" i="1" lang="en-US" sz="4400" spc="-1" strike="noStrike">
                <a:solidFill>
                  <a:srgbClr val="ffff33"/>
                </a:solidFill>
                <a:latin typeface="Tahoma"/>
              </a:rPr>
              <a:t>f (x)          </a:t>
            </a:r>
            <a:r>
              <a:rPr b="0" lang="en-US" sz="4400" spc="-1" strike="noStrike">
                <a:solidFill>
                  <a:srgbClr val="ffff33"/>
                </a:solidFill>
                <a:latin typeface="Tahoma"/>
              </a:rPr>
              <a:t> y = </a:t>
            </a:r>
            <a:r>
              <a:rPr b="0" i="1" lang="en-US" sz="4400" spc="-1" strike="noStrike">
                <a:solidFill>
                  <a:srgbClr val="ffff33"/>
                </a:solidFill>
                <a:latin typeface="Tahoma"/>
              </a:rPr>
              <a:t>f (x)</a:t>
            </a: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340000" y="4149720"/>
            <a:ext cx="144360" cy="142920"/>
          </a:xfrm>
          <a:prstGeom prst="ellipse">
            <a:avLst/>
          </a:prstGeom>
          <a:solidFill>
            <a:srgbClr val="ff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332000" y="2637000"/>
            <a:ext cx="1511280" cy="2160360"/>
          </a:xfrm>
          <a:custGeom>
            <a:avLst/>
            <a:gdLst/>
            <a:ahLst/>
            <a:rect l="l" t="t" r="r" b="b"/>
            <a:pathLst>
              <a:path w="952" h="1361">
                <a:moveTo>
                  <a:pt x="0" y="0"/>
                </a:moveTo>
                <a:cubicBezTo>
                  <a:pt x="170" y="680"/>
                  <a:pt x="340" y="1361"/>
                  <a:pt x="499" y="1361"/>
                </a:cubicBezTo>
                <a:cubicBezTo>
                  <a:pt x="658" y="1361"/>
                  <a:pt x="869" y="234"/>
                  <a:pt x="952" y="0"/>
                </a:cubicBezTo>
              </a:path>
            </a:pathLst>
          </a:custGeom>
          <a:noFill/>
          <a:ln w="38160">
            <a:solidFill>
              <a:srgbClr val="ff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21467400">
            <a:off x="5916600" y="3592080"/>
            <a:ext cx="647640" cy="576360"/>
          </a:xfrm>
          <a:custGeom>
            <a:avLst/>
            <a:gdLst/>
            <a:ahLst/>
            <a:rect l="l" t="t" r="r" b="b"/>
            <a:pathLst>
              <a:path w="408" h="363">
                <a:moveTo>
                  <a:pt x="0" y="363"/>
                </a:moveTo>
                <a:cubicBezTo>
                  <a:pt x="79" y="181"/>
                  <a:pt x="159" y="0"/>
                  <a:pt x="227" y="0"/>
                </a:cubicBezTo>
                <a:cubicBezTo>
                  <a:pt x="295" y="0"/>
                  <a:pt x="351" y="181"/>
                  <a:pt x="408" y="363"/>
                </a:cubicBezTo>
              </a:path>
            </a:pathLst>
          </a:custGeom>
          <a:noFill/>
          <a:ln w="38160">
            <a:solidFill>
              <a:srgbClr val="ff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 flipV="1">
            <a:off x="5363640" y="2565000"/>
            <a:ext cx="576360" cy="1655640"/>
          </a:xfrm>
          <a:prstGeom prst="line">
            <a:avLst/>
          </a:prstGeom>
          <a:ln w="38160">
            <a:solidFill>
              <a:srgbClr val="ff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6588000" y="2565000"/>
            <a:ext cx="576360" cy="1655640"/>
          </a:xfrm>
          <a:prstGeom prst="line">
            <a:avLst/>
          </a:prstGeom>
          <a:ln w="38160">
            <a:solidFill>
              <a:srgbClr val="ff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10648800">
            <a:off x="5965200" y="4195440"/>
            <a:ext cx="647640" cy="576360"/>
          </a:xfrm>
          <a:custGeom>
            <a:avLst/>
            <a:gdLst/>
            <a:ahLst/>
            <a:rect l="l" t="t" r="r" b="b"/>
            <a:pathLst>
              <a:path w="408" h="363">
                <a:moveTo>
                  <a:pt x="0" y="363"/>
                </a:moveTo>
                <a:cubicBezTo>
                  <a:pt x="79" y="181"/>
                  <a:pt x="159" y="0"/>
                  <a:pt x="227" y="0"/>
                </a:cubicBezTo>
                <a:cubicBezTo>
                  <a:pt x="295" y="0"/>
                  <a:pt x="351" y="181"/>
                  <a:pt x="408" y="363"/>
                </a:cubicBezTo>
              </a:path>
            </a:pathLst>
          </a:custGeom>
          <a:noFill/>
          <a:ln w="38160">
            <a:solidFill>
              <a:srgbClr val="ffff3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6084720" y="3860640"/>
            <a:ext cx="0" cy="648000"/>
          </a:xfrm>
          <a:prstGeom prst="line">
            <a:avLst/>
          </a:prstGeom>
          <a:ln cap="rnd" w="31680">
            <a:solidFill>
              <a:srgbClr val="ff33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3860640"/>
            <a:ext cx="0" cy="648000"/>
          </a:xfrm>
          <a:prstGeom prst="line">
            <a:avLst/>
          </a:prstGeom>
          <a:ln cap="rnd" w="31680">
            <a:solidFill>
              <a:srgbClr val="ff33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253200" y="3632040"/>
            <a:ext cx="0" cy="1152720"/>
          </a:xfrm>
          <a:prstGeom prst="line">
            <a:avLst/>
          </a:prstGeom>
          <a:ln cap="rnd" w="31680">
            <a:solidFill>
              <a:srgbClr val="ff33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916360" y="2492280"/>
            <a:ext cx="230508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де </a:t>
            </a:r>
            <a:r>
              <a:rPr b="0" i="1" lang="en-US" sz="1800" spc="-1" strike="noStrike">
                <a:solidFill>
                  <a:srgbClr val="ff3300"/>
                </a:solidFill>
                <a:latin typeface="Tahoma"/>
              </a:rPr>
              <a:t>f (x)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&gt;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де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1800" spc="-1" strike="noStrike">
                <a:solidFill>
                  <a:srgbClr val="ff3300"/>
                </a:solidFill>
                <a:latin typeface="Tahoma"/>
              </a:rPr>
              <a:t>f (x)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&lt;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де </a:t>
            </a:r>
            <a:r>
              <a:rPr b="0" i="1" lang="en-US" sz="1800" spc="-1" strike="noStrike">
                <a:solidFill>
                  <a:srgbClr val="ff3300"/>
                </a:solidFill>
                <a:latin typeface="Tahoma"/>
              </a:rPr>
              <a:t>f (x)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= 0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516720" y="4149720"/>
            <a:ext cx="144360" cy="142920"/>
          </a:xfrm>
          <a:prstGeom prst="ellipse">
            <a:avLst/>
          </a:prstGeom>
          <a:solidFill>
            <a:srgbClr val="ff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8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амостоятельная работа</a:t>
            </a:r>
            <a:br>
              <a:rPr sz="4000"/>
            </a:br>
            <a:r>
              <a:rPr b="0" lang="ru-RU" sz="4000" spc="-1" strike="noStrike">
                <a:solidFill>
                  <a:srgbClr val="e06ce6"/>
                </a:solidFill>
                <a:latin typeface="Tahoma"/>
              </a:rPr>
              <a:t>Постройте графики функций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 = |    |, y=|    |+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 = |     - 4|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 = |          - 1|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 = | -           + 3|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3276720" y="1916280"/>
            <a:ext cx="430200" cy="4921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1908000" y="1916280"/>
            <a:ext cx="441360" cy="5047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1908000" y="2421000"/>
            <a:ext cx="430560" cy="4921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1908000" y="2975040"/>
            <a:ext cx="1079640" cy="5126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6"/>
          <a:stretch/>
        </p:blipFill>
        <p:spPr>
          <a:xfrm>
            <a:off x="2181240" y="3429000"/>
            <a:ext cx="1135080" cy="522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4859280" y="1916280"/>
            <a:ext cx="4038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 = 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 = a    + 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 = a    + bx + 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 = a            + 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7"/>
          <a:stretch/>
        </p:blipFill>
        <p:spPr>
          <a:xfrm>
            <a:off x="6372360" y="1844640"/>
            <a:ext cx="503280" cy="5763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8"/>
          <a:stretch/>
        </p:blipFill>
        <p:spPr>
          <a:xfrm>
            <a:off x="6354720" y="2363760"/>
            <a:ext cx="503280" cy="5763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9"/>
          <a:stretch/>
        </p:blipFill>
        <p:spPr>
          <a:xfrm>
            <a:off x="6357960" y="2882880"/>
            <a:ext cx="503280" cy="5763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10"/>
          <a:stretch/>
        </p:blipFill>
        <p:spPr>
          <a:xfrm>
            <a:off x="6357960" y="3500280"/>
            <a:ext cx="1133280" cy="5223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11"/>
          <a:stretch/>
        </p:blipFill>
        <p:spPr>
          <a:xfrm>
            <a:off x="826920" y="4149720"/>
            <a:ext cx="6553440" cy="22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2195640" y="19162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277164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4356000" y="256536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4479840" y="3292560"/>
          <a:ext cx="185760" cy="3650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4" name=""/>
          <p:cNvSpPr/>
          <p:nvPr/>
        </p:nvSpPr>
        <p:spPr>
          <a:xfrm>
            <a:off x="395280" y="6021360"/>
            <a:ext cx="83534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y 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284720" y="4149720"/>
            <a:ext cx="144360" cy="142920"/>
          </a:xfrm>
          <a:prstGeom prst="ellipse">
            <a:avLst/>
          </a:prstGeom>
          <a:solidFill>
            <a:srgbClr val="ff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4000" y="2060640"/>
            <a:ext cx="1511280" cy="2160360"/>
          </a:xfrm>
          <a:custGeom>
            <a:avLst/>
            <a:gdLst/>
            <a:ahLst/>
            <a:rect l="l" t="t" r="r" b="b"/>
            <a:pathLst>
              <a:path w="952" h="1361">
                <a:moveTo>
                  <a:pt x="0" y="0"/>
                </a:moveTo>
                <a:cubicBezTo>
                  <a:pt x="170" y="680"/>
                  <a:pt x="340" y="1361"/>
                  <a:pt x="499" y="1361"/>
                </a:cubicBezTo>
                <a:cubicBezTo>
                  <a:pt x="658" y="1361"/>
                  <a:pt x="869" y="234"/>
                  <a:pt x="952" y="0"/>
                </a:cubicBezTo>
              </a:path>
            </a:pathLst>
          </a:custGeom>
          <a:noFill/>
          <a:ln w="38160">
            <a:solidFill>
              <a:srgbClr val="ff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333360"/>
            <a:ext cx="8353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Ответы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4572000" y="5734080"/>
            <a:ext cx="808200" cy="9237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250920" y="2060640"/>
            <a:ext cx="132372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0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2123640" y="1341000"/>
            <a:ext cx="403884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277164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356000" y="1413000"/>
            <a:ext cx="0" cy="424800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95280" y="6021360"/>
            <a:ext cx="83534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    + 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284720" y="4149720"/>
            <a:ext cx="144360" cy="142920"/>
          </a:xfrm>
          <a:prstGeom prst="ellipse">
            <a:avLst/>
          </a:prstGeom>
          <a:solidFill>
            <a:srgbClr val="ff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0920" y="333360"/>
            <a:ext cx="8353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Ответы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3635280" y="5805360"/>
            <a:ext cx="808200" cy="9241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395280" y="1989000"/>
            <a:ext cx="1209600" cy="15112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3578400" y="1492200"/>
            <a:ext cx="1511280" cy="2160720"/>
          </a:xfrm>
          <a:custGeom>
            <a:avLst/>
            <a:gdLst/>
            <a:ahLst/>
            <a:rect l="l" t="t" r="r" b="b"/>
            <a:pathLst>
              <a:path w="952" h="1361">
                <a:moveTo>
                  <a:pt x="0" y="0"/>
                </a:moveTo>
                <a:cubicBezTo>
                  <a:pt x="170" y="680"/>
                  <a:pt x="340" y="1361"/>
                  <a:pt x="499" y="1361"/>
                </a:cubicBezTo>
                <a:cubicBezTo>
                  <a:pt x="658" y="1361"/>
                  <a:pt x="869" y="234"/>
                  <a:pt x="952" y="0"/>
                </a:cubicBezTo>
              </a:path>
            </a:pathLst>
          </a:custGeom>
          <a:noFill/>
          <a:ln w="38160">
            <a:solidFill>
              <a:srgbClr val="ff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4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2123640" y="184464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277164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4356000" y="270828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95280" y="6021360"/>
            <a:ext cx="83534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=|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    - 4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|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284720" y="4149720"/>
            <a:ext cx="144360" cy="142920"/>
          </a:xfrm>
          <a:prstGeom prst="ellipse">
            <a:avLst/>
          </a:prstGeom>
          <a:solidFill>
            <a:srgbClr val="ff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924360" y="4221000"/>
            <a:ext cx="863640" cy="936720"/>
          </a:xfrm>
          <a:custGeom>
            <a:avLst/>
            <a:gdLst/>
            <a:ahLst/>
            <a:rect l="l" t="t" r="r" b="b"/>
            <a:pathLst>
              <a:path w="952" h="1361">
                <a:moveTo>
                  <a:pt x="0" y="0"/>
                </a:moveTo>
                <a:cubicBezTo>
                  <a:pt x="170" y="680"/>
                  <a:pt x="340" y="1361"/>
                  <a:pt x="499" y="1361"/>
                </a:cubicBezTo>
                <a:cubicBezTo>
                  <a:pt x="658" y="1361"/>
                  <a:pt x="869" y="234"/>
                  <a:pt x="952" y="0"/>
                </a:cubicBezTo>
              </a:path>
            </a:pathLst>
          </a:custGeom>
          <a:noFill/>
          <a:ln w="38160">
            <a:solidFill>
              <a:srgbClr val="ffff33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0920" y="333360"/>
            <a:ext cx="8353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Ответы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780000" y="5805360"/>
            <a:ext cx="807840" cy="9241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10800000">
            <a:off x="3924000" y="3284280"/>
            <a:ext cx="863640" cy="936360"/>
          </a:xfrm>
          <a:custGeom>
            <a:avLst/>
            <a:gdLst/>
            <a:ahLst/>
            <a:rect l="l" t="t" r="r" b="b"/>
            <a:pathLst>
              <a:path w="952" h="1361">
                <a:moveTo>
                  <a:pt x="0" y="0"/>
                </a:moveTo>
                <a:cubicBezTo>
                  <a:pt x="170" y="680"/>
                  <a:pt x="340" y="1361"/>
                  <a:pt x="499" y="1361"/>
                </a:cubicBezTo>
                <a:cubicBezTo>
                  <a:pt x="658" y="1361"/>
                  <a:pt x="869" y="234"/>
                  <a:pt x="952" y="0"/>
                </a:cubicBezTo>
              </a:path>
            </a:pathLst>
          </a:custGeom>
          <a:noFill/>
          <a:ln w="38160">
            <a:solidFill>
              <a:srgbClr val="ff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 flipV="1">
            <a:off x="3347640" y="2565000"/>
            <a:ext cx="576360" cy="1655640"/>
          </a:xfrm>
          <a:prstGeom prst="line">
            <a:avLst/>
          </a:prstGeom>
          <a:ln w="38160">
            <a:solidFill>
              <a:srgbClr val="ff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788000" y="2565000"/>
            <a:ext cx="576000" cy="1655640"/>
          </a:xfrm>
          <a:prstGeom prst="line">
            <a:avLst/>
          </a:prstGeom>
          <a:ln w="38160">
            <a:solidFill>
              <a:srgbClr val="ff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324000" y="2060640"/>
            <a:ext cx="120960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2123640" y="184464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1       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324000" y="2060640"/>
            <a:ext cx="1382400" cy="17287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277164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4356000" y="270828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5280" y="6021360"/>
            <a:ext cx="83534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=|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-1|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284720" y="4149720"/>
            <a:ext cx="144360" cy="142920"/>
          </a:xfrm>
          <a:prstGeom prst="ellipse">
            <a:avLst/>
          </a:prstGeom>
          <a:solidFill>
            <a:srgbClr val="ff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50920" y="333360"/>
            <a:ext cx="8353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Ответы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716360" y="4221000"/>
            <a:ext cx="863640" cy="432000"/>
          </a:xfrm>
          <a:custGeom>
            <a:avLst/>
            <a:gdLst/>
            <a:ahLst/>
            <a:rect l="l" t="t" r="r" b="b"/>
            <a:pathLst>
              <a:path w="952" h="1361">
                <a:moveTo>
                  <a:pt x="0" y="0"/>
                </a:moveTo>
                <a:cubicBezTo>
                  <a:pt x="170" y="680"/>
                  <a:pt x="340" y="1361"/>
                  <a:pt x="499" y="1361"/>
                </a:cubicBezTo>
                <a:cubicBezTo>
                  <a:pt x="658" y="1361"/>
                  <a:pt x="869" y="234"/>
                  <a:pt x="952" y="0"/>
                </a:cubicBezTo>
              </a:path>
            </a:pathLst>
          </a:custGeom>
          <a:noFill/>
          <a:ln w="38160">
            <a:solidFill>
              <a:srgbClr val="ffff33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rot="10800000">
            <a:off x="4716000" y="3716280"/>
            <a:ext cx="863640" cy="504720"/>
          </a:xfrm>
          <a:custGeom>
            <a:avLst/>
            <a:gdLst/>
            <a:ahLst/>
            <a:rect l="l" t="t" r="r" b="b"/>
            <a:pathLst>
              <a:path w="952" h="1361">
                <a:moveTo>
                  <a:pt x="0" y="0"/>
                </a:moveTo>
                <a:cubicBezTo>
                  <a:pt x="170" y="680"/>
                  <a:pt x="340" y="1361"/>
                  <a:pt x="499" y="1361"/>
                </a:cubicBezTo>
                <a:cubicBezTo>
                  <a:pt x="658" y="1361"/>
                  <a:pt x="869" y="234"/>
                  <a:pt x="952" y="0"/>
                </a:cubicBezTo>
              </a:path>
            </a:pathLst>
          </a:custGeom>
          <a:noFill/>
          <a:ln w="38160">
            <a:solidFill>
              <a:srgbClr val="ff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4140360" y="2565000"/>
            <a:ext cx="576000" cy="1655640"/>
          </a:xfrm>
          <a:prstGeom prst="line">
            <a:avLst/>
          </a:prstGeom>
          <a:ln w="38160">
            <a:solidFill>
              <a:srgbClr val="ff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5580000" y="2565000"/>
            <a:ext cx="576360" cy="1655640"/>
          </a:xfrm>
          <a:prstGeom prst="line">
            <a:avLst/>
          </a:prstGeom>
          <a:ln w="38160">
            <a:solidFill>
              <a:srgbClr val="ff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4427640" y="3716280"/>
            <a:ext cx="720720" cy="0"/>
          </a:xfrm>
          <a:prstGeom prst="line">
            <a:avLst/>
          </a:prstGeom>
          <a:ln w="255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4427640" y="4653000"/>
            <a:ext cx="720720" cy="0"/>
          </a:xfrm>
          <a:prstGeom prst="line">
            <a:avLst/>
          </a:prstGeom>
          <a:ln w="255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148360" y="2708280"/>
            <a:ext cx="0" cy="29527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3851280" y="5950080"/>
            <a:ext cx="153036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2340000" y="19162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250920" y="1484280"/>
            <a:ext cx="1209600" cy="151308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277164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4356000" y="270828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5280" y="6021360"/>
            <a:ext cx="83534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=|-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+ 3|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284720" y="4149720"/>
            <a:ext cx="144360" cy="142920"/>
          </a:xfrm>
          <a:prstGeom prst="ellipse">
            <a:avLst/>
          </a:prstGeom>
          <a:solidFill>
            <a:srgbClr val="ff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50920" y="333360"/>
            <a:ext cx="8353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Ответы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rot="10800000">
            <a:off x="3203280" y="3284280"/>
            <a:ext cx="863640" cy="936360"/>
          </a:xfrm>
          <a:custGeom>
            <a:avLst/>
            <a:gdLst/>
            <a:ahLst/>
            <a:rect l="l" t="t" r="r" b="b"/>
            <a:pathLst>
              <a:path w="952" h="1361">
                <a:moveTo>
                  <a:pt x="0" y="0"/>
                </a:moveTo>
                <a:cubicBezTo>
                  <a:pt x="170" y="680"/>
                  <a:pt x="340" y="1361"/>
                  <a:pt x="499" y="1361"/>
                </a:cubicBezTo>
                <a:cubicBezTo>
                  <a:pt x="658" y="1361"/>
                  <a:pt x="869" y="234"/>
                  <a:pt x="952" y="0"/>
                </a:cubicBezTo>
              </a:path>
            </a:pathLst>
          </a:custGeom>
          <a:noFill/>
          <a:ln w="38160">
            <a:solidFill>
              <a:srgbClr val="ff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 flipV="1">
            <a:off x="2626920" y="2565000"/>
            <a:ext cx="576360" cy="1655640"/>
          </a:xfrm>
          <a:prstGeom prst="line">
            <a:avLst/>
          </a:prstGeom>
          <a:ln w="38160">
            <a:solidFill>
              <a:srgbClr val="ff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4067280" y="2565000"/>
            <a:ext cx="576000" cy="1655640"/>
          </a:xfrm>
          <a:prstGeom prst="line">
            <a:avLst/>
          </a:prstGeom>
          <a:ln w="38160">
            <a:solidFill>
              <a:srgbClr val="ff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3995280" y="4005000"/>
            <a:ext cx="576360" cy="1655640"/>
          </a:xfrm>
          <a:prstGeom prst="line">
            <a:avLst/>
          </a:prstGeom>
          <a:ln w="38160">
            <a:solidFill>
              <a:srgbClr val="ffff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2720880" y="3941640"/>
            <a:ext cx="576360" cy="1656000"/>
          </a:xfrm>
          <a:prstGeom prst="line">
            <a:avLst/>
          </a:prstGeom>
          <a:ln w="38160">
            <a:solidFill>
              <a:srgbClr val="ffff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635280" y="2708280"/>
            <a:ext cx="0" cy="29527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635280" y="3284640"/>
            <a:ext cx="720720" cy="0"/>
          </a:xfrm>
          <a:prstGeom prst="line">
            <a:avLst/>
          </a:prstGeom>
          <a:ln w="255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>
            <a:off x="4211640" y="5877000"/>
            <a:ext cx="16556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000"/>
                            </p:stCondLst>
                            <p:childTnLst>
                              <p:par>
                                <p:cTn id="4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600"/>
                </a:solidFill>
                <a:latin typeface="Tahoma"/>
              </a:rPr>
              <a:t>Домашнее задание на следующий урок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лимов: № 133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акарычев: № 1209 (а;б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 желанию: Построить график функци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=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|4-      |; y=|x|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6610320" y="278748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1547640" y="4586400"/>
            <a:ext cx="600120" cy="6858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4"/>
          <a:stretch/>
        </p:blipFill>
        <p:spPr>
          <a:xfrm>
            <a:off x="3419640" y="4581360"/>
            <a:ext cx="5997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000"/>
                            </p:stCondLst>
                            <p:childTnLst>
                              <p:par>
                                <p:cTn id="4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33"/>
                </a:solidFill>
                <a:latin typeface="Comic Sans MS"/>
              </a:rPr>
              <a:t>Молодцы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7921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Спасибо за урок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1403280" y="4292640"/>
            <a:ext cx="2232000" cy="216540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5724360" y="4365720"/>
            <a:ext cx="2305080" cy="223668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4"/>
          <a:stretch/>
        </p:blipFill>
        <p:spPr>
          <a:xfrm>
            <a:off x="3492360" y="1484280"/>
            <a:ext cx="215928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8500"/>
                            </p:stCondLst>
                            <p:childTnLst>
                              <p:par>
                                <p:cTn id="50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ahoma"/>
              </a:rPr>
              <a:t>Литература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Алимов Ш.А. и др., Алгебра. Учебник для 8 класса., М., «Просвещение», 2002 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Макарычев Ю.Н. и др., Алгебра. Учебник для 8 класса., М., «Просвещение», 2000 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Жохов В.И. и др., Дидактические материалы по алгебре для 8 класса., М., «Просвещение», 1999 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5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5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50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50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50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50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8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33"/>
                </a:solidFill>
                <a:latin typeface="Tahoma"/>
              </a:rPr>
              <a:t>Цели урока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одолжить формирование навыка построения графиков функций, содержащих модуль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ратить внимание на геометрический смысл модул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учить применять полученные знания при построении графиков квадратичной функц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Математический диктан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ариант 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жет ли быть отрицательным значение суммы 2+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|x|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жет ли равняться нулю значение разност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|x| - |x|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 каких значениях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верно равенство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–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y = |-y|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ешите уравнение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|x - 2| = 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хематично постройте график функции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 = |x|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хематично постройте график функции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 = - |x| + 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хематично постройте график функции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 = |x - 2|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ариант 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жет ли быть отрицательным значение суммы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|x| + 6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жет ли равняться нулю значение разност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3|x| - |x|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 каких значениях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верно равенство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–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y = |y|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ешите уравнение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|x - 3| = 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хематично постройте график функции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 = - |x|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хематично постройте график функции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 = |x| + 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хематично постройте график функции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 = |x + 2|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564000" y="5229360"/>
            <a:ext cx="2016000" cy="2016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948360" y="6308640"/>
            <a:ext cx="1584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Прилож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2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77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" dur="77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" dur="77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77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" dur="77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9" dur="77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1" dur="77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твет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риант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 = 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 ≤ 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 = 7, X = -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риант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 = 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 ≤ 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 = 7, X = -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360"/>
                            </p:stCondLst>
                            <p:childTnLst>
                              <p:par>
                                <p:cTn id="2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8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520"/>
                            </p:stCondLst>
                            <p:childTnLst>
                              <p:par>
                                <p:cTn id="2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800"/>
                            </p:stCondLst>
                            <p:childTnLst>
                              <p:par>
                                <p:cTn id="2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8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080"/>
                            </p:stCondLst>
                            <p:childTnLst>
                              <p:par>
                                <p:cTn id="2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8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440"/>
                            </p:stCondLst>
                            <p:childTnLst>
                              <p:par>
                                <p:cTn id="2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800"/>
                            </p:stCondLst>
                            <p:childTnLst>
                              <p:par>
                                <p:cTn id="2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960"/>
                            </p:stCondLst>
                            <p:childTnLst>
                              <p:par>
                                <p:cTn id="2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3240"/>
                            </p:stCondLst>
                            <p:childTnLst>
                              <p:par>
                                <p:cTn id="2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8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3520"/>
                            </p:stCondLst>
                            <p:childTnLst>
                              <p:par>
                                <p:cTn id="2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твет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риант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риант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82692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2411280" y="263700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971280" y="2781000"/>
            <a:ext cx="1439640" cy="1439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411280" y="2781000"/>
            <a:ext cx="1440000" cy="1439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479840" y="3292560"/>
          <a:ext cx="185760" cy="3650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 flipV="1">
            <a:off x="6588000" y="263700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00364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148360" y="4221000"/>
            <a:ext cx="1439640" cy="1440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6588000" y="4221000"/>
            <a:ext cx="1440000" cy="1440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5280" y="6021360"/>
            <a:ext cx="83534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y = |x|              y = - |x|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340000" y="4149720"/>
            <a:ext cx="14436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516720" y="4149720"/>
            <a:ext cx="14436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твет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риант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риант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82692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411280" y="263700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2411280" y="3644640"/>
            <a:ext cx="1440000" cy="1439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971640" y="3644640"/>
            <a:ext cx="1439640" cy="1439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479840" y="3292560"/>
          <a:ext cx="185760" cy="2728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4479840" y="3292560"/>
          <a:ext cx="185760" cy="3650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 flipV="1">
            <a:off x="6588000" y="263700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0364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588000" y="2276280"/>
            <a:ext cx="1440000" cy="1439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5148000" y="2276280"/>
            <a:ext cx="1439640" cy="1439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5280" y="6021360"/>
            <a:ext cx="83534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y = - |x| + 2          y = |x| + 2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40000" y="3573360"/>
            <a:ext cx="14436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516720" y="3645000"/>
            <a:ext cx="14436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твет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риант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       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риант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2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82692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411280" y="263700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619280" y="2781000"/>
            <a:ext cx="1440000" cy="1439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059280" y="2924280"/>
            <a:ext cx="1296720" cy="1296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479840" y="3292560"/>
          <a:ext cx="185760" cy="2728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4479840" y="3292560"/>
          <a:ext cx="185760" cy="2728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 flipV="1">
            <a:off x="6588000" y="263700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0364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5940360" y="2781000"/>
            <a:ext cx="1440000" cy="1439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4642920" y="2924280"/>
            <a:ext cx="1297080" cy="1296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5280" y="6021360"/>
            <a:ext cx="83534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y = |x - 2|      y = |x+2|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987640" y="4149720"/>
            <a:ext cx="14436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4149720"/>
            <a:ext cx="14472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Задание: Прочитайте графики функци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-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82692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411280" y="263700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971280" y="1989000"/>
            <a:ext cx="1439640" cy="1440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2411280" y="1989000"/>
            <a:ext cx="1440000" cy="1440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479840" y="3292560"/>
          <a:ext cx="185760" cy="3650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 flipV="1">
            <a:off x="6588000" y="263700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5940360" y="3429000"/>
            <a:ext cx="1440000" cy="1440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4500360" y="3429000"/>
            <a:ext cx="1439640" cy="1440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340000" y="3357720"/>
            <a:ext cx="144360" cy="142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867280" y="4797360"/>
            <a:ext cx="14472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5280" y="6021360"/>
            <a:ext cx="83534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y = |x|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+ 4     y = |x+2| - 2</a:t>
            </a: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979640" y="1268280"/>
            <a:ext cx="863640" cy="10796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6156360" y="1341360"/>
            <a:ext cx="8064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Задание: Прочитайте графики функци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    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-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82692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2411280" y="263700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1547640" y="2781000"/>
            <a:ext cx="1440000" cy="1439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2987640" y="2781000"/>
            <a:ext cx="1440000" cy="1439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479840" y="3292560"/>
          <a:ext cx="185760" cy="3650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"/>
          <p:cNvSpPr/>
          <p:nvPr/>
        </p:nvSpPr>
        <p:spPr>
          <a:xfrm flipV="1">
            <a:off x="6588000" y="263700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00364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5148360" y="4868640"/>
            <a:ext cx="1439640" cy="1439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6588000" y="4868640"/>
            <a:ext cx="1440000" cy="1439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340000" y="3573360"/>
            <a:ext cx="14436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916360" y="4149720"/>
            <a:ext cx="14436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516720" y="4797360"/>
            <a:ext cx="14436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5280" y="6021360"/>
            <a:ext cx="83534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y = |x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-1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|      y =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|x|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-3</a:t>
            </a: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2050920" y="1341360"/>
            <a:ext cx="863640" cy="10796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6156360" y="1341360"/>
            <a:ext cx="8064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1T10:20:43Z</dcterms:created>
  <dc:creator>User</dc:creator>
  <dc:description/>
  <dc:language>en-US</dc:language>
  <cp:lastModifiedBy>Stas</cp:lastModifiedBy>
  <dcterms:modified xsi:type="dcterms:W3CDTF">2011-10-20T14:09:09Z</dcterms:modified>
  <cp:revision>15</cp:revision>
  <dc:subject/>
  <dc:title>Построение графиков функций, содержащих модуль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e060000000000010250300207f7000400038000</vt:lpwstr>
  </property>
</Properties>
</file>