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015-6482-4508-A9D0-4A17F48C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640-6F47-416A-B29D-6E0D657B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FAF0-9BF5-4568-BAD2-B21F559E4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7BC-55E4-4A20-8FFB-1E0F6D8F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62D-A2BE-4C56-ADFC-C0BDE5BE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3FD-833D-499D-9247-9FA0C879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E62-FBD8-4828-9DD6-38A0391E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8CCE-221A-47CA-8EBE-FAC1D8AB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186-4C24-4D19-A978-2824DFEB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27E-886E-47B6-BC3A-1ACC006A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FC7A-870E-45DE-8357-95562F85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F96-4035-4D39-BB9D-7D083424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D090-0F23-4241-8EF2-04C021AB57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 тропинкам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4797000"/>
            <a:ext cx="704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мня, что длина спичечной коробки - 5 сантиметров, вы и без линейки вполне успешно можете измерить длину провода или проволо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537000" cy="266544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6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Разрежь этот крест так, чтобы собрать из него квадрат. Сторона квадрата должна быть равна стороне крес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Группа 12"/>
          <p:cNvGrpSpPr/>
          <p:nvPr/>
        </p:nvGrpSpPr>
        <p:grpSpPr>
          <a:xfrm>
            <a:off x="4711680" y="2133720"/>
            <a:ext cx="4270320" cy="4144680"/>
            <a:chOff x="4711680" y="2133720"/>
            <a:chExt cx="4270320" cy="414468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rcRect l="0" t="0" r="175" b="-213"/>
            <a:stretch/>
          </p:blipFill>
          <p:spPr>
            <a:xfrm>
              <a:off x="4711680" y="2133720"/>
              <a:ext cx="427032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ая соединительная линия 11"/>
            <p:cNvSpPr/>
            <p:nvPr/>
          </p:nvSpPr>
          <p:spPr>
            <a:xfrm>
              <a:off x="6661080" y="2502000"/>
              <a:ext cx="0" cy="37764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ая соединительная линия 9"/>
            <p:cNvSpPr/>
            <p:nvPr/>
          </p:nvSpPr>
          <p:spPr>
            <a:xfrm>
              <a:off x="4711680" y="4116240"/>
              <a:ext cx="39657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Рисунок 4" descr="Описание: https://sites.google.com/site/vptmatematiki/_/rsrc/1332078147889/etapy-proekta/3-etap/090804_01_1.gif"/>
          <p:cNvPicPr/>
          <p:nvPr/>
        </p:nvPicPr>
        <p:blipFill>
          <a:blip r:embed="rId2"/>
          <a:stretch/>
        </p:blipFill>
        <p:spPr>
          <a:xfrm>
            <a:off x="826920" y="2502000"/>
            <a:ext cx="3297240" cy="329724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840" y="7869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Разрежьте по клеточкам фигуру на 4 равные по форме и объему части так, чтобы в каждой был ровно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 крестик и 1 точка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38240" y="154728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-98" b="-302"/>
          <a:stretch/>
        </p:blipFill>
        <p:spPr>
          <a:xfrm>
            <a:off x="4716360" y="1671480"/>
            <a:ext cx="3961080" cy="4278600"/>
          </a:xfrm>
          <a:prstGeom prst="rect">
            <a:avLst/>
          </a:prstGeom>
          <a:ln w="0">
            <a:noFill/>
          </a:ln>
        </p:spPr>
      </p:pic>
      <p:cxnSp>
        <p:nvCxnSpPr>
          <p:cNvPr id="93" name="Прямая со стрелкой 7"/>
          <p:cNvCxnSpPr/>
          <p:nvPr/>
        </p:nvCxnSpPr>
        <p:spPr>
          <a:xfrm>
            <a:off x="5003640" y="2491920"/>
            <a:ext cx="1153440" cy="10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Прямая соединительная линия 10"/>
          <p:cNvSpPr/>
          <p:nvPr/>
        </p:nvSpPr>
        <p:spPr>
          <a:xfrm>
            <a:off x="6156360" y="249228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4"/>
          <p:cNvSpPr/>
          <p:nvPr/>
        </p:nvSpPr>
        <p:spPr>
          <a:xfrm>
            <a:off x="5580000" y="3068640"/>
            <a:ext cx="5763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6"/>
          <p:cNvSpPr/>
          <p:nvPr/>
        </p:nvSpPr>
        <p:spPr>
          <a:xfrm>
            <a:off x="5492880" y="3054240"/>
            <a:ext cx="0" cy="649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5580000" y="3716280"/>
            <a:ext cx="24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8018640" y="1862280"/>
            <a:ext cx="0" cy="1225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>
            <a:off x="6686640" y="2475000"/>
            <a:ext cx="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24"/>
          <p:cNvSpPr/>
          <p:nvPr/>
        </p:nvSpPr>
        <p:spPr>
          <a:xfrm>
            <a:off x="5483160" y="4346640"/>
            <a:ext cx="0" cy="1152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26"/>
          <p:cNvSpPr/>
          <p:nvPr/>
        </p:nvSpPr>
        <p:spPr>
          <a:xfrm>
            <a:off x="6794640" y="2475000"/>
            <a:ext cx="504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>
            <a:off x="7299360" y="2475000"/>
            <a:ext cx="0" cy="612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30"/>
          <p:cNvSpPr/>
          <p:nvPr/>
        </p:nvSpPr>
        <p:spPr>
          <a:xfrm flipV="1">
            <a:off x="7299360" y="3051000"/>
            <a:ext cx="719280" cy="36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4096"/>
          <p:cNvSpPr/>
          <p:nvPr/>
        </p:nvSpPr>
        <p:spPr>
          <a:xfrm>
            <a:off x="5570640" y="4346640"/>
            <a:ext cx="576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4100"/>
          <p:cNvSpPr/>
          <p:nvPr/>
        </p:nvSpPr>
        <p:spPr>
          <a:xfrm>
            <a:off x="614664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4102"/>
          <p:cNvSpPr/>
          <p:nvPr/>
        </p:nvSpPr>
        <p:spPr>
          <a:xfrm>
            <a:off x="6146640" y="4923000"/>
            <a:ext cx="6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4104"/>
          <p:cNvSpPr/>
          <p:nvPr/>
        </p:nvSpPr>
        <p:spPr>
          <a:xfrm>
            <a:off x="8018640" y="3699000"/>
            <a:ext cx="0" cy="647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4106"/>
          <p:cNvSpPr/>
          <p:nvPr/>
        </p:nvSpPr>
        <p:spPr>
          <a:xfrm>
            <a:off x="729936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4108"/>
          <p:cNvSpPr/>
          <p:nvPr/>
        </p:nvSpPr>
        <p:spPr>
          <a:xfrm>
            <a:off x="7299360" y="4346640"/>
            <a:ext cx="719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4110"/>
          <p:cNvSpPr/>
          <p:nvPr/>
        </p:nvSpPr>
        <p:spPr>
          <a:xfrm>
            <a:off x="7299360" y="4923000"/>
            <a:ext cx="1224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1" descr="Описание: https://sites.google.com/site/vptmatematiki/_/rsrc/1332077828313/etapy-proekta/3-etap/100706_02_1.gif?height=146&amp;width=147"/>
          <p:cNvPicPr/>
          <p:nvPr/>
        </p:nvPicPr>
        <p:blipFill>
          <a:blip r:embed="rId2"/>
          <a:stretch/>
        </p:blipFill>
        <p:spPr>
          <a:xfrm>
            <a:off x="755640" y="1959120"/>
            <a:ext cx="3727440" cy="37018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в конец 2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зрежьте  фигуру на 3 части так, чтобы сложить из них квадра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Описание: https://sites.google.com/site/vptmatematiki/_/rsrc/1332078076444/etapy-proekta/3-etap/100706_01_1.gif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4686480" y="1779480"/>
            <a:ext cx="3881160" cy="3881520"/>
            <a:chOff x="4686480" y="1779480"/>
            <a:chExt cx="3881160" cy="3881520"/>
          </a:xfrm>
        </p:grpSpPr>
        <p:pic>
          <p:nvPicPr>
            <p:cNvPr id="117" name="Рисунок 3" descr="Описание: https://sites.google.com/site/vptmatematiki/_/rsrc/1332078076444/etapy-proekta/3-etap/100706_01_1.gif"/>
            <p:cNvPicPr/>
            <p:nvPr/>
          </p:nvPicPr>
          <p:blipFill>
            <a:blip r:embed="rId2"/>
            <a:stretch/>
          </p:blipFill>
          <p:spPr>
            <a:xfrm>
              <a:off x="4686480" y="1779480"/>
              <a:ext cx="388116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Прямая соединительная линия 5"/>
            <p:cNvSpPr/>
            <p:nvPr/>
          </p:nvSpPr>
          <p:spPr>
            <a:xfrm>
              <a:off x="5221440" y="2276280"/>
              <a:ext cx="1871640" cy="9367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ая соединительная линия 8"/>
            <p:cNvSpPr/>
            <p:nvPr/>
          </p:nvSpPr>
          <p:spPr>
            <a:xfrm flipH="1">
              <a:off x="6156000" y="3213000"/>
              <a:ext cx="936360" cy="194328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756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зрежьте фигуру на 2 так, чтобы можно было сложить квадрат. Клетки нарисованы лишь для вспомогательных целе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2" descr="Описание: https://sites.google.com/site/vptmatematiki/_/rsrc/1332077975117/etapy-proekta/3-etap/090804_05_1.gif"/>
          <p:cNvPicPr/>
          <p:nvPr/>
        </p:nvPicPr>
        <p:blipFill>
          <a:blip r:embed="rId1"/>
          <a:stretch/>
        </p:blipFill>
        <p:spPr>
          <a:xfrm>
            <a:off x="826920" y="1724040"/>
            <a:ext cx="3843360" cy="4226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2"/>
          <p:cNvGrpSpPr/>
          <p:nvPr/>
        </p:nvGrpSpPr>
        <p:grpSpPr>
          <a:xfrm>
            <a:off x="4932360" y="1700280"/>
            <a:ext cx="3863880" cy="4249800"/>
            <a:chOff x="4932360" y="1700280"/>
            <a:chExt cx="3863880" cy="4249800"/>
          </a:xfrm>
        </p:grpSpPr>
        <p:pic>
          <p:nvPicPr>
            <p:cNvPr id="124" name="Рисунок 2" descr="Описание: https://sites.google.com/site/vptmatematiki/_/rsrc/1332077975117/etapy-proekta/3-etap/090804_05_1.gif"/>
            <p:cNvPicPr/>
            <p:nvPr/>
          </p:nvPicPr>
          <p:blipFill>
            <a:blip r:embed="rId2"/>
            <a:stretch/>
          </p:blipFill>
          <p:spPr>
            <a:xfrm>
              <a:off x="4932360" y="1700280"/>
              <a:ext cx="3863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Прямоугольник 4"/>
            <p:cNvSpPr/>
            <p:nvPr/>
          </p:nvSpPr>
          <p:spPr>
            <a:xfrm>
              <a:off x="7596360" y="2852640"/>
              <a:ext cx="431640" cy="26654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6"/>
            <p:cNvSpPr/>
            <p:nvPr/>
          </p:nvSpPr>
          <p:spPr>
            <a:xfrm>
              <a:off x="5724360" y="3213000"/>
              <a:ext cx="1871640" cy="4316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7"/>
            <p:cNvSpPr/>
            <p:nvPr/>
          </p:nvSpPr>
          <p:spPr>
            <a:xfrm>
              <a:off x="6084720" y="3645000"/>
              <a:ext cx="1511280" cy="151272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1"/>
            <p:cNvSpPr/>
            <p:nvPr/>
          </p:nvSpPr>
          <p:spPr>
            <a:xfrm>
              <a:off x="6084720" y="5158080"/>
              <a:ext cx="360360" cy="36036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Управляющая кнопка: в конец 9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Наметьте  линии разреза квадрата на 4 части, одинаковые по форме и размерам, так, чтобы в каждой части оказались Р,О,З,Ы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27347" t="4940" r="27736" b="10467"/>
          <a:stretch/>
        </p:blipFill>
        <p:spPr>
          <a:xfrm>
            <a:off x="826920" y="1916280"/>
            <a:ext cx="3816360" cy="342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rcRect l="27347" t="4940" r="27736" b="10467"/>
          <a:stretch/>
        </p:blipFill>
        <p:spPr>
          <a:xfrm>
            <a:off x="4643280" y="1916280"/>
            <a:ext cx="3816360" cy="34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3" name="Группа 7182"/>
          <p:cNvGrpSpPr/>
          <p:nvPr/>
        </p:nvGrpSpPr>
        <p:grpSpPr>
          <a:xfrm>
            <a:off x="4859280" y="2025720"/>
            <a:ext cx="1800360" cy="2754360"/>
            <a:chOff x="4859280" y="2025720"/>
            <a:chExt cx="1800360" cy="2754360"/>
          </a:xfrm>
        </p:grpSpPr>
        <p:sp>
          <p:nvSpPr>
            <p:cNvPr id="134" name="Прямая соединительная линия 30"/>
            <p:cNvSpPr/>
            <p:nvPr/>
          </p:nvSpPr>
          <p:spPr>
            <a:xfrm>
              <a:off x="5506920" y="2601720"/>
              <a:ext cx="504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ая соединительная линия 18"/>
            <p:cNvSpPr/>
            <p:nvPr/>
          </p:nvSpPr>
          <p:spPr>
            <a:xfrm>
              <a:off x="4859280" y="2025720"/>
              <a:ext cx="107964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ая соединительная линия 22"/>
            <p:cNvSpPr/>
            <p:nvPr/>
          </p:nvSpPr>
          <p:spPr>
            <a:xfrm>
              <a:off x="4859280" y="2025720"/>
              <a:ext cx="144360" cy="2232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ая соединительная линия 27"/>
            <p:cNvSpPr/>
            <p:nvPr/>
          </p:nvSpPr>
          <p:spPr>
            <a:xfrm>
              <a:off x="6012000" y="2025720"/>
              <a:ext cx="0" cy="576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ая соединительная линия 7168"/>
            <p:cNvSpPr/>
            <p:nvPr/>
          </p:nvSpPr>
          <p:spPr>
            <a:xfrm>
              <a:off x="5506920" y="260172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ая соединительная линия 7172"/>
            <p:cNvSpPr/>
            <p:nvPr/>
          </p:nvSpPr>
          <p:spPr>
            <a:xfrm>
              <a:off x="5506920" y="370044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ая соединительная линия 7174"/>
            <p:cNvSpPr/>
            <p:nvPr/>
          </p:nvSpPr>
          <p:spPr>
            <a:xfrm>
              <a:off x="6659640" y="370044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ая соединительная линия 7176"/>
            <p:cNvSpPr/>
            <p:nvPr/>
          </p:nvSpPr>
          <p:spPr>
            <a:xfrm flipV="1">
              <a:off x="5003640" y="4221000"/>
              <a:ext cx="503280" cy="36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ая соединительная линия 7178"/>
            <p:cNvSpPr/>
            <p:nvPr/>
          </p:nvSpPr>
          <p:spPr>
            <a:xfrm>
              <a:off x="5543640" y="4221360"/>
              <a:ext cx="0" cy="522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ая соединительная линия 7180"/>
            <p:cNvSpPr/>
            <p:nvPr/>
          </p:nvSpPr>
          <p:spPr>
            <a:xfrm>
              <a:off x="5506920" y="476280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Прямая соединительная линия 7184"/>
          <p:cNvSpPr/>
          <p:nvPr/>
        </p:nvSpPr>
        <p:spPr>
          <a:xfrm>
            <a:off x="6084720" y="2025720"/>
            <a:ext cx="223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7186"/>
          <p:cNvSpPr/>
          <p:nvPr/>
        </p:nvSpPr>
        <p:spPr>
          <a:xfrm>
            <a:off x="8317080" y="2025720"/>
            <a:ext cx="0" cy="111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7188"/>
          <p:cNvSpPr/>
          <p:nvPr/>
        </p:nvSpPr>
        <p:spPr>
          <a:xfrm flipH="1">
            <a:off x="7811640" y="3141720"/>
            <a:ext cx="505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7190"/>
          <p:cNvSpPr/>
          <p:nvPr/>
        </p:nvSpPr>
        <p:spPr>
          <a:xfrm flipV="1">
            <a:off x="7812000" y="2583000"/>
            <a:ext cx="0" cy="558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7192"/>
          <p:cNvSpPr/>
          <p:nvPr/>
        </p:nvSpPr>
        <p:spPr>
          <a:xfrm flipH="1">
            <a:off x="6659280" y="2583000"/>
            <a:ext cx="115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7194"/>
          <p:cNvSpPr/>
          <p:nvPr/>
        </p:nvSpPr>
        <p:spPr>
          <a:xfrm>
            <a:off x="6683400" y="2565360"/>
            <a:ext cx="0" cy="10796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7196"/>
          <p:cNvSpPr/>
          <p:nvPr/>
        </p:nvSpPr>
        <p:spPr>
          <a:xfrm>
            <a:off x="5018040" y="4221000"/>
            <a:ext cx="0" cy="1079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7198"/>
          <p:cNvSpPr/>
          <p:nvPr/>
        </p:nvSpPr>
        <p:spPr>
          <a:xfrm>
            <a:off x="5018040" y="5300640"/>
            <a:ext cx="223380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6144"/>
          <p:cNvSpPr/>
          <p:nvPr/>
        </p:nvSpPr>
        <p:spPr>
          <a:xfrm>
            <a:off x="7251840" y="4724280"/>
            <a:ext cx="0" cy="57636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6147"/>
          <p:cNvSpPr/>
          <p:nvPr/>
        </p:nvSpPr>
        <p:spPr>
          <a:xfrm>
            <a:off x="7826400" y="3699000"/>
            <a:ext cx="0" cy="108108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6149"/>
          <p:cNvSpPr/>
          <p:nvPr/>
        </p:nvSpPr>
        <p:spPr>
          <a:xfrm>
            <a:off x="6683400" y="3681360"/>
            <a:ext cx="1128600" cy="17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6151"/>
          <p:cNvSpPr/>
          <p:nvPr/>
        </p:nvSpPr>
        <p:spPr>
          <a:xfrm flipH="1">
            <a:off x="7262640" y="4761000"/>
            <a:ext cx="56376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Управляющая кнопка: в конец 28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Можно ли замостить плоскость фигурами, показанными на рису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47593" t="0" r="26" b="4760"/>
          <a:stretch/>
        </p:blipFill>
        <p:spPr>
          <a:xfrm>
            <a:off x="1225440" y="1741320"/>
            <a:ext cx="3027600" cy="345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483080" y="2303640"/>
            <a:ext cx="4106880" cy="374328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0" t="11643" r="49107" b="187"/>
          <a:stretch/>
        </p:blipFill>
        <p:spPr>
          <a:xfrm>
            <a:off x="900000" y="1628640"/>
            <a:ext cx="3176640" cy="3456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C:\Documents and Settings\User\Рабочий стол\101MSDCF\DSC01964.JPG"/>
          <p:cNvPicPr/>
          <p:nvPr/>
        </p:nvPicPr>
        <p:blipFill>
          <a:blip r:embed="rId2"/>
          <a:srcRect l="12021" t="0" r="21619" b="5288"/>
          <a:stretch/>
        </p:blipFill>
        <p:spPr>
          <a:xfrm>
            <a:off x="4643280" y="2205000"/>
            <a:ext cx="3816360" cy="388800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611280" y="15084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пируйте рисунок. Вырежьте квадрат. Наклейте его на плотную бумагу и разрежьте на семь частей. Используя все части, сложите весёлые картинки и забавные фигу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7" descr="Описание: https://sites.google.com/site/vptmatematiki/_/rsrc/1332080926601/etapy-proekta/3-etap/2012-03-18%2021-18-41_0067.jpg?height=398&amp;width=408"/>
          <p:cNvPicPr/>
          <p:nvPr/>
        </p:nvPicPr>
        <p:blipFill>
          <a:blip r:embed="rId1"/>
          <a:stretch/>
        </p:blipFill>
        <p:spPr>
          <a:xfrm>
            <a:off x="4427640" y="1484280"/>
            <a:ext cx="435600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Картинка 36 из 6925"/>
          <p:cNvPicPr/>
          <p:nvPr/>
        </p:nvPicPr>
        <p:blipFill>
          <a:blip r:embed="rId1"/>
          <a:stretch/>
        </p:blipFill>
        <p:spPr>
          <a:xfrm>
            <a:off x="971640" y="1557360"/>
            <a:ext cx="25336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72" name="Группа 7"/>
          <p:cNvGrpSpPr/>
          <p:nvPr/>
        </p:nvGrpSpPr>
        <p:grpSpPr>
          <a:xfrm>
            <a:off x="5191200" y="1703520"/>
            <a:ext cx="2592360" cy="3903480"/>
            <a:chOff x="5191200" y="1703520"/>
            <a:chExt cx="2592360" cy="3903480"/>
          </a:xfrm>
        </p:grpSpPr>
        <p:pic>
          <p:nvPicPr>
            <p:cNvPr id="173" name="Picture 4" descr="http://shalun24.ru/images/play/tangram/tan03.png"/>
            <p:cNvPicPr/>
            <p:nvPr/>
          </p:nvPicPr>
          <p:blipFill>
            <a:blip r:embed="rId2"/>
            <a:stretch/>
          </p:blipFill>
          <p:spPr>
            <a:xfrm>
              <a:off x="5191200" y="1710720"/>
              <a:ext cx="2592360" cy="38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Равнобедренный треугольник 2"/>
            <p:cNvSpPr/>
            <p:nvPr/>
          </p:nvSpPr>
          <p:spPr>
            <a:xfrm>
              <a:off x="5275080" y="2603520"/>
              <a:ext cx="1584360" cy="8236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Равнобедренный треугольник 3"/>
            <p:cNvSpPr/>
            <p:nvPr/>
          </p:nvSpPr>
          <p:spPr>
            <a:xfrm rot="16200000">
              <a:off x="5303160" y="4482360"/>
              <a:ext cx="792000" cy="4348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ый треугольник 4"/>
            <p:cNvSpPr/>
            <p:nvPr/>
          </p:nvSpPr>
          <p:spPr>
            <a:xfrm>
              <a:off x="5735520" y="5002200"/>
              <a:ext cx="645840" cy="60480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ый треугольник 8"/>
            <p:cNvSpPr/>
            <p:nvPr/>
          </p:nvSpPr>
          <p:spPr>
            <a:xfrm>
              <a:off x="6896160" y="1703520"/>
              <a:ext cx="887400" cy="93636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Прямоугольный треугольник 9"/>
            <p:cNvSpPr/>
            <p:nvPr/>
          </p:nvSpPr>
          <p:spPr>
            <a:xfrm rot="5400000">
              <a:off x="5763240" y="3413520"/>
              <a:ext cx="1068120" cy="112392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Ромб 6"/>
            <p:cNvSpPr/>
            <p:nvPr/>
          </p:nvSpPr>
          <p:spPr>
            <a:xfrm>
              <a:off x="6486480" y="2603520"/>
              <a:ext cx="853920" cy="823680"/>
            </a:xfrm>
            <a:prstGeom prst="diamond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Управляющая кнопка: в конец 11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3">
            <a:hlinkClick r:id="rId1" action="ppaction://hlinksldjump"/>
          </p:cNvPr>
          <p:cNvSpPr/>
          <p:nvPr/>
        </p:nvSpPr>
        <p:spPr>
          <a:xfrm>
            <a:off x="1187280" y="1341360"/>
            <a:ext cx="741708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4">
            <a:hlinkClick r:id="rId2" action="ppaction://hlinksldjump"/>
          </p:cNvPr>
          <p:cNvSpPr/>
          <p:nvPr/>
        </p:nvSpPr>
        <p:spPr>
          <a:xfrm>
            <a:off x="1187280" y="2637000"/>
            <a:ext cx="7417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на клетчатой бумаг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5">
            <a:hlinkClick r:id="rId3" action="ppaction://hlinksldjump"/>
          </p:cNvPr>
          <p:cNvSpPr/>
          <p:nvPr/>
        </p:nvSpPr>
        <p:spPr>
          <a:xfrm>
            <a:off x="1187280" y="3933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7">
            <a:hlinkClick r:id="rId4" action="ppaction://hlinksldjump"/>
          </p:cNvPr>
          <p:cNvSpPr/>
          <p:nvPr/>
        </p:nvSpPr>
        <p:spPr>
          <a:xfrm>
            <a:off x="1187280" y="5157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из спи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Картинка 38 из 6925"/>
          <p:cNvPicPr/>
          <p:nvPr/>
        </p:nvPicPr>
        <p:blipFill>
          <a:blip r:embed="rId1"/>
          <a:stretch/>
        </p:blipFill>
        <p:spPr>
          <a:xfrm>
            <a:off x="5076720" y="1700280"/>
            <a:ext cx="377208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7"/>
          <p:cNvGrpSpPr/>
          <p:nvPr/>
        </p:nvGrpSpPr>
        <p:grpSpPr>
          <a:xfrm>
            <a:off x="1187280" y="1557360"/>
            <a:ext cx="2953080" cy="4680000"/>
            <a:chOff x="1187280" y="1557360"/>
            <a:chExt cx="2953080" cy="4680000"/>
          </a:xfrm>
        </p:grpSpPr>
        <p:pic>
          <p:nvPicPr>
            <p:cNvPr id="184" name="Picture 6" descr="Картинка 39 из 6925"/>
            <p:cNvPicPr/>
            <p:nvPr/>
          </p:nvPicPr>
          <p:blipFill>
            <a:blip r:embed="rId2"/>
            <a:stretch/>
          </p:blipFill>
          <p:spPr>
            <a:xfrm>
              <a:off x="1187280" y="1557360"/>
              <a:ext cx="295308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Прямоугольный треугольник 2"/>
            <p:cNvSpPr/>
            <p:nvPr/>
          </p:nvSpPr>
          <p:spPr>
            <a:xfrm rot="10800000">
              <a:off x="1331280" y="1585440"/>
              <a:ext cx="934920" cy="936360"/>
            </a:xfrm>
            <a:prstGeom prst="rtTriangle">
              <a:avLst/>
            </a:prstGeom>
            <a:solidFill>
              <a:srgbClr val="c050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Равнобедренный треугольник 3"/>
            <p:cNvSpPr/>
            <p:nvPr/>
          </p:nvSpPr>
          <p:spPr>
            <a:xfrm>
              <a:off x="1838160" y="3127320"/>
              <a:ext cx="1941840" cy="9684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Прямоугольный треугольник 4"/>
            <p:cNvSpPr/>
            <p:nvPr/>
          </p:nvSpPr>
          <p:spPr>
            <a:xfrm rot="13370400">
              <a:off x="1437480" y="3276720"/>
              <a:ext cx="679320" cy="706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Ромб 5"/>
            <p:cNvSpPr/>
            <p:nvPr/>
          </p:nvSpPr>
          <p:spPr>
            <a:xfrm>
              <a:off x="3129120" y="2954160"/>
              <a:ext cx="936720" cy="917640"/>
            </a:xfrm>
            <a:prstGeom prst="diamond">
              <a:avLst/>
            </a:prstGeom>
            <a:solidFill>
              <a:srgbClr val="632523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ый треугольник 6"/>
            <p:cNvSpPr/>
            <p:nvPr/>
          </p:nvSpPr>
          <p:spPr>
            <a:xfrm rot="10800000">
              <a:off x="1777680" y="4095720"/>
              <a:ext cx="1355760" cy="1349280"/>
            </a:xfrm>
            <a:prstGeom prst="rtTriangle">
              <a:avLst/>
            </a:prstGeom>
            <a:solidFill>
              <a:srgbClr val="17375e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Картинка 18 из 19257"/>
          <p:cNvPicPr/>
          <p:nvPr/>
        </p:nvPicPr>
        <p:blipFill>
          <a:blip r:embed="rId1"/>
          <a:stretch/>
        </p:blipFill>
        <p:spPr>
          <a:xfrm>
            <a:off x="2411280" y="1773360"/>
            <a:ext cx="34959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в конец 3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з спичек построен дом . Переложите две спички так, чтобы дом повернулся другой стороно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0" t="0" r="50016" b="0"/>
          <a:stretch/>
        </p:blipFill>
        <p:spPr>
          <a:xfrm>
            <a:off x="1116000" y="1916280"/>
            <a:ext cx="3166920" cy="2734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C:\Documents and Settings\User\Рабочий стол\101MSDCF\DSC01966.JPG"/>
          <p:cNvPicPr/>
          <p:nvPr/>
        </p:nvPicPr>
        <p:blipFill>
          <a:blip r:embed="rId2"/>
          <a:stretch/>
        </p:blipFill>
        <p:spPr>
          <a:xfrm>
            <a:off x="4425840" y="2778120"/>
            <a:ext cx="410364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Этот греческий храм построен из одиннадцати спичек. Требуется переложить четыре спички так, чтобы получилось пятнадца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43818" t="0" r="0" b="0"/>
          <a:stretch/>
        </p:blipFill>
        <p:spPr>
          <a:xfrm>
            <a:off x="816120" y="1700280"/>
            <a:ext cx="308916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C:\Documents and Settings\User\Рабочий стол\101MSDCF\DSC01967.JPG"/>
          <p:cNvPicPr/>
          <p:nvPr/>
        </p:nvPicPr>
        <p:blipFill>
          <a:blip r:embed="rId2"/>
          <a:stretch/>
        </p:blipFill>
        <p:spPr>
          <a:xfrm>
            <a:off x="4572000" y="2565360"/>
            <a:ext cx="3887640" cy="352764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Спички расположены, как показано на .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Переложите пять спичек, так, чтобы получилось три равных квадра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0" t="0" r="43494" b="0"/>
          <a:stretch/>
        </p:blipFill>
        <p:spPr>
          <a:xfrm>
            <a:off x="1044720" y="2131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C:\Documents and Settings\User\Рабочий стол\101MSDCF\DSC01968.JPG"/>
          <p:cNvPicPr/>
          <p:nvPr/>
        </p:nvPicPr>
        <p:blipFill>
          <a:blip r:embed="rId2"/>
          <a:stretch/>
        </p:blipFill>
        <p:spPr>
          <a:xfrm>
            <a:off x="4716360" y="2637000"/>
            <a:ext cx="3891240" cy="3456000"/>
          </a:xfrm>
          <a:prstGeom prst="rect">
            <a:avLst/>
          </a:prstGeom>
          <a:ln w="0">
            <a:noFill/>
          </a:ln>
        </p:spPr>
      </p:pic>
      <p:sp>
        <p:nvSpPr>
          <p:cNvPr id="205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строена фигура.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ереложите две спички так, чтобы получилось пять равных квадра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61541" t="0" r="0" b="0"/>
          <a:stretch/>
        </p:blipFill>
        <p:spPr>
          <a:xfrm>
            <a:off x="1187280" y="1916280"/>
            <a:ext cx="2741760" cy="244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C:\Documents and Settings\User\Рабочий стол\101MSDCF\DSC01969.JPG"/>
          <p:cNvPicPr/>
          <p:nvPr/>
        </p:nvPicPr>
        <p:blipFill>
          <a:blip r:embed="rId2"/>
          <a:stretch/>
        </p:blipFill>
        <p:spPr>
          <a:xfrm>
            <a:off x="4643280" y="2565360"/>
            <a:ext cx="3745080" cy="3311640"/>
          </a:xfrm>
          <a:prstGeom prst="rect">
            <a:avLst/>
          </a:prstGeom>
          <a:ln w="0">
            <a:noFill/>
          </a:ln>
        </p:spPr>
      </p:pic>
      <p:sp>
        <p:nvSpPr>
          <p:cNvPr id="20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ерная линейка или лента не всегда оказывается под руками, и полезно уметь обходиться как-нибудь без них, производя хотя бы приблизительные измерения.  Мерить более или менее длинные расстояния, например во время экскурсий, проще всего шагами. А какие способы измерений можно ещё использо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в конец 3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ля обмера предметов средней величины, не имея под рукой метровой линейки или ленты, можно поступать так. Надо натянуть веревочку или отмерить палку от конца протянутой в сторону руки до противоположного плеча  —это и есть у взрослого мужчины приблизительная длина м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Другой способ получить примерную длину метра состоит в том, чтобы отложить по прямой линии шесть «четвертей», то есть шесть расстояний между концами большого и указательного пальцев, расставленных как можно шир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Что же надо измерить в кисти своей руки?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режде всего ширину ладони, как показано на рис. б. У взрослого человека она равна примерно 10 см; у вас она, быть может, меньше, и вы должны знать, на сколько именно меньше. Затем нужно измерить, как велико у вас расстояние между концами среднего и указательного пальцев, раздвинутых возможно шире (рис, 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алее, полезно знать длину своего указательного пальца, считая от основания большого пальца, как указано на рис.  г. И, наконец, измерьте расстояние концов большого пальца и мизинца, когда они широко расставлены, как на рис. 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пользуем стоп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опять же как делали англичане, Одна стопа, по английски "фут". В среднем фут это 305 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Если надо "линейку" еще побольше, то используем руку и меряем </a:t>
            </a: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аршинами.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 Аршин- это это расстояние от кончиков пальцев до изгиба локтя с внутренней стороны руки. Оно составляет примерно 40 с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Измерение при помощи мо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Хорошую службу также могут сослужить наши медные (бронзовые) монеты современной чеканки. Не многим известно, что поперечник копеечной монеты в точности равен 1 1/2 см, а пятака — 2 1/2 см, так что положенные рядом обе монеты дают 4 см. Значит, если у вас имеется при себе несколько медных монет, то вы сможете довольно точно наметить следующие дли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176720" cy="230472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0:49:18Z</dcterms:created>
  <dc:creator>User</dc:creator>
  <dc:description/>
  <dc:language>en-US</dc:language>
  <cp:lastModifiedBy>User</cp:lastModifiedBy>
  <dcterms:modified xsi:type="dcterms:W3CDTF">2012-03-26T16:09:44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130000000000010250300207f7000400038000</vt:lpwstr>
  </property>
</Properties>
</file>