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559A-7838-4DA0-A553-58FEF304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E8F-C4C1-4738-AB7F-8F726AE2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278E1-9C22-40AE-88EC-3E42D7D2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68E08-A8B1-4942-9426-36DDDD8B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4336C-F433-4F63-9B80-615F3068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A78FD-3A0D-47AE-9A98-F8A28A24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0CF0D-ACE8-494B-8CEB-97226FFF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551AF-C802-4B89-B626-5D3B1627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6969B-BA8C-4091-8FB9-C13DB19F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E183C-0F4E-42E4-B010-E3C995CD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F749C-BE85-4979-B20F-9998D7EC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4FFD-AECC-47B8-831F-51EA6DEC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B1A9-2A98-43B8-95A9-54FE086E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9348-FC43-41DB-AEB3-2AAB3A83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BFC1-4A4D-4E14-8E60-9A97E640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212A-0E5B-48BD-867C-E57319EB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2886-C957-47ED-8AF8-CEBE803E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C6A6-D28C-4FE9-9810-6FD40510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FAEB-3916-4785-A06C-946C32BD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1EF1-091A-40A4-8225-410F525F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88A-B1C9-49E8-ACE2-1BF96A2E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9C6D-F57C-424B-9EC1-2EB828C2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6E9E-6DC3-4E12-8F7D-4243F613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9DB4-3A90-4B78-9AB1-B4FB56D0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653D-4B9B-4ADE-97B1-A3C25E0F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0531-AD8D-40B2-9E20-57FB1327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B6F82-3256-4FC0-A752-65DB13C6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DEBB6-1041-4F52-B038-80DCCC7A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CD03C-6BC4-4FEB-BD52-D12CF34B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6B584-FCD6-4810-9D0F-02D4C1F9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4D2F3-A285-454C-A10F-24C02972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1941-5BD7-4CE8-9B0C-5AF3704B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0A7C8-8B7F-4E36-BEED-50A310EB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0A250-0888-4791-B1A1-35258EFD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1B95F-5F60-447E-90D3-57237315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777B4-989F-46BA-8EF6-4FF3DB6B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A9ABF-8A21-4859-9403-B1FFE3E3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E2FA5-496C-4780-A197-0FCBAA1E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656FF-2313-45FA-B41F-E9A7824D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17C1B-86D9-4A7D-9886-090727DC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2304C-6726-4CA5-95FD-B7FA23E4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C2FEC-7351-457E-8CE3-F5F0559E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D0CF-29FD-43C3-8D87-CE65DC57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3120D-ED67-409E-B662-748A61DC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18E1F-BAF3-4D50-8F45-D0064755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23587-C87D-4801-8A1D-51153B2E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8BE4F-40C8-4E1B-9EA0-D4EE510B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37275-1884-4A61-92DA-333CCAEF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50895-F988-4026-A2BC-C3F04B5A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47B55-97C1-43CD-AB1D-C0EBE35B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4DEA3-1B11-4C70-8647-40C6E32B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E1ABE-A53E-4C07-AD64-7230DF96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936A5-4332-4C1A-B619-60964230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E853-D8BA-45FC-8847-256B6C60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60F2B-2F82-46F6-8CD0-CAB7511F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A02B0-FE3D-4759-96FA-1A51DBB8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13C48-37DE-4C09-9149-76543300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C3B41-87E5-4599-8957-4B511FE6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70B01-0372-40E7-A805-FC0C34E9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63BC8-121C-4FCC-BB3B-8054833E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AF18B-F485-40D7-A6D0-0644144C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7115E-9374-4791-B264-4F05305E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DFA4B-5789-44A6-B216-A0F15F69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EC25E-C78C-4C16-9F4D-2A28E741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13E9-60C5-42B0-90D6-66EF6D69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F2211-2D8B-486E-8601-C8072F39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C5F9B-3506-4EF5-8BCC-31634091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A7AB5-B3FC-4EE1-B9F3-5C7600AA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4C61E-9840-4698-B0B5-3A9D35B9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4DAA8-2463-48AF-ACCE-387DC5B8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A218A-721B-42C9-ABBB-91CE2250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19BFE-6BD0-4A0D-9219-353C46ED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BA90A-3A16-41FE-A773-7790F9BB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659A1-39BC-41FA-AC8E-C7110663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81481-564E-4021-8129-C7B24668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8772-4E52-4F09-BA61-571A9F8B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937EA-7896-4FBF-9F90-E08872CC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C5CB2-7F8D-4AE0-A26C-42E71F33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3A4B3-DACC-4410-BA6D-DE9B83B3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36489-CF7A-4DCF-B77D-0646570B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3AA97-8A7C-4F46-9DEC-F8F7833C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2B7B7-888E-43CC-ACC1-C7890428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3540C-9526-4161-9DA1-F3432408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7DC27-A116-4609-8E15-8707523D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FDE38-4B78-45F8-A83F-853C9EC2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00FD2-B3E7-43BB-86F3-76ED41DA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A654-4AE6-49DE-8030-7DBFEBA2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D4F90-7A46-4C0C-99CB-3D15EEFF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A7C88-6BA0-4DE7-BCB2-E90ABE30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CAAC5-9166-4F9D-8089-0077A18B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C4BAC-82DC-47AE-997F-8F5338BA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B1125-8CEA-4601-8728-1C1036FA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9FAF8-FE71-45A6-9498-54945F50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BB89A-0873-498B-AEB8-28BB5F3E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622BE-52EF-43AF-B93B-27686471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37816-2A56-4351-B52E-04071320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6B91B-DCD2-49E7-A1BD-ECD01AAD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740-78A1-46CC-882D-65DEA4B9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C7116-CD74-4C00-BCD8-EA6C4D6F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CC289-239A-4E99-A24D-D4FEB8FA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3DE93-550B-41DC-A45F-D1CBDDE8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68CA1-52F8-41BB-9749-507EA15A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92FEB-FAA9-4777-A8EA-E133DDF9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F2C98-3526-4321-A292-AB14D526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BB284-DC70-4253-B31E-56612B1A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C9ABB-7645-4A8E-B391-D2DDA345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71817-A7A4-4659-A03F-EA566EB3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98328-5AEC-474F-A31F-89E4540D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E580-3892-45E4-AD1C-A066E891E8E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F7A5-E682-486B-BFC4-579E1258B81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1B25-33D0-499F-99FA-83B46F6FDC3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8DB1-E65E-4719-A90E-120F44282DC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4E70-9E25-42B1-8E7C-6CF43953130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08AA-55A2-4F56-A731-FED174D9BBE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D864-0A66-4534-9B93-F3F85F83D8F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F41D-7F3F-4B60-9DA7-4D1EAEFDE95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24BD-B6A6-4D17-AF2C-258D48CC595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6600cc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71600" y="4214520"/>
            <a:ext cx="6400800" cy="1423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Corbel"/>
              </a:rPr>
              <a:t>Обобщающий урок в 6 класс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6" name="WordArt 4" descr=""/>
          <p:cNvPicPr/>
          <p:nvPr/>
        </p:nvPicPr>
        <p:blipFill>
          <a:blip r:embed="rId1"/>
          <a:stretch/>
        </p:blipFill>
        <p:spPr>
          <a:xfrm>
            <a:off x="-23760" y="1908000"/>
            <a:ext cx="9271080" cy="185904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3"/>
          <p:cNvSpPr/>
          <p:nvPr/>
        </p:nvSpPr>
        <p:spPr>
          <a:xfrm>
            <a:off x="4929120" y="5072040"/>
            <a:ext cx="421488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Подготовила 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МОУ СОШ № 4 с. Малые Яг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rbel"/>
              </a:rPr>
              <a:t>Фоменко Анжелика Анатоль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4"/>
          <p:cNvSpPr/>
          <p:nvPr/>
        </p:nvSpPr>
        <p:spPr>
          <a:xfrm>
            <a:off x="0" y="0"/>
            <a:ext cx="4500720" cy="9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0,5 · 2 + 5,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,5 </a:t>
            </a:r>
            <a:r>
              <a:rPr b="1" lang="ru-RU" sz="6000" spc="-1" strike="noStrike">
                <a:solidFill>
                  <a:srgbClr val="002060"/>
                </a:solidFill>
                <a:latin typeface="Symbol"/>
                <a:ea typeface="Symbol"/>
              </a:rPr>
              <a:t></a:t>
            </a: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 3 + 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2,1 + 3 - 0,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b1d15"/>
                </a:solidFill>
                <a:latin typeface="Arial"/>
              </a:rPr>
              <a:t>2/3 : 3/2 -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rial"/>
              </a:rPr>
              <a:t>0 + 4/5 · 5/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8 - 4,6 :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¾ - 2/8 :2/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714560" y="272880"/>
            <a:ext cx="4429080" cy="65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7030a0"/>
                </a:solidFill>
                <a:uFillTx/>
                <a:latin typeface="Corbel"/>
              </a:rPr>
              <a:t>ключ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285800" y="4286160"/>
            <a:ext cx="44290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1" lang="ru-RU" sz="6000" spc="-1" strike="noStrike">
                <a:solidFill>
                  <a:srgbClr val="000000"/>
                </a:solidFill>
                <a:latin typeface="Corbel"/>
              </a:rPr>
              <a:t> ДОРОГ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4286160" y="1857240"/>
          <a:ext cx="4857840" cy="1571760"/>
        </p:xfrm>
        <a:graphic>
          <a:graphicData uri="http://schemas.openxmlformats.org/drawingml/2006/table">
            <a:tbl>
              <a:tblPr/>
              <a:tblGrid>
                <a:gridCol w="642960"/>
                <a:gridCol w="714600"/>
                <a:gridCol w="642960"/>
                <a:gridCol w="898200"/>
                <a:gridCol w="673200"/>
                <a:gridCol w="571680"/>
                <a:gridCol w="71424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2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5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orbe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33876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406520"/>
            <a:ext cx="38098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3" name="Picture 2" descr="C:\Documents and Settings\Admin\Мои документы\Мои рисунки\Санаторий\IMG_01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ree"/>
          <p:cNvSpPr/>
          <p:nvPr/>
        </p:nvSpPr>
        <p:spPr>
          <a:xfrm>
            <a:off x="0" y="486900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ree"/>
          <p:cNvSpPr/>
          <p:nvPr/>
        </p:nvSpPr>
        <p:spPr>
          <a:xfrm>
            <a:off x="826920" y="1916280"/>
            <a:ext cx="181008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ree"/>
          <p:cNvSpPr/>
          <p:nvPr/>
        </p:nvSpPr>
        <p:spPr>
          <a:xfrm>
            <a:off x="7020000" y="450864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nt"/>
          <p:cNvSpPr/>
          <p:nvPr/>
        </p:nvSpPr>
        <p:spPr>
          <a:xfrm>
            <a:off x="611280" y="3500280"/>
            <a:ext cx="1336680" cy="1192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nt"/>
          <p:cNvSpPr/>
          <p:nvPr/>
        </p:nvSpPr>
        <p:spPr>
          <a:xfrm>
            <a:off x="1476360" y="5805360"/>
            <a:ext cx="1366920" cy="87336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nt"/>
          <p:cNvSpPr/>
          <p:nvPr/>
        </p:nvSpPr>
        <p:spPr>
          <a:xfrm>
            <a:off x="7765920" y="3860640"/>
            <a:ext cx="1378080" cy="116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nt"/>
          <p:cNvSpPr/>
          <p:nvPr/>
        </p:nvSpPr>
        <p:spPr>
          <a:xfrm>
            <a:off x="-181080" y="4076640"/>
            <a:ext cx="1049400" cy="976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nt"/>
          <p:cNvSpPr/>
          <p:nvPr/>
        </p:nvSpPr>
        <p:spPr>
          <a:xfrm>
            <a:off x="1619280" y="3284640"/>
            <a:ext cx="1120680" cy="9763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nt"/>
          <p:cNvSpPr/>
          <p:nvPr/>
        </p:nvSpPr>
        <p:spPr>
          <a:xfrm>
            <a:off x="8055000" y="2492280"/>
            <a:ext cx="1089000" cy="1162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9"/>
          <p:cNvSpPr/>
          <p:nvPr/>
        </p:nvSpPr>
        <p:spPr>
          <a:xfrm>
            <a:off x="3276720" y="3429000"/>
            <a:ext cx="3168360" cy="2664000"/>
          </a:xfrm>
          <a:custGeom>
            <a:avLst/>
            <a:gdLst>
              <a:gd name="textAreaLeft" fmla="*/ 723240 w 3168360"/>
              <a:gd name="textAreaRight" fmla="*/ 2445120 w 3168360"/>
              <a:gd name="textAreaTop" fmla="*/ 608040 h 2664000"/>
              <a:gd name="textAreaBottom" fmla="*/ 205596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21"/>
          <p:cNvSpPr/>
          <p:nvPr/>
        </p:nvSpPr>
        <p:spPr>
          <a:xfrm>
            <a:off x="4211640" y="2492280"/>
            <a:ext cx="1441440" cy="1008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2"/>
          <p:cNvSpPr/>
          <p:nvPr/>
        </p:nvSpPr>
        <p:spPr>
          <a:xfrm>
            <a:off x="5580000" y="2997360"/>
            <a:ext cx="1154160" cy="10792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3"/>
          <p:cNvSpPr/>
          <p:nvPr/>
        </p:nvSpPr>
        <p:spPr>
          <a:xfrm>
            <a:off x="2843280" y="2997360"/>
            <a:ext cx="1368360" cy="10080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24"/>
          <p:cNvSpPr/>
          <p:nvPr/>
        </p:nvSpPr>
        <p:spPr>
          <a:xfrm>
            <a:off x="3419640" y="5661000"/>
            <a:ext cx="108108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25"/>
          <p:cNvSpPr/>
          <p:nvPr/>
        </p:nvSpPr>
        <p:spPr>
          <a:xfrm>
            <a:off x="5076720" y="5805360"/>
            <a:ext cx="1150920" cy="432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6"/>
          <p:cNvSpPr/>
          <p:nvPr/>
        </p:nvSpPr>
        <p:spPr>
          <a:xfrm rot="20478000">
            <a:off x="2987280" y="2565000"/>
            <a:ext cx="289080" cy="649440"/>
          </a:xfrm>
          <a:prstGeom prst="flowChartExtra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7"/>
          <p:cNvSpPr/>
          <p:nvPr/>
        </p:nvSpPr>
        <p:spPr>
          <a:xfrm rot="1111200">
            <a:off x="3708000" y="2491920"/>
            <a:ext cx="358920" cy="647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8"/>
          <p:cNvSpPr/>
          <p:nvPr/>
        </p:nvSpPr>
        <p:spPr>
          <a:xfrm rot="915600">
            <a:off x="6287760" y="2347920"/>
            <a:ext cx="297000" cy="803160"/>
          </a:xfrm>
          <a:prstGeom prst="triangle">
            <a:avLst>
              <a:gd name="adj" fmla="val 10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9"/>
          <p:cNvSpPr/>
          <p:nvPr/>
        </p:nvSpPr>
        <p:spPr>
          <a:xfrm rot="21166800">
            <a:off x="5880240" y="2347560"/>
            <a:ext cx="288720" cy="79200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0"/>
          <p:cNvSpPr/>
          <p:nvPr/>
        </p:nvSpPr>
        <p:spPr>
          <a:xfrm>
            <a:off x="4572000" y="1700280"/>
            <a:ext cx="287280" cy="936720"/>
          </a:xfrm>
          <a:prstGeom prst="triangle">
            <a:avLst>
              <a:gd name="adj" fmla="val 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33"/>
          <p:cNvSpPr/>
          <p:nvPr/>
        </p:nvSpPr>
        <p:spPr>
          <a:xfrm>
            <a:off x="5076720" y="1700280"/>
            <a:ext cx="216000" cy="936720"/>
          </a:xfrm>
          <a:prstGeom prst="triangle">
            <a:avLst>
              <a:gd name="adj" fmla="val 9044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34"/>
          <p:cNvSpPr/>
          <p:nvPr/>
        </p:nvSpPr>
        <p:spPr>
          <a:xfrm>
            <a:off x="4859280" y="4149720"/>
            <a:ext cx="73080" cy="7128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35"/>
          <p:cNvSpPr/>
          <p:nvPr/>
        </p:nvSpPr>
        <p:spPr>
          <a:xfrm>
            <a:off x="3203640" y="3500280"/>
            <a:ext cx="3168720" cy="26654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08400 h 2665440"/>
              <a:gd name="textAreaBottom" fmla="*/ 205704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36"/>
          <p:cNvSpPr/>
          <p:nvPr/>
        </p:nvSpPr>
        <p:spPr>
          <a:xfrm>
            <a:off x="6877080" y="907920"/>
            <a:ext cx="2266920" cy="2016360"/>
          </a:xfrm>
          <a:prstGeom prst="wedgeEllipseCallout">
            <a:avLst>
              <a:gd name="adj1" fmla="val -46217"/>
              <a:gd name="adj2" fmla="val 57166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7"/>
          <p:cNvSpPr/>
          <p:nvPr/>
        </p:nvSpPr>
        <p:spPr>
          <a:xfrm>
            <a:off x="4211640" y="404640"/>
            <a:ext cx="2808360" cy="1582920"/>
          </a:xfrm>
          <a:prstGeom prst="wedgeEllipseCallout">
            <a:avLst>
              <a:gd name="adj1" fmla="val -3870"/>
              <a:gd name="adj2" fmla="val 7999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38"/>
          <p:cNvSpPr/>
          <p:nvPr/>
        </p:nvSpPr>
        <p:spPr>
          <a:xfrm>
            <a:off x="250920" y="404640"/>
            <a:ext cx="3744720" cy="2232360"/>
          </a:xfrm>
          <a:prstGeom prst="wedgeEllipseCallout">
            <a:avLst>
              <a:gd name="adj1" fmla="val 13967"/>
              <a:gd name="adj2" fmla="val 6038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1"/>
          <p:cNvSpPr/>
          <p:nvPr/>
        </p:nvSpPr>
        <p:spPr>
          <a:xfrm>
            <a:off x="2484360" y="1073160"/>
            <a:ext cx="167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3"/>
          <p:cNvSpPr/>
          <p:nvPr/>
        </p:nvSpPr>
        <p:spPr>
          <a:xfrm>
            <a:off x="7236000" y="1360440"/>
            <a:ext cx="66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4"/>
          <p:cNvSpPr/>
          <p:nvPr/>
        </p:nvSpPr>
        <p:spPr>
          <a:xfrm>
            <a:off x="7107120" y="1413000"/>
            <a:ext cx="17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Хотите узн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сколько вес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   </a:t>
            </a: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ваше им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    </a:t>
            </a:r>
            <a:r>
              <a:rPr b="1" lang="ru-RU" sz="1600" spc="-1" strike="noStrike">
                <a:solidFill>
                  <a:srgbClr val="990033"/>
                </a:solidFill>
                <a:latin typeface="Georgia"/>
              </a:rPr>
              <a:t>фамил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5"/>
          <p:cNvSpPr/>
          <p:nvPr/>
        </p:nvSpPr>
        <p:spPr>
          <a:xfrm>
            <a:off x="758160" y="858960"/>
            <a:ext cx="322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Известно ли вам, что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минуту человек успе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написать столько бук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Что, длина строки из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Georgia"/>
              </a:rPr>
              <a:t>букв будет равна 140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6"/>
          <p:cNvSpPr/>
          <p:nvPr/>
        </p:nvSpPr>
        <p:spPr>
          <a:xfrm>
            <a:off x="4500720" y="620640"/>
            <a:ext cx="262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Умножьте число букв на 0,00033гр –и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столько весит од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Georgia"/>
              </a:rPr>
              <a:t>бу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11111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WordArt 4" descr=""/>
          <p:cNvPicPr/>
          <p:nvPr/>
        </p:nvPicPr>
        <p:blipFill>
          <a:blip r:embed="rId1"/>
          <a:stretch/>
        </p:blipFill>
        <p:spPr>
          <a:xfrm>
            <a:off x="438120" y="1023840"/>
            <a:ext cx="819324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ff9900"/>
              </a:solidFill>
              <a:latin typeface="Corbel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8643960" cy="5483160"/>
          </a:xfrm>
          <a:prstGeom prst="rect">
            <a:avLst/>
          </a:prstGeom>
          <a:ln w="0">
            <a:noFill/>
          </a:ln>
        </p:spPr>
      </p:pic>
      <p:sp>
        <p:nvSpPr>
          <p:cNvPr id="518" name="WordArt 4"/>
          <p:cNvSpPr txBox="1"/>
          <p:nvPr/>
        </p:nvSpPr>
        <p:spPr>
          <a:xfrm>
            <a:off x="684360" y="476280"/>
            <a:ext cx="78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ела третьего упала в болот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9" name="AutoShape 5"/>
          <p:cNvSpPr/>
          <p:nvPr/>
        </p:nvSpPr>
        <p:spPr>
          <a:xfrm>
            <a:off x="7596360" y="5516640"/>
            <a:ext cx="1191960" cy="98748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Georgia"/>
              </a:rPr>
              <a:t>2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 flipV="1">
            <a:off x="3850920" y="5300640"/>
            <a:ext cx="3600360" cy="504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4 -0.00185 C 0.01407 0.00116 0.03837 0.0044 -0.01614 0.00255 C -0.07066 0.00116 -0.34305 0.04074 -0.3375 -0.01134 C -0.33194 -0.06343 0.0099 -0.23056 0.01789 -0.30903 C 0.02587 -0.3875 -0.15625 -0.45741 -0.28906 -0.48171 C -0.42205 -0.50579 -0.71475 -0.51296 -0.77968 -0.45486 C -0.84461 -0.39653 -0.69774 -0.18704 -0.67847 -0.13195 C -0.6592 -0.07662 -0.6618 -0.09977 -0.66441 -0.12269 E">
                                      <p:cBhvr>
                                        <p:cTn id="272" dur="5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ar9022-001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  <p:sp>
        <p:nvSpPr>
          <p:cNvPr id="522" name="Line 5"/>
          <p:cNvSpPr/>
          <p:nvPr/>
        </p:nvSpPr>
        <p:spPr>
          <a:xfrm flipV="1">
            <a:off x="1763640" y="2637000"/>
            <a:ext cx="5616720" cy="129672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nt"/>
          <p:cNvSpPr/>
          <p:nvPr/>
        </p:nvSpPr>
        <p:spPr>
          <a:xfrm rot="1669200">
            <a:off x="3058920" y="2708280"/>
            <a:ext cx="3867120" cy="26431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аим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е чис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nt"/>
          <p:cNvSpPr/>
          <p:nvPr/>
        </p:nvSpPr>
        <p:spPr>
          <a:xfrm>
            <a:off x="5148360" y="836640"/>
            <a:ext cx="4714920" cy="30718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ждение числа по его д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nt"/>
          <p:cNvSpPr/>
          <p:nvPr/>
        </p:nvSpPr>
        <p:spPr>
          <a:xfrm>
            <a:off x="3132000" y="-171360"/>
            <a:ext cx="3929040" cy="2997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роб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nt"/>
          <p:cNvSpPr/>
          <p:nvPr/>
        </p:nvSpPr>
        <p:spPr>
          <a:xfrm>
            <a:off x="-357120" y="0"/>
            <a:ext cx="3929040" cy="34574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умн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обей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nt"/>
          <p:cNvSpPr/>
          <p:nvPr/>
        </p:nvSpPr>
        <p:spPr>
          <a:xfrm rot="19855800">
            <a:off x="-433440" y="3247920"/>
            <a:ext cx="4308480" cy="33116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сновное свойство д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nt"/>
          <p:cNvSpPr/>
          <p:nvPr/>
        </p:nvSpPr>
        <p:spPr>
          <a:xfrm rot="19957800">
            <a:off x="4858920" y="3789360"/>
            <a:ext cx="4714920" cy="28576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ждение  дроби от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071720"/>
            <a:ext cx="4686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Архимед это просил, а ему не дали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Бывает ….. Зрени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ff"/>
                </a:solidFill>
                <a:latin typeface="Georgia"/>
              </a:rPr>
              <a:t>Ставиться в конц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Запомнить их невозможн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По ним считаю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00"/>
                </a:solidFill>
                <a:latin typeface="Georgia"/>
              </a:rPr>
              <a:t>Их полно в справочнике.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Бывает на  номере углового дома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Этим стреляют из ружь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Georgia"/>
              </a:rPr>
              <a:t>Её выстукивают на барабане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Обычно находится в центре горо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Выражается квадратным число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Georgia"/>
              </a:rPr>
              <a:t>Длина на ширину        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785920" y="1285560"/>
            <a:ext cx="28292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Точк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Формул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Дроб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Georgia"/>
              </a:rPr>
              <a:t>площад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WordArt 7"/>
          <p:cNvSpPr txBox="1"/>
          <p:nvPr/>
        </p:nvSpPr>
        <p:spPr>
          <a:xfrm rot="473400">
            <a:off x="3611160" y="93600"/>
            <a:ext cx="45370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446000"/>
                </a:gradFill>
                <a:latin typeface="Georgia"/>
              </a:rPr>
              <a:t>Угада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446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100"/>
                            </p:stCondLst>
                            <p:childTnLst>
                              <p:par>
                                <p:cTn id="3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2000"/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800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6" dur="2000"/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b265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1434960" y="171468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Дробь, делитель, частное, плю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1,  2,  4,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5, 10, 15, 1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9, 16, 25, 2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5х,  77х,  56х,   44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Georgia"/>
              </a:rPr>
              <a:t>½,   ¾,  4/9, 5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WordArt 4"/>
          <p:cNvSpPr txBox="1"/>
          <p:nvPr/>
        </p:nvSpPr>
        <p:spPr>
          <a:xfrm>
            <a:off x="25092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Кто лиш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395280" y="333360"/>
            <a:ext cx="8640720" cy="6335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0066"/>
              </a:gs>
              <a:gs pos="100000">
                <a:srgbClr val="ad77a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асилисе Премудрой исполнилось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щей Бессмертный решил взять её в ж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асилиса спросила сколько у Кощея сундуков с зол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щей Бессмертный ответил, что у него 27360 сунду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ных золота, и каждый год прибавляется еще по 3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ндука. Василиса Премудрая  обещала выйти заму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 Кощея тогда, когда у него будет 30000  сунду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ных зол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колько лет  будет невесте Кощея в день свадь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6600cc"/>
                </a:solidFill>
                <a:latin typeface="Corbel"/>
              </a:rPr>
              <a:t>Цели урок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42560" y="856800"/>
            <a:ext cx="8791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Обучающие цели: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овторение теоретического материала по данному разделу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особствовать формированию знаний по пройденной теме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акрепление навыков решения уравнений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Развивающие цели: 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  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особствование развитию интереса к математике, активации мыслительной деятельности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развитие творческого мышления, математической речи учащихс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orbel"/>
              </a:rPr>
              <a:t>Воспитательные цели: 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здание условия для воспитания навыков самостоятельной деятельности учащихс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оспитание эстетические качества, умение общаться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4"/>
          <p:cNvSpPr/>
          <p:nvPr/>
        </p:nvSpPr>
        <p:spPr>
          <a:xfrm>
            <a:off x="611280" y="476280"/>
            <a:ext cx="8532720" cy="6121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660066"/>
              </a:gs>
              <a:gs pos="100000">
                <a:srgbClr val="d6bbd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Кощей Бессмертный родился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1123 год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А паспорт получил т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в 2007 году. Сколь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лет прожил Кощей Бессмерт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Georgia"/>
              </a:rPr>
              <a:t>без паспор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Взаимопроверка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6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1 задача: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Ответ: 98 лет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1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2</a:t>
            </a:r>
            <a:r>
              <a:rPr b="0" lang="ru-RU" sz="6000" spc="-1" strike="noStrike" u="sng">
                <a:solidFill>
                  <a:srgbClr val="320e04"/>
                </a:solidFill>
                <a:uFillTx/>
                <a:latin typeface="Corbel"/>
              </a:rPr>
              <a:t> задач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Ответ: 870 лет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934547-003"/>
          <p:cNvPicPr/>
          <p:nvPr/>
        </p:nvPicPr>
        <p:blipFill>
          <a:blip r:embed="rId1"/>
          <a:stretch/>
        </p:blipFill>
        <p:spPr>
          <a:xfrm>
            <a:off x="430200" y="260280"/>
            <a:ext cx="8713800" cy="640872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5"/>
          <p:cNvSpPr/>
          <p:nvPr/>
        </p:nvSpPr>
        <p:spPr>
          <a:xfrm>
            <a:off x="428760" y="69228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Вот и сказки конец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а кто слушал 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style1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AutoShape 3"/>
          <p:cNvSpPr/>
          <p:nvPr/>
        </p:nvSpPr>
        <p:spPr>
          <a:xfrm>
            <a:off x="324000" y="2205000"/>
            <a:ext cx="4032000" cy="1440000"/>
          </a:xfrm>
          <a:prstGeom prst="rightArrow">
            <a:avLst>
              <a:gd name="adj1" fmla="val 50000"/>
              <a:gd name="adj2" fmla="val 70000"/>
            </a:avLst>
          </a:prstGeom>
          <a:solidFill>
            <a:srgbClr val="ff9900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3,4-9х=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755640" y="3789360"/>
            <a:ext cx="4105440" cy="1512720"/>
          </a:xfrm>
          <a:prstGeom prst="rightArrow">
            <a:avLst>
              <a:gd name="adj1" fmla="val 50000"/>
              <a:gd name="adj2" fmla="val 67849"/>
            </a:avLst>
          </a:prstGeom>
          <a:solidFill>
            <a:srgbClr val="ff9900"/>
          </a:solidFill>
          <a:ln w="38160">
            <a:solidFill>
              <a:srgbClr val="da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0808"/>
                </a:solidFill>
                <a:latin typeface="Arial"/>
              </a:rPr>
              <a:t>2/3х+7/3=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468360" y="5229360"/>
            <a:ext cx="3743280" cy="1441440"/>
          </a:xfrm>
          <a:prstGeom prst="rightArrow">
            <a:avLst>
              <a:gd name="adj1" fmla="val 50000"/>
              <a:gd name="adj2" fmla="val 64923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</a:rPr>
              <a:t>2х+х+0,6=4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7236000" y="549360"/>
            <a:ext cx="1295280" cy="1008000"/>
          </a:xfrm>
          <a:prstGeom prst="pie">
            <a:avLst/>
          </a:prstGeom>
          <a:solidFill>
            <a:srgbClr val="ff0000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6516720" y="2708280"/>
            <a:ext cx="1368360" cy="1152360"/>
          </a:xfrm>
          <a:prstGeom prst="pie">
            <a:avLst/>
          </a:prstGeom>
          <a:solidFill>
            <a:srgbClr val="ff0000"/>
          </a:solidFill>
          <a:ln w="57240">
            <a:solidFill>
              <a:srgbClr val="da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7236000" y="5445000"/>
            <a:ext cx="1295280" cy="1225800"/>
          </a:xfrm>
          <a:prstGeom prst="pie">
            <a:avLst/>
          </a:prstGeom>
          <a:solidFill>
            <a:srgbClr val="ff0000"/>
          </a:solidFill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9" descr=""/>
          <p:cNvPicPr/>
          <p:nvPr/>
        </p:nvPicPr>
        <p:blipFill>
          <a:blip r:embed="rId2"/>
          <a:stretch/>
        </p:blipFill>
        <p:spPr>
          <a:xfrm>
            <a:off x="0" y="189000"/>
            <a:ext cx="2916360" cy="17272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10"/>
          <p:cNvSpPr/>
          <p:nvPr/>
        </p:nvSpPr>
        <p:spPr>
          <a:xfrm>
            <a:off x="95076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3 C 0.081 -0.06533 0.102 -0.072 0.124 -0.072 C 0.149 -0.072 0.169 -0.06533 0.183 -0.05333 L 0.25 0 E">
                                      <p:cBhvr>
                                        <p:cTn id="30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55957E-006 C 0.00139 -0.01272 0.00244 -0.01411 0.00834 -0.02405 C 0.01181 -0.03747 0.0191 -0.04556 0.02396 -0.05782 C 0.03108 -0.0761 0.03941 -0.09622 0.05053 -0.1108 C 0.054 -0.11542 0.05869 -0.11797 0.0625 -0.1219 C 0.07553 -0.13555 0.0875 -0.14596 0.10348 -0.15244 C 0.10799 -0.15429 0.11216 -0.15799 0.11685 -0.15891 C 0.12362 -0.16007 0.13056 -0.16007 0.13733 -0.16053 C 0.14619 -0.16446 0.1566 -0.16955 0.1625 -0.17973 C 0.16424 -0.18274 0.1658 -0.18621 0.16737 -0.18945 C 0.16823 -0.19107 0.1698 -0.19407 0.1698 -0.19407 C 0.17188 -0.20263 0.17379 -0.21165 0.17952 -0.21674 C 0.18369 -0.22484 0.18525 -0.22854 0.19271 -0.23108 C 0.21094 -0.22761 0.22952 -0.22229 0.24688 -0.2135 C 0.25886 -0.20749 0.26962 -0.19731 0.28195 -0.19268 C 0.28941 -0.18575 0.29827 -0.18459 0.30712 -0.18297 C 0.32396 -0.18343 0.34098 -0.18366 0.35782 -0.18459 C 0.36632 -0.18505 0.37691 -0.19153 0.38542 -0.19407 C 0.38941 -0.19754 0.38768 -0.19731 0.39028 -0.19731 E">
                                      <p:cBhvr>
                                        <p:cTn id="35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6.66667E-006 C 0.00537 -0.02177 -0.00348 0.01018 0.00694 -0.01367 C 0.00815 -0.01644 0.0078 -0.01992 0.00867 -0.02292 C 0.01162 -0.03265 0.01631 -0.04399 0.02065 -0.05279 C 0.02482 -0.07501 0.01892 -0.04839 0.0276 -0.0713 C 0.03298 -0.08542 0.0243 -0.07686 0.0328 -0.09422 C 0.03506 -0.09885 0.03819 -0.10279 0.03958 -0.10811 C 0.04374 -0.12431 0.0401 -0.11899 0.04826 -0.1264 C 0.05867 -0.12292 0.07083 -0.10788 0.07933 -0.09885 C 0.08263 -0.09538 0.08662 -0.09353 0.08958 -0.08959 C 0.09131 -0.08728 0.0927 -0.08427 0.09478 -0.08265 C 0.09791 -0.08033 0.1052 -0.07802 0.1052 -0.07802 C 0.13506 -0.07987 0.13767 -0.07941 0.15867 -0.08496 C 0.16423 -0.09005 0.16996 -0.0926 0.17586 -0.09654 C 0.17916 -0.09885 0.18524 -0.10556 0.18784 -0.10811 C 0.19166 -0.11158 0.19617 -0.11343 0.19999 -0.11714 C 0.20451 -0.1213 0.21215 -0.12964 0.21544 -0.13566 C 0.21701 -0.13843 0.21735 -0.14191 0.21892 -0.14468 C 0.23246 -0.16968 0.246 -0.18172 0.24999 -0.21367 C 0.25694 -0.21297 0.26388 -0.21367 0.27065 -0.21135 C 0.27534 -0.20973 0.28958 -0.20001 0.29478 -0.19538 C 0.30694 -0.197 0.31371 -0.19144 0.31371 -0.20695 E">
                                      <p:cBhvr>
                                        <p:cTn id="47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0.00347 C 0.04392 0.00555 0.06024 0.00948 0.07882 0.01966 C 0.10798 0.01758 0.10711 0.01943 0.12708 0.00578 C 0.13177 -0.00232 0.13541 -0.00995 0.14097 -0.01712 C 0.1434 -0.0236 0.14704 -0.02915 0.14948 -0.03563 C 0.15573 -0.05251 0.15069 -0.04442 0.15468 -0.05853 C 0.15937 -0.07518 0.16458 -0.09438 0.17204 -0.10919 C 0.17257 -0.1115 0.17257 -0.11404 0.17361 -0.1159 C 0.18177 -0.13232 0.19236 -0.11104 0.20121 -0.10687 C 0.20573 -0.09785 0.21267 -0.08952 0.22031 -0.08605 C 0.23003 -0.07657 0.23993 -0.06778 0.24948 -0.05853 C 0.25659 -0.05159 0.25781 -0.04766 0.26684 -0.04488 C 0.28107 -0.03216 0.27309 -0.03701 0.29097 -0.031 C 0.3026 -0.0155 0.325 -0.01249 0.34097 -0.01041 C 0.35017 -0.00625 0.35382 -0.0037 0.36684 -0.01041 C 0.37135 -0.01273 0.37361 -0.01943 0.37708 -0.02406 C 0.38107 -0.02938 0.39253 -0.03609 0.39791 -0.03794 C 0.40954 -0.04812 0.41093 -0.04881 0.42534 -0.05159 C 0.42743 -0.05992 0.42708 -0.05598 0.42708 -0.06315 E">
                                      <p:cBhvr>
                                        <p:cTn id="57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3399ff"/>
              </a:solidFill>
              <a:latin typeface="Georgi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13840" y="1523880"/>
            <a:ext cx="471492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42920" y="145728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WordArt 5"/>
          <p:cNvSpPr txBox="1"/>
          <p:nvPr/>
        </p:nvSpPr>
        <p:spPr>
          <a:xfrm>
            <a:off x="684360" y="162864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,4 – 9х = 1,6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3" name="WordArt 6"/>
          <p:cNvSpPr txBox="1"/>
          <p:nvPr/>
        </p:nvSpPr>
        <p:spPr>
          <a:xfrm>
            <a:off x="755640" y="3357720"/>
            <a:ext cx="2952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+7/3=18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х+х+0,6=4,2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34" name="WordArt 9" descr=""/>
          <p:cNvPicPr/>
          <p:nvPr/>
        </p:nvPicPr>
        <p:blipFill>
          <a:blip r:embed="rId1"/>
          <a:stretch/>
        </p:blipFill>
        <p:spPr>
          <a:xfrm>
            <a:off x="201600" y="-6480"/>
            <a:ext cx="8661240" cy="1206720"/>
          </a:xfrm>
          <a:prstGeom prst="rect">
            <a:avLst/>
          </a:prstGeom>
          <a:ln w="0">
            <a:noFill/>
          </a:ln>
        </p:spPr>
      </p:pic>
      <p:sp>
        <p:nvSpPr>
          <p:cNvPr id="435" name="WordArt 10"/>
          <p:cNvSpPr txBox="1"/>
          <p:nvPr/>
        </p:nvSpPr>
        <p:spPr>
          <a:xfrm>
            <a:off x="4932360" y="1413000"/>
            <a:ext cx="345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9х = 3,4 – 1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9х = 1,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 = 0,2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6" name="WordArt 11"/>
          <p:cNvSpPr txBox="1"/>
          <p:nvPr/>
        </p:nvSpPr>
        <p:spPr>
          <a:xfrm>
            <a:off x="5003640" y="3141720"/>
            <a:ext cx="3456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=18-7/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2/3х=47/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=23,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7" name="WordArt 12"/>
          <p:cNvSpPr txBox="1"/>
          <p:nvPr/>
        </p:nvSpPr>
        <p:spPr>
          <a:xfrm>
            <a:off x="5003640" y="5300640"/>
            <a:ext cx="331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х=4,2-0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3х=3,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Х=1,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8000"/>
              </a:solidFill>
              <a:latin typeface="Corbel"/>
            </a:endParaRPr>
          </a:p>
        </p:txBody>
      </p:sp>
      <p:pic>
        <p:nvPicPr>
          <p:cNvPr id="439" name="Picture 5" descr="551093"/>
          <p:cNvPicPr/>
          <p:nvPr/>
        </p:nvPicPr>
        <p:blipFill>
          <a:blip r:embed="rId1"/>
          <a:stretch/>
        </p:blipFill>
        <p:spPr>
          <a:xfrm>
            <a:off x="539640" y="1413000"/>
            <a:ext cx="8136000" cy="5317920"/>
          </a:xfrm>
          <a:prstGeom prst="rect">
            <a:avLst/>
          </a:prstGeom>
          <a:ln w="0">
            <a:noFill/>
          </a:ln>
        </p:spPr>
      </p:pic>
      <p:sp>
        <p:nvSpPr>
          <p:cNvPr id="440" name="WordArt 6"/>
          <p:cNvSpPr txBox="1"/>
          <p:nvPr/>
        </p:nvSpPr>
        <p:spPr>
          <a:xfrm>
            <a:off x="250920" y="115920"/>
            <a:ext cx="8048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пала стрела царевича на царский дво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AutoShape 7"/>
          <p:cNvSpPr/>
          <p:nvPr/>
        </p:nvSpPr>
        <p:spPr>
          <a:xfrm>
            <a:off x="7451640" y="1413000"/>
            <a:ext cx="1152720" cy="86364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cc"/>
                </a:solidFill>
                <a:latin typeface="Arial"/>
              </a:rPr>
              <a:t>0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9.25977E-006 C -0.05278 -0.003 -0.10538 -0.00601 -0.10104 0.03933 C -0.0967 0.08467 0.05504 0.22392 0.02587 0.27273 C -0.0033 0.32154 -0.22691 0.288 -0.27656 0.33241 C -0.32587 0.37683 -0.2434 0.48231 -0.27049 0.53921 C -0.29757 0.59612 -0.36615 0.75319 -0.43871 0.67407 C -0.51128 0.59496 -0.71667 0.08675 -0.70573 0.06431 C -0.69479 0.04187 -0.42812 0.45918 -0.37292 0.53921 E">
                                      <p:cBhvr>
                                        <p:cTn id="78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4" descr="803097"/>
          <p:cNvPicPr/>
          <p:nvPr/>
        </p:nvPicPr>
        <p:blipFill>
          <a:blip r:embed="rId1"/>
          <a:stretch/>
        </p:blipFill>
        <p:spPr>
          <a:xfrm>
            <a:off x="285840" y="1071720"/>
            <a:ext cx="8499240" cy="5429160"/>
          </a:xfrm>
          <a:prstGeom prst="rect">
            <a:avLst/>
          </a:prstGeom>
          <a:ln w="0">
            <a:noFill/>
          </a:ln>
        </p:spPr>
      </p:pic>
      <p:sp>
        <p:nvSpPr>
          <p:cNvPr id="443" name="WordArt 5"/>
          <p:cNvSpPr txBox="1"/>
          <p:nvPr/>
        </p:nvSpPr>
        <p:spPr>
          <a:xfrm>
            <a:off x="0" y="0"/>
            <a:ext cx="91440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ела второго царевича улетела на купеческий двор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250920" y="1844640"/>
            <a:ext cx="1296720" cy="1008000"/>
          </a:xfrm>
          <a:prstGeom prst="pi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Georgia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-1.11111E-006 C 0.00695 -0.15671 0.1125 -0.3125 0.13108 -0.27731 C 0.14983 -0.24213 -0.01857 0.07315 0.01372 0.21158 C 0.04601 0.35 0.21546 0.51736 0.32518 0.55301 C 0.43507 0.58889 0.60521 0.49722 0.67205 0.42477 C 0.73907 0.35278 0.81059 0.18773 0.72743 0.12083 C 0.64427 0.05347 0.29549 -0.0463 0.17344 0.02176 C 0.05139 0.09005 0.02414 0.44421 -0.00468 0.52963 C -0.0335 0.61551 -0.01632 0.5757 0.0007 0.53588 E">
                                      <p:cBhvr>
                                        <p:cTn id="91" dur="5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6012000" y="2708280"/>
            <a:ext cx="1150920" cy="3603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3" descr="808049"/>
          <p:cNvPicPr/>
          <p:nvPr/>
        </p:nvPicPr>
        <p:blipFill>
          <a:blip r:embed="rId1"/>
          <a:stretch/>
        </p:blipFill>
        <p:spPr>
          <a:xfrm>
            <a:off x="1214280" y="164304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4"/>
          <p:cNvSpPr/>
          <p:nvPr/>
        </p:nvSpPr>
        <p:spPr>
          <a:xfrm>
            <a:off x="4335480" y="128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5"/>
          <p:cNvSpPr/>
          <p:nvPr/>
        </p:nvSpPr>
        <p:spPr>
          <a:xfrm>
            <a:off x="4067280" y="1916280"/>
            <a:ext cx="1081080" cy="2376360"/>
          </a:xfrm>
          <a:prstGeom prst="upArrow">
            <a:avLst>
              <a:gd name="adj1" fmla="val 65935"/>
              <a:gd name="adj2" fmla="val 52857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6"/>
          <p:cNvSpPr/>
          <p:nvPr/>
        </p:nvSpPr>
        <p:spPr>
          <a:xfrm>
            <a:off x="5292720" y="3500280"/>
            <a:ext cx="1943280" cy="1297080"/>
          </a:xfrm>
          <a:prstGeom prst="rightArrow">
            <a:avLst>
              <a:gd name="adj1" fmla="val 50000"/>
              <a:gd name="adj2" fmla="val 37455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7"/>
          <p:cNvSpPr/>
          <p:nvPr/>
        </p:nvSpPr>
        <p:spPr>
          <a:xfrm>
            <a:off x="1403280" y="4292640"/>
            <a:ext cx="2303640" cy="1008000"/>
          </a:xfrm>
          <a:prstGeom prst="leftArrow">
            <a:avLst>
              <a:gd name="adj1" fmla="val 50000"/>
              <a:gd name="adj2" fmla="val 5713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4214880" y="21430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Прямоугольник 10" descr=""/>
          <p:cNvPicPr/>
          <p:nvPr/>
        </p:nvPicPr>
        <p:blipFill>
          <a:blip r:embed="rId2"/>
          <a:stretch/>
        </p:blipFill>
        <p:spPr>
          <a:xfrm>
            <a:off x="420840" y="0"/>
            <a:ext cx="8369280" cy="1200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454" name="Diagram 5"/>
          <p:cNvGrpSpPr/>
          <p:nvPr/>
        </p:nvGrpSpPr>
        <p:grpSpPr>
          <a:xfrm>
            <a:off x="2676600" y="1679760"/>
            <a:ext cx="3878280" cy="4309920"/>
            <a:chOff x="2676600" y="1679760"/>
            <a:chExt cx="3878280" cy="4309920"/>
          </a:xfrm>
        </p:grpSpPr>
        <p:sp>
          <p:nvSpPr>
            <p:cNvPr id="455" name="_s1028"/>
            <p:cNvSpPr/>
            <p:nvPr/>
          </p:nvSpPr>
          <p:spPr>
            <a:xfrm flipH="1" flipV="1">
              <a:off x="3679560" y="329580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_s1029"/>
            <p:cNvSpPr/>
            <p:nvPr/>
          </p:nvSpPr>
          <p:spPr>
            <a:xfrm>
              <a:off x="2676600" y="248940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3,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_s1030"/>
            <p:cNvSpPr/>
            <p:nvPr/>
          </p:nvSpPr>
          <p:spPr>
            <a:xfrm flipH="1">
              <a:off x="3681000" y="4104000"/>
              <a:ext cx="46980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_s1031"/>
            <p:cNvSpPr/>
            <p:nvPr/>
          </p:nvSpPr>
          <p:spPr>
            <a:xfrm>
              <a:off x="2678040" y="410544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7/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_s1032"/>
            <p:cNvSpPr/>
            <p:nvPr/>
          </p:nvSpPr>
          <p:spPr>
            <a:xfrm>
              <a:off x="4616280" y="4370400"/>
              <a:ext cx="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_s1033"/>
            <p:cNvSpPr/>
            <p:nvPr/>
          </p:nvSpPr>
          <p:spPr>
            <a:xfrm>
              <a:off x="4078440" y="491184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5/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_s1034"/>
            <p:cNvSpPr/>
            <p:nvPr/>
          </p:nvSpPr>
          <p:spPr>
            <a:xfrm>
              <a:off x="5079960" y="4102200"/>
              <a:ext cx="46980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_s1035"/>
            <p:cNvSpPr/>
            <p:nvPr/>
          </p:nvSpPr>
          <p:spPr>
            <a:xfrm>
              <a:off x="5476680" y="4104000"/>
              <a:ext cx="107820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Arial"/>
                </a:rPr>
                <a:t>1/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_s1036"/>
            <p:cNvSpPr/>
            <p:nvPr/>
          </p:nvSpPr>
          <p:spPr>
            <a:xfrm flipV="1">
              <a:off x="5079960" y="3294360"/>
              <a:ext cx="4683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_s1037"/>
            <p:cNvSpPr/>
            <p:nvPr/>
          </p:nvSpPr>
          <p:spPr>
            <a:xfrm>
              <a:off x="5476680" y="2487600"/>
              <a:ext cx="1078200" cy="107820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5/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_s1038"/>
            <p:cNvSpPr/>
            <p:nvPr/>
          </p:nvSpPr>
          <p:spPr>
            <a:xfrm flipV="1">
              <a:off x="4614840" y="2755800"/>
              <a:ext cx="0" cy="54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_s1039"/>
            <p:cNvSpPr/>
            <p:nvPr/>
          </p:nvSpPr>
          <p:spPr>
            <a:xfrm>
              <a:off x="4076640" y="167976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0,0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_s1040"/>
            <p:cNvSpPr/>
            <p:nvPr/>
          </p:nvSpPr>
          <p:spPr>
            <a:xfrm>
              <a:off x="4076640" y="3297240"/>
              <a:ext cx="1077840" cy="107820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0,2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WordArt 23"/>
          <p:cNvSpPr txBox="1"/>
          <p:nvPr/>
        </p:nvSpPr>
        <p:spPr>
          <a:xfrm>
            <a:off x="684360" y="404640"/>
            <a:ext cx="6696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полнить число до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4143240" y="3643200"/>
            <a:ext cx="85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9"/>
          <p:cNvSpPr/>
          <p:nvPr/>
        </p:nvSpPr>
        <p:spPr>
          <a:xfrm>
            <a:off x="4143240" y="3714840"/>
            <a:ext cx="857520" cy="520560"/>
          </a:xfrm>
          <a:prstGeom prst="rect">
            <a:avLst/>
          </a:pr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1"/>
          <p:cNvSpPr/>
          <p:nvPr/>
        </p:nvSpPr>
        <p:spPr>
          <a:xfrm>
            <a:off x="2786040" y="2857680"/>
            <a:ext cx="785880" cy="459720"/>
          </a:xfrm>
          <a:prstGeom prst="rect">
            <a:avLst/>
          </a:pr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0,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34960" y="1523880"/>
            <a:ext cx="36576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⅛ 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+ ⅜ + ⅝ + ⅞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¼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 + </a:t>
            </a: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½</a:t>
            </a:r>
            <a:r>
              <a:rPr b="1" lang="ru-RU" sz="3200" spc="-1" strike="noStrike">
                <a:solidFill>
                  <a:srgbClr val="800000"/>
                </a:solidFill>
                <a:latin typeface="Georgia"/>
              </a:rPr>
              <a:t> + </a:t>
            </a: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8/19 – 7/19 – 1/19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eorgia"/>
              </a:rPr>
              <a:t>Найдите сумму ответ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508360" y="1599840"/>
            <a:ext cx="3384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1,5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Georgi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dc765"/>
                </a:solidFill>
                <a:uFillTx/>
                <a:latin typeface="Georgia"/>
                <a:hlinkClick r:id="rId1" action="ppaction://hlinksldjump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WordArt 4"/>
          <p:cNvSpPr txBox="1"/>
          <p:nvPr/>
        </p:nvSpPr>
        <p:spPr>
          <a:xfrm rot="789000">
            <a:off x="1258920" y="404640"/>
            <a:ext cx="65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3774000"/>
                </a:gradFill>
                <a:latin typeface="Georgia"/>
              </a:rPr>
              <a:t>Вычисля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3774000"/>
              </a:gradFill>
              <a:latin typeface="Georgia"/>
              <a:ea typeface="Georgia"/>
            </a:endParaRPr>
          </a:p>
        </p:txBody>
      </p:sp>
    </p:spTree>
  </p:cSld>
  <p:transition spd="slow">
    <p:circl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7:44:00Z</dcterms:created>
  <dc:creator>Лена</dc:creator>
  <dc:description/>
  <dc:language>en-US</dc:language>
  <cp:lastModifiedBy>Admin</cp:lastModifiedBy>
  <dcterms:modified xsi:type="dcterms:W3CDTF">2005-01-01T00:21:36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240000000000010243100207f6000400038000</vt:lpwstr>
  </property>
</Properties>
</file>