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285B-CE76-4F6C-AD1C-E6112DB54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DBF4-9368-416F-9919-75AEE900E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73C665-44F9-4CF8-94B9-E6B733043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A05A33-FC25-4332-8856-FA2AECC2C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4E1BEF-DA19-4869-9D78-E40DD00DF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2E3E90-F214-4404-AE36-BF97159B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42C21E-FB38-420C-AA63-B159F05F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19127A-B6DE-4FEC-ACA6-7DD1ED18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9CF8A0-55B0-448C-961C-E075B068E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D7E9C3-FD22-4057-BCAF-3032BAFB9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F4BE28-A185-4462-B648-632B78BD1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BBA3-B664-457E-9295-B33EE1D88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A5A5-C8EB-4834-87D6-AD479158D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EBD34-ABBA-45C7-A977-03C43FB4E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803C3-AC61-4010-8355-95B5CAE5F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A2D94-81A9-4122-A132-0554A9E87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7B2B3-88B8-47F5-B1B3-6B0EBFA5D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CEC12-3A2C-4968-A1A7-B6E3E5E20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D9D6E-45E9-45B8-94E3-18DC7587C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DCBE0-B6BB-47AD-ACF3-9EF7A797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A16E-8C70-4762-BE63-390F07EBB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AD9A4-5EC8-4F09-BF83-FB8B9D47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6C8BA-B3BC-441E-A90E-77109962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2EA03-D88C-46AB-A52D-7BDE6632D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BCD24-7572-4F98-805F-37A98931E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323DB-E2EB-43F4-AEF0-0BAD1E682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1EBFC-12EC-4028-99E8-3FA160CB7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2B0F0-CF14-4A00-9E53-F3D60B471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34BA1-662B-4B3F-812C-720BE8E55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6DEB9-000A-442A-9607-AF5AAB5AD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346C4-01C9-4301-9DB6-2565722A4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8893-C663-4914-A1EF-F11A5A78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E6614-B9AB-48A6-A54C-CBF7AC3C9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29ED2-299C-4C63-A91D-6FA180BA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3E38F-B03C-485B-8117-71541ADF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11621-BA75-463E-A1C7-F9E04F0C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5818F-46F2-4774-800B-E39ECA7C0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0C8B7-C160-43AC-A82C-E48D32C6B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7FEE9-7FF9-4650-AAD7-041BF1DA4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4F308-C164-46E5-8ECC-EF5CF5425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0C87F-575A-42A5-BAA7-28C6FFB35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322F5-AE27-449E-9068-E9A5D0B97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0904-96A5-472C-B89A-B826C699F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E849F-4CE3-4329-BF75-69F8777B0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34B5F-FE7E-450B-9F57-2BD3FCF19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4D12E-632B-4ADC-81E6-0B24957CB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23A11-4439-4C8B-B21F-CF5D761F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EB9E7-198A-41B0-A0BB-F06A4D0A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4ECB1-C2ED-4308-9A1A-CCD92D0E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152C9-F425-46C5-B5DC-F52F32AD9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9F287-BBB9-4A7B-953E-3150C6EB0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53130-408E-41B7-83DC-605B87F1A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3D8D4-9164-4794-9210-B0D8BE3EA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F56B-7366-491D-831C-14C1E8A3A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43DE5-F422-4501-AD29-3B66F1712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5D6C0-1A54-41BA-BDFF-4A24A0608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A2E0C-431E-4708-9F29-CF2C7C9CB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DF553-A9A5-481C-8A16-1A4CD750C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4807A-10B2-403F-AF40-C24B7ECF9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0616F-8422-4320-B3C7-4E762972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D7B3D-B8BF-4031-BF3F-1097880D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1647E-2770-4902-BE8B-86A38467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5477C-FA4D-4AAB-87E6-1EE115E5C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7F5C8-0880-4706-B365-F1AE6BFCD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240B-6A3C-48D3-AD66-F2B514EA3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1D403-240E-4446-BF80-74EBBE9E0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ED024-0B46-48CE-86B6-C208B08BC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1E009-15D0-450B-8B01-CC43FC67D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096BD-80B3-4060-AC9E-41270672E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1F4DD-4ACD-46A8-A7B0-AEDD70DD4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B581F8-226B-4301-9331-50EF5083E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9234BD-878A-4BE7-B0D2-B401BE2C9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FF3162-5B31-4963-877A-5CE6B6B4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EFEE2-9AC7-4AA6-A332-11ACE685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0F8B0-2977-4D3F-9FA5-49CB442C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F5D1-D3FA-477D-8DD9-4D338F21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1267D-419E-4182-B2AB-A073D4BE7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54306-10F2-407A-979C-2C7FBC833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3F1E9-609C-4020-A912-8412105F9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5B8A4-7A12-4AA4-9010-A3C8B455A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F4A25-28B1-42E7-BC36-BDA450B0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A9458-07C9-4EBC-826B-7004BD001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8295B-8897-43E6-BA72-9C00B7A8F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E9AF7-C0ED-43B8-80C8-7094FEC42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72E62-6E8D-4EFA-9DEA-FBF8409CC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3A43CB-B0EA-472B-B0EC-ABF34172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3140-05B6-490E-A955-E5677E49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AA8C9D-A2F3-4B42-B179-41023081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D9F48D-AE97-4C9E-A710-268C53E0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41DBC-EBAD-449B-9595-5AFF9B676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B0B1B-9128-424E-A549-8B2CF2952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FC805-C41A-4B76-B3E0-2CC531381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2156A-83A0-4D04-A483-3ECCA72DF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8ED04C-FF81-47FF-B6B3-6FE73009C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B32A97-AF97-4A33-B360-5BD2924E1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523222-328C-4765-8A4C-CD82C7798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9F7E89-4F6E-4C1A-B3F8-25F4E122D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7394-1257-48CA-9C84-E1F6D73D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0154DA-6D0E-47D3-BEC1-7FDE06CB3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C35BCD-DB78-4652-8CE7-10370DFB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EBF7A1-6C0F-4ECA-99F1-7E5DB152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1F3E1F-4A1E-43C3-BCEF-A19BAF76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C7566D-885F-43A2-B6E0-9F9489614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D67729-4080-4122-B223-7BF0AEEA9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6E40FB-1CDD-474D-A2FE-5DAA04623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78B4D8-2AFB-4015-A44E-6D9B5D61E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912831-5589-41B6-B0D4-813CFF934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6A7361-7CD2-4BE3-AD8A-26786EAAF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08E64-1F3F-47D9-8848-9D0DA312B16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C1F12-4D8C-4BA7-B3F1-BCB9E0064BE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296A0-373E-4B9A-BB50-E7B11CC9AF2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B5C3A-4D33-46BA-BE4A-4DB42C8DFB8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C53AC-3FF3-4957-AE75-EDBB26B6DEE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1F3E2-6618-4375-9165-23C3DE159C6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50036-437D-4774-8436-9C7A915CCA8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2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58D08-46C6-42D5-8C9B-7155FF0E72F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69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CBFB0-E033-40B6-8363-D2F63668856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6600cc"/>
                </a:solidFill>
                <a:latin typeface="Corbel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371600" y="4214520"/>
            <a:ext cx="6400800" cy="14238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0093"/>
                </a:solidFill>
                <a:latin typeface="Corbel"/>
              </a:rPr>
              <a:t>Обобщающий урок в 6 классе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16" name="WordArt 4" descr=""/>
          <p:cNvPicPr/>
          <p:nvPr/>
        </p:nvPicPr>
        <p:blipFill>
          <a:blip r:embed="rId1"/>
          <a:stretch/>
        </p:blipFill>
        <p:spPr>
          <a:xfrm>
            <a:off x="-23760" y="1908000"/>
            <a:ext cx="9271080" cy="185904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3"/>
          <p:cNvSpPr/>
          <p:nvPr/>
        </p:nvSpPr>
        <p:spPr>
          <a:xfrm>
            <a:off x="4929120" y="5072040"/>
            <a:ext cx="4214880" cy="14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60093"/>
                </a:solidFill>
                <a:latin typeface="Corbel"/>
              </a:rPr>
              <a:t>Подготовила учитель матема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60093"/>
                </a:solidFill>
                <a:latin typeface="Corbel"/>
              </a:rPr>
              <a:t>МОУ СОШ № 4 с. Малые Ягур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60093"/>
                </a:solidFill>
                <a:latin typeface="Corbel"/>
              </a:rPr>
              <a:t>Фоменко Анжелика Анатолье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Box 4"/>
          <p:cNvSpPr/>
          <p:nvPr/>
        </p:nvSpPr>
        <p:spPr>
          <a:xfrm>
            <a:off x="0" y="0"/>
            <a:ext cx="4500720" cy="9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0,5 · 2 + 5,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1,5 </a:t>
            </a:r>
            <a:r>
              <a:rPr b="1" lang="ru-RU" sz="6000" spc="-1" strike="noStrike">
                <a:solidFill>
                  <a:srgbClr val="002060"/>
                </a:solidFill>
                <a:latin typeface="Symbol"/>
                <a:ea typeface="Symbol"/>
              </a:rPr>
              <a:t></a:t>
            </a: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 3 + 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2,1 + 3 - 0,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b1d15"/>
                </a:solidFill>
                <a:latin typeface="Arial"/>
              </a:rPr>
              <a:t>2/3 : 3/2 -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Arial"/>
              </a:rPr>
              <a:t>0 + 4/5 · 5/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00"/>
                </a:solidFill>
                <a:latin typeface="Arial"/>
              </a:rPr>
              <a:t>8 - 4,6 :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00"/>
                </a:solidFill>
                <a:latin typeface="Arial"/>
              </a:rPr>
              <a:t>¾ - 2/8 :2/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338760"/>
            <a:ext cx="380988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4714560" y="272880"/>
            <a:ext cx="4429080" cy="658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7030a0"/>
                </a:solidFill>
                <a:uFillTx/>
                <a:latin typeface="Corbel"/>
              </a:rPr>
              <a:t>ключ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285800" y="4286160"/>
            <a:ext cx="442908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rbel"/>
              </a:rPr>
              <a:t>Проверка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orbel"/>
              </a:rPr>
              <a:t>1</a:t>
            </a:r>
            <a:r>
              <a:rPr b="1" lang="ru-RU" sz="6000" spc="-1" strike="noStrike">
                <a:solidFill>
                  <a:srgbClr val="000000"/>
                </a:solidFill>
                <a:latin typeface="Corbel"/>
              </a:rPr>
              <a:t> ДОРОГА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480" name=""/>
          <p:cNvGraphicFramePr/>
          <p:nvPr/>
        </p:nvGraphicFramePr>
        <p:xfrm>
          <a:off x="4286160" y="1857240"/>
          <a:ext cx="4857840" cy="1571760"/>
        </p:xfrm>
        <a:graphic>
          <a:graphicData uri="http://schemas.openxmlformats.org/drawingml/2006/table">
            <a:tbl>
              <a:tblPr/>
              <a:tblGrid>
                <a:gridCol w="642960"/>
                <a:gridCol w="714600"/>
                <a:gridCol w="642960"/>
                <a:gridCol w="898200"/>
                <a:gridCol w="673200"/>
                <a:gridCol w="571680"/>
                <a:gridCol w="71424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orbel"/>
                        </a:rPr>
                        <a:t>6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orbel"/>
                        </a:rPr>
                        <a:t>4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orbel"/>
                        </a:rPr>
                        <a:t>½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orbel"/>
                        </a:rPr>
                        <a:t>24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orbel"/>
                        </a:rPr>
                        <a:t>5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orbe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orbe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95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p:transition spd="slow">
    <p:circl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6840" y="338760"/>
            <a:ext cx="380988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406520"/>
            <a:ext cx="380988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83" name="Picture 2" descr="C:\Documents and Settings\Admin\Мои документы\Мои рисунки\Санаторий\IMG_015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ree"/>
          <p:cNvSpPr/>
          <p:nvPr/>
        </p:nvSpPr>
        <p:spPr>
          <a:xfrm>
            <a:off x="0" y="4869000"/>
            <a:ext cx="1809720" cy="18097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ree"/>
          <p:cNvSpPr/>
          <p:nvPr/>
        </p:nvSpPr>
        <p:spPr>
          <a:xfrm>
            <a:off x="826920" y="1916280"/>
            <a:ext cx="1810080" cy="18097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ree"/>
          <p:cNvSpPr/>
          <p:nvPr/>
        </p:nvSpPr>
        <p:spPr>
          <a:xfrm>
            <a:off x="7020000" y="4508640"/>
            <a:ext cx="1809720" cy="18097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nt"/>
          <p:cNvSpPr/>
          <p:nvPr/>
        </p:nvSpPr>
        <p:spPr>
          <a:xfrm>
            <a:off x="611280" y="3500280"/>
            <a:ext cx="1336680" cy="11923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nt"/>
          <p:cNvSpPr/>
          <p:nvPr/>
        </p:nvSpPr>
        <p:spPr>
          <a:xfrm>
            <a:off x="1476360" y="5805360"/>
            <a:ext cx="1366920" cy="87336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nt"/>
          <p:cNvSpPr/>
          <p:nvPr/>
        </p:nvSpPr>
        <p:spPr>
          <a:xfrm>
            <a:off x="7765920" y="3860640"/>
            <a:ext cx="1378080" cy="11620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nt"/>
          <p:cNvSpPr/>
          <p:nvPr/>
        </p:nvSpPr>
        <p:spPr>
          <a:xfrm>
            <a:off x="-181080" y="4076640"/>
            <a:ext cx="1049400" cy="9763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nt"/>
          <p:cNvSpPr/>
          <p:nvPr/>
        </p:nvSpPr>
        <p:spPr>
          <a:xfrm>
            <a:off x="1619280" y="3284640"/>
            <a:ext cx="1120680" cy="9763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nt"/>
          <p:cNvSpPr/>
          <p:nvPr/>
        </p:nvSpPr>
        <p:spPr>
          <a:xfrm>
            <a:off x="8055000" y="2492280"/>
            <a:ext cx="1089000" cy="11620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19"/>
          <p:cNvSpPr/>
          <p:nvPr/>
        </p:nvSpPr>
        <p:spPr>
          <a:xfrm>
            <a:off x="3276720" y="3429000"/>
            <a:ext cx="3168360" cy="2664000"/>
          </a:xfrm>
          <a:custGeom>
            <a:avLst/>
            <a:gdLst>
              <a:gd name="textAreaLeft" fmla="*/ 723240 w 3168360"/>
              <a:gd name="textAreaRight" fmla="*/ 2445120 w 3168360"/>
              <a:gd name="textAreaTop" fmla="*/ 608040 h 2664000"/>
              <a:gd name="textAreaBottom" fmla="*/ 2055960 h 266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21"/>
          <p:cNvSpPr/>
          <p:nvPr/>
        </p:nvSpPr>
        <p:spPr>
          <a:xfrm>
            <a:off x="4211640" y="2492280"/>
            <a:ext cx="1441440" cy="100800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22"/>
          <p:cNvSpPr/>
          <p:nvPr/>
        </p:nvSpPr>
        <p:spPr>
          <a:xfrm>
            <a:off x="5580000" y="2997360"/>
            <a:ext cx="1154160" cy="107928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23"/>
          <p:cNvSpPr/>
          <p:nvPr/>
        </p:nvSpPr>
        <p:spPr>
          <a:xfrm>
            <a:off x="2843280" y="2997360"/>
            <a:ext cx="1368360" cy="100800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24"/>
          <p:cNvSpPr/>
          <p:nvPr/>
        </p:nvSpPr>
        <p:spPr>
          <a:xfrm>
            <a:off x="3419640" y="5661000"/>
            <a:ext cx="1081080" cy="432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25"/>
          <p:cNvSpPr/>
          <p:nvPr/>
        </p:nvSpPr>
        <p:spPr>
          <a:xfrm>
            <a:off x="5076720" y="5805360"/>
            <a:ext cx="1150920" cy="432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6"/>
          <p:cNvSpPr/>
          <p:nvPr/>
        </p:nvSpPr>
        <p:spPr>
          <a:xfrm rot="20478000">
            <a:off x="2987280" y="2565000"/>
            <a:ext cx="289080" cy="649440"/>
          </a:xfrm>
          <a:prstGeom prst="flowChartExtra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27"/>
          <p:cNvSpPr/>
          <p:nvPr/>
        </p:nvSpPr>
        <p:spPr>
          <a:xfrm rot="1111200">
            <a:off x="3708000" y="2491920"/>
            <a:ext cx="358920" cy="64764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28"/>
          <p:cNvSpPr/>
          <p:nvPr/>
        </p:nvSpPr>
        <p:spPr>
          <a:xfrm rot="915600">
            <a:off x="6287760" y="2347920"/>
            <a:ext cx="297000" cy="803160"/>
          </a:xfrm>
          <a:prstGeom prst="triangle">
            <a:avLst>
              <a:gd name="adj" fmla="val 10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29"/>
          <p:cNvSpPr/>
          <p:nvPr/>
        </p:nvSpPr>
        <p:spPr>
          <a:xfrm rot="21166800">
            <a:off x="5880240" y="2347560"/>
            <a:ext cx="288720" cy="792000"/>
          </a:xfrm>
          <a:prstGeom prst="triangle">
            <a:avLst>
              <a:gd name="adj" fmla="val 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30"/>
          <p:cNvSpPr/>
          <p:nvPr/>
        </p:nvSpPr>
        <p:spPr>
          <a:xfrm>
            <a:off x="4572000" y="1700280"/>
            <a:ext cx="287280" cy="936720"/>
          </a:xfrm>
          <a:prstGeom prst="triangle">
            <a:avLst>
              <a:gd name="adj" fmla="val 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33"/>
          <p:cNvSpPr/>
          <p:nvPr/>
        </p:nvSpPr>
        <p:spPr>
          <a:xfrm>
            <a:off x="5076720" y="1700280"/>
            <a:ext cx="216000" cy="936720"/>
          </a:xfrm>
          <a:prstGeom prst="triangle">
            <a:avLst>
              <a:gd name="adj" fmla="val 9044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34"/>
          <p:cNvSpPr/>
          <p:nvPr/>
        </p:nvSpPr>
        <p:spPr>
          <a:xfrm>
            <a:off x="4859280" y="4149720"/>
            <a:ext cx="73080" cy="7128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35"/>
          <p:cNvSpPr/>
          <p:nvPr/>
        </p:nvSpPr>
        <p:spPr>
          <a:xfrm>
            <a:off x="3203640" y="3500280"/>
            <a:ext cx="3168720" cy="2665440"/>
          </a:xfrm>
          <a:custGeom>
            <a:avLst/>
            <a:gdLst>
              <a:gd name="textAreaLeft" fmla="*/ 723240 w 3168720"/>
              <a:gd name="textAreaRight" fmla="*/ 2445480 w 3168720"/>
              <a:gd name="textAreaTop" fmla="*/ 608400 h 2665440"/>
              <a:gd name="textAreaBottom" fmla="*/ 2057040 h 2665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36"/>
          <p:cNvSpPr/>
          <p:nvPr/>
        </p:nvSpPr>
        <p:spPr>
          <a:xfrm>
            <a:off x="6877080" y="907920"/>
            <a:ext cx="2266920" cy="2016360"/>
          </a:xfrm>
          <a:prstGeom prst="wedgeEllipseCallout">
            <a:avLst>
              <a:gd name="adj1" fmla="val -46217"/>
              <a:gd name="adj2" fmla="val 57166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7"/>
          <p:cNvSpPr/>
          <p:nvPr/>
        </p:nvSpPr>
        <p:spPr>
          <a:xfrm>
            <a:off x="4211640" y="404640"/>
            <a:ext cx="2808360" cy="1582920"/>
          </a:xfrm>
          <a:prstGeom prst="wedgeEllipseCallout">
            <a:avLst>
              <a:gd name="adj1" fmla="val -3870"/>
              <a:gd name="adj2" fmla="val 79990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38"/>
          <p:cNvSpPr/>
          <p:nvPr/>
        </p:nvSpPr>
        <p:spPr>
          <a:xfrm>
            <a:off x="250920" y="404640"/>
            <a:ext cx="3744720" cy="2232360"/>
          </a:xfrm>
          <a:prstGeom prst="wedgeEllipseCallout">
            <a:avLst>
              <a:gd name="adj1" fmla="val 13967"/>
              <a:gd name="adj2" fmla="val 60384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41"/>
          <p:cNvSpPr/>
          <p:nvPr/>
        </p:nvSpPr>
        <p:spPr>
          <a:xfrm>
            <a:off x="2484360" y="1073160"/>
            <a:ext cx="167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43"/>
          <p:cNvSpPr/>
          <p:nvPr/>
        </p:nvSpPr>
        <p:spPr>
          <a:xfrm>
            <a:off x="7236000" y="1360440"/>
            <a:ext cx="66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44"/>
          <p:cNvSpPr/>
          <p:nvPr/>
        </p:nvSpPr>
        <p:spPr>
          <a:xfrm>
            <a:off x="7107120" y="1413000"/>
            <a:ext cx="177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Georgia"/>
              </a:rPr>
              <a:t>Хотите узна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Georgia"/>
              </a:rPr>
              <a:t>сколько веси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Georgia"/>
              </a:rPr>
              <a:t>   </a:t>
            </a:r>
            <a:r>
              <a:rPr b="1" lang="ru-RU" sz="1600" spc="-1" strike="noStrike">
                <a:solidFill>
                  <a:srgbClr val="990033"/>
                </a:solidFill>
                <a:latin typeface="Georgia"/>
              </a:rPr>
              <a:t>ваше имя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Georgia"/>
              </a:rPr>
              <a:t>    </a:t>
            </a:r>
            <a:r>
              <a:rPr b="1" lang="ru-RU" sz="1600" spc="-1" strike="noStrike">
                <a:solidFill>
                  <a:srgbClr val="990033"/>
                </a:solidFill>
                <a:latin typeface="Georgia"/>
              </a:rPr>
              <a:t>фамилия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45"/>
          <p:cNvSpPr/>
          <p:nvPr/>
        </p:nvSpPr>
        <p:spPr>
          <a:xfrm>
            <a:off x="758160" y="858960"/>
            <a:ext cx="3224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Georgia"/>
              </a:rPr>
              <a:t>Известно ли вам, что 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Georgia"/>
              </a:rPr>
              <a:t>минуту человек успев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660066"/>
                </a:solidFill>
                <a:latin typeface="Georgia"/>
              </a:rPr>
              <a:t>написать столько бук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Georgia"/>
              </a:rPr>
              <a:t>Что, длина строки из эт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Georgia"/>
              </a:rPr>
              <a:t>букв будет равна 140 с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46"/>
          <p:cNvSpPr/>
          <p:nvPr/>
        </p:nvSpPr>
        <p:spPr>
          <a:xfrm>
            <a:off x="4500720" y="620640"/>
            <a:ext cx="2627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Georgia"/>
              </a:rPr>
              <a:t>Умножьте число букв на 0,00033гр –име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Georgia"/>
              </a:rPr>
              <a:t>столько весит од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Georgia"/>
              </a:rPr>
              <a:t>бук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20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2000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11111"/>
            </a:gs>
            <a:gs pos="100000">
              <a:srgbClr val="3b3b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WordArt 4" descr=""/>
          <p:cNvPicPr/>
          <p:nvPr/>
        </p:nvPicPr>
        <p:blipFill>
          <a:blip r:embed="rId1"/>
          <a:stretch/>
        </p:blipFill>
        <p:spPr>
          <a:xfrm>
            <a:off x="438120" y="1023840"/>
            <a:ext cx="8193240" cy="5486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ff9900"/>
              </a:solidFill>
              <a:latin typeface="Corbel"/>
            </a:endParaRPr>
          </a:p>
        </p:txBody>
      </p:sp>
      <p:pic>
        <p:nvPicPr>
          <p:cNvPr id="517" name="Picture 3" descr=""/>
          <p:cNvPicPr/>
          <p:nvPr/>
        </p:nvPicPr>
        <p:blipFill>
          <a:blip r:embed="rId1"/>
          <a:stretch/>
        </p:blipFill>
        <p:spPr>
          <a:xfrm>
            <a:off x="357120" y="1428840"/>
            <a:ext cx="8643960" cy="5483160"/>
          </a:xfrm>
          <a:prstGeom prst="rect">
            <a:avLst/>
          </a:prstGeom>
          <a:ln w="0">
            <a:noFill/>
          </a:ln>
        </p:spPr>
      </p:pic>
      <p:sp>
        <p:nvSpPr>
          <p:cNvPr id="518" name="WordArt 4"/>
          <p:cNvSpPr txBox="1"/>
          <p:nvPr/>
        </p:nvSpPr>
        <p:spPr>
          <a:xfrm>
            <a:off x="684360" y="476280"/>
            <a:ext cx="784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трела третьего упала в болото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9" name="AutoShape 5"/>
          <p:cNvSpPr/>
          <p:nvPr/>
        </p:nvSpPr>
        <p:spPr>
          <a:xfrm>
            <a:off x="7596360" y="5516640"/>
            <a:ext cx="1191960" cy="987480"/>
          </a:xfrm>
          <a:prstGeom prst="pi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cc"/>
                </a:solidFill>
                <a:latin typeface="Georgia"/>
              </a:rPr>
              <a:t>23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6"/>
          <p:cNvSpPr/>
          <p:nvPr/>
        </p:nvSpPr>
        <p:spPr>
          <a:xfrm flipH="1" flipV="1">
            <a:off x="3850920" y="5300640"/>
            <a:ext cx="3600360" cy="50472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24 -0.00185 C 0.01407 0.00116 0.03837 0.0044 -0.01614 0.00255 C -0.07066 0.00116 -0.34305 0.04074 -0.3375 -0.01134 C -0.33194 -0.06343 0.0099 -0.23056 0.01789 -0.30903 C 0.02587 -0.3875 -0.15625 -0.45741 -0.28906 -0.48171 C -0.42205 -0.50579 -0.71475 -0.51296 -0.77968 -0.45486 C -0.84461 -0.39653 -0.69774 -0.18704 -0.67847 -0.13195 C -0.6592 -0.07662 -0.6618 -0.09977 -0.66441 -0.12269 E">
                                      <p:cBhvr>
                                        <p:cTn id="272" dur="5000" fill="hold"/>
                                        <p:tgtEl>
                                          <p:spTgt spid="5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4" descr="ar9022-001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553080"/>
          </a:xfrm>
          <a:prstGeom prst="rect">
            <a:avLst/>
          </a:prstGeom>
          <a:ln w="0">
            <a:noFill/>
          </a:ln>
        </p:spPr>
      </p:pic>
      <p:sp>
        <p:nvSpPr>
          <p:cNvPr id="522" name="Line 5"/>
          <p:cNvSpPr/>
          <p:nvPr/>
        </p:nvSpPr>
        <p:spPr>
          <a:xfrm flipV="1">
            <a:off x="1763640" y="2637000"/>
            <a:ext cx="5616720" cy="129672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nt"/>
          <p:cNvSpPr/>
          <p:nvPr/>
        </p:nvSpPr>
        <p:spPr>
          <a:xfrm rot="1669200">
            <a:off x="3058920" y="2708280"/>
            <a:ext cx="3867120" cy="26431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аим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тные числ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nt"/>
          <p:cNvSpPr/>
          <p:nvPr/>
        </p:nvSpPr>
        <p:spPr>
          <a:xfrm>
            <a:off x="5148360" y="836640"/>
            <a:ext cx="4714920" cy="30718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хождение числа по его дроб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nt"/>
          <p:cNvSpPr/>
          <p:nvPr/>
        </p:nvSpPr>
        <p:spPr>
          <a:xfrm>
            <a:off x="3132000" y="-171360"/>
            <a:ext cx="3929040" cy="299700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рави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д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дробе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nt"/>
          <p:cNvSpPr/>
          <p:nvPr/>
        </p:nvSpPr>
        <p:spPr>
          <a:xfrm>
            <a:off x="-357120" y="0"/>
            <a:ext cx="3929040" cy="345744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ило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умно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робей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nt"/>
          <p:cNvSpPr/>
          <p:nvPr/>
        </p:nvSpPr>
        <p:spPr>
          <a:xfrm rot="19855800">
            <a:off x="-433440" y="3247920"/>
            <a:ext cx="4308480" cy="331164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сновное свойство дроб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nt"/>
          <p:cNvSpPr/>
          <p:nvPr/>
        </p:nvSpPr>
        <p:spPr>
          <a:xfrm rot="19957800">
            <a:off x="4858920" y="3789360"/>
            <a:ext cx="4714920" cy="28576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хождение  дроби от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8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1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4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57200" y="1071720"/>
            <a:ext cx="46864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ff"/>
                </a:solidFill>
                <a:latin typeface="Georgia"/>
              </a:rPr>
              <a:t>Архимед это просил, а ему не дали…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ff"/>
                </a:solidFill>
                <a:latin typeface="Georgia"/>
              </a:rPr>
              <a:t>Бывает ….. Зрения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ff"/>
                </a:solidFill>
                <a:latin typeface="Georgia"/>
              </a:rPr>
              <a:t>Ставиться в конце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9900"/>
                </a:solidFill>
                <a:latin typeface="Georgia"/>
              </a:rPr>
              <a:t>Запомнить их невозможно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9900"/>
                </a:solidFill>
                <a:latin typeface="Georgia"/>
              </a:rPr>
              <a:t>По ним считают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9900"/>
                </a:solidFill>
                <a:latin typeface="Georgia"/>
              </a:rPr>
              <a:t>Их полно в справочнике.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99ff"/>
                </a:solidFill>
                <a:latin typeface="Georgia"/>
              </a:rPr>
              <a:t>Бывает на  номере углового дома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99ff"/>
                </a:solidFill>
                <a:latin typeface="Georgia"/>
              </a:rPr>
              <a:t>Этим стреляют из ружья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99ff"/>
                </a:solidFill>
                <a:latin typeface="Georgia"/>
              </a:rPr>
              <a:t>Её выстукивают на барабане</a:t>
            </a: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00"/>
                </a:solidFill>
                <a:latin typeface="Georgia"/>
              </a:rPr>
              <a:t>Обычно находится в центре город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00"/>
                </a:solidFill>
                <a:latin typeface="Georgia"/>
              </a:rPr>
              <a:t>Выражается квадратным числом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00"/>
                </a:solidFill>
                <a:latin typeface="Georgia"/>
              </a:rPr>
              <a:t>Длина на ширину                   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5785920" y="1285560"/>
            <a:ext cx="28292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00"/>
                </a:solidFill>
                <a:latin typeface="Georgia"/>
              </a:rPr>
              <a:t>Точк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00"/>
                </a:solidFill>
                <a:latin typeface="Georgia"/>
              </a:rPr>
              <a:t>Формул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00"/>
                </a:solidFill>
                <a:latin typeface="Georgia"/>
              </a:rPr>
              <a:t>Дробь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00"/>
                </a:solidFill>
                <a:latin typeface="Georgia"/>
              </a:rPr>
              <a:t>площадь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2" name="WordArt 7"/>
          <p:cNvSpPr txBox="1"/>
          <p:nvPr/>
        </p:nvSpPr>
        <p:spPr>
          <a:xfrm rot="473400">
            <a:off x="3611160" y="93600"/>
            <a:ext cx="4537080" cy="88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446000"/>
                </a:gradFill>
                <a:latin typeface="Georgia"/>
              </a:rPr>
              <a:t>Угадал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446000"/>
              </a:gradFill>
              <a:latin typeface="Georgia"/>
              <a:ea typeface="Georgia"/>
            </a:endParaRPr>
          </a:p>
        </p:txBody>
      </p:sp>
    </p:spTree>
  </p:cSld>
  <p:transition spd="slow">
    <p:circl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5" dur="20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500"/>
                            </p:stCondLst>
                            <p:childTnLst>
                              <p:par>
                                <p:cTn id="3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9" dur="20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4500"/>
                            </p:stCondLst>
                            <p:childTnLst>
                              <p:par>
                                <p:cTn id="3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3" dur="20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0"/>
                            </p:stCondLst>
                            <p:childTnLst>
                              <p:par>
                                <p:cTn id="37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7100"/>
                            </p:stCondLst>
                            <p:childTnLst>
                              <p:par>
                                <p:cTn id="37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7" dur="2000"/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1" dur="2000"/>
                                        <p:tgtEl>
                                          <p:spTgt spid="5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4000"/>
                            </p:stCondLst>
                            <p:childTnLst>
                              <p:par>
                                <p:cTn id="39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5" dur="2000"/>
                                        <p:tgtEl>
                                          <p:spTgt spid="5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6000"/>
                            </p:stCondLst>
                            <p:childTnLst>
                              <p:par>
                                <p:cTn id="39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9" dur="2000"/>
                                        <p:tgtEl>
                                          <p:spTgt spid="5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4" dur="500"/>
                                        <p:tgtEl>
                                          <p:spTgt spid="5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800"/>
                                        <p:tgtEl>
                                          <p:spTgt spid="5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800" fill="hold"/>
                                        <p:tgtEl>
                                          <p:spTgt spid="5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800" fill="hold"/>
                                        <p:tgtEl>
                                          <p:spTgt spid="5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800" fill="hold"/>
                                        <p:tgtEl>
                                          <p:spTgt spid="5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500"/>
                            </p:stCondLst>
                            <p:childTnLst>
                              <p:par>
                                <p:cTn id="41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800"/>
                                        <p:tgtEl>
                                          <p:spTgt spid="5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800" fill="hold"/>
                                        <p:tgtEl>
                                          <p:spTgt spid="5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800" fill="hold"/>
                                        <p:tgtEl>
                                          <p:spTgt spid="5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800" fill="hold"/>
                                        <p:tgtEl>
                                          <p:spTgt spid="5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500"/>
                            </p:stCondLst>
                            <p:childTnLst>
                              <p:par>
                                <p:cTn id="42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800"/>
                                        <p:tgtEl>
                                          <p:spTgt spid="5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800" fill="hold"/>
                                        <p:tgtEl>
                                          <p:spTgt spid="5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800" fill="hold"/>
                                        <p:tgtEl>
                                          <p:spTgt spid="5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800" fill="hold"/>
                                        <p:tgtEl>
                                          <p:spTgt spid="5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6" dur="2000"/>
                                        <p:tgtEl>
                                          <p:spTgt spid="5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ffb265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 txBox="1"/>
          <p:nvPr/>
        </p:nvSpPr>
        <p:spPr>
          <a:xfrm>
            <a:off x="1434960" y="1714680"/>
            <a:ext cx="74995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Georgia"/>
              </a:rPr>
              <a:t>Дробь, делитель, частное, плюс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Georgia"/>
              </a:rPr>
              <a:t>1,  2,  4,  6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Georgia"/>
              </a:rPr>
              <a:t>5, 10, 15, 16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Georgia"/>
              </a:rPr>
              <a:t>9, 16, 25, 27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Georgia"/>
              </a:rPr>
              <a:t>5х,  77х,  56х,   44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Georgia"/>
              </a:rPr>
              <a:t>½,   ¾,  4/9, 5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4" name="WordArt 4"/>
          <p:cNvSpPr txBox="1"/>
          <p:nvPr/>
        </p:nvSpPr>
        <p:spPr>
          <a:xfrm>
            <a:off x="250920" y="33336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Georgia"/>
              </a:rPr>
              <a:t>Кто лишн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Georgia"/>
              <a:ea typeface="Georgia"/>
            </a:endParaRPr>
          </a:p>
        </p:txBody>
      </p:sp>
    </p:spTree>
  </p:cSld>
  <p:transition spd="slow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AutoShape 4"/>
          <p:cNvSpPr/>
          <p:nvPr/>
        </p:nvSpPr>
        <p:spPr>
          <a:xfrm>
            <a:off x="395280" y="333360"/>
            <a:ext cx="8640720" cy="633564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660066"/>
              </a:gs>
              <a:gs pos="100000">
                <a:srgbClr val="ad77a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асилисе Премудрой исполнилось 18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ощей Бессмертный решил взять её в же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асилиса спросила сколько у Кощея сундуков с золо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ощей Бессмертный ответил, что у него 27360 сунду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олных золота, и каждый год прибавляется еще по 3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ундука. Василиса Премудрая  обещала выйти замуж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за Кощея тогда, когда у него будет 30000  сунду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олных золо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колько лет  будет невесте Кощея в день свадьб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6600cc"/>
                </a:solidFill>
                <a:latin typeface="Corbel"/>
              </a:rPr>
              <a:t>Цели урока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42560" y="856800"/>
            <a:ext cx="87915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Corbel"/>
              </a:rPr>
              <a:t>Обучающие цели: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повторение теоретического материала по данному разделу,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способствовать формированию знаний по пройденной теме,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закрепление навыков решения уравнений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Corbel"/>
              </a:rPr>
              <a:t>Развивающие цели: </a:t>
            </a:r>
            <a:r>
              <a:rPr b="1" lang="ru-RU" sz="2700" spc="-1" strike="noStrike">
                <a:solidFill>
                  <a:srgbClr val="000000"/>
                </a:solidFill>
                <a:latin typeface="Corbel"/>
              </a:rPr>
              <a:t>  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способствование развитию интереса к математике, активации мыслительной деятельности,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развитие творческого мышления, математической речи учащихся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Corbel"/>
              </a:rPr>
              <a:t>Воспитательные цели: 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создание условия для воспитания навыков самостоятельной деятельности учащихся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воспитание эстетические качества, умение общаться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0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AutoShape 4"/>
          <p:cNvSpPr/>
          <p:nvPr/>
        </p:nvSpPr>
        <p:spPr>
          <a:xfrm>
            <a:off x="611280" y="476280"/>
            <a:ext cx="8532720" cy="612144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660066"/>
              </a:gs>
              <a:gs pos="100000">
                <a:srgbClr val="d6bbd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Georgia"/>
              </a:rPr>
              <a:t>Кощей Бессмертный родился 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Georgia"/>
              </a:rPr>
              <a:t>1123 году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Georgia"/>
              </a:rPr>
              <a:t>А паспорт получил тольк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Georgia"/>
              </a:rPr>
              <a:t>в 2007 году. Скольк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Georgia"/>
              </a:rPr>
              <a:t>лет прожил Кощей Бессмертны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Georgia"/>
              </a:rPr>
              <a:t>без паспорт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cc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7407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572314"/>
                </a:solidFill>
                <a:latin typeface="Corbel"/>
              </a:rPr>
              <a:t>Взаимопроверка</a:t>
            </a:r>
            <a:endParaRPr b="0" lang="en-US" sz="6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4365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320e04"/>
                </a:solidFill>
                <a:uFillTx/>
                <a:latin typeface="Corbel"/>
              </a:rPr>
              <a:t>1 задача: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20e04"/>
                </a:solidFill>
                <a:latin typeface="Corbel"/>
              </a:rPr>
              <a:t>Ответ: 98 лет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20e04"/>
                </a:solidFill>
                <a:latin typeface="Corbel"/>
              </a:rPr>
              <a:t> </a:t>
            </a:r>
            <a:r>
              <a:rPr b="1" lang="ru-RU" sz="6000" spc="-1" strike="noStrike" u="sng">
                <a:solidFill>
                  <a:srgbClr val="320e04"/>
                </a:solidFill>
                <a:uFillTx/>
                <a:latin typeface="Corbel"/>
              </a:rPr>
              <a:t>2</a:t>
            </a:r>
            <a:r>
              <a:rPr b="0" lang="ru-RU" sz="6000" spc="-1" strike="noStrike" u="sng">
                <a:solidFill>
                  <a:srgbClr val="320e04"/>
                </a:solidFill>
                <a:uFillTx/>
                <a:latin typeface="Corbel"/>
              </a:rPr>
              <a:t> задача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20e04"/>
                </a:solidFill>
                <a:latin typeface="Corbel"/>
              </a:rPr>
              <a:t>Ответ: 870 лет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66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4" descr="934547-003"/>
          <p:cNvPicPr/>
          <p:nvPr/>
        </p:nvPicPr>
        <p:blipFill>
          <a:blip r:embed="rId1"/>
          <a:stretch/>
        </p:blipFill>
        <p:spPr>
          <a:xfrm>
            <a:off x="430200" y="260280"/>
            <a:ext cx="8713800" cy="6408720"/>
          </a:xfrm>
          <a:prstGeom prst="rect">
            <a:avLst/>
          </a:prstGeom>
          <a:ln w="0">
            <a:noFill/>
          </a:ln>
        </p:spPr>
      </p:pic>
      <p:sp>
        <p:nvSpPr>
          <p:cNvPr id="540" name="Text Box 5"/>
          <p:cNvSpPr/>
          <p:nvPr/>
        </p:nvSpPr>
        <p:spPr>
          <a:xfrm>
            <a:off x="428760" y="692280"/>
            <a:ext cx="871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Georgia"/>
              </a:rPr>
              <a:t>Вот и сказки конец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Georgia"/>
              </a:rPr>
              <a:t> </a:t>
            </a:r>
            <a:r>
              <a:rPr b="1" lang="ru-RU" sz="3600" spc="-1" strike="noStrike">
                <a:solidFill>
                  <a:srgbClr val="cc3300"/>
                </a:solidFill>
                <a:latin typeface="Georgia"/>
              </a:rPr>
              <a:t>а кто слушал молодец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3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style1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AutoShape 3"/>
          <p:cNvSpPr/>
          <p:nvPr/>
        </p:nvSpPr>
        <p:spPr>
          <a:xfrm>
            <a:off x="324000" y="2205000"/>
            <a:ext cx="4032000" cy="1440000"/>
          </a:xfrm>
          <a:prstGeom prst="rightArrow">
            <a:avLst>
              <a:gd name="adj1" fmla="val 50000"/>
              <a:gd name="adj2" fmla="val 70000"/>
            </a:avLst>
          </a:prstGeom>
          <a:solidFill>
            <a:srgbClr val="ff9900"/>
          </a:solidFill>
          <a:ln w="284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3,4-9х=1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4"/>
          <p:cNvSpPr/>
          <p:nvPr/>
        </p:nvSpPr>
        <p:spPr>
          <a:xfrm>
            <a:off x="755640" y="3789360"/>
            <a:ext cx="4105440" cy="1512720"/>
          </a:xfrm>
          <a:prstGeom prst="rightArrow">
            <a:avLst>
              <a:gd name="adj1" fmla="val 50000"/>
              <a:gd name="adj2" fmla="val 67849"/>
            </a:avLst>
          </a:prstGeom>
          <a:solidFill>
            <a:srgbClr val="ff9900"/>
          </a:solidFill>
          <a:ln w="38160">
            <a:solidFill>
              <a:srgbClr val="da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a0808"/>
                </a:solidFill>
                <a:latin typeface="Arial"/>
              </a:rPr>
              <a:t>2/3х+7/3=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5"/>
          <p:cNvSpPr/>
          <p:nvPr/>
        </p:nvSpPr>
        <p:spPr>
          <a:xfrm>
            <a:off x="468360" y="5229360"/>
            <a:ext cx="3743280" cy="1441440"/>
          </a:xfrm>
          <a:prstGeom prst="rightArrow">
            <a:avLst>
              <a:gd name="adj1" fmla="val 50000"/>
              <a:gd name="adj2" fmla="val 64923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b80a"/>
                </a:solidFill>
                <a:latin typeface="Arial"/>
              </a:rPr>
              <a:t>2х+х+0,6=4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6"/>
          <p:cNvSpPr/>
          <p:nvPr/>
        </p:nvSpPr>
        <p:spPr>
          <a:xfrm>
            <a:off x="7236000" y="549360"/>
            <a:ext cx="1295280" cy="1008000"/>
          </a:xfrm>
          <a:prstGeom prst="pie">
            <a:avLst/>
          </a:prstGeom>
          <a:solidFill>
            <a:srgbClr val="ff0000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7"/>
          <p:cNvSpPr/>
          <p:nvPr/>
        </p:nvSpPr>
        <p:spPr>
          <a:xfrm>
            <a:off x="6516720" y="2708280"/>
            <a:ext cx="1368360" cy="1152360"/>
          </a:xfrm>
          <a:prstGeom prst="pie">
            <a:avLst/>
          </a:prstGeom>
          <a:solidFill>
            <a:srgbClr val="ff0000"/>
          </a:solidFill>
          <a:ln w="57240">
            <a:solidFill>
              <a:srgbClr val="da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8"/>
          <p:cNvSpPr/>
          <p:nvPr/>
        </p:nvSpPr>
        <p:spPr>
          <a:xfrm>
            <a:off x="7236000" y="5445000"/>
            <a:ext cx="1295280" cy="1225800"/>
          </a:xfrm>
          <a:prstGeom prst="pie">
            <a:avLst/>
          </a:prstGeom>
          <a:solidFill>
            <a:srgbClr val="ff0000"/>
          </a:solidFill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9" descr=""/>
          <p:cNvPicPr/>
          <p:nvPr/>
        </p:nvPicPr>
        <p:blipFill>
          <a:blip r:embed="rId2"/>
          <a:stretch/>
        </p:blipFill>
        <p:spPr>
          <a:xfrm>
            <a:off x="0" y="189000"/>
            <a:ext cx="2916360" cy="1727280"/>
          </a:xfrm>
          <a:prstGeom prst="rect">
            <a:avLst/>
          </a:prstGeom>
          <a:ln w="0">
            <a:noFill/>
          </a:ln>
        </p:spPr>
      </p:pic>
      <p:sp>
        <p:nvSpPr>
          <p:cNvPr id="428" name="Text Box 10"/>
          <p:cNvSpPr/>
          <p:nvPr/>
        </p:nvSpPr>
        <p:spPr>
          <a:xfrm>
            <a:off x="950760" y="294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7 -0.05333 C 0.081 -0.06533 0.102 -0.072 0.124 -0.072 C 0.149 -0.072 0.169 -0.06533 0.183 -0.05333 L 0.25 0 E">
                                      <p:cBhvr>
                                        <p:cTn id="30" dur="200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7.55957E-006 C 0.00139 -0.01272 0.00244 -0.01411 0.00834 -0.02405 C 0.01181 -0.03747 0.0191 -0.04556 0.02396 -0.05782 C 0.03108 -0.0761 0.03941 -0.09622 0.05053 -0.1108 C 0.054 -0.11542 0.05869 -0.11797 0.0625 -0.1219 C 0.07553 -0.13555 0.0875 -0.14596 0.10348 -0.15244 C 0.10799 -0.15429 0.11216 -0.15799 0.11685 -0.15891 C 0.12362 -0.16007 0.13056 -0.16007 0.13733 -0.16053 C 0.14619 -0.16446 0.1566 -0.16955 0.1625 -0.17973 C 0.16424 -0.18274 0.1658 -0.18621 0.16737 -0.18945 C 0.16823 -0.19107 0.1698 -0.19407 0.1698 -0.19407 C 0.17188 -0.20263 0.17379 -0.21165 0.17952 -0.21674 C 0.18369 -0.22484 0.18525 -0.22854 0.19271 -0.23108 C 0.21094 -0.22761 0.22952 -0.22229 0.24688 -0.2135 C 0.25886 -0.20749 0.26962 -0.19731 0.28195 -0.19268 C 0.28941 -0.18575 0.29827 -0.18459 0.30712 -0.18297 C 0.32396 -0.18343 0.34098 -0.18366 0.35782 -0.18459 C 0.36632 -0.18505 0.37691 -0.19153 0.38542 -0.19407 C 0.38941 -0.19754 0.38768 -0.19731 0.39028 -0.19731 E">
                                      <p:cBhvr>
                                        <p:cTn id="35" dur="2000" fill="hold"/>
                                        <p:tgtEl>
                                          <p:spTgt spid="4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-6.66667E-006 C 0.00537 -0.02177 -0.00348 0.01018 0.00694 -0.01367 C 0.00815 -0.01644 0.0078 -0.01992 0.00867 -0.02292 C 0.01162 -0.03265 0.01631 -0.04399 0.02065 -0.05279 C 0.02482 -0.07501 0.01892 -0.04839 0.0276 -0.0713 C 0.03298 -0.08542 0.0243 -0.07686 0.0328 -0.09422 C 0.03506 -0.09885 0.03819 -0.10279 0.03958 -0.10811 C 0.04374 -0.12431 0.0401 -0.11899 0.04826 -0.1264 C 0.05867 -0.12292 0.07083 -0.10788 0.07933 -0.09885 C 0.08263 -0.09538 0.08662 -0.09353 0.08958 -0.08959 C 0.09131 -0.08728 0.0927 -0.08427 0.09478 -0.08265 C 0.09791 -0.08033 0.1052 -0.07802 0.1052 -0.07802 C 0.13506 -0.07987 0.13767 -0.07941 0.15867 -0.08496 C 0.16423 -0.09005 0.16996 -0.0926 0.17586 -0.09654 C 0.17916 -0.09885 0.18524 -0.10556 0.18784 -0.10811 C 0.19166 -0.11158 0.19617 -0.11343 0.19999 -0.11714 C 0.20451 -0.1213 0.21215 -0.12964 0.21544 -0.13566 C 0.21701 -0.13843 0.21735 -0.14191 0.21892 -0.14468 C 0.23246 -0.16968 0.246 -0.18172 0.24999 -0.21367 C 0.25694 -0.21297 0.26388 -0.21367 0.27065 -0.21135 C 0.27534 -0.20973 0.28958 -0.20001 0.29478 -0.19538 C 0.30694 -0.197 0.31371 -0.19144 0.31371 -0.20695 E">
                                      <p:cBhvr>
                                        <p:cTn id="47" dur="2000" fill="hold"/>
                                        <p:tgtEl>
                                          <p:spTgt spid="4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000"/>
                            </p:stCondLst>
                            <p:childTnLst>
                              <p:par>
                                <p:cTn id="5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8000"/>
                            </p:stCondLst>
                            <p:childTnLst>
                              <p:par>
                                <p:cTn id="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61 0.00347 C 0.04392 0.00555 0.06024 0.00948 0.07882 0.01966 C 0.10798 0.01758 0.10711 0.01943 0.12708 0.00578 C 0.13177 -0.00232 0.13541 -0.00995 0.14097 -0.01712 C 0.1434 -0.0236 0.14704 -0.02915 0.14948 -0.03563 C 0.15573 -0.05251 0.15069 -0.04442 0.15468 -0.05853 C 0.15937 -0.07518 0.16458 -0.09438 0.17204 -0.10919 C 0.17257 -0.1115 0.17257 -0.11404 0.17361 -0.1159 C 0.18177 -0.13232 0.19236 -0.11104 0.20121 -0.10687 C 0.20573 -0.09785 0.21267 -0.08952 0.22031 -0.08605 C 0.23003 -0.07657 0.23993 -0.06778 0.24948 -0.05853 C 0.25659 -0.05159 0.25781 -0.04766 0.26684 -0.04488 C 0.28107 -0.03216 0.27309 -0.03701 0.29097 -0.031 C 0.3026 -0.0155 0.325 -0.01249 0.34097 -0.01041 C 0.35017 -0.00625 0.35382 -0.0037 0.36684 -0.01041 C 0.37135 -0.01273 0.37361 -0.01943 0.37708 -0.02406 C 0.38107 -0.02938 0.39253 -0.03609 0.39791 -0.03794 C 0.40954 -0.04812 0.41093 -0.04881 0.42534 -0.05159 C 0.42743 -0.05992 0.42708 -0.05598 0.42708 -0.06315 E">
                                      <p:cBhvr>
                                        <p:cTn id="57" dur="2000" fill="hold"/>
                                        <p:tgtEl>
                                          <p:spTgt spid="4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800" spc="-1" strike="noStrike">
              <a:solidFill>
                <a:srgbClr val="3399ff"/>
              </a:solidFill>
              <a:latin typeface="Georgia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213840" y="1523880"/>
            <a:ext cx="4714920" cy="51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642920" y="1457280"/>
            <a:ext cx="40388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WordArt 5"/>
          <p:cNvSpPr txBox="1"/>
          <p:nvPr/>
        </p:nvSpPr>
        <p:spPr>
          <a:xfrm>
            <a:off x="684360" y="1628640"/>
            <a:ext cx="3024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3,4 – 9х = 1,6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33" name="WordArt 6"/>
          <p:cNvSpPr txBox="1"/>
          <p:nvPr/>
        </p:nvSpPr>
        <p:spPr>
          <a:xfrm>
            <a:off x="755640" y="3357720"/>
            <a:ext cx="295272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2/3х+7/3=18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2х+х+0,6=4,2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434" name="WordArt 9" descr=""/>
          <p:cNvPicPr/>
          <p:nvPr/>
        </p:nvPicPr>
        <p:blipFill>
          <a:blip r:embed="rId1"/>
          <a:stretch/>
        </p:blipFill>
        <p:spPr>
          <a:xfrm>
            <a:off x="201600" y="-6480"/>
            <a:ext cx="8661240" cy="1206720"/>
          </a:xfrm>
          <a:prstGeom prst="rect">
            <a:avLst/>
          </a:prstGeom>
          <a:ln w="0">
            <a:noFill/>
          </a:ln>
        </p:spPr>
      </p:pic>
      <p:sp>
        <p:nvSpPr>
          <p:cNvPr id="435" name="WordArt 10"/>
          <p:cNvSpPr txBox="1"/>
          <p:nvPr/>
        </p:nvSpPr>
        <p:spPr>
          <a:xfrm>
            <a:off x="4932360" y="1413000"/>
            <a:ext cx="3456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9х = 3,4 – 1,6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9х = 1,8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Х = 0,2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36" name="WordArt 11"/>
          <p:cNvSpPr txBox="1"/>
          <p:nvPr/>
        </p:nvSpPr>
        <p:spPr>
          <a:xfrm>
            <a:off x="5003640" y="3141720"/>
            <a:ext cx="34560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2/3х=18-7/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2/3х=47/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Х=23,5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37" name="WordArt 12"/>
          <p:cNvSpPr txBox="1"/>
          <p:nvPr/>
        </p:nvSpPr>
        <p:spPr>
          <a:xfrm>
            <a:off x="5003640" y="5300640"/>
            <a:ext cx="3313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3х=4,2-0,6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3х=3,6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Х=1,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8000"/>
              </a:solidFill>
              <a:latin typeface="Corbel"/>
            </a:endParaRPr>
          </a:p>
        </p:txBody>
      </p:sp>
      <p:pic>
        <p:nvPicPr>
          <p:cNvPr id="439" name="Picture 5" descr="551093"/>
          <p:cNvPicPr/>
          <p:nvPr/>
        </p:nvPicPr>
        <p:blipFill>
          <a:blip r:embed="rId1"/>
          <a:stretch/>
        </p:blipFill>
        <p:spPr>
          <a:xfrm>
            <a:off x="539640" y="1413000"/>
            <a:ext cx="8136000" cy="5317920"/>
          </a:xfrm>
          <a:prstGeom prst="rect">
            <a:avLst/>
          </a:prstGeom>
          <a:ln w="0">
            <a:noFill/>
          </a:ln>
        </p:spPr>
      </p:pic>
      <p:sp>
        <p:nvSpPr>
          <p:cNvPr id="440" name="WordArt 6"/>
          <p:cNvSpPr txBox="1"/>
          <p:nvPr/>
        </p:nvSpPr>
        <p:spPr>
          <a:xfrm>
            <a:off x="250920" y="115920"/>
            <a:ext cx="80485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пала стрела царевича на царский двор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1" name="AutoShape 7"/>
          <p:cNvSpPr/>
          <p:nvPr/>
        </p:nvSpPr>
        <p:spPr>
          <a:xfrm>
            <a:off x="7451640" y="1413000"/>
            <a:ext cx="1152720" cy="863640"/>
          </a:xfrm>
          <a:prstGeom prst="pi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cc"/>
                </a:solidFill>
                <a:latin typeface="Arial"/>
              </a:rPr>
              <a:t>0,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9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9.25977E-006 C -0.05278 -0.003 -0.10538 -0.00601 -0.10104 0.03933 C -0.0967 0.08467 0.05504 0.22392 0.02587 0.27273 C -0.0033 0.32154 -0.22691 0.288 -0.27656 0.33241 C -0.32587 0.37683 -0.2434 0.48231 -0.27049 0.53921 C -0.29757 0.59612 -0.36615 0.75319 -0.43871 0.67407 C -0.51128 0.59496 -0.71667 0.08675 -0.70573 0.06431 C -0.69479 0.04187 -0.42812 0.45918 -0.37292 0.53921 E">
                                      <p:cBhvr>
                                        <p:cTn id="78" dur="50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4" descr="803097"/>
          <p:cNvPicPr/>
          <p:nvPr/>
        </p:nvPicPr>
        <p:blipFill>
          <a:blip r:embed="rId1"/>
          <a:stretch/>
        </p:blipFill>
        <p:spPr>
          <a:xfrm>
            <a:off x="285840" y="1071720"/>
            <a:ext cx="8499240" cy="5429160"/>
          </a:xfrm>
          <a:prstGeom prst="rect">
            <a:avLst/>
          </a:prstGeom>
          <a:ln w="0">
            <a:noFill/>
          </a:ln>
        </p:spPr>
      </p:pic>
      <p:sp>
        <p:nvSpPr>
          <p:cNvPr id="443" name="WordArt 5"/>
          <p:cNvSpPr txBox="1"/>
          <p:nvPr/>
        </p:nvSpPr>
        <p:spPr>
          <a:xfrm>
            <a:off x="0" y="0"/>
            <a:ext cx="91440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5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рела второго царевича улетела на купеческий двор 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4" name="AutoShape 6"/>
          <p:cNvSpPr/>
          <p:nvPr/>
        </p:nvSpPr>
        <p:spPr>
          <a:xfrm>
            <a:off x="250920" y="1844640"/>
            <a:ext cx="1296720" cy="1008000"/>
          </a:xfrm>
          <a:prstGeom prst="pi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cc"/>
                </a:solidFill>
                <a:latin typeface="Georgia"/>
              </a:rPr>
              <a:t>1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5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826 -1.11111E-006 C 0.00695 -0.15671 0.1125 -0.3125 0.13108 -0.27731 C 0.14983 -0.24213 -0.01857 0.07315 0.01372 0.21158 C 0.04601 0.35 0.21546 0.51736 0.32518 0.55301 C 0.43507 0.58889 0.60521 0.49722 0.67205 0.42477 C 0.73907 0.35278 0.81059 0.18773 0.72743 0.12083 C 0.64427 0.05347 0.29549 -0.0463 0.17344 0.02176 C 0.05139 0.09005 0.02414 0.44421 -0.00468 0.52963 C -0.0335 0.61551 -0.01632 0.5757 0.0007 0.53588 E">
                                      <p:cBhvr>
                                        <p:cTn id="91" dur="5000" fill="hold"/>
                                        <p:tgtEl>
                                          <p:spTgt spid="4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2"/>
          <p:cNvSpPr/>
          <p:nvPr/>
        </p:nvSpPr>
        <p:spPr>
          <a:xfrm>
            <a:off x="6012000" y="2708280"/>
            <a:ext cx="1150920" cy="36036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3" descr="808049"/>
          <p:cNvPicPr/>
          <p:nvPr/>
        </p:nvPicPr>
        <p:blipFill>
          <a:blip r:embed="rId1"/>
          <a:stretch/>
        </p:blipFill>
        <p:spPr>
          <a:xfrm>
            <a:off x="1214280" y="1643040"/>
            <a:ext cx="7315200" cy="4876920"/>
          </a:xfrm>
          <a:prstGeom prst="rect">
            <a:avLst/>
          </a:prstGeom>
          <a:ln w="0">
            <a:noFill/>
          </a:ln>
        </p:spPr>
      </p:pic>
      <p:sp>
        <p:nvSpPr>
          <p:cNvPr id="447" name="Text Box 4"/>
          <p:cNvSpPr/>
          <p:nvPr/>
        </p:nvSpPr>
        <p:spPr>
          <a:xfrm>
            <a:off x="4335480" y="1289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5"/>
          <p:cNvSpPr/>
          <p:nvPr/>
        </p:nvSpPr>
        <p:spPr>
          <a:xfrm>
            <a:off x="4067280" y="1916280"/>
            <a:ext cx="1081080" cy="2376360"/>
          </a:xfrm>
          <a:prstGeom prst="upArrow">
            <a:avLst>
              <a:gd name="adj1" fmla="val 65935"/>
              <a:gd name="adj2" fmla="val 52857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6"/>
          <p:cNvSpPr/>
          <p:nvPr/>
        </p:nvSpPr>
        <p:spPr>
          <a:xfrm>
            <a:off x="5292720" y="3500280"/>
            <a:ext cx="1943280" cy="1297080"/>
          </a:xfrm>
          <a:prstGeom prst="rightArrow">
            <a:avLst>
              <a:gd name="adj1" fmla="val 50000"/>
              <a:gd name="adj2" fmla="val 37455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7"/>
          <p:cNvSpPr/>
          <p:nvPr/>
        </p:nvSpPr>
        <p:spPr>
          <a:xfrm>
            <a:off x="1403280" y="4292640"/>
            <a:ext cx="2303640" cy="1008000"/>
          </a:xfrm>
          <a:prstGeom prst="leftArrow">
            <a:avLst>
              <a:gd name="adj1" fmla="val 50000"/>
              <a:gd name="adj2" fmla="val 57134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1"/>
          <p:cNvSpPr/>
          <p:nvPr/>
        </p:nvSpPr>
        <p:spPr>
          <a:xfrm>
            <a:off x="4214880" y="214308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Прямоугольник 10" descr=""/>
          <p:cNvPicPr/>
          <p:nvPr/>
        </p:nvPicPr>
        <p:blipFill>
          <a:blip r:embed="rId2"/>
          <a:stretch/>
        </p:blipFill>
        <p:spPr>
          <a:xfrm>
            <a:off x="420840" y="0"/>
            <a:ext cx="8369280" cy="12002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grpSp>
        <p:nvGrpSpPr>
          <p:cNvPr id="454" name="Diagram 5"/>
          <p:cNvGrpSpPr/>
          <p:nvPr/>
        </p:nvGrpSpPr>
        <p:grpSpPr>
          <a:xfrm>
            <a:off x="2676600" y="1679760"/>
            <a:ext cx="3878280" cy="4309920"/>
            <a:chOff x="2676600" y="1679760"/>
            <a:chExt cx="3878280" cy="4309920"/>
          </a:xfrm>
        </p:grpSpPr>
        <p:sp>
          <p:nvSpPr>
            <p:cNvPr id="455" name="_s1028"/>
            <p:cNvSpPr/>
            <p:nvPr/>
          </p:nvSpPr>
          <p:spPr>
            <a:xfrm flipH="1" flipV="1">
              <a:off x="3679560" y="3295800"/>
              <a:ext cx="469800" cy="27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_s1029"/>
            <p:cNvSpPr/>
            <p:nvPr/>
          </p:nvSpPr>
          <p:spPr>
            <a:xfrm>
              <a:off x="2676600" y="2489400"/>
              <a:ext cx="1077840" cy="107784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3,6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_s1030"/>
            <p:cNvSpPr/>
            <p:nvPr/>
          </p:nvSpPr>
          <p:spPr>
            <a:xfrm flipH="1">
              <a:off x="3681000" y="4104000"/>
              <a:ext cx="469800" cy="27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_s1031"/>
            <p:cNvSpPr/>
            <p:nvPr/>
          </p:nvSpPr>
          <p:spPr>
            <a:xfrm>
              <a:off x="2678040" y="4105440"/>
              <a:ext cx="1077840" cy="107784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17/3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_s1032"/>
            <p:cNvSpPr/>
            <p:nvPr/>
          </p:nvSpPr>
          <p:spPr>
            <a:xfrm>
              <a:off x="4616280" y="4370400"/>
              <a:ext cx="0" cy="54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_s1033"/>
            <p:cNvSpPr/>
            <p:nvPr/>
          </p:nvSpPr>
          <p:spPr>
            <a:xfrm>
              <a:off x="4078440" y="4911840"/>
              <a:ext cx="1077840" cy="107784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5/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_s1034"/>
            <p:cNvSpPr/>
            <p:nvPr/>
          </p:nvSpPr>
          <p:spPr>
            <a:xfrm>
              <a:off x="5079960" y="4102200"/>
              <a:ext cx="469800" cy="27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_s1035"/>
            <p:cNvSpPr/>
            <p:nvPr/>
          </p:nvSpPr>
          <p:spPr>
            <a:xfrm>
              <a:off x="5476680" y="4104000"/>
              <a:ext cx="1078200" cy="107784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Arial"/>
                </a:rPr>
                <a:t>1/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_s1036"/>
            <p:cNvSpPr/>
            <p:nvPr/>
          </p:nvSpPr>
          <p:spPr>
            <a:xfrm flipV="1">
              <a:off x="5079960" y="3294360"/>
              <a:ext cx="468360" cy="27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_s1037"/>
            <p:cNvSpPr/>
            <p:nvPr/>
          </p:nvSpPr>
          <p:spPr>
            <a:xfrm>
              <a:off x="5476680" y="2487600"/>
              <a:ext cx="1078200" cy="107820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15/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_s1038"/>
            <p:cNvSpPr/>
            <p:nvPr/>
          </p:nvSpPr>
          <p:spPr>
            <a:xfrm flipV="1">
              <a:off x="4614840" y="2755800"/>
              <a:ext cx="0" cy="54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_s1039"/>
            <p:cNvSpPr/>
            <p:nvPr/>
          </p:nvSpPr>
          <p:spPr>
            <a:xfrm>
              <a:off x="4076640" y="1679760"/>
              <a:ext cx="1077840" cy="107784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0,0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_s1040"/>
            <p:cNvSpPr/>
            <p:nvPr/>
          </p:nvSpPr>
          <p:spPr>
            <a:xfrm>
              <a:off x="4076640" y="3297240"/>
              <a:ext cx="1077840" cy="107820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0,25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WordArt 23"/>
          <p:cNvSpPr txBox="1"/>
          <p:nvPr/>
        </p:nvSpPr>
        <p:spPr>
          <a:xfrm>
            <a:off x="684360" y="404640"/>
            <a:ext cx="66960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ополнить число до 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69" name="TextBox 6"/>
          <p:cNvSpPr/>
          <p:nvPr/>
        </p:nvSpPr>
        <p:spPr>
          <a:xfrm>
            <a:off x="4143240" y="3643200"/>
            <a:ext cx="8575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9"/>
          <p:cNvSpPr/>
          <p:nvPr/>
        </p:nvSpPr>
        <p:spPr>
          <a:xfrm>
            <a:off x="4143240" y="3714840"/>
            <a:ext cx="857520" cy="520560"/>
          </a:xfrm>
          <a:prstGeom prst="rect">
            <a:avLst/>
          </a:prstGeom>
          <a:solidFill>
            <a:srgbClr val="c58d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11"/>
          <p:cNvSpPr/>
          <p:nvPr/>
        </p:nvSpPr>
        <p:spPr>
          <a:xfrm>
            <a:off x="2786040" y="2857680"/>
            <a:ext cx="785880" cy="459720"/>
          </a:xfrm>
          <a:prstGeom prst="rect">
            <a:avLst/>
          </a:prstGeom>
          <a:solidFill>
            <a:srgbClr val="c58d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0,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434960" y="1523880"/>
            <a:ext cx="365760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Georgia"/>
              </a:rPr>
              <a:t>⅛ </a:t>
            </a:r>
            <a:r>
              <a:rPr b="1" lang="ru-RU" sz="3200" spc="-1" strike="noStrike">
                <a:solidFill>
                  <a:srgbClr val="800000"/>
                </a:solidFill>
                <a:latin typeface="Georgia"/>
              </a:rPr>
              <a:t>+ ⅜ + ⅝ + ⅞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Georgia"/>
              </a:rPr>
              <a:t>¼</a:t>
            </a:r>
            <a:r>
              <a:rPr b="1" lang="ru-RU" sz="3200" spc="-1" strike="noStrike">
                <a:solidFill>
                  <a:srgbClr val="800000"/>
                </a:solidFill>
                <a:latin typeface="Georgia"/>
              </a:rPr>
              <a:t> + </a:t>
            </a:r>
            <a:r>
              <a:rPr b="1" lang="en-US" sz="3200" spc="-1" strike="noStrike">
                <a:solidFill>
                  <a:srgbClr val="800000"/>
                </a:solidFill>
                <a:latin typeface="Georgia"/>
              </a:rPr>
              <a:t>½</a:t>
            </a:r>
            <a:r>
              <a:rPr b="1" lang="ru-RU" sz="3200" spc="-1" strike="noStrike">
                <a:solidFill>
                  <a:srgbClr val="800000"/>
                </a:solidFill>
                <a:latin typeface="Georgia"/>
              </a:rPr>
              <a:t> + </a:t>
            </a:r>
            <a:r>
              <a:rPr b="1" lang="en-US" sz="3200" spc="-1" strike="noStrike">
                <a:solidFill>
                  <a:srgbClr val="800000"/>
                </a:solidFill>
                <a:latin typeface="Georgia"/>
              </a:rPr>
              <a:t>¾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Georgia"/>
              </a:rPr>
              <a:t>8/19 – 7/19 – 1/19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Georgia"/>
              </a:rPr>
              <a:t>Найдите сумму ответов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5508360" y="1599840"/>
            <a:ext cx="33843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Georgi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Georgia"/>
              </a:rPr>
              <a:t>1,5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Georgi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8dc765"/>
                </a:solidFill>
                <a:uFillTx/>
                <a:latin typeface="Georgia"/>
                <a:hlinkClick r:id="rId1" action="ppaction://hlinksldjump"/>
              </a:rPr>
              <a:t>3,5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WordArt 4"/>
          <p:cNvSpPr txBox="1"/>
          <p:nvPr/>
        </p:nvSpPr>
        <p:spPr>
          <a:xfrm rot="789000">
            <a:off x="1258920" y="404640"/>
            <a:ext cx="6553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7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3774000"/>
                </a:gradFill>
                <a:latin typeface="Georgia"/>
              </a:rPr>
              <a:t>Вычислял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3774000"/>
              </a:gradFill>
              <a:latin typeface="Georgia"/>
              <a:ea typeface="Georgia"/>
            </a:endParaRPr>
          </a:p>
        </p:txBody>
      </p:sp>
    </p:spTree>
  </p:cSld>
  <p:transition spd="slow">
    <p:circl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4T17:44:00Z</dcterms:created>
  <dc:creator>Лена</dc:creator>
  <dc:description/>
  <dc:language>en-US</dc:language>
  <cp:lastModifiedBy>Admin</cp:lastModifiedBy>
  <dcterms:modified xsi:type="dcterms:W3CDTF">2005-01-01T00:21:36Z</dcterms:modified>
  <cp:revision>6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240000000000010243100207f6000400038000</vt:lpwstr>
  </property>
</Properties>
</file>