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74EA-748B-473D-9A66-440B826C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4718-AAE7-4546-B014-2A182167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BA05F-0D34-4673-B3A4-D8D00B5E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115C8-3D7A-4D34-BE33-75D95BDE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74517-EC4C-4F84-B4AD-AF8CF8FE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E677F-C240-4182-980E-98471635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D2EF6-C952-466C-8FBE-8E73FBE5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0DC00-CCFC-44DB-A291-C78AC9AF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FF965-FD22-429E-845B-DBDEBDBA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43781-9663-4936-9205-16159861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CBC1C-B729-4254-8296-BEF68A77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743-1732-4460-AE47-E0D319A7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B76C-5BD3-432F-8C43-E798C52F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41F8-47D0-4D27-9439-4804F01A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9AAF-D59A-45DD-A9C6-79D80315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98D0-6796-4C00-AD1E-9FC78696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5DE8-F4D4-4E59-8C10-ABEE9DE9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F283-5227-4A9B-8BB4-8E758FCF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BE6D-9692-4538-A200-A9AFAAD2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B76D-B552-45EB-B8CA-FA825263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A224-C0B5-49DC-B8AE-0FC183FE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44C2-87A9-4600-8226-B78E8E7D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4D83-C24D-4587-B07A-EB256D28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EDD2-1B8D-4E39-8DCB-64A48253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89DC-B7FC-4DC0-9D93-E32C8B8D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4E21-5AB2-4703-8983-1C8BDFE6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76DD9-2AB4-492F-9ED4-50187D50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EAD29-5F2C-488E-AEBA-A622CDB1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8501D-1642-40D0-8B75-FA6E0B7D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11D06-EF1D-4C87-AA26-B465D2D1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87B2C-81C6-4013-BADE-E4E8D66D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0CDA-44AA-444A-BF09-282A7495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3B18B-BAEB-42D5-9BAC-82FFE06C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53267-B3AD-4949-9417-A89F3912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B6F76-2D7F-4B2B-BE03-67A00041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84A3B-36AA-4F7E-A54B-947FE3FC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2BB38-68D7-4646-9A8F-F06D5F64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8CE51-C0CF-4E76-B73D-AB48242F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E6656-0D59-4416-914D-89084A52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FC5C7-A188-4C8F-90E3-97BA4B39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79563-51A8-46DE-A9BB-511C9192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9FF11-4C89-4DBA-9BBF-A840B097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BD1-1411-439F-8B54-A1C5CE0F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4B94E-A092-453C-96EA-0477CF8D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00231-6537-4B5D-AD39-5D42BCC1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E6D61-FC3C-4A46-AD81-92AA8120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0AE7A-C030-43F8-8238-EAB31C2A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60C48-D44B-46E3-968F-67D9D884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FA91A-0133-445C-8A20-CCF17AEE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3CFF5-AC9E-465D-BA62-65B5704D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1A92F-A7AF-44B7-86DF-AC06A8C2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2DC64-2EAD-4D37-AF6A-1D3262EF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E87DC-06FE-4804-8E94-491E3A99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B0D8-8BEB-49D7-98C3-E55CFA3C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2CD9B-0357-45CB-836E-36F8477B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ECE86-56BB-470F-8903-9C5BAD54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B4048-0F8F-4FBE-83E5-7F79441D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DCB1A-042D-4172-B5A9-AF4EF70F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CD0EF-F6A2-4BDA-AD80-0E6B3110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78915-BF2A-486F-ABB9-3D483D6B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E9FDC-A5D2-4E23-857C-799F8F59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0ED55-ACAC-4C22-9F47-CE13C4D2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00BD8-58B5-419F-B115-E3F39C69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E8D85-6546-4F74-AA2F-8BE5A380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177C-80EF-4924-BADF-E3987C3E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4935D-FD02-4ACC-988E-E8DE5771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8854C-24EF-4096-9E48-A6A34246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CD77D-9AC6-448F-8615-39D33109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7713E-6EA6-43F3-8788-F7D94E29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DE6D7-1A17-404E-ACB5-E401A9F7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F14F2-9134-4DAE-B505-C1BCD932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7CCD7-49F1-463D-A9C5-5B25796A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B9B99-8EB5-4DDF-8333-7D1F8A49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A0FBD-4F5B-47F9-8BB3-8838D813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10F92-3CD8-4410-B777-C21FB132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2BD-EC9B-4E4B-B45C-67A2C9B1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F7E05-4C48-4506-9940-25C87F59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6CD4C-939F-44D6-873D-598008EE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B6986-E792-4492-809A-25DF12F4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1C451-6FB8-4116-BA36-3A232D9B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DAD85-0D99-4BA6-8A21-992CC9A0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2AD2D-BBCA-4097-B9C7-E3F2C4DD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20985-6D52-4FE2-AC92-F5E2CB37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95E61-7A8B-44F3-9429-BE48F7E0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35850-5328-4438-93A4-FB754EB2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A874A-6648-4F02-B65E-F86D08E5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7C3-59F1-44A1-A313-C55E033D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CBEE8-8B2C-40BF-8B4D-49AF71C6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0DE9B-8F8F-4C57-96B6-F2A482F8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059FE-D00D-4C8D-9EBA-0ADCF809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CBA39-F27C-4B57-A609-34FED442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84F19-470E-4FDF-B52A-795CEB34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52D7D-FD98-4CD2-A8F3-DCAAA6EF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856F3-5BC9-4246-BDA9-4F183D12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17E56-BE1B-444D-9960-BDE45B2F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FFAEC-5779-4480-89B6-BAF9A2DB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08861-8456-45A0-B327-9C1CC00A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23AD-D643-4ACC-B4CD-CFAC91A0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C1243-48B6-4466-9432-97900C53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3B007-2CC5-439D-ABBC-8A0D68E8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52C52-C50C-41FF-BB15-362F9015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36BC7-E7F3-433D-9A42-2C0B6A03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1EA80-0A29-46DD-939C-E129DCE1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2736A-F608-4277-B1CA-0101F42D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BF86E-F580-48F6-BD0A-CE392310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EB2BC-8BCA-4783-A392-BC212159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0671D-3C7B-4B17-841E-D3347BD9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F454D-B93C-4BD3-B12F-92FF9E5C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D37E-F406-4625-A4D5-0C1B4D22B33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2417-1C02-4A4D-980E-445A0DB8A4B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54A8-D248-4F10-B118-95B8719884F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A65E-4ED8-4A9C-84E4-7F023247C27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C56F-377F-40C6-9CA2-48774F1C5FF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C584-29ED-44E6-8CCC-6C0AEFCDF99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2DDC-31E6-477A-8AC0-0BC8808CA2C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DFC4-059C-4F58-892B-E3AB4C5EBA6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D1C6-4DF9-4E75-8CF0-27614B64B17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600cc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71600" y="4214520"/>
            <a:ext cx="6400800" cy="1423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Corbel"/>
              </a:rPr>
              <a:t>Обобщающий урок в 6 класс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6" name="WordArt 4" descr=""/>
          <p:cNvPicPr/>
          <p:nvPr/>
        </p:nvPicPr>
        <p:blipFill>
          <a:blip r:embed="rId1"/>
          <a:stretch/>
        </p:blipFill>
        <p:spPr>
          <a:xfrm>
            <a:off x="-23760" y="1908000"/>
            <a:ext cx="9271080" cy="185904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3"/>
          <p:cNvSpPr/>
          <p:nvPr/>
        </p:nvSpPr>
        <p:spPr>
          <a:xfrm>
            <a:off x="4929120" y="5072040"/>
            <a:ext cx="42148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Подготовила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МОУ СОШ № 4 с. Малые Яг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Фоменко Анжелика Анатол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4"/>
          <p:cNvSpPr/>
          <p:nvPr/>
        </p:nvSpPr>
        <p:spPr>
          <a:xfrm>
            <a:off x="0" y="0"/>
            <a:ext cx="4500720" cy="9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0,5 · 2 + 5,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,5 </a:t>
            </a:r>
            <a:r>
              <a:rPr b="1" lang="ru-RU" sz="6000" spc="-1" strike="noStrike">
                <a:solidFill>
                  <a:srgbClr val="002060"/>
                </a:solidFill>
                <a:latin typeface="Symbol"/>
                <a:ea typeface="Symbol"/>
              </a:rPr>
              <a:t></a:t>
            </a: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 3 +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2,1 + 3 - 0,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b1d15"/>
                </a:solidFill>
                <a:latin typeface="Arial"/>
              </a:rPr>
              <a:t>2/3 : 3/2 -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"/>
              </a:rPr>
              <a:t>0 + 4/5 · 5/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8 - 4,6 :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¾ - 2/8 :2/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714560" y="272880"/>
            <a:ext cx="442908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7030a0"/>
                </a:solidFill>
                <a:uFillTx/>
                <a:latin typeface="Corbel"/>
              </a:rPr>
              <a:t>ключ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285800" y="4286160"/>
            <a:ext cx="44290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 ДОРОГ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4286160" y="1857240"/>
          <a:ext cx="4857840" cy="1571760"/>
        </p:xfrm>
        <a:graphic>
          <a:graphicData uri="http://schemas.openxmlformats.org/drawingml/2006/table">
            <a:tbl>
              <a:tblPr/>
              <a:tblGrid>
                <a:gridCol w="642960"/>
                <a:gridCol w="714600"/>
                <a:gridCol w="642960"/>
                <a:gridCol w="898200"/>
                <a:gridCol w="673200"/>
                <a:gridCol w="571680"/>
                <a:gridCol w="71424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5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3" name="Picture 2" descr="C:\Documents and Settings\Admin\Мои документы\Мои рисунки\Санаторий\IMG_01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ree"/>
          <p:cNvSpPr/>
          <p:nvPr/>
        </p:nvSpPr>
        <p:spPr>
          <a:xfrm>
            <a:off x="0" y="486900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ree"/>
          <p:cNvSpPr/>
          <p:nvPr/>
        </p:nvSpPr>
        <p:spPr>
          <a:xfrm>
            <a:off x="826920" y="1916280"/>
            <a:ext cx="181008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ree"/>
          <p:cNvSpPr/>
          <p:nvPr/>
        </p:nvSpPr>
        <p:spPr>
          <a:xfrm>
            <a:off x="7020000" y="450864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nt"/>
          <p:cNvSpPr/>
          <p:nvPr/>
        </p:nvSpPr>
        <p:spPr>
          <a:xfrm>
            <a:off x="611280" y="3500280"/>
            <a:ext cx="1336680" cy="1192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nt"/>
          <p:cNvSpPr/>
          <p:nvPr/>
        </p:nvSpPr>
        <p:spPr>
          <a:xfrm>
            <a:off x="1476360" y="5805360"/>
            <a:ext cx="1366920" cy="87336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nt"/>
          <p:cNvSpPr/>
          <p:nvPr/>
        </p:nvSpPr>
        <p:spPr>
          <a:xfrm>
            <a:off x="7765920" y="3860640"/>
            <a:ext cx="137808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nt"/>
          <p:cNvSpPr/>
          <p:nvPr/>
        </p:nvSpPr>
        <p:spPr>
          <a:xfrm>
            <a:off x="-181080" y="4076640"/>
            <a:ext cx="104940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nt"/>
          <p:cNvSpPr/>
          <p:nvPr/>
        </p:nvSpPr>
        <p:spPr>
          <a:xfrm>
            <a:off x="1619280" y="3284640"/>
            <a:ext cx="112068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nt"/>
          <p:cNvSpPr/>
          <p:nvPr/>
        </p:nvSpPr>
        <p:spPr>
          <a:xfrm>
            <a:off x="8055000" y="2492280"/>
            <a:ext cx="108900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9"/>
          <p:cNvSpPr/>
          <p:nvPr/>
        </p:nvSpPr>
        <p:spPr>
          <a:xfrm>
            <a:off x="3276720" y="3429000"/>
            <a:ext cx="3168360" cy="2664000"/>
          </a:xfrm>
          <a:custGeom>
            <a:avLst/>
            <a:gdLst>
              <a:gd name="textAreaLeft" fmla="*/ 723240 w 3168360"/>
              <a:gd name="textAreaRight" fmla="*/ 2445120 w 3168360"/>
              <a:gd name="textAreaTop" fmla="*/ 608040 h 2664000"/>
              <a:gd name="textAreaBottom" fmla="*/ 20559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1"/>
          <p:cNvSpPr/>
          <p:nvPr/>
        </p:nvSpPr>
        <p:spPr>
          <a:xfrm>
            <a:off x="4211640" y="2492280"/>
            <a:ext cx="144144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2"/>
          <p:cNvSpPr/>
          <p:nvPr/>
        </p:nvSpPr>
        <p:spPr>
          <a:xfrm>
            <a:off x="5580000" y="2997360"/>
            <a:ext cx="1154160" cy="10792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3"/>
          <p:cNvSpPr/>
          <p:nvPr/>
        </p:nvSpPr>
        <p:spPr>
          <a:xfrm>
            <a:off x="2843280" y="2997360"/>
            <a:ext cx="136836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24"/>
          <p:cNvSpPr/>
          <p:nvPr/>
        </p:nvSpPr>
        <p:spPr>
          <a:xfrm>
            <a:off x="3419640" y="5661000"/>
            <a:ext cx="108108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5"/>
          <p:cNvSpPr/>
          <p:nvPr/>
        </p:nvSpPr>
        <p:spPr>
          <a:xfrm>
            <a:off x="5076720" y="5805360"/>
            <a:ext cx="115092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6"/>
          <p:cNvSpPr/>
          <p:nvPr/>
        </p:nvSpPr>
        <p:spPr>
          <a:xfrm rot="20478000">
            <a:off x="2987280" y="2565000"/>
            <a:ext cx="289080" cy="64944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7"/>
          <p:cNvSpPr/>
          <p:nvPr/>
        </p:nvSpPr>
        <p:spPr>
          <a:xfrm rot="1111200">
            <a:off x="3708000" y="2491920"/>
            <a:ext cx="358920" cy="647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8"/>
          <p:cNvSpPr/>
          <p:nvPr/>
        </p:nvSpPr>
        <p:spPr>
          <a:xfrm rot="915600">
            <a:off x="6287760" y="2347920"/>
            <a:ext cx="297000" cy="803160"/>
          </a:xfrm>
          <a:prstGeom prst="triangle">
            <a:avLst>
              <a:gd name="adj" fmla="val 10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9"/>
          <p:cNvSpPr/>
          <p:nvPr/>
        </p:nvSpPr>
        <p:spPr>
          <a:xfrm rot="21166800">
            <a:off x="5880240" y="2347560"/>
            <a:ext cx="288720" cy="79200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0"/>
          <p:cNvSpPr/>
          <p:nvPr/>
        </p:nvSpPr>
        <p:spPr>
          <a:xfrm>
            <a:off x="4572000" y="1700280"/>
            <a:ext cx="287280" cy="93672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33"/>
          <p:cNvSpPr/>
          <p:nvPr/>
        </p:nvSpPr>
        <p:spPr>
          <a:xfrm>
            <a:off x="5076720" y="1700280"/>
            <a:ext cx="216000" cy="936720"/>
          </a:xfrm>
          <a:prstGeom prst="triangle">
            <a:avLst>
              <a:gd name="adj" fmla="val 9044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34"/>
          <p:cNvSpPr/>
          <p:nvPr/>
        </p:nvSpPr>
        <p:spPr>
          <a:xfrm>
            <a:off x="4859280" y="4149720"/>
            <a:ext cx="73080" cy="71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35"/>
          <p:cNvSpPr/>
          <p:nvPr/>
        </p:nvSpPr>
        <p:spPr>
          <a:xfrm>
            <a:off x="3203640" y="3500280"/>
            <a:ext cx="3168720" cy="26654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08400 h 2665440"/>
              <a:gd name="textAreaBottom" fmla="*/ 205704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36"/>
          <p:cNvSpPr/>
          <p:nvPr/>
        </p:nvSpPr>
        <p:spPr>
          <a:xfrm>
            <a:off x="6877080" y="907920"/>
            <a:ext cx="2266920" cy="2016360"/>
          </a:xfrm>
          <a:prstGeom prst="wedgeEllipseCallout">
            <a:avLst>
              <a:gd name="adj1" fmla="val -46217"/>
              <a:gd name="adj2" fmla="val 57166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7"/>
          <p:cNvSpPr/>
          <p:nvPr/>
        </p:nvSpPr>
        <p:spPr>
          <a:xfrm>
            <a:off x="4211640" y="404640"/>
            <a:ext cx="2808360" cy="1582920"/>
          </a:xfrm>
          <a:prstGeom prst="wedgeEllipseCallout">
            <a:avLst>
              <a:gd name="adj1" fmla="val -3870"/>
              <a:gd name="adj2" fmla="val 7999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8"/>
          <p:cNvSpPr/>
          <p:nvPr/>
        </p:nvSpPr>
        <p:spPr>
          <a:xfrm>
            <a:off x="250920" y="404640"/>
            <a:ext cx="3744720" cy="2232360"/>
          </a:xfrm>
          <a:prstGeom prst="wedgeEllipseCallout">
            <a:avLst>
              <a:gd name="adj1" fmla="val 13967"/>
              <a:gd name="adj2" fmla="val 6038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1"/>
          <p:cNvSpPr/>
          <p:nvPr/>
        </p:nvSpPr>
        <p:spPr>
          <a:xfrm>
            <a:off x="2484360" y="1073160"/>
            <a:ext cx="167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3"/>
          <p:cNvSpPr/>
          <p:nvPr/>
        </p:nvSpPr>
        <p:spPr>
          <a:xfrm>
            <a:off x="7236000" y="1360440"/>
            <a:ext cx="6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4"/>
          <p:cNvSpPr/>
          <p:nvPr/>
        </p:nvSpPr>
        <p:spPr>
          <a:xfrm>
            <a:off x="7107120" y="1413000"/>
            <a:ext cx="17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Хотите узн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сколько вес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ваше им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фамил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758160" y="858960"/>
            <a:ext cx="322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Известно ли вам, что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минуту человек усп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написать столько бук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Что, длина строки из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букв будет равна 14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6"/>
          <p:cNvSpPr/>
          <p:nvPr/>
        </p:nvSpPr>
        <p:spPr>
          <a:xfrm>
            <a:off x="4500720" y="620640"/>
            <a:ext cx="26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Умножьте число букв на 0,00033гр –и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столько весит од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бу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11111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WordArt 4" descr=""/>
          <p:cNvPicPr/>
          <p:nvPr/>
        </p:nvPicPr>
        <p:blipFill>
          <a:blip r:embed="rId1"/>
          <a:stretch/>
        </p:blipFill>
        <p:spPr>
          <a:xfrm>
            <a:off x="438120" y="1023840"/>
            <a:ext cx="819324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ff9900"/>
              </a:solidFill>
              <a:latin typeface="Corbel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8643960" cy="5483160"/>
          </a:xfrm>
          <a:prstGeom prst="rect">
            <a:avLst/>
          </a:prstGeom>
          <a:ln w="0">
            <a:noFill/>
          </a:ln>
        </p:spPr>
      </p:pic>
      <p:sp>
        <p:nvSpPr>
          <p:cNvPr id="518" name="WordArt 4"/>
          <p:cNvSpPr txBox="1"/>
          <p:nvPr/>
        </p:nvSpPr>
        <p:spPr>
          <a:xfrm>
            <a:off x="684360" y="476280"/>
            <a:ext cx="78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ела третьего упала в болот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AutoShape 5"/>
          <p:cNvSpPr/>
          <p:nvPr/>
        </p:nvSpPr>
        <p:spPr>
          <a:xfrm>
            <a:off x="7596360" y="5516640"/>
            <a:ext cx="1191960" cy="98748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2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 flipV="1">
            <a:off x="3850920" y="5300640"/>
            <a:ext cx="3600360" cy="504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0185 C 0.01407 0.00116 0.03837 0.0044 -0.01614 0.00255 C -0.07066 0.00116 -0.34305 0.04074 -0.3375 -0.01134 C -0.33194 -0.06343 0.0099 -0.23056 0.01789 -0.30903 C 0.02587 -0.3875 -0.15625 -0.45741 -0.28906 -0.48171 C -0.42205 -0.50579 -0.71475 -0.51296 -0.77968 -0.45486 C -0.84461 -0.39653 -0.69774 -0.18704 -0.67847 -0.13195 C -0.6592 -0.07662 -0.6618 -0.09977 -0.66441 -0.12269 E">
                                      <p:cBhvr>
                                        <p:cTn id="272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ar9022-001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  <p:sp>
        <p:nvSpPr>
          <p:cNvPr id="522" name="Line 5"/>
          <p:cNvSpPr/>
          <p:nvPr/>
        </p:nvSpPr>
        <p:spPr>
          <a:xfrm flipV="1">
            <a:off x="1763640" y="2637000"/>
            <a:ext cx="5616720" cy="129672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nt"/>
          <p:cNvSpPr/>
          <p:nvPr/>
        </p:nvSpPr>
        <p:spPr>
          <a:xfrm rot="1669200">
            <a:off x="3058920" y="2708280"/>
            <a:ext cx="3867120" cy="26431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е чис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nt"/>
          <p:cNvSpPr/>
          <p:nvPr/>
        </p:nvSpPr>
        <p:spPr>
          <a:xfrm>
            <a:off x="5148360" y="836640"/>
            <a:ext cx="4714920" cy="3071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числа по ег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nt"/>
          <p:cNvSpPr/>
          <p:nvPr/>
        </p:nvSpPr>
        <p:spPr>
          <a:xfrm>
            <a:off x="3132000" y="-171360"/>
            <a:ext cx="3929040" cy="2997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роб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nt"/>
          <p:cNvSpPr/>
          <p:nvPr/>
        </p:nvSpPr>
        <p:spPr>
          <a:xfrm>
            <a:off x="-357120" y="0"/>
            <a:ext cx="3929040" cy="34574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умн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обей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nt"/>
          <p:cNvSpPr/>
          <p:nvPr/>
        </p:nvSpPr>
        <p:spPr>
          <a:xfrm rot="19855800">
            <a:off x="-433440" y="3247920"/>
            <a:ext cx="4308480" cy="33116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новное свойств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nt"/>
          <p:cNvSpPr/>
          <p:nvPr/>
        </p:nvSpPr>
        <p:spPr>
          <a:xfrm rot="19957800">
            <a:off x="4858920" y="3789360"/>
            <a:ext cx="4714920" cy="2857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 дроби от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071720"/>
            <a:ext cx="4686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Архимед это просил, а ему не дали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Бывает ….. Зре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Ставиться в конц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Запомнить их невозможн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По ним считаю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Их полно в справочнике.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Бывает на  номере углового дома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Этим стреляют из ружь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Её выстукивают на барабане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Обычно находится в центре горо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Выражается квадратным число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Длина на ширину        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785920" y="1285560"/>
            <a:ext cx="28292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Точ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Формул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Дроб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площад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WordArt 7"/>
          <p:cNvSpPr txBox="1"/>
          <p:nvPr/>
        </p:nvSpPr>
        <p:spPr>
          <a:xfrm rot="473400">
            <a:off x="3611160" y="93600"/>
            <a:ext cx="45370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446000"/>
                </a:gradFill>
                <a:latin typeface="Georgia"/>
              </a:rPr>
              <a:t>Угада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446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100"/>
                            </p:stCondLst>
                            <p:childTnLst>
                              <p:par>
                                <p:cTn id="3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2000"/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800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2000"/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b265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1434960" y="171468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Дробь, делитель, частное, плю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1,  2,  4,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, 10, 15, 1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9, 16, 25, 2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х,  77х,  56х,   44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½,   ¾,  4/9, 5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WordArt 4"/>
          <p:cNvSpPr txBox="1"/>
          <p:nvPr/>
        </p:nvSpPr>
        <p:spPr>
          <a:xfrm>
            <a:off x="25092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Кто лиш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395280" y="333360"/>
            <a:ext cx="8640720" cy="6335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ad77a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е Премудрой исполнилось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решил взять её в ж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а спросила сколько у Кощея сундуков с зол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ответил, что у него 27360 сунду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, и каждый год прибавляется еще по 3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ндука. Василиса Премудрая  обещала выйти заму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 Кощея тогда, когда у него будет 30000  сунду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колько лет  будет невесте Кощея в день свадь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600cc"/>
                </a:solidFill>
                <a:latin typeface="Corbel"/>
              </a:rPr>
              <a:t>Цели уро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2560" y="856800"/>
            <a:ext cx="8791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Обучающие цели: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вторение теоретического материала по данному разделу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ть формированию знаний по пройденной теме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акрепление навыков решения уравнени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Развивающие цели: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 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ние развитию интереса к математике, активации мыслительной деятельности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развитие творческого мышления, математической реч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Воспитательные цели: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здание условия для воспитания навыков самостоятельной деятельност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оспитание эстетические качества, умение общаться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4"/>
          <p:cNvSpPr/>
          <p:nvPr/>
        </p:nvSpPr>
        <p:spPr>
          <a:xfrm>
            <a:off x="611280" y="476280"/>
            <a:ext cx="8532720" cy="6121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d6bbd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Кощей Бессмертный родился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1123 го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А паспорт получил т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в 2007 году. Ск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лет прожил Кощей Бессмерт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без паспор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Взаимопроверка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1 задача: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98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1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2</a:t>
            </a: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 задач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870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934547-003"/>
          <p:cNvPicPr/>
          <p:nvPr/>
        </p:nvPicPr>
        <p:blipFill>
          <a:blip r:embed="rId1"/>
          <a:stretch/>
        </p:blipFill>
        <p:spPr>
          <a:xfrm>
            <a:off x="430200" y="26028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5"/>
          <p:cNvSpPr/>
          <p:nvPr/>
        </p:nvSpPr>
        <p:spPr>
          <a:xfrm>
            <a:off x="428760" y="6922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Вот и сказки конец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а кто слушал 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style1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3"/>
          <p:cNvSpPr/>
          <p:nvPr/>
        </p:nvSpPr>
        <p:spPr>
          <a:xfrm>
            <a:off x="324000" y="2205000"/>
            <a:ext cx="4032000" cy="1440000"/>
          </a:xfrm>
          <a:prstGeom prst="rightArrow">
            <a:avLst>
              <a:gd name="adj1" fmla="val 50000"/>
              <a:gd name="adj2" fmla="val 70000"/>
            </a:avLst>
          </a:prstGeom>
          <a:solidFill>
            <a:srgbClr val="ff9900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3,4-9х=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755640" y="3789360"/>
            <a:ext cx="4105440" cy="1512720"/>
          </a:xfrm>
          <a:prstGeom prst="rightArrow">
            <a:avLst>
              <a:gd name="adj1" fmla="val 50000"/>
              <a:gd name="adj2" fmla="val 67849"/>
            </a:avLst>
          </a:prstGeom>
          <a:solidFill>
            <a:srgbClr val="ff9900"/>
          </a:solidFill>
          <a:ln w="3816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0808"/>
                </a:solidFill>
                <a:latin typeface="Arial"/>
              </a:rPr>
              <a:t>2/3х+7/3=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468360" y="5229360"/>
            <a:ext cx="3743280" cy="1441440"/>
          </a:xfrm>
          <a:prstGeom prst="rightArrow">
            <a:avLst>
              <a:gd name="adj1" fmla="val 50000"/>
              <a:gd name="adj2" fmla="val 64923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2х+х+0,6=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7236000" y="549360"/>
            <a:ext cx="1295280" cy="1008000"/>
          </a:xfrm>
          <a:prstGeom prst="pie">
            <a:avLst/>
          </a:prstGeom>
          <a:solidFill>
            <a:srgbClr val="ff0000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6516720" y="2708280"/>
            <a:ext cx="1368360" cy="1152360"/>
          </a:xfrm>
          <a:prstGeom prst="pie">
            <a:avLst/>
          </a:prstGeom>
          <a:solidFill>
            <a:srgbClr val="ff0000"/>
          </a:solidFill>
          <a:ln w="5724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7236000" y="5445000"/>
            <a:ext cx="1295280" cy="1225800"/>
          </a:xfrm>
          <a:prstGeom prst="pie">
            <a:avLst/>
          </a:prstGeom>
          <a:solidFill>
            <a:srgbClr val="ff0000"/>
          </a:solidFill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9" descr=""/>
          <p:cNvPicPr/>
          <p:nvPr/>
        </p:nvPicPr>
        <p:blipFill>
          <a:blip r:embed="rId2"/>
          <a:stretch/>
        </p:blipFill>
        <p:spPr>
          <a:xfrm>
            <a:off x="0" y="189000"/>
            <a:ext cx="2916360" cy="17272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10"/>
          <p:cNvSpPr/>
          <p:nvPr/>
        </p:nvSpPr>
        <p:spPr>
          <a:xfrm>
            <a:off x="95076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30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55957E-006 C 0.00139 -0.01272 0.00244 -0.01411 0.00834 -0.02405 C 0.01181 -0.03747 0.0191 -0.04556 0.02396 -0.05782 C 0.03108 -0.0761 0.03941 -0.09622 0.05053 -0.1108 C 0.054 -0.11542 0.05869 -0.11797 0.0625 -0.1219 C 0.07553 -0.13555 0.0875 -0.14596 0.10348 -0.15244 C 0.10799 -0.15429 0.11216 -0.15799 0.11685 -0.15891 C 0.12362 -0.16007 0.13056 -0.16007 0.13733 -0.16053 C 0.14619 -0.16446 0.1566 -0.16955 0.1625 -0.17973 C 0.16424 -0.18274 0.1658 -0.18621 0.16737 -0.18945 C 0.16823 -0.19107 0.1698 -0.19407 0.1698 -0.19407 C 0.17188 -0.20263 0.17379 -0.21165 0.17952 -0.21674 C 0.18369 -0.22484 0.18525 -0.22854 0.19271 -0.23108 C 0.21094 -0.22761 0.22952 -0.22229 0.24688 -0.2135 C 0.25886 -0.20749 0.26962 -0.19731 0.28195 -0.19268 C 0.28941 -0.18575 0.29827 -0.18459 0.30712 -0.18297 C 0.32396 -0.18343 0.34098 -0.18366 0.35782 -0.18459 C 0.36632 -0.18505 0.37691 -0.19153 0.38542 -0.19407 C 0.38941 -0.19754 0.38768 -0.19731 0.39028 -0.19731 E">
                                      <p:cBhvr>
                                        <p:cTn id="35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6.66667E-006 C 0.00537 -0.02177 -0.00348 0.01018 0.00694 -0.01367 C 0.00815 -0.01644 0.0078 -0.01992 0.00867 -0.02292 C 0.01162 -0.03265 0.01631 -0.04399 0.02065 -0.05279 C 0.02482 -0.07501 0.01892 -0.04839 0.0276 -0.0713 C 0.03298 -0.08542 0.0243 -0.07686 0.0328 -0.09422 C 0.03506 -0.09885 0.03819 -0.10279 0.03958 -0.10811 C 0.04374 -0.12431 0.0401 -0.11899 0.04826 -0.1264 C 0.05867 -0.12292 0.07083 -0.10788 0.07933 -0.09885 C 0.08263 -0.09538 0.08662 -0.09353 0.08958 -0.08959 C 0.09131 -0.08728 0.0927 -0.08427 0.09478 -0.08265 C 0.09791 -0.08033 0.1052 -0.07802 0.1052 -0.07802 C 0.13506 -0.07987 0.13767 -0.07941 0.15867 -0.08496 C 0.16423 -0.09005 0.16996 -0.0926 0.17586 -0.09654 C 0.17916 -0.09885 0.18524 -0.10556 0.18784 -0.10811 C 0.19166 -0.11158 0.19617 -0.11343 0.19999 -0.11714 C 0.20451 -0.1213 0.21215 -0.12964 0.21544 -0.13566 C 0.21701 -0.13843 0.21735 -0.14191 0.21892 -0.14468 C 0.23246 -0.16968 0.246 -0.18172 0.24999 -0.21367 C 0.25694 -0.21297 0.26388 -0.21367 0.27065 -0.21135 C 0.27534 -0.20973 0.28958 -0.20001 0.29478 -0.19538 C 0.30694 -0.197 0.31371 -0.19144 0.31371 -0.20695 E">
                                      <p:cBhvr>
                                        <p:cTn id="47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0.00347 C 0.04392 0.00555 0.06024 0.00948 0.07882 0.01966 C 0.10798 0.01758 0.10711 0.01943 0.12708 0.00578 C 0.13177 -0.00232 0.13541 -0.00995 0.14097 -0.01712 C 0.1434 -0.0236 0.14704 -0.02915 0.14948 -0.03563 C 0.15573 -0.05251 0.15069 -0.04442 0.15468 -0.05853 C 0.15937 -0.07518 0.16458 -0.09438 0.17204 -0.10919 C 0.17257 -0.1115 0.17257 -0.11404 0.17361 -0.1159 C 0.18177 -0.13232 0.19236 -0.11104 0.20121 -0.10687 C 0.20573 -0.09785 0.21267 -0.08952 0.22031 -0.08605 C 0.23003 -0.07657 0.23993 -0.06778 0.24948 -0.05853 C 0.25659 -0.05159 0.25781 -0.04766 0.26684 -0.04488 C 0.28107 -0.03216 0.27309 -0.03701 0.29097 -0.031 C 0.3026 -0.0155 0.325 -0.01249 0.34097 -0.01041 C 0.35017 -0.00625 0.35382 -0.0037 0.36684 -0.01041 C 0.37135 -0.01273 0.37361 -0.01943 0.37708 -0.02406 C 0.38107 -0.02938 0.39253 -0.03609 0.39791 -0.03794 C 0.40954 -0.04812 0.41093 -0.04881 0.42534 -0.05159 C 0.42743 -0.05992 0.42708 -0.05598 0.42708 -0.06315 E">
                                      <p:cBhvr>
                                        <p:cTn id="57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3399ff"/>
              </a:solidFill>
              <a:latin typeface="Georgi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3840" y="1523880"/>
            <a:ext cx="471492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42920" y="145728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WordArt 5"/>
          <p:cNvSpPr txBox="1"/>
          <p:nvPr/>
        </p:nvSpPr>
        <p:spPr>
          <a:xfrm>
            <a:off x="684360" y="162864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,4 – 9х = 1,6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3" name="WordArt 6"/>
          <p:cNvSpPr txBox="1"/>
          <p:nvPr/>
        </p:nvSpPr>
        <p:spPr>
          <a:xfrm>
            <a:off x="755640" y="3357720"/>
            <a:ext cx="2952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+7/3=18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х+х+0,6=4,2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34" name="WordArt 9" descr=""/>
          <p:cNvPicPr/>
          <p:nvPr/>
        </p:nvPicPr>
        <p:blipFill>
          <a:blip r:embed="rId1"/>
          <a:stretch/>
        </p:blipFill>
        <p:spPr>
          <a:xfrm>
            <a:off x="201600" y="-6480"/>
            <a:ext cx="8661240" cy="1206720"/>
          </a:xfrm>
          <a:prstGeom prst="rect">
            <a:avLst/>
          </a:prstGeom>
          <a:ln w="0">
            <a:noFill/>
          </a:ln>
        </p:spPr>
      </p:pic>
      <p:sp>
        <p:nvSpPr>
          <p:cNvPr id="435" name="WordArt 10"/>
          <p:cNvSpPr txBox="1"/>
          <p:nvPr/>
        </p:nvSpPr>
        <p:spPr>
          <a:xfrm>
            <a:off x="4932360" y="1413000"/>
            <a:ext cx="345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3,4 – 1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1,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 = 0,2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6" name="WordArt 11"/>
          <p:cNvSpPr txBox="1"/>
          <p:nvPr/>
        </p:nvSpPr>
        <p:spPr>
          <a:xfrm>
            <a:off x="5003640" y="3141720"/>
            <a:ext cx="3456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18-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4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23,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7" name="WordArt 12"/>
          <p:cNvSpPr txBox="1"/>
          <p:nvPr/>
        </p:nvSpPr>
        <p:spPr>
          <a:xfrm>
            <a:off x="5003640" y="5300640"/>
            <a:ext cx="33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4,2-0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3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1,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8000"/>
              </a:solidFill>
              <a:latin typeface="Corbel"/>
            </a:endParaRPr>
          </a:p>
        </p:txBody>
      </p:sp>
      <p:pic>
        <p:nvPicPr>
          <p:cNvPr id="439" name="Picture 5" descr="551093"/>
          <p:cNvPicPr/>
          <p:nvPr/>
        </p:nvPicPr>
        <p:blipFill>
          <a:blip r:embed="rId1"/>
          <a:stretch/>
        </p:blipFill>
        <p:spPr>
          <a:xfrm>
            <a:off x="539640" y="1413000"/>
            <a:ext cx="8136000" cy="5317920"/>
          </a:xfrm>
          <a:prstGeom prst="rect">
            <a:avLst/>
          </a:prstGeom>
          <a:ln w="0">
            <a:noFill/>
          </a:ln>
        </p:spPr>
      </p:pic>
      <p:sp>
        <p:nvSpPr>
          <p:cNvPr id="440" name="WordArt 6"/>
          <p:cNvSpPr txBox="1"/>
          <p:nvPr/>
        </p:nvSpPr>
        <p:spPr>
          <a:xfrm>
            <a:off x="250920" y="115920"/>
            <a:ext cx="8048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пала стрела царевича на царский дв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7451640" y="1413000"/>
            <a:ext cx="1152720" cy="86364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cc"/>
                </a:solidFill>
                <a:latin typeface="Arial"/>
              </a:rPr>
              <a:t>0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9.25977E-006 C -0.05278 -0.003 -0.10538 -0.00601 -0.10104 0.03933 C -0.0967 0.08467 0.05504 0.22392 0.02587 0.27273 C -0.0033 0.32154 -0.22691 0.288 -0.27656 0.33241 C -0.32587 0.37683 -0.2434 0.48231 -0.27049 0.53921 C -0.29757 0.59612 -0.36615 0.75319 -0.43871 0.67407 C -0.51128 0.59496 -0.71667 0.08675 -0.70573 0.06431 C -0.69479 0.04187 -0.42812 0.45918 -0.37292 0.53921 E">
                                      <p:cBhvr>
                                        <p:cTn id="78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803097"/>
          <p:cNvPicPr/>
          <p:nvPr/>
        </p:nvPicPr>
        <p:blipFill>
          <a:blip r:embed="rId1"/>
          <a:stretch/>
        </p:blipFill>
        <p:spPr>
          <a:xfrm>
            <a:off x="285840" y="1071720"/>
            <a:ext cx="8499240" cy="5429160"/>
          </a:xfrm>
          <a:prstGeom prst="rect">
            <a:avLst/>
          </a:prstGeom>
          <a:ln w="0">
            <a:noFill/>
          </a:ln>
        </p:spPr>
      </p:pic>
      <p:sp>
        <p:nvSpPr>
          <p:cNvPr id="443" name="WordArt 5"/>
          <p:cNvSpPr txBox="1"/>
          <p:nvPr/>
        </p:nvSpPr>
        <p:spPr>
          <a:xfrm>
            <a:off x="0" y="0"/>
            <a:ext cx="91440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ела второго царевича улетела на купеческий двор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250920" y="1844640"/>
            <a:ext cx="1296720" cy="100800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1.11111E-006 C 0.00695 -0.15671 0.1125 -0.3125 0.13108 -0.27731 C 0.14983 -0.24213 -0.01857 0.07315 0.01372 0.21158 C 0.04601 0.35 0.21546 0.51736 0.32518 0.55301 C 0.43507 0.58889 0.60521 0.49722 0.67205 0.42477 C 0.73907 0.35278 0.81059 0.18773 0.72743 0.12083 C 0.64427 0.05347 0.29549 -0.0463 0.17344 0.02176 C 0.05139 0.09005 0.02414 0.44421 -0.00468 0.52963 C -0.0335 0.61551 -0.01632 0.5757 0.0007 0.53588 E">
                                      <p:cBhvr>
                                        <p:cTn id="91" dur="5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6012000" y="2708280"/>
            <a:ext cx="1150920" cy="360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" descr="808049"/>
          <p:cNvPicPr/>
          <p:nvPr/>
        </p:nvPicPr>
        <p:blipFill>
          <a:blip r:embed="rId1"/>
          <a:stretch/>
        </p:blipFill>
        <p:spPr>
          <a:xfrm>
            <a:off x="1214280" y="164304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4"/>
          <p:cNvSpPr/>
          <p:nvPr/>
        </p:nvSpPr>
        <p:spPr>
          <a:xfrm>
            <a:off x="433548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"/>
          <p:cNvSpPr/>
          <p:nvPr/>
        </p:nvSpPr>
        <p:spPr>
          <a:xfrm>
            <a:off x="4067280" y="1916280"/>
            <a:ext cx="1081080" cy="2376360"/>
          </a:xfrm>
          <a:prstGeom prst="upArrow">
            <a:avLst>
              <a:gd name="adj1" fmla="val 65935"/>
              <a:gd name="adj2" fmla="val 5285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6"/>
          <p:cNvSpPr/>
          <p:nvPr/>
        </p:nvSpPr>
        <p:spPr>
          <a:xfrm>
            <a:off x="5292720" y="3500280"/>
            <a:ext cx="1943280" cy="1297080"/>
          </a:xfrm>
          <a:prstGeom prst="rightArrow">
            <a:avLst>
              <a:gd name="adj1" fmla="val 50000"/>
              <a:gd name="adj2" fmla="val 37455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7"/>
          <p:cNvSpPr/>
          <p:nvPr/>
        </p:nvSpPr>
        <p:spPr>
          <a:xfrm>
            <a:off x="1403280" y="4292640"/>
            <a:ext cx="2303640" cy="1008000"/>
          </a:xfrm>
          <a:prstGeom prst="leftArrow">
            <a:avLst>
              <a:gd name="adj1" fmla="val 50000"/>
              <a:gd name="adj2" fmla="val 5713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4214880" y="21430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Прямоугольник 10" descr=""/>
          <p:cNvPicPr/>
          <p:nvPr/>
        </p:nvPicPr>
        <p:blipFill>
          <a:blip r:embed="rId2"/>
          <a:stretch/>
        </p:blipFill>
        <p:spPr>
          <a:xfrm>
            <a:off x="420840" y="0"/>
            <a:ext cx="8369280" cy="1200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454" name="Diagram 5"/>
          <p:cNvGrpSpPr/>
          <p:nvPr/>
        </p:nvGrpSpPr>
        <p:grpSpPr>
          <a:xfrm>
            <a:off x="2676600" y="1679760"/>
            <a:ext cx="3878280" cy="4309920"/>
            <a:chOff x="2676600" y="1679760"/>
            <a:chExt cx="3878280" cy="4309920"/>
          </a:xfrm>
        </p:grpSpPr>
        <p:sp>
          <p:nvSpPr>
            <p:cNvPr id="455" name="_s1028"/>
            <p:cNvSpPr/>
            <p:nvPr/>
          </p:nvSpPr>
          <p:spPr>
            <a:xfrm flipH="1" flipV="1">
              <a:off x="3679560" y="32958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_s1029"/>
            <p:cNvSpPr/>
            <p:nvPr/>
          </p:nvSpPr>
          <p:spPr>
            <a:xfrm>
              <a:off x="2676600" y="248940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3,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_s1030"/>
            <p:cNvSpPr/>
            <p:nvPr/>
          </p:nvSpPr>
          <p:spPr>
            <a:xfrm flipH="1">
              <a:off x="3681000" y="41040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_s1031"/>
            <p:cNvSpPr/>
            <p:nvPr/>
          </p:nvSpPr>
          <p:spPr>
            <a:xfrm>
              <a:off x="2678040" y="41054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7/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_s1032"/>
            <p:cNvSpPr/>
            <p:nvPr/>
          </p:nvSpPr>
          <p:spPr>
            <a:xfrm>
              <a:off x="4616280" y="4370400"/>
              <a:ext cx="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_s1033"/>
            <p:cNvSpPr/>
            <p:nvPr/>
          </p:nvSpPr>
          <p:spPr>
            <a:xfrm>
              <a:off x="4078440" y="49118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5/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_s1034"/>
            <p:cNvSpPr/>
            <p:nvPr/>
          </p:nvSpPr>
          <p:spPr>
            <a:xfrm>
              <a:off x="5079960" y="410220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_s1035"/>
            <p:cNvSpPr/>
            <p:nvPr/>
          </p:nvSpPr>
          <p:spPr>
            <a:xfrm>
              <a:off x="5476680" y="4104000"/>
              <a:ext cx="107820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1/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_s1036"/>
            <p:cNvSpPr/>
            <p:nvPr/>
          </p:nvSpPr>
          <p:spPr>
            <a:xfrm flipV="1">
              <a:off x="5079960" y="3294360"/>
              <a:ext cx="4683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_s1037"/>
            <p:cNvSpPr/>
            <p:nvPr/>
          </p:nvSpPr>
          <p:spPr>
            <a:xfrm>
              <a:off x="5476680" y="2487600"/>
              <a:ext cx="107820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5/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_s1038"/>
            <p:cNvSpPr/>
            <p:nvPr/>
          </p:nvSpPr>
          <p:spPr>
            <a:xfrm flipV="1">
              <a:off x="4614840" y="2755800"/>
              <a:ext cx="0" cy="54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_s1039"/>
            <p:cNvSpPr/>
            <p:nvPr/>
          </p:nvSpPr>
          <p:spPr>
            <a:xfrm>
              <a:off x="4076640" y="167976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0,0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_s1040"/>
            <p:cNvSpPr/>
            <p:nvPr/>
          </p:nvSpPr>
          <p:spPr>
            <a:xfrm>
              <a:off x="4076640" y="3297240"/>
              <a:ext cx="107784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,2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WordArt 23"/>
          <p:cNvSpPr txBox="1"/>
          <p:nvPr/>
        </p:nvSpPr>
        <p:spPr>
          <a:xfrm>
            <a:off x="684360" y="404640"/>
            <a:ext cx="6696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полнить число до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4143240" y="3643200"/>
            <a:ext cx="85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9"/>
          <p:cNvSpPr/>
          <p:nvPr/>
        </p:nvSpPr>
        <p:spPr>
          <a:xfrm>
            <a:off x="4143240" y="3714840"/>
            <a:ext cx="857520" cy="52056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1"/>
          <p:cNvSpPr/>
          <p:nvPr/>
        </p:nvSpPr>
        <p:spPr>
          <a:xfrm>
            <a:off x="2786040" y="2857680"/>
            <a:ext cx="785880" cy="45972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0,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34960" y="1523880"/>
            <a:ext cx="36576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⅛ 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+ ⅜ + ⅝ + ⅞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¼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½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8/19 – 7/19 – 1/19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Найдите сумму ответ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508360" y="1599840"/>
            <a:ext cx="3384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1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dc765"/>
                </a:solidFill>
                <a:uFillTx/>
                <a:latin typeface="Georgia"/>
                <a:hlinkClick r:id="rId1" action="ppaction://hlinksldjump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WordArt 4"/>
          <p:cNvSpPr txBox="1"/>
          <p:nvPr/>
        </p:nvSpPr>
        <p:spPr>
          <a:xfrm rot="789000">
            <a:off x="1258920" y="404640"/>
            <a:ext cx="65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774000"/>
                </a:gradFill>
                <a:latin typeface="Georgia"/>
              </a:rPr>
              <a:t>Вычисля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3774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7:44:00Z</dcterms:created>
  <dc:creator>Лена</dc:creator>
  <dc:description/>
  <dc:language>en-US</dc:language>
  <cp:lastModifiedBy>Admin</cp:lastModifiedBy>
  <dcterms:modified xsi:type="dcterms:W3CDTF">2005-01-01T00:21:36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240000000000010243100207f6000400038000</vt:lpwstr>
  </property>
</Properties>
</file>