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F77-06FD-4818-ADE6-44D7DFD7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D50-0CC9-4AAB-842F-74FD68A7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A7429-7AD9-454C-8715-D5610F32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E52F4-27F9-4E43-A35F-889854D7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E5FCC-F4B5-4003-A4A7-ECE55669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7DF69-CB7D-4D4C-B355-5047497F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434C2-B35D-47F6-94B0-A3BB697D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9C245-1C43-4E99-9075-B632E599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8C407-764F-49D4-85AE-7F18452F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6F13C-D1B2-431A-8D3B-9746257C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A1BB7-D6D8-43E8-B0FC-A78FBF2B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DA0-14FC-4325-A0AA-824A6915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BD7-0ADD-492E-A759-1CCCB47D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C8C0-C366-407B-B248-1B139F66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5045-3111-4014-B310-CD03A402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4514-EF83-4F54-97B7-5BFCA717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3D4D-430E-4FF0-BA98-B7D78A02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918C-11AC-403E-91FB-34E28E71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4B1D-74B0-42DF-986C-F334E156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ED5C-42F0-4E16-9042-062F882B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110-AF20-4BD0-A167-DF661765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93E3-A863-44BF-BA9E-9AE54A69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072D-1D9A-4052-8FA0-A5A8F9DA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E309-7EF4-4635-98CF-4EF634C9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C14B-C89E-48CA-B918-FE9A8E50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1604-D80F-42A9-B24E-B5F0889A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11836-517D-498F-BB8F-3D44CCD0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EEF7A-0C1D-46B8-825D-115C03FE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AEC7E-7A6B-4ADB-A342-3205A4A5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BB280-297A-44F6-9BF3-4BE9343B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1936-E035-45A0-81AA-82D7AF45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3C2-C8AC-4797-BDB8-80B2A0A9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E38B1-957A-4A60-8CF4-7CCF0098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2463-E71F-415A-9B54-FEBF325E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7FB12-15F2-450B-B69F-E74FEF3F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17350-351F-4B8A-ACD9-163413FB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22493-E0D3-4DF0-9D83-83623BFF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7DDCF-E80F-4F60-87FC-8F538A30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E637B-2EBE-494C-97F6-0B9A4317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DB0FB-25CD-4F38-B60B-D0EBF337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01B8F-F82C-4BB8-B44B-654BE324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B7137-E82A-45A3-8E3A-AE452C56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BF4-F727-41AC-9B38-40B2073D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FCA61-A63A-47B5-9577-8970F85B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57190-E0CD-4334-B93C-8788ECBB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C564C-5808-4E04-A928-3B2B6743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45A5A-8B28-424C-AAEA-9C4C85BA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12530-07F3-457F-9F70-670198A0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C7A68-48B7-4E57-8842-E1283617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52DFE-37C5-45F6-BD55-261F9B48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8B184-099B-4085-9030-C746B48F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437AE-094B-407F-B201-5C59044A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B2B9B-EC1C-4BA4-A71A-B646D3FA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672-8581-4D4D-A85C-25E3955F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1F1DF-B478-4278-884C-014CA1B8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6D06F-4654-4166-B71C-38C21C3F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6C14B-5E78-4F05-985F-EAEF3B54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98AD6-AE29-4401-88FF-BC3DD8F4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BCA3B-9C80-4BE9-ADF0-85774BEC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E80A8-BD3C-4D03-9160-F2324D49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F6C25-A0A5-4AAE-B728-2163FF87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646DE-E891-4B75-A4B0-1523CF6F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F5A27-C3A1-44D7-B319-4BF834ED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1DCD9-68CF-43BA-891F-F7B3D472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7BA-3766-4770-B477-35FC4BE0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8C052-9468-4CB4-A767-F3BD0BD5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803F9-46D5-4608-96DE-C30D2171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2FE7F-1BC6-437C-B236-0107909F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CD462-89A0-49E6-83E9-570588F1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07541-8E19-46D6-B53F-00B1A1A3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544C1-E48E-4918-AFBA-BDF1DEC2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2BF14-C633-4491-9524-E29DFDB2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8044F-8895-46BB-AEA3-D81D013D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20A46-D169-40C4-AB13-66571EE5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228EA-2A41-40B4-96E7-1BDBE9C2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BBD-B457-4FB2-818E-279A8077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2B582-BC31-44CE-8BEB-7E520DFB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3698A-4C4F-48F5-A36B-05BE750A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FBFFC-5394-4FDE-B0E8-5DB079DA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0F287-332B-44BF-83A5-3EDF2DFA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753F7-DA30-4282-BF8C-B73B417F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CF1AB-D1B7-40DF-9240-ADB4C770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2C746-FAB8-4A29-9ECF-634B5690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0D751-7BB1-4ED3-8E6E-D7E288DD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214DF-F38F-4B8F-8847-79EFE36E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1B395-CE46-4457-B29F-45E8B6AE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D8F-55B6-497F-A10B-1F2D7025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AD294-4537-4282-8B2A-D90BF493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33C27-2E78-4E5B-BE09-F40CFCC7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B2A18-BD0B-4239-A226-E67FB210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B751B-91D8-4B6F-B78F-F382A14E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A625B-3DED-4625-8CE0-EF52AC56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968A7-AA3B-455B-B66D-CD0600F3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B7D1F-B810-4AEB-A459-AFB19BB0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0AC0E-1C18-4CD1-9BF6-F27F2008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25A69-63AE-4CAC-B34B-0244439E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6DDF5-D858-4B7A-A8BF-64A116F5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EEA-A115-4962-B200-A5296DD2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C48D7-F4E7-41A0-93FD-A3DC78C3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D7FFE-43AE-48FA-B447-B3160D6F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2AE8F-D13E-4CB2-9048-7DD1E60B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50DE3-A7AB-4534-BB1C-F3F52EC9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92204-E34B-42AE-BC9A-D77A4EEF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49970-DEC8-48AD-8DE4-8435F8F9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4A629-0CEE-45F0-B0C2-335E1641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DB61C-8F36-4F1D-944B-A92084E5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749A9-2E18-437C-BC09-505E9293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584C0-79BF-472B-ACBE-A9FCC2B7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D757-0905-4194-9664-AC2B52AB4B9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BF8A-15AE-4903-B501-2108B545F1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FD4F-6D51-4512-BDA9-1FCC8E1EE6A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7839-CEA7-4C22-A41E-DEC225B54F8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0532-DDEC-4484-AC0A-876084FCDB1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A339-DD85-4699-B362-2EEB30BA418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067E-B8F5-4A6B-B3EE-5A544E54C10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6F68-38B6-4D22-BFA2-543344B2EEA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334C-EC6D-4469-B439-B5D3D10F30F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600cc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rbel"/>
              </a:rPr>
              <a:t>Обобщающий урок в 6 класс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6" name="WordArt 4" descr=""/>
          <p:cNvPicPr/>
          <p:nvPr/>
        </p:nvPicPr>
        <p:blipFill>
          <a:blip r:embed="rId1"/>
          <a:stretch/>
        </p:blipFill>
        <p:spPr>
          <a:xfrm>
            <a:off x="-23760" y="1908000"/>
            <a:ext cx="9271080" cy="18590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4929120" y="5072040"/>
            <a:ext cx="42148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МОУ СОШ № 4 с. Малые Яг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Фоменко Анжелика Анатол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4"/>
          <p:cNvSpPr/>
          <p:nvPr/>
        </p:nvSpPr>
        <p:spPr>
          <a:xfrm>
            <a:off x="0" y="0"/>
            <a:ext cx="4500720" cy="9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0,5 · 2 + 5,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,5 </a:t>
            </a:r>
            <a:r>
              <a:rPr b="1" lang="ru-RU" sz="6000" spc="-1" strike="noStrike">
                <a:solidFill>
                  <a:srgbClr val="002060"/>
                </a:solidFill>
                <a:latin typeface="Symbol"/>
                <a:ea typeface="Symbol"/>
              </a:rPr>
              <a:t></a:t>
            </a: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3 +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2,1 + 3 - 0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b1d15"/>
                </a:solidFill>
                <a:latin typeface="Arial"/>
              </a:rPr>
              <a:t>2/3 : 3/2 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0 + 4/5 · 5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8 - 4,6 :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¾ - 2/8 :2/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714560" y="272880"/>
            <a:ext cx="442908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7030a0"/>
                </a:solidFill>
                <a:uFillTx/>
                <a:latin typeface="Corbel"/>
              </a:rPr>
              <a:t>ключ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285800" y="4286160"/>
            <a:ext cx="4429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 ДОРОГ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286160" y="1857240"/>
          <a:ext cx="4857840" cy="1571760"/>
        </p:xfrm>
        <a:graphic>
          <a:graphicData uri="http://schemas.openxmlformats.org/drawingml/2006/table">
            <a:tbl>
              <a:tblPr/>
              <a:tblGrid>
                <a:gridCol w="642960"/>
                <a:gridCol w="714600"/>
                <a:gridCol w="642960"/>
                <a:gridCol w="898200"/>
                <a:gridCol w="673200"/>
                <a:gridCol w="571680"/>
                <a:gridCol w="71424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5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3" name="Picture 2" descr="C:\Documents and Settings\Admin\Мои документы\Мои рисунки\Санаторий\IMG_01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ree"/>
          <p:cNvSpPr/>
          <p:nvPr/>
        </p:nvSpPr>
        <p:spPr>
          <a:xfrm>
            <a:off x="0" y="4869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ree"/>
          <p:cNvSpPr/>
          <p:nvPr/>
        </p:nvSpPr>
        <p:spPr>
          <a:xfrm>
            <a:off x="826920" y="1916280"/>
            <a:ext cx="18100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ree"/>
          <p:cNvSpPr/>
          <p:nvPr/>
        </p:nvSpPr>
        <p:spPr>
          <a:xfrm>
            <a:off x="7020000" y="4508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nt"/>
          <p:cNvSpPr/>
          <p:nvPr/>
        </p:nvSpPr>
        <p:spPr>
          <a:xfrm>
            <a:off x="611280" y="3500280"/>
            <a:ext cx="1336680" cy="1192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nt"/>
          <p:cNvSpPr/>
          <p:nvPr/>
        </p:nvSpPr>
        <p:spPr>
          <a:xfrm>
            <a:off x="1476360" y="5805360"/>
            <a:ext cx="1366920" cy="873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nt"/>
          <p:cNvSpPr/>
          <p:nvPr/>
        </p:nvSpPr>
        <p:spPr>
          <a:xfrm>
            <a:off x="7765920" y="3860640"/>
            <a:ext cx="137808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nt"/>
          <p:cNvSpPr/>
          <p:nvPr/>
        </p:nvSpPr>
        <p:spPr>
          <a:xfrm>
            <a:off x="-181080" y="4076640"/>
            <a:ext cx="104940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nt"/>
          <p:cNvSpPr/>
          <p:nvPr/>
        </p:nvSpPr>
        <p:spPr>
          <a:xfrm>
            <a:off x="1619280" y="3284640"/>
            <a:ext cx="112068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nt"/>
          <p:cNvSpPr/>
          <p:nvPr/>
        </p:nvSpPr>
        <p:spPr>
          <a:xfrm>
            <a:off x="8055000" y="2492280"/>
            <a:ext cx="108900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9"/>
          <p:cNvSpPr/>
          <p:nvPr/>
        </p:nvSpPr>
        <p:spPr>
          <a:xfrm>
            <a:off x="3276720" y="3429000"/>
            <a:ext cx="3168360" cy="2664000"/>
          </a:xfrm>
          <a:custGeom>
            <a:avLst/>
            <a:gdLst>
              <a:gd name="textAreaLeft" fmla="*/ 723240 w 3168360"/>
              <a:gd name="textAreaRight" fmla="*/ 2445120 w 316836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1"/>
          <p:cNvSpPr/>
          <p:nvPr/>
        </p:nvSpPr>
        <p:spPr>
          <a:xfrm>
            <a:off x="4211640" y="2492280"/>
            <a:ext cx="144144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2"/>
          <p:cNvSpPr/>
          <p:nvPr/>
        </p:nvSpPr>
        <p:spPr>
          <a:xfrm>
            <a:off x="5580000" y="2997360"/>
            <a:ext cx="1154160" cy="10792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3"/>
          <p:cNvSpPr/>
          <p:nvPr/>
        </p:nvSpPr>
        <p:spPr>
          <a:xfrm>
            <a:off x="2843280" y="2997360"/>
            <a:ext cx="136836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4"/>
          <p:cNvSpPr/>
          <p:nvPr/>
        </p:nvSpPr>
        <p:spPr>
          <a:xfrm>
            <a:off x="3419640" y="5661000"/>
            <a:ext cx="108108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5"/>
          <p:cNvSpPr/>
          <p:nvPr/>
        </p:nvSpPr>
        <p:spPr>
          <a:xfrm>
            <a:off x="5076720" y="5805360"/>
            <a:ext cx="115092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6"/>
          <p:cNvSpPr/>
          <p:nvPr/>
        </p:nvSpPr>
        <p:spPr>
          <a:xfrm rot="20478000">
            <a:off x="2987280" y="2565000"/>
            <a:ext cx="289080" cy="64944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7"/>
          <p:cNvSpPr/>
          <p:nvPr/>
        </p:nvSpPr>
        <p:spPr>
          <a:xfrm rot="1111200">
            <a:off x="3708000" y="2491920"/>
            <a:ext cx="35892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8"/>
          <p:cNvSpPr/>
          <p:nvPr/>
        </p:nvSpPr>
        <p:spPr>
          <a:xfrm rot="915600">
            <a:off x="6287760" y="2347920"/>
            <a:ext cx="297000" cy="80316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9"/>
          <p:cNvSpPr/>
          <p:nvPr/>
        </p:nvSpPr>
        <p:spPr>
          <a:xfrm rot="21166800">
            <a:off x="5880240" y="2347560"/>
            <a:ext cx="288720" cy="79200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0"/>
          <p:cNvSpPr/>
          <p:nvPr/>
        </p:nvSpPr>
        <p:spPr>
          <a:xfrm>
            <a:off x="4572000" y="1700280"/>
            <a:ext cx="287280" cy="93672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33"/>
          <p:cNvSpPr/>
          <p:nvPr/>
        </p:nvSpPr>
        <p:spPr>
          <a:xfrm>
            <a:off x="5076720" y="1700280"/>
            <a:ext cx="216000" cy="936720"/>
          </a:xfrm>
          <a:prstGeom prst="triangle">
            <a:avLst>
              <a:gd name="adj" fmla="val 9044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34"/>
          <p:cNvSpPr/>
          <p:nvPr/>
        </p:nvSpPr>
        <p:spPr>
          <a:xfrm>
            <a:off x="4859280" y="4149720"/>
            <a:ext cx="73080" cy="71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5"/>
          <p:cNvSpPr/>
          <p:nvPr/>
        </p:nvSpPr>
        <p:spPr>
          <a:xfrm>
            <a:off x="3203640" y="3500280"/>
            <a:ext cx="3168720" cy="26654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08400 h 2665440"/>
              <a:gd name="textAreaBottom" fmla="*/ 205704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6"/>
          <p:cNvSpPr/>
          <p:nvPr/>
        </p:nvSpPr>
        <p:spPr>
          <a:xfrm>
            <a:off x="6877080" y="907920"/>
            <a:ext cx="2266920" cy="2016360"/>
          </a:xfrm>
          <a:prstGeom prst="wedgeEllipseCallout">
            <a:avLst>
              <a:gd name="adj1" fmla="val -46217"/>
              <a:gd name="adj2" fmla="val 5716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7"/>
          <p:cNvSpPr/>
          <p:nvPr/>
        </p:nvSpPr>
        <p:spPr>
          <a:xfrm>
            <a:off x="4211640" y="404640"/>
            <a:ext cx="2808360" cy="1582920"/>
          </a:xfrm>
          <a:prstGeom prst="wedgeEllipseCallout">
            <a:avLst>
              <a:gd name="adj1" fmla="val -3870"/>
              <a:gd name="adj2" fmla="val 7999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8"/>
          <p:cNvSpPr/>
          <p:nvPr/>
        </p:nvSpPr>
        <p:spPr>
          <a:xfrm>
            <a:off x="250920" y="404640"/>
            <a:ext cx="3744720" cy="2232360"/>
          </a:xfrm>
          <a:prstGeom prst="wedgeEllipseCallout">
            <a:avLst>
              <a:gd name="adj1" fmla="val 13967"/>
              <a:gd name="adj2" fmla="val 6038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1"/>
          <p:cNvSpPr/>
          <p:nvPr/>
        </p:nvSpPr>
        <p:spPr>
          <a:xfrm>
            <a:off x="2484360" y="1073160"/>
            <a:ext cx="16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3"/>
          <p:cNvSpPr/>
          <p:nvPr/>
        </p:nvSpPr>
        <p:spPr>
          <a:xfrm>
            <a:off x="7236000" y="136044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4"/>
          <p:cNvSpPr/>
          <p:nvPr/>
        </p:nvSpPr>
        <p:spPr>
          <a:xfrm>
            <a:off x="7107120" y="1413000"/>
            <a:ext cx="17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Хотите узн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сколько ве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ваше им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фамил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758160" y="858960"/>
            <a:ext cx="322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Известно ли вам, что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минуту человек усп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написать столько бук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Что, длина строки из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букв будет равна 14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6"/>
          <p:cNvSpPr/>
          <p:nvPr/>
        </p:nvSpPr>
        <p:spPr>
          <a:xfrm>
            <a:off x="4500720" y="62064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Умножьте число букв на 0,00033гр –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столько весит 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бу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11111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WordArt 4" descr=""/>
          <p:cNvPicPr/>
          <p:nvPr/>
        </p:nvPicPr>
        <p:blipFill>
          <a:blip r:embed="rId1"/>
          <a:stretch/>
        </p:blipFill>
        <p:spPr>
          <a:xfrm>
            <a:off x="438120" y="1023840"/>
            <a:ext cx="81932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9900"/>
              </a:solidFill>
              <a:latin typeface="Corbe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643960" cy="5483160"/>
          </a:xfrm>
          <a:prstGeom prst="rect">
            <a:avLst/>
          </a:prstGeom>
          <a:ln w="0">
            <a:noFill/>
          </a:ln>
        </p:spPr>
      </p:pic>
      <p:sp>
        <p:nvSpPr>
          <p:cNvPr id="518" name="WordArt 4"/>
          <p:cNvSpPr txBox="1"/>
          <p:nvPr/>
        </p:nvSpPr>
        <p:spPr>
          <a:xfrm>
            <a:off x="684360" y="47628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ела третьего упала в боло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7596360" y="5516640"/>
            <a:ext cx="1191960" cy="98748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2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 flipV="1">
            <a:off x="3850920" y="5300640"/>
            <a:ext cx="3600360" cy="504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0185 C 0.01407 0.00116 0.03837 0.0044 -0.01614 0.00255 C -0.07066 0.00116 -0.34305 0.04074 -0.3375 -0.01134 C -0.33194 -0.06343 0.0099 -0.23056 0.01789 -0.30903 C 0.02587 -0.3875 -0.15625 -0.45741 -0.28906 -0.48171 C -0.42205 -0.50579 -0.71475 -0.51296 -0.77968 -0.45486 C -0.84461 -0.39653 -0.69774 -0.18704 -0.67847 -0.13195 C -0.6592 -0.07662 -0.6618 -0.09977 -0.66441 -0.12269 E">
                                      <p:cBhvr>
                                        <p:cTn id="272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ar9022-00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522" name="Line 5"/>
          <p:cNvSpPr/>
          <p:nvPr/>
        </p:nvSpPr>
        <p:spPr>
          <a:xfrm flipV="1">
            <a:off x="1763640" y="2637000"/>
            <a:ext cx="5616720" cy="12967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nt"/>
          <p:cNvSpPr/>
          <p:nvPr/>
        </p:nvSpPr>
        <p:spPr>
          <a:xfrm rot="1669200">
            <a:off x="3058920" y="2708280"/>
            <a:ext cx="3867120" cy="2643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е чи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nt"/>
          <p:cNvSpPr/>
          <p:nvPr/>
        </p:nvSpPr>
        <p:spPr>
          <a:xfrm>
            <a:off x="5148360" y="836640"/>
            <a:ext cx="4714920" cy="3071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числа по ег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nt"/>
          <p:cNvSpPr/>
          <p:nvPr/>
        </p:nvSpPr>
        <p:spPr>
          <a:xfrm>
            <a:off x="3132000" y="-171360"/>
            <a:ext cx="3929040" cy="2997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роб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nt"/>
          <p:cNvSpPr/>
          <p:nvPr/>
        </p:nvSpPr>
        <p:spPr>
          <a:xfrm>
            <a:off x="-357120" y="0"/>
            <a:ext cx="3929040" cy="3457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умн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б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nt"/>
          <p:cNvSpPr/>
          <p:nvPr/>
        </p:nvSpPr>
        <p:spPr>
          <a:xfrm rot="19855800">
            <a:off x="-433440" y="3247920"/>
            <a:ext cx="4308480" cy="33116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ое свойств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nt"/>
          <p:cNvSpPr/>
          <p:nvPr/>
        </p:nvSpPr>
        <p:spPr>
          <a:xfrm rot="19957800">
            <a:off x="4858920" y="3789360"/>
            <a:ext cx="4714920" cy="2857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 дроби от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4686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Архимед это просил, а ему не дали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Бывает ….. Зр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Ставиться в конц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Запомнить их невозможн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По ним считаю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Их полно в справочнике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Бывает на  номере углового дома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Этим стреляют из ружь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Её выстукивают на барабане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Обычно находится в центре гор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Выражается квадратным число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Длина на ширину    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785920" y="1285560"/>
            <a:ext cx="28292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Точ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Форму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Дроб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площад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WordArt 7"/>
          <p:cNvSpPr txBox="1"/>
          <p:nvPr/>
        </p:nvSpPr>
        <p:spPr>
          <a:xfrm rot="473400">
            <a:off x="3611160" y="93600"/>
            <a:ext cx="4537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446000"/>
                </a:gradFill>
                <a:latin typeface="Georgia"/>
              </a:rPr>
              <a:t>Угада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446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100"/>
                            </p:stCondLst>
                            <p:childTnLst>
                              <p:par>
                                <p:cTn id="3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b265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Дробь, делитель, частное, плю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1,  2,  4,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, 10, 15, 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9, 16, 25, 2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х,  77х,  56х,   44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½,   ¾,  4/9, 5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WordArt 4"/>
          <p:cNvSpPr txBox="1"/>
          <p:nvPr/>
        </p:nvSpPr>
        <p:spPr>
          <a:xfrm>
            <a:off x="25092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Кто лиш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395280" y="333360"/>
            <a:ext cx="8640720" cy="633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ad77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е Премудрой исполнилось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решил взять её в ж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а спросила сколько у Кощея сундуков с зол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ответил, что у него 27360 сунд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, и каждый год прибавляется еще по 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ндука. Василиса Премудрая  обещала выйти заму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Кощея тогда, когда у него будет 30000  сунду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олько лет  будет невесте Кощея в день свадь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cc"/>
                </a:solidFill>
                <a:latin typeface="Corbel"/>
              </a:rPr>
              <a:t>Цели уро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2560" y="856800"/>
            <a:ext cx="8791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Обучающие цели: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вторение теоретического материала по данному разделу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ть формированию знаний по пройденной теме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акрепление навыков решения уравнени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Развивающие цели: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 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ние развитию интереса к математике, активации мыслительной деятельности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звитие творческого мышления, математической реч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Воспитательные цели: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здание условия для воспитания навыков самостоятельной деятельност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оспитание эстетические качества, умение общатьс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4"/>
          <p:cNvSpPr/>
          <p:nvPr/>
        </p:nvSpPr>
        <p:spPr>
          <a:xfrm>
            <a:off x="611280" y="476280"/>
            <a:ext cx="8532720" cy="612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d6bbd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Кощей Бессмертный родился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1123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А паспорт получил т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в 2007 году. Ск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лет прожил Кощей Бессмерт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без паспор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Взаимопроверка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1 задача: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98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2</a:t>
            </a: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 задач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870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934547-003"/>
          <p:cNvPicPr/>
          <p:nvPr/>
        </p:nvPicPr>
        <p:blipFill>
          <a:blip r:embed="rId1"/>
          <a:stretch/>
        </p:blipFill>
        <p:spPr>
          <a:xfrm>
            <a:off x="43020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428760" y="6922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Вот и сказки конец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а кто слушал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tyle1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3"/>
          <p:cNvSpPr/>
          <p:nvPr/>
        </p:nvSpPr>
        <p:spPr>
          <a:xfrm>
            <a:off x="324000" y="2205000"/>
            <a:ext cx="4032000" cy="1440000"/>
          </a:xfrm>
          <a:prstGeom prst="rightArrow">
            <a:avLst>
              <a:gd name="adj1" fmla="val 50000"/>
              <a:gd name="adj2" fmla="val 70000"/>
            </a:avLst>
          </a:prstGeom>
          <a:solidFill>
            <a:srgbClr val="ff9900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3,4-9х=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755640" y="3789360"/>
            <a:ext cx="4105440" cy="1512720"/>
          </a:xfrm>
          <a:prstGeom prst="rightArrow">
            <a:avLst>
              <a:gd name="adj1" fmla="val 50000"/>
              <a:gd name="adj2" fmla="val 67849"/>
            </a:avLst>
          </a:prstGeom>
          <a:solidFill>
            <a:srgbClr val="ff9900"/>
          </a:solidFill>
          <a:ln w="3816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0808"/>
                </a:solidFill>
                <a:latin typeface="Arial"/>
              </a:rPr>
              <a:t>2/3х+7/3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68360" y="5229360"/>
            <a:ext cx="3743280" cy="1441440"/>
          </a:xfrm>
          <a:prstGeom prst="rightArrow">
            <a:avLst>
              <a:gd name="adj1" fmla="val 50000"/>
              <a:gd name="adj2" fmla="val 64923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2х+х+0,6=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7236000" y="549360"/>
            <a:ext cx="1295280" cy="1008000"/>
          </a:xfrm>
          <a:prstGeom prst="pie">
            <a:avLst/>
          </a:prstGeom>
          <a:solidFill>
            <a:srgbClr val="ff0000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6516720" y="2708280"/>
            <a:ext cx="1368360" cy="1152360"/>
          </a:xfrm>
          <a:prstGeom prst="pie">
            <a:avLst/>
          </a:prstGeom>
          <a:solidFill>
            <a:srgbClr val="ff0000"/>
          </a:solidFill>
          <a:ln w="5724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7236000" y="5445000"/>
            <a:ext cx="1295280" cy="1225800"/>
          </a:xfrm>
          <a:prstGeom prst="pie">
            <a:avLst/>
          </a:prstGeom>
          <a:solidFill>
            <a:srgbClr val="ff0000"/>
          </a:solidFill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1727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0"/>
          <p:cNvSpPr/>
          <p:nvPr/>
        </p:nvSpPr>
        <p:spPr>
          <a:xfrm>
            <a:off x="950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3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55957E-006 C 0.00139 -0.01272 0.00244 -0.01411 0.00834 -0.02405 C 0.01181 -0.03747 0.0191 -0.04556 0.02396 -0.05782 C 0.03108 -0.0761 0.03941 -0.09622 0.05053 -0.1108 C 0.054 -0.11542 0.05869 -0.11797 0.0625 -0.1219 C 0.07553 -0.13555 0.0875 -0.14596 0.10348 -0.15244 C 0.10799 -0.15429 0.11216 -0.15799 0.11685 -0.15891 C 0.12362 -0.16007 0.13056 -0.16007 0.13733 -0.16053 C 0.14619 -0.16446 0.1566 -0.16955 0.1625 -0.17973 C 0.16424 -0.18274 0.1658 -0.18621 0.16737 -0.18945 C 0.16823 -0.19107 0.1698 -0.19407 0.1698 -0.19407 C 0.17188 -0.20263 0.17379 -0.21165 0.17952 -0.21674 C 0.18369 -0.22484 0.18525 -0.22854 0.19271 -0.23108 C 0.21094 -0.22761 0.22952 -0.22229 0.24688 -0.2135 C 0.25886 -0.20749 0.26962 -0.19731 0.28195 -0.19268 C 0.28941 -0.18575 0.29827 -0.18459 0.30712 -0.18297 C 0.32396 -0.18343 0.34098 -0.18366 0.35782 -0.18459 C 0.36632 -0.18505 0.37691 -0.19153 0.38542 -0.19407 C 0.38941 -0.19754 0.38768 -0.19731 0.39028 -0.19731 E">
                                      <p:cBhvr>
                                        <p:cTn id="35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6.66667E-006 C 0.00537 -0.02177 -0.00348 0.01018 0.00694 -0.01367 C 0.00815 -0.01644 0.0078 -0.01992 0.00867 -0.02292 C 0.01162 -0.03265 0.01631 -0.04399 0.02065 -0.05279 C 0.02482 -0.07501 0.01892 -0.04839 0.0276 -0.0713 C 0.03298 -0.08542 0.0243 -0.07686 0.0328 -0.09422 C 0.03506 -0.09885 0.03819 -0.10279 0.03958 -0.10811 C 0.04374 -0.12431 0.0401 -0.11899 0.04826 -0.1264 C 0.05867 -0.12292 0.07083 -0.10788 0.07933 -0.09885 C 0.08263 -0.09538 0.08662 -0.09353 0.08958 -0.08959 C 0.09131 -0.08728 0.0927 -0.08427 0.09478 -0.08265 C 0.09791 -0.08033 0.1052 -0.07802 0.1052 -0.07802 C 0.13506 -0.07987 0.13767 -0.07941 0.15867 -0.08496 C 0.16423 -0.09005 0.16996 -0.0926 0.17586 -0.09654 C 0.17916 -0.09885 0.18524 -0.10556 0.18784 -0.10811 C 0.19166 -0.11158 0.19617 -0.11343 0.19999 -0.11714 C 0.20451 -0.1213 0.21215 -0.12964 0.21544 -0.13566 C 0.21701 -0.13843 0.21735 -0.14191 0.21892 -0.14468 C 0.23246 -0.16968 0.246 -0.18172 0.24999 -0.21367 C 0.25694 -0.21297 0.26388 -0.21367 0.27065 -0.21135 C 0.27534 -0.20973 0.28958 -0.20001 0.29478 -0.19538 C 0.30694 -0.197 0.31371 -0.19144 0.31371 -0.20695 E">
                                      <p:cBhvr>
                                        <p:cTn id="47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347 C 0.04392 0.00555 0.06024 0.00948 0.07882 0.01966 C 0.10798 0.01758 0.10711 0.01943 0.12708 0.00578 C 0.13177 -0.00232 0.13541 -0.00995 0.14097 -0.01712 C 0.1434 -0.0236 0.14704 -0.02915 0.14948 -0.03563 C 0.15573 -0.05251 0.15069 -0.04442 0.15468 -0.05853 C 0.15937 -0.07518 0.16458 -0.09438 0.17204 -0.10919 C 0.17257 -0.1115 0.17257 -0.11404 0.17361 -0.1159 C 0.18177 -0.13232 0.19236 -0.11104 0.20121 -0.10687 C 0.20573 -0.09785 0.21267 -0.08952 0.22031 -0.08605 C 0.23003 -0.07657 0.23993 -0.06778 0.24948 -0.05853 C 0.25659 -0.05159 0.25781 -0.04766 0.26684 -0.04488 C 0.28107 -0.03216 0.27309 -0.03701 0.29097 -0.031 C 0.3026 -0.0155 0.325 -0.01249 0.34097 -0.01041 C 0.35017 -0.00625 0.35382 -0.0037 0.36684 -0.01041 C 0.37135 -0.01273 0.37361 -0.01943 0.37708 -0.02406 C 0.38107 -0.02938 0.39253 -0.03609 0.39791 -0.03794 C 0.40954 -0.04812 0.41093 -0.04881 0.42534 -0.05159 C 0.42743 -0.05992 0.42708 -0.05598 0.42708 -0.06315 E">
                                      <p:cBhvr>
                                        <p:cTn id="57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3399ff"/>
              </a:solidFill>
              <a:latin typeface="Georg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3840" y="1523880"/>
            <a:ext cx="47149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2920" y="145728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WordArt 5"/>
          <p:cNvSpPr txBox="1"/>
          <p:nvPr/>
        </p:nvSpPr>
        <p:spPr>
          <a:xfrm>
            <a:off x="684360" y="1628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,4 – 9х = 1,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3" name="WordArt 6"/>
          <p:cNvSpPr txBox="1"/>
          <p:nvPr/>
        </p:nvSpPr>
        <p:spPr>
          <a:xfrm>
            <a:off x="755640" y="3357720"/>
            <a:ext cx="295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+7/3=18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х+х+0,6=4,2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34" name="WordArt 9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8661240" cy="1206720"/>
          </a:xfrm>
          <a:prstGeom prst="rect">
            <a:avLst/>
          </a:prstGeom>
          <a:ln w="0">
            <a:noFill/>
          </a:ln>
        </p:spPr>
      </p:pic>
      <p:sp>
        <p:nvSpPr>
          <p:cNvPr id="435" name="WordArt 10"/>
          <p:cNvSpPr txBox="1"/>
          <p:nvPr/>
        </p:nvSpPr>
        <p:spPr>
          <a:xfrm>
            <a:off x="4932360" y="141300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3,4 – 1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1,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 = 0,2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6" name="WordArt 11"/>
          <p:cNvSpPr txBox="1"/>
          <p:nvPr/>
        </p:nvSpPr>
        <p:spPr>
          <a:xfrm>
            <a:off x="5003640" y="3141720"/>
            <a:ext cx="345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18-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4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23,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7" name="WordArt 12"/>
          <p:cNvSpPr txBox="1"/>
          <p:nvPr/>
        </p:nvSpPr>
        <p:spPr>
          <a:xfrm>
            <a:off x="5003640" y="5300640"/>
            <a:ext cx="33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4,2-0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3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1,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8000"/>
              </a:solidFill>
              <a:latin typeface="Corbel"/>
            </a:endParaRPr>
          </a:p>
        </p:txBody>
      </p:sp>
      <p:pic>
        <p:nvPicPr>
          <p:cNvPr id="439" name="Picture 5" descr="551093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317920"/>
          </a:xfrm>
          <a:prstGeom prst="rect">
            <a:avLst/>
          </a:prstGeom>
          <a:ln w="0">
            <a:noFill/>
          </a:ln>
        </p:spPr>
      </p:pic>
      <p:sp>
        <p:nvSpPr>
          <p:cNvPr id="440" name="WordArt 6"/>
          <p:cNvSpPr txBox="1"/>
          <p:nvPr/>
        </p:nvSpPr>
        <p:spPr>
          <a:xfrm>
            <a:off x="250920" y="115920"/>
            <a:ext cx="8048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пала стрела царевича на царский дв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7451640" y="1413000"/>
            <a:ext cx="1152720" cy="86364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cc"/>
                </a:solidFill>
                <a:latin typeface="Arial"/>
              </a:rPr>
              <a:t>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9.25977E-006 C -0.05278 -0.003 -0.10538 -0.00601 -0.10104 0.03933 C -0.0967 0.08467 0.05504 0.22392 0.02587 0.27273 C -0.0033 0.32154 -0.22691 0.288 -0.27656 0.33241 C -0.32587 0.37683 -0.2434 0.48231 -0.27049 0.53921 C -0.29757 0.59612 -0.36615 0.75319 -0.43871 0.67407 C -0.51128 0.59496 -0.71667 0.08675 -0.70573 0.06431 C -0.69479 0.04187 -0.42812 0.45918 -0.37292 0.53921 E">
                                      <p:cBhvr>
                                        <p:cTn id="7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803097"/>
          <p:cNvPicPr/>
          <p:nvPr/>
        </p:nvPicPr>
        <p:blipFill>
          <a:blip r:embed="rId1"/>
          <a:stretch/>
        </p:blipFill>
        <p:spPr>
          <a:xfrm>
            <a:off x="285840" y="1071720"/>
            <a:ext cx="8499240" cy="542916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а второго царевича улетела на купеческий двор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250920" y="1844640"/>
            <a:ext cx="1296720" cy="100800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1.11111E-006 C 0.00695 -0.15671 0.1125 -0.3125 0.13108 -0.27731 C 0.14983 -0.24213 -0.01857 0.07315 0.01372 0.21158 C 0.04601 0.35 0.21546 0.51736 0.32518 0.55301 C 0.43507 0.58889 0.60521 0.49722 0.67205 0.42477 C 0.73907 0.35278 0.81059 0.18773 0.72743 0.12083 C 0.64427 0.05347 0.29549 -0.0463 0.17344 0.02176 C 0.05139 0.09005 0.02414 0.44421 -0.00468 0.52963 C -0.0335 0.61551 -0.01632 0.5757 0.0007 0.53588 E">
                                      <p:cBhvr>
                                        <p:cTn id="91" dur="5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6012000" y="2708280"/>
            <a:ext cx="1150920" cy="360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808049"/>
          <p:cNvPicPr/>
          <p:nvPr/>
        </p:nvPicPr>
        <p:blipFill>
          <a:blip r:embed="rId1"/>
          <a:stretch/>
        </p:blipFill>
        <p:spPr>
          <a:xfrm>
            <a:off x="1214280" y="164304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4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4067280" y="1916280"/>
            <a:ext cx="1081080" cy="2376360"/>
          </a:xfrm>
          <a:prstGeom prst="upArrow">
            <a:avLst>
              <a:gd name="adj1" fmla="val 65935"/>
              <a:gd name="adj2" fmla="val 5285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292720" y="3500280"/>
            <a:ext cx="1943280" cy="1297080"/>
          </a:xfrm>
          <a:prstGeom prst="rightArrow">
            <a:avLst>
              <a:gd name="adj1" fmla="val 50000"/>
              <a:gd name="adj2" fmla="val 3745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1403280" y="4292640"/>
            <a:ext cx="2303640" cy="1008000"/>
          </a:xfrm>
          <a:prstGeom prst="leftArrow">
            <a:avLst>
              <a:gd name="adj1" fmla="val 50000"/>
              <a:gd name="adj2" fmla="val 5713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4214880" y="2143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Прямоугольник 10" descr=""/>
          <p:cNvPicPr/>
          <p:nvPr/>
        </p:nvPicPr>
        <p:blipFill>
          <a:blip r:embed="rId2"/>
          <a:stretch/>
        </p:blipFill>
        <p:spPr>
          <a:xfrm>
            <a:off x="420840" y="0"/>
            <a:ext cx="836928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54" name="Diagram 5"/>
          <p:cNvGrpSpPr/>
          <p:nvPr/>
        </p:nvGrpSpPr>
        <p:grpSpPr>
          <a:xfrm>
            <a:off x="2676600" y="1679760"/>
            <a:ext cx="3878280" cy="4309920"/>
            <a:chOff x="2676600" y="1679760"/>
            <a:chExt cx="3878280" cy="4309920"/>
          </a:xfrm>
        </p:grpSpPr>
        <p:sp>
          <p:nvSpPr>
            <p:cNvPr id="455" name="_s1028"/>
            <p:cNvSpPr/>
            <p:nvPr/>
          </p:nvSpPr>
          <p:spPr>
            <a:xfrm flipH="1" flipV="1">
              <a:off x="3679560" y="32958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1029"/>
            <p:cNvSpPr/>
            <p:nvPr/>
          </p:nvSpPr>
          <p:spPr>
            <a:xfrm>
              <a:off x="2676600" y="24894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3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1030"/>
            <p:cNvSpPr/>
            <p:nvPr/>
          </p:nvSpPr>
          <p:spPr>
            <a:xfrm flipH="1">
              <a:off x="3681000" y="41040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1031"/>
            <p:cNvSpPr/>
            <p:nvPr/>
          </p:nvSpPr>
          <p:spPr>
            <a:xfrm>
              <a:off x="2678040" y="41054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7/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1032"/>
            <p:cNvSpPr/>
            <p:nvPr/>
          </p:nvSpPr>
          <p:spPr>
            <a:xfrm>
              <a:off x="4616280" y="4370400"/>
              <a:ext cx="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1033"/>
            <p:cNvSpPr/>
            <p:nvPr/>
          </p:nvSpPr>
          <p:spPr>
            <a:xfrm>
              <a:off x="4078440" y="49118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5/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1034"/>
            <p:cNvSpPr/>
            <p:nvPr/>
          </p:nvSpPr>
          <p:spPr>
            <a:xfrm>
              <a:off x="5079960" y="410220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1035"/>
            <p:cNvSpPr/>
            <p:nvPr/>
          </p:nvSpPr>
          <p:spPr>
            <a:xfrm>
              <a:off x="5476680" y="4104000"/>
              <a:ext cx="107820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1/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_s1036"/>
            <p:cNvSpPr/>
            <p:nvPr/>
          </p:nvSpPr>
          <p:spPr>
            <a:xfrm flipV="1">
              <a:off x="5079960" y="329436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_s1037"/>
            <p:cNvSpPr/>
            <p:nvPr/>
          </p:nvSpPr>
          <p:spPr>
            <a:xfrm>
              <a:off x="5476680" y="2487600"/>
              <a:ext cx="107820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5/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_s1038"/>
            <p:cNvSpPr/>
            <p:nvPr/>
          </p:nvSpPr>
          <p:spPr>
            <a:xfrm flipV="1">
              <a:off x="4614840" y="275580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_s1039"/>
            <p:cNvSpPr/>
            <p:nvPr/>
          </p:nvSpPr>
          <p:spPr>
            <a:xfrm>
              <a:off x="4076640" y="167976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0,0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_s1040"/>
            <p:cNvSpPr/>
            <p:nvPr/>
          </p:nvSpPr>
          <p:spPr>
            <a:xfrm>
              <a:off x="4076640" y="3297240"/>
              <a:ext cx="107784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,2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WordArt 23"/>
          <p:cNvSpPr txBox="1"/>
          <p:nvPr/>
        </p:nvSpPr>
        <p:spPr>
          <a:xfrm>
            <a:off x="684360" y="404640"/>
            <a:ext cx="6696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полнить число до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4143240" y="3643200"/>
            <a:ext cx="85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4143240" y="3714840"/>
            <a:ext cx="857520" cy="52056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2786040" y="2857680"/>
            <a:ext cx="785880" cy="45972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0,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34960" y="1523880"/>
            <a:ext cx="36576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⅛ 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+ ⅜ + ⅝ + ⅞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¼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½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8/19 – 7/19 – 1/1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Найдите сумму отве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508360" y="1599840"/>
            <a:ext cx="3384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1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dc765"/>
                </a:solidFill>
                <a:uFillTx/>
                <a:latin typeface="Georgia"/>
                <a:hlinkClick r:id="rId1" action="ppaction://hlinksldjump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WordArt 4"/>
          <p:cNvSpPr txBox="1"/>
          <p:nvPr/>
        </p:nvSpPr>
        <p:spPr>
          <a:xfrm rot="789000">
            <a:off x="1258920" y="404640"/>
            <a:ext cx="65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774000"/>
                </a:gradFill>
                <a:latin typeface="Georgia"/>
              </a:rPr>
              <a:t>Вычисля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774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44:00Z</dcterms:created>
  <dc:creator>Лена</dc:creator>
  <dc:description/>
  <dc:language>en-US</dc:language>
  <cp:lastModifiedBy>Admin</cp:lastModifiedBy>
  <dcterms:modified xsi:type="dcterms:W3CDTF">2005-01-01T00:21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40000000000010243100207f6000400038000</vt:lpwstr>
  </property>
</Properties>
</file>