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5E5B-502D-4DC7-9ED2-E7205A072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ADE9-C8A0-443B-8CB2-7F8C40E9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9B94-85A4-422B-85FD-CFB6FAFB7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D5F0-2BE2-486E-9B2F-EC09E8970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B27FE-8931-4564-BB1B-491CECC1E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6F960-537B-494A-BE18-CE204886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9824-B83E-45BD-99EF-BAC5EE38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04E29-0F92-4757-9617-C3278C42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FD3E-C5DB-49C6-B2C2-B12DDCC5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9B6C-4A3E-489E-9E5F-FC0EC4CB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41A2-BECD-4E27-8ADD-990D674D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0F4E-7654-49A6-8C96-3CACFA5B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4869-B124-4D34-AF44-37B9AF40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2CB8-40F5-4D32-B3D0-127F3D5A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06B9-3917-4595-A405-E468F97D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78BB-9AA7-451E-AABB-5034B315D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E207A-46C5-49AB-AC90-A7BE2C717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27D4-AC14-4C1A-82F0-5153FC71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4574-787B-482F-A4B7-9589C739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01C2-2386-4400-AD46-2417788A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1830-B632-43EE-AF80-729F18E1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3EF1-42C2-4650-87F7-577AD86F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B2C9-8E90-4840-A70B-45873686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990A-940A-4130-AE12-81078BCC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FC97-50F7-4A1F-A44D-CD154665C1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BDE9-017C-42F9-A37D-81C4152D4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Перпендикуляр и наклонная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рок геометрии в 10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86800" y="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620640"/>
            <a:ext cx="4572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жем третье утверждение: одна наклонная длиннее другой тогда и только тогда, когда ортогональная проекция первой наклонной длиннее ортогональной проекции второй наклонной. Пусть, например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ложим на отрезк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ку Е такую, что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=BE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гда 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=AE.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реугольник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гол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EC тупой и поэтому больше угл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овательно, сторон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е стороны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Е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ой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о, пусть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ы три случая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C=BD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)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C=B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по доказанному выше в пункте 2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=A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противоречит условию. Есл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мы только что доказали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опять противоречит условию. Остается третья возможность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рема доказ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64000" y="501336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С больш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е стороны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Е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ой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894200" y="1413000"/>
            <a:ext cx="424980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724360" y="1413000"/>
            <a:ext cx="3019680" cy="3867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410480" y="260280"/>
            <a:ext cx="63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Расстояние от точки до плоск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907920"/>
            <a:ext cx="4824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сстоянием от точки до плоскост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е проходящей через эту точку) называется длина перпендикуляра, опущенного из точки на эту плоскость. Из теоремы о свойствах ортогональной проекции следует, что расстояние от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плоск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о наименьшему расстоянию от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точек этой плоск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20680" y="189000"/>
            <a:ext cx="562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о расстоя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от разных точек до плоск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76360" y="1557360"/>
            <a:ext cx="6335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ечание 1 (свойство расстоянии от разных точек до плоскости). Пусть две точки А и В не принадлежат плоскост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а прямая АВ пересекает плоскос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точке С. Тогда расстояния от точек А и В до плоскост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сятся как отрезки АС и ВС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203640" y="5229360"/>
            <a:ext cx="2520720" cy="10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50920" y="193680"/>
            <a:ext cx="5111640" cy="61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казатель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два случая. В случае 1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 находятся по одну сторону от плоск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ортогональные проекции точек А и В на плоскость —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енно. Тогда пряма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ортогональной проекцией прямо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 проходит через точку С. В плоскости , проходящей через прям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оугольные треугольни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обны, и поэтому их катеты пропорциональны гипотенуз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16000" y="6093000"/>
            <a:ext cx="2638440" cy="731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724360" y="3933720"/>
            <a:ext cx="26654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ямоугольные треугольник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В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об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400720" y="620640"/>
            <a:ext cx="3743280" cy="33339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292720" y="5157720"/>
            <a:ext cx="353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учай 2, когда точки А и В расположены по разную сторону от плоскости, разберите самостоятельно. Замечание 1 доказа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0" y="141300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мечание 2 (свойство расстояния от середины отрезка до плоскост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сть расстояния от точек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вны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оответственно. Тогда расстояние от середины С отрезка АВ до этой плоскости рав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94800" y="189000"/>
            <a:ext cx="795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о расстояния от середины отрез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до плос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5157720"/>
            <a:ext cx="324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чк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  если точки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4086360" cy="3400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716360" y="3429000"/>
            <a:ext cx="666720" cy="7430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643280" y="4797360"/>
            <a:ext cx="762120" cy="6955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580000" y="3429000"/>
            <a:ext cx="35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точк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51640" y="4724280"/>
            <a:ext cx="327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точк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  если точки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разные стороны 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51280" y="907920"/>
            <a:ext cx="5076720" cy="50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Прямая, лежащая в плоскости, перпендикулярна наклонной тогда и только тогда, когда она перпендикулярна ее ортогональной прое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сть даны плоскост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перпендикуляр АВ на эту плоскость, наклонная АС, и прям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Нам надо доказать два взаимно обратных утверждения. Первое утверждение: если прям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пендикулярна наклонной АС, то она перпендикулярна и ее ортогональной проекции ВС. И обратно: если прям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пендикулярна ортогональной проекции В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 она перпендикулярна и наклонной 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4797360"/>
            <a:ext cx="313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пендикуляр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В 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лоскост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клон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С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а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99200" y="0"/>
            <a:ext cx="610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Теорема о трех перпендикуля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37814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5131080" cy="5329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343480" y="981000"/>
            <a:ext cx="3800520" cy="28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084720" y="4005360"/>
            <a:ext cx="285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рямая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перпендикулярна плоскости АВС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50920" y="765000"/>
            <a:ext cx="889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усть даны плоскость и наклонная прямая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Углом между прямой и плоскостью называется угол между прямой и ее ортогональной проекцией на эту плоскость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прямая параллельна плоскости, то угол между ней и плоскостью считается равным нулю. Если прямая перпендикулярна плоскости, то угол между ней и плоскостью прямой, т. е. равен 9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63960" y="189000"/>
            <a:ext cx="678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Угол между наклонной и плоск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1600" y="6165720"/>
            <a:ext cx="80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гол между наклонной и ее ортогональной проекцией на плоскость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76360" y="3357720"/>
            <a:ext cx="540072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5662800" cy="4032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796000" y="1052640"/>
            <a:ext cx="3348000" cy="20365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084720" y="3068640"/>
            <a:ext cx="3348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Перпендикуляр, наклонная и 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ортогональная проекция образу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прямоугольный треугольн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4360" y="1412640"/>
            <a:ext cx="80071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р: Аверкина Т.П., учитель МОУ «Тархановская СОШ» Ичалковского района 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26920" y="189000"/>
            <a:ext cx="806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одном из предыдущих уроков вы познакомились с понятием проекции точки на данную плоскость параллельно данной пря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этом уроке вы продолжите изучение прямых и плоскостей; узнаете, как находится угол между прямой и плоскостью. Вы познакомитесь с понятием ортогональной проекции на плоскость и рассмотрите ее свойства. На уроке будут даны определения расстояния от точки до плоскости и от точки до прямой, угла между прямой и плоскостью. Будет доказана знаменитая теорема о тре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пендикуляр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25320" y="266760"/>
            <a:ext cx="78948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34880" y="209520"/>
            <a:ext cx="8275680" cy="64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987640" y="476280"/>
            <a:ext cx="5940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ртогональной проекцие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данную плоскость называется проекция точки на эту плоскость параллельно прямой, перпендикулярной этой плоскости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ртогональная проекция фигур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данную плоскость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ит из ортогональных проекций на плоскость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х точек этой фиг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тогональная проекция часто используется для изображения пространственных тел на плоскости, особенно в технических чертежах. Она дает более реалистическое изображение, чем произвольная параллельная проекция, особенно круглых 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01760" y="65160"/>
            <a:ext cx="467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Ортогональная прое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2495520" cy="1981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79280" y="3500280"/>
            <a:ext cx="2486160" cy="1952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3440" y="2637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тогональная проек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чки и фиг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3440" y="57340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тогональная проек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т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50920" y="83664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через точку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принадлежащую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оведена прямая, перпендикулярная этой плоскости и пересекающая ее в точке В. Тогда отрезо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ерпендикуляром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ущенным из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эту плоскость, а сама точка В — основанием этого перпендикуляра. Любой отрезо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С — произвольная точка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тличная от В, называетс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клонно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этой плос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тим, что точка В в этом определении является ортогональной проекцией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отрезо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ортогональной проекцией наклонн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 Ортогональные проекции обладают всеми свойствами обычных параллельных проекций, но имеют и ряд новых свой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35280" y="260280"/>
            <a:ext cx="34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пендикуляр и накл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65800" y="479736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пендикуляр и наклонн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896000" y="1413000"/>
            <a:ext cx="42480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86800" y="18900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787320"/>
            <a:ext cx="8280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усть из одной точки к плоскости проведены перпендикуляр и несколько наклонных. Тогда справедливы следующие утвер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      Любая наклонная длиннее как перпендикуляра, так и ортогональной проекции наклонной на эту плоск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        Равные наклонные имеют и равные ортогональные проекции, и наоборот, наклонные, имеющие равные проекции, также рав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       Одна наклонная длиннее другой тогда и только тогда, когда ортогональная проекция первой наклонной длиннее ортогональной проекции второй наклон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86800" y="18900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76500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из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ведены перпендикуляр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ве наклонны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тогда отрезки ВС 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ортогональные проекции этих отрезков на плоско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жем первое утверждение: любая наклонная длиннее как перпендикуляра, так и ортогональной проекции наклонной на эту плоскость. Рассмотрим, например, наклонную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и треугольник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C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нный перпендикуляро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, этой наклонн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, и ее ортогональной проекцией ВС. Этот треугольник прямоугольный с прямым углом в вершине В и гипотенуз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, которая, как мы знаем из планиметрии, длиннее каждого из катетов, т.е. и перпендикуля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, и проекции В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97560" y="4221000"/>
            <a:ext cx="364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точки А к плоск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пендикуляр АВ и две наклонны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64000" y="1413000"/>
            <a:ext cx="33912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86800" y="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80000" y="558720"/>
            <a:ext cx="5076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перь докажем второе утверждение, а именно: равные наклонные имеют и равные ортогональные проекции, и наоборот, наклонные, имеющие равные проекции, также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прямоугольные треугольни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BD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и имеют общий кате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Если наклонн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ы, то прямоугольные треугольни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ы по катету и гипотенузе, и тогд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=BD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тно, если равны проекции ВС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эти же треугольники равны по двум катетам, и тогда у них равны и гипотенуз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458136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угольник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ы по катету и гипотенуз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378000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6:11:06Z</dcterms:created>
  <dc:creator>Надя</dc:creator>
  <dc:description/>
  <dc:language>en-US</dc:language>
  <cp:lastModifiedBy>Андрюха</cp:lastModifiedBy>
  <dcterms:modified xsi:type="dcterms:W3CDTF">2007-12-09T06:50:18Z</dcterms:modified>
  <cp:revision>58</cp:revision>
  <dc:subject/>
  <dc:title>Перпендикуляр и наклонная</dc:title>
</cp:coreProperties>
</file>