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18B-46B5-44B8-AB96-00194CF0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EFF-818D-4D6F-85FE-CE6EA9A6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3A3-DC12-4D9D-A075-0C431B8C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AD9-C5E9-4B47-8EFC-6158FB41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5FF3-35B9-46F1-9A8A-9E43C7BB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00A7-22DB-4889-8059-E810550D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B0DB-9297-4729-9AC4-0B6E92AA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1E40-8CD5-41C8-B2D3-89D800BF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85CC-1C58-4E8E-8AA3-B1AA406E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C47D-0BDE-4A9A-87EC-908ED65F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DEE7-4B47-4ACD-85EB-1AD5BB28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696-11D2-47AF-BD2F-80F7082B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9829-98D4-44C6-ABA8-4230C84D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FD6F-B69F-45D8-B35A-972971D3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76D2-F5FB-4314-ABAB-2CCA9777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1E9-929C-4C39-A56B-CC7EF659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1A19-509E-4B07-80A2-AB917967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80E-E10D-43A2-A88D-E3DADC7C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178-6A82-4DE3-85AF-F02E681E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598-0465-4168-B196-C08D0593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B53-0B65-42D9-A083-21CCB85D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E64-332C-4C76-AAB7-71E32F3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E95-FA74-4DB3-9153-C1B470E9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3CA-63DC-4296-A3C0-19440AF2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E799-B329-4DAA-A0E9-A5FE8113A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231F-D722-437E-8CAB-DB998DCFC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Андрюха</cp:lastModifiedBy>
  <dcterms:modified xsi:type="dcterms:W3CDTF">2007-12-09T06:50:18Z</dcterms:modified>
  <cp:revision>58</cp:revision>
  <dc:subject/>
  <dc:title>Перпендикуляр и наклонная</dc:title>
</cp:coreProperties>
</file>