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307-4EB4-43BB-82C3-300629FD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CB9-67ED-4EB6-AF2E-4589D769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5F4-A2BF-4539-8B54-5045A446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42BD-2D63-41D0-AC54-57A42BB3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71EC-CD8A-4136-A1E5-D7B4E25B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FAE0-3623-431A-8DCE-B0277A82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B1DB-930D-4B59-93B4-B142FE43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18E7-6928-416D-AE86-EF65F64E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932C-11BF-4B03-9A43-37EAFC53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27B9-1BEE-42A8-9D09-96E53876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1E04-3808-4478-B587-4A8D2EE8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26A-8E3A-4132-8F4E-6D6422ED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760A-EF87-4AB5-A8AD-01611346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DF89-86A2-41F7-AF7E-DC3E0350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D363-0399-48B0-872C-0CDBB41E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5F9B-7819-4343-B970-7BFE9391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C87C-6A04-4C95-9CED-5BCF7211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0A2-344B-4ACA-80D8-79D3A7FF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7A49-19D2-4F73-8715-6540352A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FEE9-6893-492D-BA61-D36CEF0E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CCC6-B2AD-40F2-95A5-BA25E297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4BB-40D0-4781-826F-7639857C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5E57-CA84-410F-BB72-BFF43FF6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367-0447-424C-B143-EB61FDE0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1F40-FC89-496A-B1EE-338C3F77D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34D9-ED17-40F9-A209-36F6BF818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Перпендикуляр и наклонная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ок геометрии в 10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62064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ожим на отрез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у Е такую, чт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=BE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=AE.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угольни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C тупой и поэтому больше уг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 сторо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о, пус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 три случа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о доказанному выше в пункте 2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=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тиворечит условию. 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ы только что доказал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пять противоречит условию. Остается третья возможность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5013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С больш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94200" y="1413000"/>
            <a:ext cx="424980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019680" cy="3867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10480" y="260280"/>
            <a:ext cx="63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Расстояние от точки до плос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907920"/>
            <a:ext cx="48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тоянием от точки до плоск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наименьшему расстоянию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точек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20680" y="189000"/>
            <a:ext cx="56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т разных точек до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557360"/>
            <a:ext cx="63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прямая АВ пересекает плоск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С. Тогда расстояния от точек А и В до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тся как отрезки АС и В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03640" y="5229360"/>
            <a:ext cx="252072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193680"/>
            <a:ext cx="5111640" cy="61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два случая. В случае 1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находятся по одну сторону от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ортогональные проекции точек А и В на плоскость —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. Тогда пряма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ортогональной проекцией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проходит через точку С. В плоскости , проходящей через 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ы, и поэтому их катеты пропорциональны гипотенуз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16000" y="6093000"/>
            <a:ext cx="2638440" cy="731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724360" y="3933720"/>
            <a:ext cx="2665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400720" y="620640"/>
            <a:ext cx="3743280" cy="3333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92720" y="5157720"/>
            <a:ext cx="353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0" y="1413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чание 2 (свойство расстояния от середины отрезка до плоск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расстояния от точек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вны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ответственно. Тогда расстояние от середины С отрезка АВ до этой плоскости рав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4800" y="189000"/>
            <a:ext cx="79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я от середины отре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15772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86360" cy="3400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666720" cy="743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643280" y="4797360"/>
            <a:ext cx="762120" cy="695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580000" y="342900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51640" y="47242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разные стороны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1280" y="907920"/>
            <a:ext cx="507672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даны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ерпендикуляр АВ на эту плоскость, наклонная АС, 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ортогональной проекции В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она перпендикулярна и наклонной 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4797360"/>
            <a:ext cx="31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 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кл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С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9200" y="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Теорема о трех перпендикуля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3781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131080" cy="5329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343480" y="981000"/>
            <a:ext cx="3800520" cy="28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84720" y="4005360"/>
            <a:ext cx="285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ая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перпендикулярна плоскости АВ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0920" y="76500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усть даны плоскость и наклонная прямая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63960" y="189000"/>
            <a:ext cx="67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Угол между наклонной и плос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1600" y="6165720"/>
            <a:ext cx="80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ол между наклонной и ее ортогональной проекцией на плоскость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54007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662800" cy="403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3348000" cy="203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84720" y="3068640"/>
            <a:ext cx="33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ерпендикуляр, наклонная и 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ортогональная проекция образ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прямоугольный тре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0071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Аверкина Т.П., учитель МОУ «Тархановская СОШ» Ичалковского района 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189000"/>
            <a:ext cx="80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пендикуля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5320" y="266760"/>
            <a:ext cx="7894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4880" y="209520"/>
            <a:ext cx="827568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987640" y="476280"/>
            <a:ext cx="59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ой проекци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фигу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ортогональных проекций на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точек эт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01760" y="65160"/>
            <a:ext cx="46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ртогональная про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495520" cy="1981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486160" cy="1952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3440" y="263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и и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3440" y="57340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8366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через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инадлежащую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пендикуляром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ущенным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С — произвольная точка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личная от В,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клонн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ой проекцие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2602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пендикуляр и накл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5800" y="47973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пендикуляр и наклон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96000" y="1413000"/>
            <a:ext cx="4248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78732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765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дены перпендикуля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ве наклон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тогда отрезки ВС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ые проекции этих отрезков 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 треугольни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ный перпендикуляр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это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и проекции 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97560" y="4221000"/>
            <a:ext cx="364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чки А к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 АВ и две накло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1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558720"/>
            <a:ext cx="507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имеют общий кат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Если наклон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, то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 по катету и гипотенузе, и тог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=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, если равны проекции 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эти же треугольники равны по двум катетам, и тогда у них равны и гипотенуз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458136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 по катету и гипотену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37800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6:11:06Z</dcterms:created>
  <dc:creator>Надя</dc:creator>
  <dc:description/>
  <dc:language>en-US</dc:language>
  <cp:lastModifiedBy>Андрюха</cp:lastModifiedBy>
  <dcterms:modified xsi:type="dcterms:W3CDTF">2007-12-09T06:50:18Z</dcterms:modified>
  <cp:revision>58</cp:revision>
  <dc:subject/>
  <dc:title>Перпендикуляр и наклонная</dc:title>
</cp:coreProperties>
</file>