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E74-90A9-4F10-A2AF-CF16EC04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03F-3EC7-4E02-AD5F-0E64ECD8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3491-5605-4564-89F4-3C8440EF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FB2-D3EE-4581-95BD-0A0EDB38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7208-AEB4-4029-A7D9-F994059B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CABF-5A46-45CC-84F5-2A6A94FD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C921-AECB-496A-97F7-69DDB1FE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F04F-7460-4748-B00F-ABE68A11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1BEF-FE13-412E-87D3-E5BFA699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ECAE-E173-41AF-9951-4D322793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2992-6604-445F-AC78-CF9286B7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1F5A-9864-4385-84DD-68A23C72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8097-4DD0-4390-9B1A-66632845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57DA-2D31-4760-B0D9-EBE97D6C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D7B8-9067-4A59-BEA7-3E3FACD1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8650-1488-45C1-87E7-C2461DF4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F2E0-4CA7-4A5F-BEBC-F7BC3473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E05-72A8-41C4-B27D-D8E7F18F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155-AE71-4829-A42E-249CC121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9C40-E78D-491A-9390-F40F3509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4FB-579F-41BB-8BE3-DD457993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909-A8C5-408F-A1D7-EC6D9C6F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B7E-0C2F-4662-B16F-0E0C036B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BF8-2685-4CDA-AABD-0AF5ADA1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BB94-39D1-4CA2-916D-4D43A9789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E2E7-62D0-46B4-A846-D860A7459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Перпендикуляр и наклонная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206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м на отрез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у Е такую, чт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=BE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=AE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C тупой и поэтому больше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сторо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, пус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три случа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 доказанному выше в пункте 2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=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тиворечит условию. 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 только что доказал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пять противоречит условию. Остается третья возможность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501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 больш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94200" y="1413000"/>
            <a:ext cx="42498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19680" cy="3867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10480" y="260280"/>
            <a:ext cx="63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Расстояние от точки до плос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90792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тоянием от точки до плоск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наименьшему расстоянию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очек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20680" y="189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т разных точек до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557360"/>
            <a:ext cx="63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прямая АВ пересекает плоск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С. Тогда расстояния от точек А и В до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как отрезки АС и В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3640" y="5229360"/>
            <a:ext cx="252072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193680"/>
            <a:ext cx="51116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ва случая. В случае 1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находятся по одну сторону от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ортогональные проекции точек А и В на плоскость —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. Тогда пряма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ортогональной проекцией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проходит через точку С. В плоскости , проходящей через 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ы, и поэтому их катеты пропорциональны гипотенуз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6093000"/>
            <a:ext cx="2638440" cy="731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24360" y="3933720"/>
            <a:ext cx="26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00720" y="620640"/>
            <a:ext cx="3743280" cy="3333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92720" y="5157720"/>
            <a:ext cx="353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0" y="1413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чание 2 (свойство расстояния от середины отрезка до плоск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расстояния от точек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вны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ответственно. Тогда расстояние от середины С отрезка АВ до этой плоскости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00" y="189000"/>
            <a:ext cx="79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я от середины отре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15772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86360" cy="3400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666720" cy="743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643280" y="4797360"/>
            <a:ext cx="762120" cy="695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580000" y="34290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47242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разные стороны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1280" y="907920"/>
            <a:ext cx="507672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даны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пендикуляр АВ на эту плоскость, наклонная АС, 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ортогональной проекции 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она перпендикулярна и наклонной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4797360"/>
            <a:ext cx="31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С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920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3781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31080" cy="532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43480" y="981000"/>
            <a:ext cx="3800520" cy="28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84720" y="4005360"/>
            <a:ext cx="285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ая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перпендикулярна плоскости АВ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765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сть даны плоскость и наклонная прямая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63960" y="189000"/>
            <a:ext cx="67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Угол между наклонной и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1600" y="6165720"/>
            <a:ext cx="80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ол между наклонной и ее ортогональной проекцией на плоскос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54007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62800" cy="403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84720" y="3068640"/>
            <a:ext cx="33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ерпендикуляр, наклонная и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ортогональная проекция обра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рямоугольный тре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Аверкина Т.П., учитель МОУ «Тархановская СОШ» Ичалковского района 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189000"/>
            <a:ext cx="80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пендикуля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987640" y="476280"/>
            <a:ext cx="59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ой прое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фиг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ортогональных проекций на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точек эт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1760" y="65160"/>
            <a:ext cx="46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ртогональная про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495520" cy="1981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486160" cy="1952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3440" y="26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и и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3440" y="5734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836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через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инадлежащ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пендикуляро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щенным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 — произвольная точка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личная от В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лон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ой проекцие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260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5800" y="47973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4248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7873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ы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ве наклон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тогда отрезки ВС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ые проекции этих отрезков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 треугольн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 перпендикуля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это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и проекции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97560" y="4221000"/>
            <a:ext cx="364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к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 АВ и две накло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1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558720"/>
            <a:ext cx="50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имеют общий кат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Если накло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, то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катету и гипотенузе, и 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=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, если равны проекции 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эти же треугольники равны по двум катетам, и тогда у них равны и гипотенуз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581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 по катету и гипотену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11:06Z</dcterms:created>
  <dc:creator>Надя</dc:creator>
  <dc:description/>
  <dc:language>en-US</dc:language>
  <cp:lastModifiedBy>Андрюха</cp:lastModifiedBy>
  <dcterms:modified xsi:type="dcterms:W3CDTF">2007-12-09T06:50:18Z</dcterms:modified>
  <cp:revision>58</cp:revision>
  <dc:subject/>
  <dc:title>Перпендикуляр и наклонная</dc:title>
</cp:coreProperties>
</file>