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8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15.gif" ContentType="image/gif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699-81C5-4E54-8F89-61891C32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E9E9-474F-469B-9D7B-55066510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E89-8570-4837-BE56-140111DA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89E-499C-427D-B1E9-BEF480E6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7BE8-F639-4062-9734-B8FB14A3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613E-8FF3-48D2-8C61-473535FF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387A-64C0-4493-88F4-91EDB36B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C198-BB75-457E-8D03-91BC5EFE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BCE7-79EA-4B81-A3ED-E38D6D29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3B73-CED7-47B5-A8BA-FFF852D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9325-3021-4236-BBFC-F43E6D18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ED9-ADBA-4950-B1BA-6AB738E9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6A1C-9310-4571-89C0-B88F7A79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826E-48FD-44AE-A79D-E6137800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16B5-FA64-483A-B5E6-779B14E5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0858-6CEB-4C8F-877C-B50F7DF5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ED0-8FD4-459F-9780-65ED1739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995F-B083-4D48-885D-9A578194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9144-9B1D-4639-9F3A-40F449B3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EF1-0F9B-477B-9F64-1270EEB5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B918-8B9D-4391-8399-7A0BF281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A26-419D-4CDC-8BAB-5D9BC6A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031-0A8B-470D-81EF-ED7ED79F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C0B-3EE6-4D5B-A6CC-C3983A21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DB2C-B401-4F91-A04B-E4520EC091A4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A781-5AF0-48B0-B931-530A262274C4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ereplet.ru/obrazovanie/stsoros/67.html" TargetMode="External"/><Relationship Id="rId3" Type="http://schemas.openxmlformats.org/officeDocument/2006/relationships/hyperlink" Target="http://www.hrono.ru/biograf/lobachevski.html" TargetMode="External"/><Relationship Id="rId4" Type="http://schemas.openxmlformats.org/officeDocument/2006/relationships/hyperlink" Target="http://ns.math.rsu.ru/mexmat/polesno/evklid.ru.html" TargetMode="External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../../project_support/student_support/glaza.doc" TargetMode="External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project_support/student_support/&#1045;&#1074;&#1082;&#1083;&#1080;&#1076;_&#1084;&#1072;&#1090;&#1077;&#1084;&#1072;&#1090;&#1080;&#1082;.doc" TargetMode="External"/><Relationship Id="rId3" Type="http://schemas.openxmlformats.org/officeDocument/2006/relationships/hyperlink" Target="http://ru.wikipedia.org/wiki/&#1048;&#1079;&#1086;&#1073;&#1088;&#1072;&#1078;&#1077;&#1085;&#1080;&#1077;:Euklid2.jpg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бачевский и его геометрия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11280" y="2421000"/>
            <a:ext cx="2751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а: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2637000"/>
            <a:ext cx="8064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чему возникла "новая" геометрия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51280" y="5516640"/>
            <a:ext cx="49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аботу выполнили учащиеся 10В класса средней школы №2  г.Кувандыка Лапшинова Маша и Казаков Анатолий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56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eff1"/>
                </a:solidFill>
                <a:latin typeface="Arial Black"/>
              </a:rPr>
              <a:t>ТЕСТ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Предлагаем Вашему вниманию тест. Вы можете его выполнить в том случае, если уже прошли курс геометрии 7 класса.</a:t>
            </a:r>
            <a:endParaRPr b="0" lang="en-US" sz="4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5300640"/>
            <a:ext cx="29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ание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1a07"/>
                </a:solidFill>
                <a:latin typeface="Arial Black"/>
              </a:rPr>
              <a:t>Вывод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ак показали исследования, геометрия Лобачевского (в то числе и 5-ый постулат) совершенно верна, если ее рассматривать не на плоскости, а на поверхности гиперболического параболоида (вогнутой поверхности, напоминающей седло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 Это своеобразная аксиома развития науки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25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Список литературы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хоутен Я. А. Риманова геометрия, пер. с англ., М., 1948;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бачевский Н.И. Полное собрание                                                        сочинений, тт. 1–5. М. – Л., 1946–195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99eff1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hrono.ru/biograf/lobachevski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s.math.rsu.ru/mexmat/polesno/evklid.ru.html</a:t>
            </a:r>
            <a:r>
              <a:rPr b="1" lang="ru-RU" sz="1600" spc="-1" strike="noStrike">
                <a:solidFill>
                  <a:srgbClr val="969696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иография Евклида.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Гипотеза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981000"/>
            <a:ext cx="820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Любая теория современной науки считается единственно верной, пока  не создана следующая.</a:t>
            </a:r>
            <a:r>
              <a:rPr b="0" lang="ru-RU" sz="2000" spc="-1" strike="noStrike">
                <a:solidFill>
                  <a:srgbClr val="99eff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Невозможность доказать некоторое геометрическое утверждение средствами евклидовой геометрии послужило поводом построения другой геометрии, которая также является верн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781360"/>
            <a:ext cx="4643280" cy="43628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Был мудрым Евклид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Но его параллели,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Как будто бы вечные сваи лег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мысли его, что как стрелы летели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Всегда оставались в пределах Земл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А там, во вселенной, другие законы,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Там точками служат иные тела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И там параллельных лучей миллионы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Monotype Corsiva"/>
              </a:rPr>
              <a:t>Природа сквозь Марс, может быть, провел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78136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492280"/>
            <a:ext cx="3600360" cy="30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"/>
              </a:rPr>
              <a:t>Цель: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e8eb"/>
                </a:solidFill>
                <a:latin typeface="Arial"/>
              </a:rPr>
              <a:t>Найти доказательство того, что истинно утверждение «через точку, не лежащую на данной прямой, проходят по крайней мере две прямые, лежащие с данной прямой в одной плоскости и параллельные ей»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7400"/>
                            </p:stCondLst>
                            <p:childTnLst>
                              <p:par>
                                <p:cTn id="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2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2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2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a305e"/>
                </a:solidFill>
                <a:latin typeface="Arial Black"/>
              </a:rPr>
              <a:t>Задачи: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920" y="1052280"/>
            <a:ext cx="765648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провести эксперимент «Иллюзии зрения»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постулаты Евклидовой геометрии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изучить аксиомы геометрии Лобачевского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сравнительный анализ двух геометрий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выяснить нет ли геометрий, основанных на других аксиомах;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99eff1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eff1"/>
                </a:solidFill>
                <a:latin typeface="Bookman Old Style"/>
              </a:rPr>
              <a:t>сделать выводы.</a:t>
            </a: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6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6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6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6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6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6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eff1"/>
                </a:solidFill>
                <a:latin typeface="Arial Black"/>
              </a:rPr>
              <a:t>Видите движение на этой картинке?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6337440" cy="3373560"/>
          </a:xfrm>
          <a:prstGeom prst="rect">
            <a:avLst/>
          </a:prstGeom>
          <a:ln w="76320">
            <a:solidFill>
              <a:srgbClr val="1283c8"/>
            </a:solidFill>
            <a:miter/>
          </a:ln>
        </p:spPr>
      </p:pic>
    </p:spTree>
  </p:cSld>
  <p:transition spd="slow">
    <p:strips dir="l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99eff1"/>
                </a:solidFill>
                <a:latin typeface="Arial Black"/>
              </a:rPr>
              <a:t>Эксперимент «Иллюзии зрения»</a:t>
            </a:r>
            <a:endParaRPr b="0" lang="en-US" sz="3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311640" cy="388908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буквы расположены параллельно (стоят прямо) или нет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                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3170160" cy="1363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rot="1278600">
            <a:off x="3354120" y="2147400"/>
            <a:ext cx="3311280" cy="316728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     3%         97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сего спираль окружности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300   100%       0%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кружности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2720" y="1052640"/>
            <a:ext cx="2232000" cy="4392360"/>
          </a:xfrm>
          <a:prstGeom prst="rect">
            <a:avLst/>
          </a:prstGeom>
          <a:solidFill>
            <a:srgbClr val="00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рисунке изображена спираль или несколько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кружностей?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091280" y="1125360"/>
            <a:ext cx="1677960" cy="1727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3213000"/>
            <a:ext cx="288000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203640" y="3213000"/>
            <a:ext cx="28872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860640"/>
            <a:ext cx="288108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84360" y="4365720"/>
            <a:ext cx="28764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3500280"/>
            <a:ext cx="2879640" cy="11527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50920" y="3500280"/>
            <a:ext cx="289080" cy="6494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88000" y="3860640"/>
            <a:ext cx="288720" cy="6480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 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333399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333399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сли интересно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remove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4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16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19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animClr clrSpc="rgb">
                                      <p:cBhvr>
                                        <p:cTn id="120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a305e"/>
                                      </p:to>
                                    </p:animClr>
                                    <p:set>
                                      <p:cBhvr>
                                        <p:cTn id="121" dur="5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5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иколай Иванович Лобачевский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(1792 – 1856 гг.)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Все! Перечеркнуты “Начала”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Довольно мысль на них скучала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Хоть прав почти во всем Евклид,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о быть не вечно постоянству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плоскость свернута в пространство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 мир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Иной имеет вид..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69696"/>
                </a:solidFill>
                <a:latin typeface="Arial"/>
              </a:rPr>
              <a:t>Краткое описание геометрии Лобачевского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Заменив </a:t>
            </a:r>
            <a:r>
              <a:rPr b="1" lang="en-US" sz="2000" spc="-1" strike="noStrike">
                <a:solidFill>
                  <a:srgbClr val="99eff1"/>
                </a:solidFill>
                <a:latin typeface="Arial"/>
              </a:rPr>
              <a:t>V </a:t>
            </a:r>
            <a:r>
              <a:rPr b="1" lang="ru-RU" sz="2000" spc="-1" strike="noStrike">
                <a:solidFill>
                  <a:srgbClr val="99eff1"/>
                </a:solidFill>
                <a:latin typeface="Aria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2" name="" descr="Лобачёвский Николай Иванович"/>
          <p:cNvPicPr/>
          <p:nvPr/>
        </p:nvPicPr>
        <p:blipFill>
          <a:blip r:embed="rId2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99eff1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700"/>
                            </p:stCondLst>
                            <p:childTnLst>
                              <p:par>
                                <p:cTn id="2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45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200"/>
                            </p:stCondLst>
                            <p:childTnLst>
                              <p:par>
                                <p:cTn id="2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900"/>
                            </p:stCondLst>
                            <p:childTnLst>
                              <p:par>
                                <p:cTn id="28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950"/>
                            </p:stCondLst>
                            <p:childTnLst>
                              <p:par>
                                <p:cTn id="2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9600"/>
                            </p:stCondLst>
                            <p:childTnLst>
                              <p:par>
                                <p:cTn id="2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Евклид (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III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 век до н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 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э</a:t>
            </a:r>
            <a:r>
              <a:rPr b="0" lang="en-US" sz="2000" spc="-1" strike="noStrike">
                <a:solidFill>
                  <a:srgbClr val="99eff1"/>
                </a:solidFill>
                <a:latin typeface="Arial Black"/>
              </a:rPr>
              <a:t>.</a:t>
            </a:r>
            <a:r>
              <a:rPr b="0" lang="ru-RU" sz="2000" spc="-1" strike="noStrike">
                <a:solidFill>
                  <a:srgbClr val="99eff1"/>
                </a:solidFill>
                <a:latin typeface="Arial Black"/>
              </a:rPr>
              <a:t>)</a:t>
            </a:r>
            <a:br>
              <a:rPr sz="20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Древнегреческий</a:t>
            </a:r>
            <a:r>
              <a:rPr b="0" lang="en-US" sz="18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математик, автор первого трактата </a:t>
            </a:r>
            <a:br>
              <a:rPr sz="1800"/>
            </a:br>
            <a:r>
              <a:rPr b="0" lang="ru-RU" sz="1800" spc="-1" strike="noStrike">
                <a:solidFill>
                  <a:srgbClr val="99eff1"/>
                </a:solidFill>
                <a:latin typeface="Arial Black"/>
              </a:rPr>
              <a:t>по геометрии «Начала» (в 13 книгах).</a:t>
            </a: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В основе всей геометрии греческого математика Евклида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лежало несколько простых первоначальных утверждений (аксиом), которые принимались за истинные без доказательств. Из аксиом путем доказательств выводились более сложные утверждения, из тех выводились еще более сложные.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524"/>
              </a:spcBef>
              <a:buClr>
                <a:srgbClr val="6be8eb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Особый интерес математиков всегда вызывала пятая аксиома о параллельных прямых. В отличие от остальных аксиом элементарной геометрии, </a:t>
            </a:r>
            <a:r>
              <a:rPr b="1" i="1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аксиома параллельных не обладает свойством непосредственной очевидности</a:t>
            </a:r>
            <a:r>
              <a:rPr b="1" lang="ru-RU" sz="2100" spc="-1" strike="noStrike">
                <a:solidFill>
                  <a:srgbClr val="ffffff"/>
                </a:solidFill>
                <a:latin typeface="Arial"/>
              </a:rPr>
              <a:t>. Поэтому на всем протяжении истории геометрии имели место попытки доказать аксиому параллельных, то есть вывести ее из остальных аксиом геометрии.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1892160" cy="2997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«Чем отличается геометрия Лобачевского</a:t>
            </a:r>
            <a:br>
              <a:rPr sz="2600"/>
            </a:br>
            <a:r>
              <a:rPr b="0" lang="ru-RU" sz="2600" spc="-1" strike="noStrike">
                <a:solidFill>
                  <a:srgbClr val="99eff1"/>
                </a:solidFill>
                <a:latin typeface="Arial Black"/>
              </a:rPr>
              <a:t>от геометрии Евклида?»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99eff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084640"/>
            <a:ext cx="91440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99eff1"/>
                </a:solidFill>
                <a:latin typeface="Aria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</a:t>
            </a:r>
            <a:r>
              <a:rPr b="1" lang="ru-RU" sz="2400" spc="-1" strike="noStrike">
                <a:solidFill>
                  <a:srgbClr val="99eff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8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Неевклидова геометрия </a:t>
            </a:r>
            <a:br>
              <a:rPr sz="2800"/>
            </a:br>
            <a:r>
              <a:rPr b="0" lang="ru-RU" sz="2800" spc="-1" strike="noStrike">
                <a:solidFill>
                  <a:srgbClr val="99eff1"/>
                </a:solidFill>
                <a:latin typeface="Arial Black"/>
              </a:rPr>
              <a:t>единственно правильная?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льзя сказать, что неевклидова геометрия единственно правильная. На данный момент к ней нет никаких претензий. Но, может быть, через много лет она устареет – или это произойдет быстрее? Так или иначе, но наука никогда не будет стоять на месте.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ометрия Лобачевского не единственная, существуют и другие, например Римана геометрия: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932560"/>
            <a:ext cx="55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, многомерное обобщение геометрии на поверхности, представляющее собой теорию римановых пространств, т. е. таких пространств, где в малых областях приближённо имеет место евклидова геометрия (с точностью до малых высшего порядка сравнительно с размерами области)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анова геометрия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учила своё название по имени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Б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имана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который заложил её основы в 1854. 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26920" y="3141720"/>
            <a:ext cx="162108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cp:keywords/>
  <dc:language>en-US</dc:language>
  <cp:lastModifiedBy>1</cp:lastModifiedBy>
  <dcterms:modified xsi:type="dcterms:W3CDTF">2008-02-11T21:24:38Z</dcterms:modified>
  <cp:revision>35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