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8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9.jpeg" ContentType="image/jpeg"/>
  <Override PartName="/ppt/media/image3.gif" ContentType="image/gif"/>
  <Override PartName="/ppt/media/image4.gif" ContentType="image/gif"/>
  <Override PartName="/ppt/media/image6.jpeg" ContentType="image/jpeg"/>
  <Override PartName="/ppt/media/image13.png" ContentType="image/png"/>
  <Override PartName="/ppt/media/image5.jpeg" ContentType="image/jpeg"/>
  <Override PartName="/ppt/media/image10.jpeg" ContentType="image/jpeg"/>
  <Override PartName="/ppt/media/image15.gif" ContentType="image/gif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DB9B-7E4F-4811-AD16-88B7C524E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43D8-1C98-4FEF-AB77-77091B92A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D2BE-52AD-4CF4-8DB1-27FC53D73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9AD9-BD1F-4082-A3B7-8F6409B27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F0531-1E00-47D4-9A63-B3D736879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1ED57-C2E0-4C34-B63B-47AB1441B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859C1-61EC-47CE-A11A-A0CD08DD1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2DFD2-361A-440A-8AE4-F6DBC3330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61F10-D0EA-43E1-AA16-301789CB1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B9977-972D-491D-9F16-EF04CEA07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50745-626E-4481-AB74-3C986BA3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D7DE-8FBE-4097-A1F0-318ADD259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07348-BF8F-475B-85DC-1B6F3F79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AFC06-0D1D-4F4E-ADF7-ECA30050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10647-3B1C-45E2-B2AE-71F643A9F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22EEE-9006-4555-81B8-6DC8EABA0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EBE41-A163-4F94-B467-CCA16656B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567E-F3F9-49D0-9E7A-D789455A1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E5C3-26D7-49BD-9C5A-7733EE531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038A-EF4D-4AD9-9251-C8D4E84B4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C547-BE88-4499-9A91-53F35F4B5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3896-7666-4641-A3B1-ED4E2A3B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C323-3272-4A26-B597-5E455708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47EA-2AE4-4A90-A801-7D448266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CA89A-8DBC-4F66-B202-8940675DFE97}" type="slidenum"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eff1"/>
                </a:solidFill>
                <a:latin typeface="Arial Black"/>
              </a:rPr>
              <a:t>Click to edit the title text format</a:t>
            </a: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9552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A16C9-1A8E-43DC-A60A-800B0DC8D440}" type="slidenum"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6969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6969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pereplet.ru/obrazovanie/stsoros/67.html" TargetMode="External"/><Relationship Id="rId3" Type="http://schemas.openxmlformats.org/officeDocument/2006/relationships/hyperlink" Target="http://www.hrono.ru/biograf/lobachevski.html" TargetMode="External"/><Relationship Id="rId4" Type="http://schemas.openxmlformats.org/officeDocument/2006/relationships/hyperlink" Target="http://ns.math.rsu.ru/mexmat/polesno/evklid.ru.html" TargetMode="External"/><Relationship Id="rId5" Type="http://schemas.openxmlformats.org/officeDocument/2006/relationships/image" Target="../media/image15.gif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hyperlink" Target="file:///../../project_support/student_support/glaza.doc" TargetMode="External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../project_support/student_support/&#1045;&#1074;&#1082;&#1083;&#1080;&#1076;_&#1084;&#1072;&#1090;&#1077;&#1084;&#1072;&#1090;&#1080;&#1082;.doc" TargetMode="External"/><Relationship Id="rId3" Type="http://schemas.openxmlformats.org/officeDocument/2006/relationships/hyperlink" Target="http://ru.wikipedia.org/wiki/&#1048;&#1079;&#1086;&#1073;&#1088;&#1072;&#1078;&#1077;&#1085;&#1080;&#1077;:Euklid2.jpg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539640" y="333360"/>
            <a:ext cx="7920000" cy="126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Лобачевский и его геометрия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00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411280" y="2421000"/>
            <a:ext cx="27511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99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блема: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99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9640" y="2637000"/>
            <a:ext cx="80647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чему возникла "новая" геометрия?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51280" y="5516640"/>
            <a:ext cx="49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аботу выполнили учащиеся 10В класса средней школы №2  г.Кувандыка Лапшинова Маша и Казаков Анатолий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835280" y="2565360"/>
            <a:ext cx="503280" cy="503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eff1"/>
                </a:solidFill>
                <a:latin typeface="Arial Black"/>
              </a:rPr>
              <a:t>ТЕСТ</a:t>
            </a:r>
            <a:endParaRPr b="0" lang="en-US" sz="4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Предлагаем Вашему вниманию тест. Вы можете его выполнить в том случае, если уже прошли курс геометрии 7 класса.</a:t>
            </a:r>
            <a:endParaRPr b="0" lang="en-US" sz="4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56360" y="5300640"/>
            <a:ext cx="29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дание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50920" y="1989000"/>
            <a:ext cx="288720" cy="289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31a07"/>
                </a:solidFill>
                <a:latin typeface="Arial Black"/>
              </a:rPr>
              <a:t>Выводы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86800" cy="51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Как показали исследования, геометрия Лобачевского (в то числе и 5-ый постулат) совершенно верна, если ее рассматривать не на плоскости, а на поверхности гиперболического параболоида (вогнутой поверхности, напоминающей седло). 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625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Любая теория современной науки считается единственно верной, пока  не создана следующая. Это своеобразная аксиома развития науки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625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625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625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826920" cy="8269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0" y="3573360"/>
            <a:ext cx="826920" cy="827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2000"/>
                            </p:stCondLst>
                            <p:childTnLst>
                              <p:par>
                                <p:cTn id="4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8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eff1"/>
                </a:solidFill>
                <a:latin typeface="Arial Black"/>
              </a:rPr>
              <a:t>Список литературы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868680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хоутен Я. А. Риманова геометрия, пер. с англ., М., 1948;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олесников М. Лобачевский./. Серия «Жизнь замечательных людей». – М.: Молодая гвардия, 1965. – 320 стр. с илл. 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Широков П.А. Краткий очерк основ геометрии                                      Лобачевского./. – М.: Наука, 1983. – 76 стр.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обачевский Н.И. Полное собрание                                                        сочинений, тт. 1–5. М. – Л., 1946–195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еометрия Лобачевского. Материал                                                                        из Википедии — свободной энциклопедии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328464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Web </a:t>
            </a:r>
            <a:r>
              <a:rPr b="0" lang="ru-RU" sz="4000" spc="-1" strike="noStrike">
                <a:solidFill>
                  <a:srgbClr val="99eff1"/>
                </a:solidFill>
                <a:latin typeface="Arial Black"/>
              </a:rPr>
              <a:t>ресурсы</a:t>
            </a:r>
            <a:endParaRPr b="0" lang="en-US" sz="4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4365720"/>
            <a:ext cx="85690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ereplet.ru/obrazovanie/stsoros/67.html</a:t>
            </a:r>
            <a:r>
              <a:rPr b="0" lang="ru-RU" sz="1600" spc="-1" strike="noStrike">
                <a:solidFill>
                  <a:srgbClr val="969696"/>
                </a:solidFill>
                <a:latin typeface="Arial"/>
              </a:rPr>
              <a:t> -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 неевклидовой геометрии, Э. Б. ВИНБЕРГ, Московский государственный университет им.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.В. Ломоносова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hrono.ru/biograf/lobachevski.html</a:t>
            </a: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- Шикман А.П. Деятели отечественной истории. Биографический справочник. Москва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1997 г. 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ns.math.rsu.ru/mexmat/polesno/evklid.ru.html</a:t>
            </a: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 -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иография Евклида.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5">
            <a:lum bright="30000"/>
          </a:blip>
          <a:stretch/>
        </p:blipFill>
        <p:spPr>
          <a:xfrm>
            <a:off x="6659640" y="1628640"/>
            <a:ext cx="2160360" cy="21369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3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a305e"/>
                </a:solidFill>
                <a:latin typeface="Arial Black"/>
              </a:rPr>
              <a:t>Гипотеза: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907920"/>
            <a:ext cx="826920" cy="747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116000" y="981000"/>
            <a:ext cx="820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eff1"/>
                </a:solidFill>
                <a:latin typeface="Arial"/>
              </a:rPr>
              <a:t>Любая теория современной науки считается единственно верной, пока  не создана следующая.</a:t>
            </a:r>
            <a:r>
              <a:rPr b="0" lang="ru-RU" sz="2000" spc="-1" strike="noStrike">
                <a:solidFill>
                  <a:srgbClr val="99eff1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eff1"/>
                </a:solidFill>
                <a:latin typeface="Arial"/>
              </a:rPr>
              <a:t>Невозможность доказать некоторое геометрическое утверждение средствами евклидовой геометрии послужило поводом построения другой геометрии, которая также является верной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84720" y="2781360"/>
            <a:ext cx="4643280" cy="43628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Был мудрым Евклид,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Но его параллели,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Как будто бы вечные сваи легли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И мысли его, что как стрелы летели,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Всегда оставались в пределах Земли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А там, во вселенной, другие законы,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Там точками служат иные тела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И там параллельных лучей миллионы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Природа сквозь Марс, может быть, провела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0920" y="2781360"/>
            <a:ext cx="38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2492280"/>
            <a:ext cx="3600360" cy="30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a305e"/>
                </a:solidFill>
                <a:latin typeface="Arial"/>
              </a:rPr>
              <a:t>Цель:</a:t>
            </a:r>
            <a:endParaRPr b="0" lang="en-US" sz="40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be8eb"/>
                </a:solidFill>
                <a:latin typeface="Arial"/>
              </a:rPr>
              <a:t>Найти доказательство того, что истинно утверждение «через точку, не лежащую на данной прямой, проходят по крайней мере две прямые, лежащие с данной прямой в одной плоскости и параллельные ей»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7400"/>
                            </p:stCondLst>
                            <p:childTnLst>
                              <p:par>
                                <p:cTn id="3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92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200"/>
                            </p:stCondLst>
                            <p:childTnLst>
                              <p:par>
                                <p:cTn id="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22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a305e"/>
                </a:solidFill>
                <a:latin typeface="Arial Black"/>
              </a:rPr>
              <a:t>Задачи: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58920" y="1052280"/>
            <a:ext cx="765648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99eff1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eff1"/>
                </a:solidFill>
                <a:latin typeface="Bookman Old Style"/>
              </a:rPr>
              <a:t>провести эксперимент «Иллюзии зрения»;</a:t>
            </a: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99eff1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eff1"/>
                </a:solidFill>
                <a:latin typeface="Bookman Old Style"/>
              </a:rPr>
              <a:t>изучить постулаты Евклидовой геометрии;</a:t>
            </a: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99eff1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eff1"/>
                </a:solidFill>
                <a:latin typeface="Bookman Old Style"/>
              </a:rPr>
              <a:t>изучить аксиомы геометрии Лобачевского;</a:t>
            </a: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99eff1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eff1"/>
                </a:solidFill>
                <a:latin typeface="Bookman Old Style"/>
              </a:rPr>
              <a:t>сделать сравнительный анализ двух геометрий;</a:t>
            </a: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99eff1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eff1"/>
                </a:solidFill>
                <a:latin typeface="Bookman Old Style"/>
              </a:rPr>
              <a:t>выяснить нет ли геометрий, основанных на других аксиомах;</a:t>
            </a: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99eff1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eff1"/>
                </a:solidFill>
                <a:latin typeface="Bookman Old Style"/>
              </a:rPr>
              <a:t>сделать выводы.</a:t>
            </a: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907920"/>
            <a:ext cx="826920" cy="747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60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6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6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60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6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660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eff1"/>
                </a:solidFill>
                <a:latin typeface="Arial Black"/>
              </a:rPr>
              <a:t>Видите движение на этой картинке?</a:t>
            </a:r>
            <a:endParaRPr b="0" lang="en-US" sz="3200" spc="-1" strike="noStrike">
              <a:solidFill>
                <a:srgbClr val="99eff1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476360" y="1628640"/>
            <a:ext cx="6337440" cy="3373560"/>
          </a:xfrm>
          <a:prstGeom prst="rect">
            <a:avLst/>
          </a:prstGeom>
          <a:ln w="76320">
            <a:solidFill>
              <a:srgbClr val="1283c8"/>
            </a:solidFill>
            <a:miter/>
          </a:ln>
        </p:spPr>
      </p:pic>
    </p:spTree>
  </p:cSld>
  <p:transition spd="slow">
    <p:strips dir="l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99eff1"/>
                </a:solidFill>
                <a:latin typeface="Arial Black"/>
              </a:rPr>
              <a:t>Эксперимент «Иллюзии зрения»</a:t>
            </a:r>
            <a:endParaRPr b="0" lang="en-US" sz="3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280" y="1052280"/>
            <a:ext cx="3311640" cy="3889080"/>
          </a:xfrm>
          <a:prstGeom prst="rect">
            <a:avLst/>
          </a:prstGeom>
          <a:solidFill>
            <a:srgbClr val="00ffff">
              <a:alpha val="31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рисунке буквы расположены параллельно (стоят прямо) или нет?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                    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11280" y="1125360"/>
            <a:ext cx="3170160" cy="13636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 rot="1278600">
            <a:off x="3354120" y="2147400"/>
            <a:ext cx="3311280" cy="3167280"/>
          </a:xfrm>
          <a:prstGeom prst="rect">
            <a:avLst/>
          </a:prstGeom>
          <a:solidFill>
            <a:srgbClr val="00ffff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ИТОГИ опроса: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a305e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сего  параллельно   нет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300        3%         97%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a305e"/>
                </a:solidFill>
                <a:latin typeface="Arial"/>
              </a:rPr>
              <a:t>Ответ:</a:t>
            </a: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араллельно.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сего спираль окружности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300   100%       0%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a305e"/>
                </a:solidFill>
                <a:latin typeface="Arial"/>
              </a:rPr>
              <a:t>Ответ: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кружности.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32720" y="1052640"/>
            <a:ext cx="2232000" cy="4392360"/>
          </a:xfrm>
          <a:prstGeom prst="rect">
            <a:avLst/>
          </a:prstGeom>
          <a:solidFill>
            <a:srgbClr val="00ffff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рисунке изображена спираль или несколько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кружностей?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7091280" y="1125360"/>
            <a:ext cx="1677960" cy="1727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924360" y="2133720"/>
            <a:ext cx="2951280" cy="115092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634920" y="2133720"/>
            <a:ext cx="289080" cy="6476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35280" y="2781360"/>
            <a:ext cx="2952720" cy="115236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6588000" y="3284280"/>
            <a:ext cx="289080" cy="64908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4356000" y="2421000"/>
            <a:ext cx="287280" cy="6476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866920" y="2997360"/>
            <a:ext cx="289080" cy="6476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80000" y="2421000"/>
            <a:ext cx="2952720" cy="115236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92360" y="3213000"/>
            <a:ext cx="2880000" cy="115272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3203640" y="3213000"/>
            <a:ext cx="288720" cy="6476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3860640"/>
            <a:ext cx="2881080" cy="115272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6084360" y="4365720"/>
            <a:ext cx="287640" cy="6476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48000" y="3500280"/>
            <a:ext cx="2879640" cy="115272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850920" y="3500280"/>
            <a:ext cx="289080" cy="6494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788000" y="3860640"/>
            <a:ext cx="288720" cy="64800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9280" y="5157720"/>
            <a:ext cx="8713800" cy="1366920"/>
          </a:xfrm>
          <a:prstGeom prst="rect">
            <a:avLst/>
          </a:prstGeom>
          <a:solidFill>
            <a:srgbClr val="00ffff">
              <a:alpha val="31000"/>
            </a:srgbClr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ВЫВОД: </a:t>
            </a:r>
            <a:r>
              <a:rPr b="1" lang="ru-RU" sz="1900" spc="-1" strike="noStrike">
                <a:solidFill>
                  <a:srgbClr val="333399"/>
                </a:solidFill>
                <a:latin typeface="Arial"/>
              </a:rPr>
              <a:t>В геометрии истинность каждого утверждения необходимо доказывать, нельзя полагаться только на наблюдения. </a:t>
            </a:r>
            <a:endParaRPr b="0" lang="en-US" sz="19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333399"/>
                </a:solidFill>
                <a:latin typeface="Arial"/>
              </a:rPr>
              <a:t>Положительный момент:</a:t>
            </a:r>
            <a:r>
              <a:rPr b="1" lang="ru-RU" sz="1900" spc="-1" strike="noStrike">
                <a:solidFill>
                  <a:srgbClr val="333399"/>
                </a:solidFill>
                <a:latin typeface="Arial"/>
              </a:rPr>
              <a:t> благодаря зрительным искажениям существует живопись.</a:t>
            </a:r>
            <a:endParaRPr b="0" lang="en-US" sz="19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a305e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aa305e"/>
                </a:solidFill>
                <a:latin typeface="Arial"/>
              </a:rPr>
              <a:t>                                                                                   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Если интересно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0" y="4761000"/>
            <a:ext cx="895320" cy="8953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" nodeType="afterEffect" fill="remove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14" dur="50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a305e"/>
                                      </p:to>
                                    </p:animClr>
                                    <p:animClr clrSpc="rgb">
                                      <p:cBhvr>
                                        <p:cTn id="115" dur="50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a305e"/>
                                      </p:to>
                                    </p:animClr>
                                    <p:set>
                                      <p:cBhvr>
                                        <p:cTn id="116" dur="50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500"/>
                            </p:stCondLst>
                            <p:childTnLst>
                              <p:par>
                                <p:cTn id="118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19" dur="50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a305e"/>
                                      </p:to>
                                    </p:animClr>
                                    <p:animClr clrSpc="rgb">
                                      <p:cBhvr>
                                        <p:cTn id="120" dur="50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a305e"/>
                                      </p:to>
                                    </p:animClr>
                                    <p:set>
                                      <p:cBhvr>
                                        <p:cTn id="121" dur="50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500"/>
                            </p:stCondLst>
                            <p:childTnLst>
                              <p:par>
                                <p:cTn id="12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6500"/>
                            </p:stCondLst>
                            <p:childTnLst>
                              <p:par>
                                <p:cTn id="13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5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eff1"/>
                </a:solidFill>
                <a:latin typeface="Arial Black"/>
              </a:rPr>
              <a:t>Николай Иванович Лобачевский</a:t>
            </a:r>
            <a:br>
              <a:rPr sz="2800"/>
            </a:br>
            <a:r>
              <a:rPr b="0" lang="ru-RU" sz="2800" spc="-1" strike="noStrike">
                <a:solidFill>
                  <a:srgbClr val="99eff1"/>
                </a:solidFill>
                <a:latin typeface="Arial Black"/>
              </a:rPr>
              <a:t>(1792 – 1856 гг.)</a:t>
            </a:r>
            <a:endParaRPr b="0" lang="en-US" sz="28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1197000"/>
            <a:ext cx="8640720" cy="4464000"/>
          </a:xfrm>
          <a:prstGeom prst="rect">
            <a:avLst/>
          </a:prstGeom>
          <a:solidFill>
            <a:srgbClr val="00ffff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Все! Перечеркнуты “Начала”.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Довольно мысль на них скучала,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Хоть прав почти во всем Евклид,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Но быть не вечно постоянству: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И плоскость свернута в пространство,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И мир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Иной имеет вид... 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69696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969696"/>
                </a:solidFill>
                <a:latin typeface="Arial"/>
              </a:rPr>
              <a:t>Краткое описание геометрии Лобачевского.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a305e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aa305e"/>
                </a:solidFill>
                <a:latin typeface="Arial"/>
              </a:rPr>
              <a:t>ВЫВОД:</a:t>
            </a:r>
            <a:r>
              <a:rPr b="0" lang="ru-RU" sz="32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eff1"/>
                </a:solidFill>
                <a:latin typeface="Arial"/>
              </a:rPr>
              <a:t>Заменив </a:t>
            </a:r>
            <a:r>
              <a:rPr b="1" lang="en-US" sz="2000" spc="-1" strike="noStrike">
                <a:solidFill>
                  <a:srgbClr val="99eff1"/>
                </a:solidFill>
                <a:latin typeface="Arial"/>
              </a:rPr>
              <a:t>V </a:t>
            </a:r>
            <a:r>
              <a:rPr b="1" lang="ru-RU" sz="2000" spc="-1" strike="noStrike">
                <a:solidFill>
                  <a:srgbClr val="99eff1"/>
                </a:solidFill>
                <a:latin typeface="Arial"/>
              </a:rPr>
              <a:t>постулат евклидовой геометрии на аксиому, Лобачевский пришел к выводу, что можно построить другую геометрию, отличную от евклидовой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22" name="" descr="Лобачёвский Николай Иванович"/>
          <p:cNvPicPr/>
          <p:nvPr/>
        </p:nvPicPr>
        <p:blipFill>
          <a:blip r:embed="rId2"/>
          <a:stretch/>
        </p:blipFill>
        <p:spPr>
          <a:xfrm>
            <a:off x="6227640" y="1341360"/>
            <a:ext cx="1886040" cy="2879640"/>
          </a:xfrm>
          <a:prstGeom prst="rect">
            <a:avLst/>
          </a:prstGeom>
          <a:ln w="38160">
            <a:solidFill>
              <a:srgbClr val="99eff1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395280" y="4437000"/>
            <a:ext cx="895320" cy="8953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700"/>
                            </p:stCondLst>
                            <p:childTnLst>
                              <p:par>
                                <p:cTn id="26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450"/>
                            </p:stCondLst>
                            <p:childTnLst>
                              <p:par>
                                <p:cTn id="27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200"/>
                            </p:stCondLst>
                            <p:childTnLst>
                              <p:par>
                                <p:cTn id="27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6900"/>
                            </p:stCondLst>
                            <p:childTnLst>
                              <p:par>
                                <p:cTn id="28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8950"/>
                            </p:stCondLst>
                            <p:childTnLst>
                              <p:par>
                                <p:cTn id="28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9600"/>
                            </p:stCondLst>
                            <p:childTnLst>
                              <p:par>
                                <p:cTn id="29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750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eff1"/>
                </a:solidFill>
                <a:latin typeface="Arial Black"/>
              </a:rPr>
              <a:t>Евклид (</a:t>
            </a:r>
            <a:r>
              <a:rPr b="0" lang="en-US" sz="2000" spc="-1" strike="noStrike">
                <a:solidFill>
                  <a:srgbClr val="99eff1"/>
                </a:solidFill>
                <a:latin typeface="Arial Black"/>
              </a:rPr>
              <a:t>III</a:t>
            </a:r>
            <a:r>
              <a:rPr b="0" lang="ru-RU" sz="2000" spc="-1" strike="noStrike">
                <a:solidFill>
                  <a:srgbClr val="99eff1"/>
                </a:solidFill>
                <a:latin typeface="Arial Black"/>
              </a:rPr>
              <a:t> век до н</a:t>
            </a:r>
            <a:r>
              <a:rPr b="0" lang="en-US" sz="2000" spc="-1" strike="noStrike">
                <a:solidFill>
                  <a:srgbClr val="99eff1"/>
                </a:solidFill>
                <a:latin typeface="Arial Black"/>
              </a:rPr>
              <a:t>. </a:t>
            </a:r>
            <a:r>
              <a:rPr b="0" lang="ru-RU" sz="2000" spc="-1" strike="noStrike">
                <a:solidFill>
                  <a:srgbClr val="99eff1"/>
                </a:solidFill>
                <a:latin typeface="Arial Black"/>
              </a:rPr>
              <a:t>э</a:t>
            </a:r>
            <a:r>
              <a:rPr b="0" lang="en-US" sz="2000" spc="-1" strike="noStrike">
                <a:solidFill>
                  <a:srgbClr val="99eff1"/>
                </a:solidFill>
                <a:latin typeface="Arial Black"/>
              </a:rPr>
              <a:t>.</a:t>
            </a:r>
            <a:r>
              <a:rPr b="0" lang="ru-RU" sz="2000" spc="-1" strike="noStrike">
                <a:solidFill>
                  <a:srgbClr val="99eff1"/>
                </a:solidFill>
                <a:latin typeface="Arial Black"/>
              </a:rPr>
              <a:t>)</a:t>
            </a:r>
            <a:br>
              <a:rPr sz="2000"/>
            </a:br>
            <a:r>
              <a:rPr b="0" lang="ru-RU" sz="1800" spc="-1" strike="noStrike">
                <a:solidFill>
                  <a:srgbClr val="99eff1"/>
                </a:solidFill>
                <a:latin typeface="Arial Black"/>
              </a:rPr>
              <a:t>Древнегреческий</a:t>
            </a:r>
            <a:r>
              <a:rPr b="0" lang="en-US" sz="1800" spc="-1" strike="noStrike">
                <a:solidFill>
                  <a:srgbClr val="99eff1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99eff1"/>
                </a:solidFill>
                <a:latin typeface="Arial Black"/>
              </a:rPr>
              <a:t>математик, автор первого трактата </a:t>
            </a:r>
            <a:br>
              <a:rPr sz="1800"/>
            </a:br>
            <a:r>
              <a:rPr b="0" lang="ru-RU" sz="1800" spc="-1" strike="noStrike">
                <a:solidFill>
                  <a:srgbClr val="99eff1"/>
                </a:solidFill>
                <a:latin typeface="Arial Black"/>
              </a:rPr>
              <a:t>по геометрии «Начала» (в 13 книгах).</a:t>
            </a:r>
            <a:endParaRPr b="0" lang="en-US" sz="18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79640" y="1197000"/>
            <a:ext cx="6958080" cy="4392720"/>
          </a:xfrm>
          <a:prstGeom prst="rect">
            <a:avLst/>
          </a:prstGeom>
          <a:solidFill>
            <a:srgbClr val="00ffff">
              <a:alpha val="2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63520" indent="-263520">
              <a:lnSpc>
                <a:spcPct val="80000"/>
              </a:lnSpc>
              <a:spcBef>
                <a:spcPts val="524"/>
              </a:spcBef>
              <a:buClr>
                <a:srgbClr val="6be8eb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В основе всей геометрии греческого математика Евклида</a:t>
            </a:r>
            <a:r>
              <a:rPr b="0" lang="ru-RU" sz="21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лежало несколько простых первоначальных утверждений (аксиом), которые принимались за истинные без доказательств. Из аксиом путем доказательств выводились более сложные утверждения, из тех выводились еще более сложные. </a:t>
            </a:r>
            <a:endParaRPr b="0" lang="en-US" sz="2100" spc="-1" strike="noStrike">
              <a:solidFill>
                <a:srgbClr val="969696"/>
              </a:solidFill>
              <a:latin typeface="Arial"/>
            </a:endParaRPr>
          </a:p>
          <a:p>
            <a:pPr marL="263520" indent="-263520">
              <a:lnSpc>
                <a:spcPct val="80000"/>
              </a:lnSpc>
              <a:spcBef>
                <a:spcPts val="524"/>
              </a:spcBef>
              <a:buClr>
                <a:srgbClr val="6be8eb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Особый интерес математиков всегда вызывала пятая аксиома о параллельных прямых. В отличие от остальных аксиом элементарной геометрии, </a:t>
            </a:r>
            <a:r>
              <a:rPr b="1" i="1" lang="ru-RU" sz="2100" spc="-1" strike="noStrike" u="sng">
                <a:solidFill>
                  <a:srgbClr val="ffffff"/>
                </a:solidFill>
                <a:uFillTx/>
                <a:latin typeface="Arial"/>
              </a:rPr>
              <a:t>аксиома параллельных не обладает свойством непосредственной очевидности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. Поэтому на всем протяжении истории геометрии имели место попытки доказать аксиому параллельных, то есть вывести ее из остальных аксиом геометрии.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2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892160" cy="2997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 rot="1209600">
            <a:off x="0" y="4076640"/>
            <a:ext cx="1763640" cy="1459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eff1"/>
                </a:solidFill>
                <a:latin typeface="Arial Black"/>
              </a:rPr>
              <a:t>«Чем отличается геометрия Лобачевского</a:t>
            </a:r>
            <a:br>
              <a:rPr sz="2600"/>
            </a:br>
            <a:r>
              <a:rPr b="0" lang="ru-RU" sz="2600" spc="-1" strike="noStrike">
                <a:solidFill>
                  <a:srgbClr val="99eff1"/>
                </a:solidFill>
                <a:latin typeface="Arial Black"/>
              </a:rPr>
              <a:t>от геометрии Евклида?»</a:t>
            </a:r>
            <a:r>
              <a:rPr b="0" lang="ru-RU" sz="3600" spc="-1" strike="noStrike">
                <a:solidFill>
                  <a:srgbClr val="99eff1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920" y="2997000"/>
            <a:ext cx="4032000" cy="1944360"/>
          </a:xfrm>
          <a:prstGeom prst="rect">
            <a:avLst/>
          </a:prstGeom>
          <a:noFill/>
          <a:ln w="57240">
            <a:solidFill>
              <a:srgbClr val="99eff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ерез точку, не лежащую на данной прямой, проходит только одна прямая, лежащая с данной прямой в одной плоскости и не пересекающая её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88000" y="2997360"/>
            <a:ext cx="4105080" cy="1923480"/>
          </a:xfrm>
          <a:prstGeom prst="rect">
            <a:avLst/>
          </a:pr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ерез точку, не лежащую на данной прямой, проходят по крайней мере две прямые, лежащие с данной прямой в одной плоскости и не пересекающие её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5084640"/>
            <a:ext cx="914400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             </a:t>
            </a: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ВЫВОД:</a:t>
            </a:r>
            <a:r>
              <a:rPr b="0" lang="ru-RU" sz="1800" spc="-1" strike="noStrike">
                <a:solidFill>
                  <a:srgbClr val="969696"/>
                </a:solidFill>
                <a:latin typeface="Arial"/>
              </a:rPr>
              <a:t>  </a:t>
            </a:r>
            <a:r>
              <a:rPr b="1" lang="ru-RU" sz="2200" spc="-1" strike="noStrike">
                <a:solidFill>
                  <a:srgbClr val="99eff1"/>
                </a:solidFill>
                <a:latin typeface="Arial"/>
              </a:rPr>
              <a:t>Геометрия Лобачевского отличается от евклидовой лишь в одной аксиоме — пятой.  Но главное различие кроется в понимании самой природы пространства.</a:t>
            </a:r>
            <a:r>
              <a:rPr b="1" lang="ru-RU" sz="2400" spc="-1" strike="noStrike">
                <a:solidFill>
                  <a:srgbClr val="99eff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1280" y="1052640"/>
            <a:ext cx="3168720" cy="122400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Евклидова аксиома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о параллельных: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292720" y="1052640"/>
            <a:ext cx="3168720" cy="122400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Аксиома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Лобачевского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о параллельных: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6360" y="2276640"/>
            <a:ext cx="165564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227640" y="2276640"/>
            <a:ext cx="158436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732720" y="2349360"/>
            <a:ext cx="647640" cy="4939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979640" y="2349360"/>
            <a:ext cx="647640" cy="493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179280" y="4653000"/>
            <a:ext cx="895320" cy="8953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9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9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9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9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300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400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6000"/>
                            </p:stCondLst>
                            <p:childTnLst>
                              <p:par>
                                <p:cTn id="3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8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eff1"/>
                </a:solidFill>
                <a:latin typeface="Arial Black"/>
              </a:rPr>
              <a:t>Неевклидова геометрия </a:t>
            </a:r>
            <a:br>
              <a:rPr sz="2800"/>
            </a:br>
            <a:r>
              <a:rPr b="0" lang="ru-RU" sz="2800" spc="-1" strike="noStrike">
                <a:solidFill>
                  <a:srgbClr val="99eff1"/>
                </a:solidFill>
                <a:latin typeface="Arial Black"/>
              </a:rPr>
              <a:t>единственно правильная?</a:t>
            </a:r>
            <a:endParaRPr b="0" lang="en-US" sz="28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197000"/>
            <a:ext cx="86868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льзя сказать, что неевклидова геометрия единственно правильная. На данный момент к ней нет никаких претензий. Но, может быть, через много лет она устареет – или это произойдет быстрее? Так или иначе, но наука никогда не будет стоять на месте.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еометрия Лобачевского не единственная, существуют и другие, например Римана геометрия: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2932560"/>
            <a:ext cx="5543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манова геометрия, многомерное обобщение геометрии на поверхности, представляющее собой теорию римановых пространств, т. е. таких пространств, где в малых областях приближённо имеет место евклидова геометрия (с точностью до малых высшего порядка сравнительно с размерами области).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манова геометрия</a:t>
            </a: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лучила своё название по имени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Б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Римана,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который заложил её основы в 1854. 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826920" y="3141720"/>
            <a:ext cx="1621080" cy="2592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300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4000"/>
                            </p:stCondLst>
                            <p:childTnLst>
                              <p:par>
                                <p:cTn id="39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9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0T18:52:32Z</dcterms:created>
  <dc:creator>werr</dc:creator>
  <dc:description/>
  <cp:keywords/>
  <dc:language>en-US</dc:language>
  <cp:lastModifiedBy>1</cp:lastModifiedBy>
  <dcterms:modified xsi:type="dcterms:W3CDTF">2008-02-11T21:24:38Z</dcterms:modified>
  <cp:revision>35</cp:revision>
  <dc:subject/>
  <dc:title>Лобачевский и его геометр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71049</vt:lpwstr>
  </property>
</Properties>
</file>