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71CA-A2C4-41A0-AE28-83BA381D2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AAEF-41F5-46DB-BA26-CEECD46B7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2777-D000-4909-81BE-1035B014E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40A9-2BBD-4019-9248-5320CD85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4188-17B0-4ACE-930E-1839221C9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869BD-AAD4-490F-BD37-2A7F2999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52B6-CFF0-4A58-A3B5-ADB47676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DA345-CF72-4281-A55A-37C3E1514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75B69-78A5-46F3-8CD5-2CA022CC9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EB9ED-04A1-450A-99F9-52DBAC944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BA975-24D2-4DC1-990C-00942E7D4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1E46-4746-432F-9915-FCFE69A85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74E52-6538-4B1A-A2B4-D893E3D8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325C0-F782-4C3B-996C-7934E5013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5CE64-EF3A-433F-A369-5AF45E3F6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1B65D-2653-4CF6-B879-FD48FD12C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9C8A-468A-43FF-A5B8-BED00F8BB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0A54-F697-40DF-93F6-59FB928C0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CB45-5913-4C8E-86E4-9436B1EB4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356E-C32C-48A3-8BD3-F07384FAD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1CA31-2236-4A00-BFB5-71FE8DAD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154D-F9EF-4855-9193-C49BE2FA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A7C7-1A44-485F-B585-962D32520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461ED-B774-485D-804C-FC0002375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(с) Коробейник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1A89-814A-4F69-A3B0-0F8933D1F81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(с) Коробейникова Н.А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E5DB5-A2AC-45DE-B00C-A3519E562470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714240" y="164268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Центральные и вписанные углы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5" name="Номер слайда 6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2A96-1862-45B3-907F-683410937EA3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Нижний колонтитул 7"/>
          <p:cNvSpPr/>
          <p:nvPr/>
        </p:nvSpPr>
        <p:spPr>
          <a:xfrm>
            <a:off x="285840" y="60721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(с) Коробейникова Н.А.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cc"/>
                </a:solidFill>
                <a:latin typeface="Tahoma"/>
              </a:rPr>
              <a:t>Найти х.</a:t>
            </a:r>
            <a:endParaRPr b="0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17" name="Picture 6" descr="222222"/>
          <p:cNvPicPr/>
          <p:nvPr/>
        </p:nvPicPr>
        <p:blipFill>
          <a:blip r:embed="rId1"/>
          <a:stretch/>
        </p:blipFill>
        <p:spPr>
          <a:xfrm>
            <a:off x="0" y="714240"/>
            <a:ext cx="9363240" cy="5643720"/>
          </a:xfrm>
          <a:prstGeom prst="rect">
            <a:avLst/>
          </a:prstGeom>
          <a:ln w="0">
            <a:noFill/>
          </a:ln>
        </p:spPr>
      </p:pic>
      <p:sp>
        <p:nvSpPr>
          <p:cNvPr id="418" name="Text Box 7"/>
          <p:cNvSpPr/>
          <p:nvPr/>
        </p:nvSpPr>
        <p:spPr>
          <a:xfrm>
            <a:off x="6133680" y="272412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9" name="Номер слайда 7"/>
          <p:cNvSpPr/>
          <p:nvPr/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3376-DFBC-44D1-AB22-71987467BF08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TextBox 9"/>
          <p:cNvSpPr/>
          <p:nvPr/>
        </p:nvSpPr>
        <p:spPr>
          <a:xfrm>
            <a:off x="443880" y="15717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[[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TextBox 10"/>
          <p:cNvSpPr/>
          <p:nvPr/>
        </p:nvSpPr>
        <p:spPr>
          <a:xfrm>
            <a:off x="6213960" y="2571840"/>
            <a:ext cx="30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d2e36"/>
                </a:solidFill>
                <a:latin typeface="Tahoma"/>
              </a:rPr>
              <a:t>х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2" name="TextBox 11"/>
          <p:cNvSpPr/>
          <p:nvPr/>
        </p:nvSpPr>
        <p:spPr>
          <a:xfrm>
            <a:off x="8132760" y="3571920"/>
            <a:ext cx="579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ар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TextBox 12"/>
          <p:cNvSpPr/>
          <p:nvPr/>
        </p:nvSpPr>
        <p:spPr>
          <a:xfrm>
            <a:off x="8052480" y="3571920"/>
            <a:ext cx="73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оло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4" name="TextBox 13"/>
          <p:cNvSpPr/>
          <p:nvPr/>
        </p:nvSpPr>
        <p:spPr>
          <a:xfrm>
            <a:off x="8132400" y="357192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ллд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5" name="TextBox 14"/>
          <p:cNvSpPr/>
          <p:nvPr/>
        </p:nvSpPr>
        <p:spPr>
          <a:xfrm>
            <a:off x="7849080" y="3643200"/>
            <a:ext cx="83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223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Скругленный прямоугольник 16"/>
          <p:cNvSpPr/>
          <p:nvPr/>
        </p:nvSpPr>
        <p:spPr>
          <a:xfrm>
            <a:off x="8072280" y="3571920"/>
            <a:ext cx="714600" cy="3571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Tahoma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4" descr="999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473800"/>
          </a:xfrm>
          <a:prstGeom prst="rect">
            <a:avLst/>
          </a:prstGeom>
          <a:ln w="0">
            <a:noFill/>
          </a:ln>
        </p:spPr>
      </p:pic>
      <p:sp>
        <p:nvSpPr>
          <p:cNvPr id="429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BA5D-5FDC-472F-8F8A-74A8B689D59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Picture 4" descr="77"/>
          <p:cNvPicPr/>
          <p:nvPr/>
        </p:nvPicPr>
        <p:blipFill>
          <a:blip r:embed="rId1"/>
          <a:stretch/>
        </p:blipFill>
        <p:spPr>
          <a:xfrm>
            <a:off x="0" y="681120"/>
            <a:ext cx="9144000" cy="5495760"/>
          </a:xfrm>
          <a:prstGeom prst="rect">
            <a:avLst/>
          </a:prstGeom>
          <a:ln w="0">
            <a:noFill/>
          </a:ln>
        </p:spPr>
      </p:pic>
      <p:sp>
        <p:nvSpPr>
          <p:cNvPr id="43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70F4B-A7DF-4B88-99E7-436A7B18A48F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7" name="Picture 4" descr="11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5143320"/>
          </a:xfrm>
          <a:prstGeom prst="rect">
            <a:avLst/>
          </a:prstGeom>
          <a:ln w="0">
            <a:noFill/>
          </a:ln>
        </p:spPr>
      </p:pic>
      <p:sp>
        <p:nvSpPr>
          <p:cNvPr id="388" name="Text Box 5"/>
          <p:cNvSpPr/>
          <p:nvPr/>
        </p:nvSpPr>
        <p:spPr>
          <a:xfrm>
            <a:off x="398160" y="316080"/>
            <a:ext cx="681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радусная мера дуги окружност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F3C2D-D3D8-451E-9A25-217A48AE81CB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Picture 4" descr="22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39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23C0F-D374-470C-9CDC-CC9FE8BA6C49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4" descr="3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595840"/>
          </a:xfrm>
          <a:prstGeom prst="rect">
            <a:avLst/>
          </a:prstGeom>
          <a:ln w="0">
            <a:noFill/>
          </a:ln>
        </p:spPr>
      </p:pic>
      <p:sp>
        <p:nvSpPr>
          <p:cNvPr id="395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A79B-FE73-4A4D-9871-EF77F463B1C8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Picture 4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7"/>
          <p:cNvSpPr/>
          <p:nvPr/>
        </p:nvSpPr>
        <p:spPr>
          <a:xfrm>
            <a:off x="362160" y="5643720"/>
            <a:ext cx="730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ему равна градусная мера окружност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453F-532B-479A-A4F6-CC4EF168508D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Picture 4" descr="5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62600"/>
          </a:xfrm>
          <a:prstGeom prst="rect">
            <a:avLst/>
          </a:prstGeom>
          <a:ln w="0">
            <a:noFill/>
          </a:ln>
        </p:spPr>
      </p:pic>
      <p:sp>
        <p:nvSpPr>
          <p:cNvPr id="402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76B64-CC42-45E4-9BCC-ACFEA0139767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Вписанные угл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Угол, вершина которого лежит на окружности, а стороны пересекают окружность, называется вписанным угло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Вписанный угол измеряется половиной дуги на которую он опирается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026E5-B367-45D1-A9EA-4F58951F78BA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Picture 4" descr="111111"/>
          <p:cNvPicPr/>
          <p:nvPr/>
        </p:nvPicPr>
        <p:blipFill>
          <a:blip r:embed="rId1"/>
          <a:stretch/>
        </p:blipFill>
        <p:spPr>
          <a:xfrm>
            <a:off x="0" y="1052640"/>
            <a:ext cx="9144000" cy="5162400"/>
          </a:xfrm>
          <a:prstGeom prst="rect">
            <a:avLst/>
          </a:prstGeom>
          <a:ln w="0">
            <a:noFill/>
          </a:ln>
        </p:spPr>
      </p:pic>
      <p:sp>
        <p:nvSpPr>
          <p:cNvPr id="409" name="Text Box 6"/>
          <p:cNvSpPr/>
          <p:nvPr/>
        </p:nvSpPr>
        <p:spPr>
          <a:xfrm>
            <a:off x="2340000" y="27288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писанный уго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0" name="Номер слайда 5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861A-44DA-4685-96F9-DA00D57869C5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1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4" descr="111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5843520"/>
          </a:xfrm>
          <a:prstGeom prst="rect">
            <a:avLst/>
          </a:prstGeom>
          <a:ln w="0">
            <a:noFill/>
          </a:ln>
        </p:spPr>
      </p:pic>
      <p:sp>
        <p:nvSpPr>
          <p:cNvPr id="413" name="Номер слайда 4"/>
          <p:cNvSpPr/>
          <p:nvPr/>
        </p:nvSpPr>
        <p:spPr>
          <a:xfrm>
            <a:off x="6553080" y="6245280"/>
            <a:ext cx="22892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798DC-1A97-47DD-9240-AC95A074698C}" type="slidenum">
              <a:rPr b="0" lang="ru-RU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4" name="Нижний колонтитул 6"/>
          <p:cNvSpPr/>
          <p:nvPr/>
        </p:nvSpPr>
        <p:spPr>
          <a:xfrm>
            <a:off x="0" y="6381720"/>
            <a:ext cx="842976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ru-RU" sz="1000" spc="-1" strike="noStrike">
                <a:solidFill>
                  <a:srgbClr val="ffffff"/>
                </a:solidFill>
                <a:latin typeface="Arial"/>
              </a:rPr>
              <a:t>(с) Коробейникова Н.А.          </a:t>
            </a:r>
            <a:r>
              <a:rPr b="0" lang="ru-RU" sz="1000" spc="-1" strike="noStrike">
                <a:solidFill>
                  <a:srgbClr val="19314b"/>
                </a:solidFill>
                <a:latin typeface="Arial"/>
              </a:rPr>
              <a:t>материал подготовлен для сайта matematika.ucoz.com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7T15:09:57Z</dcterms:created>
  <dc:creator>Эвольвента</dc:creator>
  <dc:description/>
  <dc:language>en-US</dc:language>
  <cp:lastModifiedBy>Олег Грибан</cp:lastModifiedBy>
  <dcterms:modified xsi:type="dcterms:W3CDTF">2011-09-02T01:38:48Z</dcterms:modified>
  <cp:revision>12</cp:revision>
  <dc:subject/>
  <dc:title>Центральные и вписанные углы</dc:title>
</cp:coreProperties>
</file>