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285-BDE6-4FA7-A9B9-C6E32ADF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E4B-C28C-4C2C-A063-2E168E42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9CE-7C3C-431A-9041-20DE98FE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851-39C6-4A4B-BCBF-BF9D58E9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2B27-F300-4BFE-932F-FEFC47D5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6396-15BF-46F5-90D6-5777CAF8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4305-B182-494B-A367-C1DF8391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346B-E391-4BB8-970C-D3C2AAF7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0AD6-51F2-4356-8866-741FCD3C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4DF7-A1FB-4F30-B56C-020582C0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E6B2-ED5B-4774-9B53-4A06403A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6DC3-06F1-4F6E-8C7A-EEDA396D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8D51-5EAC-4B60-A59D-EF97ED89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36D8-4E81-47E0-9EB8-15DC3B92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76FB-B237-4F17-A549-D42C8CBE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9943-5ABC-45F4-92C4-B36B5047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530F-7187-4428-A4A6-A561A3C0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AC7-3094-4C0F-AF89-E42B27D9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E37-08F4-4678-B922-31FBEAEA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B58-CA52-47B7-9EC9-54DDD240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1ED3-D635-445D-BF89-47C11E49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649-D7F1-4035-BB1F-E2134401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1FD-B2D6-4663-90D5-64EDFB3D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EF2-8408-4543-ABEA-C39B9FEF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с) Коробейник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0CB2-6045-4D33-92B4-F3A0DDB7F7C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(с) Коробейник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62A4-5261-46FE-A86F-DEDBE76770C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Центральные и вписанные углы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Номер слайда 6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7773-4A18-4298-9B19-C3DF9DF28C8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Нижний колонтитул 7"/>
          <p:cNvSpPr/>
          <p:nvPr/>
        </p:nvSpPr>
        <p:spPr>
          <a:xfrm>
            <a:off x="285840" y="6072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(с) Коробейникова Н.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айти 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Picture 6" descr="222222"/>
          <p:cNvPicPr/>
          <p:nvPr/>
        </p:nvPicPr>
        <p:blipFill>
          <a:blip r:embed="rId1"/>
          <a:stretch/>
        </p:blipFill>
        <p:spPr>
          <a:xfrm>
            <a:off x="0" y="714240"/>
            <a:ext cx="9363240" cy="56437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7"/>
          <p:cNvSpPr/>
          <p:nvPr/>
        </p:nvSpPr>
        <p:spPr>
          <a:xfrm>
            <a:off x="6133680" y="27241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Номер слайда 7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BEBD-BEDA-4091-8CD7-AF8455118AC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Box 9"/>
          <p:cNvSpPr/>
          <p:nvPr/>
        </p:nvSpPr>
        <p:spPr>
          <a:xfrm>
            <a:off x="443880" y="15717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[[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Box 10"/>
          <p:cNvSpPr/>
          <p:nvPr/>
        </p:nvSpPr>
        <p:spPr>
          <a:xfrm>
            <a:off x="6213960" y="25718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2e36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Box 11"/>
          <p:cNvSpPr/>
          <p:nvPr/>
        </p:nvSpPr>
        <p:spPr>
          <a:xfrm>
            <a:off x="8132760" y="3571920"/>
            <a:ext cx="5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TextBox 12"/>
          <p:cNvSpPr/>
          <p:nvPr/>
        </p:nvSpPr>
        <p:spPr>
          <a:xfrm>
            <a:off x="8052480" y="357192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8132400" y="357192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лл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Box 14"/>
          <p:cNvSpPr/>
          <p:nvPr/>
        </p:nvSpPr>
        <p:spPr>
          <a:xfrm>
            <a:off x="7849080" y="36432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23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Скругленный прямоугольник 16"/>
          <p:cNvSpPr/>
          <p:nvPr/>
        </p:nvSpPr>
        <p:spPr>
          <a:xfrm>
            <a:off x="8072280" y="3571920"/>
            <a:ext cx="71460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Tahoma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4" descr="999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429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0A36-0496-465C-B9B6-7265EFCFBF5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77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43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F1F8-2641-43AC-B7E6-F73C3989CE1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11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398160" y="316080"/>
            <a:ext cx="68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дусная мера дуги окруж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B8D8-6D73-4991-99EC-A83F48617BD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2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9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59AA-8F03-40CA-8E44-325BF575BD0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3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595840"/>
          </a:xfrm>
          <a:prstGeom prst="rect">
            <a:avLst/>
          </a:prstGeom>
          <a:ln w="0">
            <a:noFill/>
          </a:ln>
        </p:spPr>
      </p:pic>
      <p:sp>
        <p:nvSpPr>
          <p:cNvPr id="395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2CA8-92F3-4F0B-8E88-0B433CD2E24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7"/>
          <p:cNvSpPr/>
          <p:nvPr/>
        </p:nvSpPr>
        <p:spPr>
          <a:xfrm>
            <a:off x="362160" y="5643720"/>
            <a:ext cx="73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у равна градусная мера окружно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389A-1F4C-4372-B5C8-EC8FDF146CF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5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62600"/>
          </a:xfrm>
          <a:prstGeom prst="rect">
            <a:avLst/>
          </a:prstGeom>
          <a:ln w="0">
            <a:noFill/>
          </a:ln>
        </p:spPr>
      </p:pic>
      <p:sp>
        <p:nvSpPr>
          <p:cNvPr id="40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144F-85F9-4208-B85F-5EA17CBA0DC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писанные угл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ол, вершина которого лежит на окружности, а стороны пересекают окружность, называется вписанным уг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писанный угол измеряется половиной дуги на которую он опира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234F-3A9D-4741-974E-84FEEDAE7B4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111111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16240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6"/>
          <p:cNvSpPr/>
          <p:nvPr/>
        </p:nvSpPr>
        <p:spPr>
          <a:xfrm>
            <a:off x="2340000" y="2728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писанный уг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4D5F-69C1-4865-9A9A-6008AD7444E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11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43520"/>
          </a:xfrm>
          <a:prstGeom prst="rect">
            <a:avLst/>
          </a:prstGeom>
          <a:ln w="0">
            <a:noFill/>
          </a:ln>
        </p:spPr>
      </p:pic>
      <p:sp>
        <p:nvSpPr>
          <p:cNvPr id="413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C340-284B-43C3-AD3D-50E63DAE407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5:09:57Z</dcterms:created>
  <dc:creator>Эвольвента</dc:creator>
  <dc:description/>
  <dc:language>en-US</dc:language>
  <cp:lastModifiedBy>Олег Грибан</cp:lastModifiedBy>
  <dcterms:modified xsi:type="dcterms:W3CDTF">2011-09-02T01:38:48Z</dcterms:modified>
  <cp:revision>12</cp:revision>
  <dc:subject/>
  <dc:title>Центральные и вписанные углы</dc:title>
</cp:coreProperties>
</file>