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A9A1-52A2-4937-8F31-8E0C12DE5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DB98-9714-40BF-B468-A9971EFB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ECAE-9B52-4E1E-9B27-D8D907284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1CE8-DF3D-4679-8CF4-75099DDD3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9F7F-DEC3-4CC9-ACF8-16367AC96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E84B-7046-430D-AF24-BC77D1A6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B90B-BF65-403B-B850-AB4DCE9F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3A35-AF31-4CCD-878F-B6374814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1DA8-6863-4A9A-A5E8-26AC135C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A0E8-2320-4133-82A6-786FF354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434D-727D-44EF-B21B-934A545E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7DBA-9900-4FC6-B99D-B55EC267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3C02-81A4-4CA2-9CC4-111E2710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D09F-13D0-4BE8-A2B6-5618C67C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B0A0-5101-4798-9EF7-B3D7416F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B190-7C27-4748-BF60-8067806E1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54F2-1DE2-4D76-ABF2-1477C24AB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DF51-E374-4C61-9822-57DA9681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ABE8-35C1-4102-9362-2B26EC2D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C546-AC2C-40D3-BD42-DC5A8E09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FA5B-6AD7-47CD-9348-076275DA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4558-A54E-4A0D-9990-6AE61B5C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80E3-11EC-410A-9BD1-7121D17A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4160-5DA8-4639-8A51-20E6E777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с) Коробейникова Н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D0ED-E032-470F-9288-999627ED252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(с) Коробейникова Н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92A7-01C0-4ECD-85CE-56F21234DB3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14240" y="16426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Центральные и вписанные углы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Номер слайда 6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4C21-25CB-4ACC-B42F-40CE7954631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Нижний колонтитул 7"/>
          <p:cNvSpPr/>
          <p:nvPr/>
        </p:nvSpPr>
        <p:spPr>
          <a:xfrm>
            <a:off x="285840" y="6072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(с) Коробейникова Н.А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Найти х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7" name="Picture 6" descr="222222"/>
          <p:cNvPicPr/>
          <p:nvPr/>
        </p:nvPicPr>
        <p:blipFill>
          <a:blip r:embed="rId1"/>
          <a:stretch/>
        </p:blipFill>
        <p:spPr>
          <a:xfrm>
            <a:off x="0" y="714240"/>
            <a:ext cx="9363240" cy="564372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7"/>
          <p:cNvSpPr/>
          <p:nvPr/>
        </p:nvSpPr>
        <p:spPr>
          <a:xfrm>
            <a:off x="6133680" y="27241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Номер слайда 7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F4E7-04AC-4534-911E-EA434EC2228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TextBox 9"/>
          <p:cNvSpPr/>
          <p:nvPr/>
        </p:nvSpPr>
        <p:spPr>
          <a:xfrm>
            <a:off x="443880" y="15717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[[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TextBox 10"/>
          <p:cNvSpPr/>
          <p:nvPr/>
        </p:nvSpPr>
        <p:spPr>
          <a:xfrm>
            <a:off x="6213960" y="257184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2e36"/>
                </a:solidFill>
                <a:latin typeface="Tahoma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TextBox 11"/>
          <p:cNvSpPr/>
          <p:nvPr/>
        </p:nvSpPr>
        <p:spPr>
          <a:xfrm>
            <a:off x="8132760" y="3571920"/>
            <a:ext cx="57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а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TextBox 12"/>
          <p:cNvSpPr/>
          <p:nvPr/>
        </p:nvSpPr>
        <p:spPr>
          <a:xfrm>
            <a:off x="8052480" y="3571920"/>
            <a:ext cx="7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л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TextBox 13"/>
          <p:cNvSpPr/>
          <p:nvPr/>
        </p:nvSpPr>
        <p:spPr>
          <a:xfrm>
            <a:off x="8132400" y="3571920"/>
            <a:ext cx="7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лл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TextBox 14"/>
          <p:cNvSpPr/>
          <p:nvPr/>
        </p:nvSpPr>
        <p:spPr>
          <a:xfrm>
            <a:off x="7849080" y="364320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223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Скругленный прямоугольник 16"/>
          <p:cNvSpPr/>
          <p:nvPr/>
        </p:nvSpPr>
        <p:spPr>
          <a:xfrm>
            <a:off x="8072280" y="3571920"/>
            <a:ext cx="71460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Tahoma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4" descr="999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473800"/>
          </a:xfrm>
          <a:prstGeom prst="rect">
            <a:avLst/>
          </a:prstGeom>
          <a:ln w="0">
            <a:noFill/>
          </a:ln>
        </p:spPr>
      </p:pic>
      <p:sp>
        <p:nvSpPr>
          <p:cNvPr id="429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D0FD-E2B0-423A-A53E-CB1F70F6269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4" descr="77"/>
          <p:cNvPicPr/>
          <p:nvPr/>
        </p:nvPicPr>
        <p:blipFill>
          <a:blip r:embed="rId1"/>
          <a:stretch/>
        </p:blipFill>
        <p:spPr>
          <a:xfrm>
            <a:off x="0" y="681120"/>
            <a:ext cx="9144000" cy="5495760"/>
          </a:xfrm>
          <a:prstGeom prst="rect">
            <a:avLst/>
          </a:prstGeom>
          <a:ln w="0">
            <a:noFill/>
          </a:ln>
        </p:spPr>
      </p:pic>
      <p:sp>
        <p:nvSpPr>
          <p:cNvPr id="432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7448-5B90-4494-940C-EE658A92EE7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11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5"/>
          <p:cNvSpPr/>
          <p:nvPr/>
        </p:nvSpPr>
        <p:spPr>
          <a:xfrm>
            <a:off x="398160" y="316080"/>
            <a:ext cx="681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адусная мера дуги окруж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Номер слайда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FCBE-89FD-4F25-8AAC-D670441A743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22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688000"/>
          </a:xfrm>
          <a:prstGeom prst="rect">
            <a:avLst/>
          </a:prstGeom>
          <a:ln w="0">
            <a:noFill/>
          </a:ln>
        </p:spPr>
      </p:pic>
      <p:sp>
        <p:nvSpPr>
          <p:cNvPr id="392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089F-7158-422D-9FF8-EEE230BE94F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3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595840"/>
          </a:xfrm>
          <a:prstGeom prst="rect">
            <a:avLst/>
          </a:prstGeom>
          <a:ln w="0">
            <a:noFill/>
          </a:ln>
        </p:spPr>
      </p:pic>
      <p:sp>
        <p:nvSpPr>
          <p:cNvPr id="395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B0A0-5A15-42BB-8BF7-279D46A97DD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7"/>
          <p:cNvSpPr/>
          <p:nvPr/>
        </p:nvSpPr>
        <p:spPr>
          <a:xfrm>
            <a:off x="362160" y="5643720"/>
            <a:ext cx="730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му равна градусная мера окружност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Номер слайда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50E4-3712-431E-9E0C-FF8027EDA98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4" descr="5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862600"/>
          </a:xfrm>
          <a:prstGeom prst="rect">
            <a:avLst/>
          </a:prstGeom>
          <a:ln w="0">
            <a:noFill/>
          </a:ln>
        </p:spPr>
      </p:pic>
      <p:sp>
        <p:nvSpPr>
          <p:cNvPr id="402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D3EC-44F3-4994-BDDF-EE86EB1CB03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писанные угл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гол, вершина которого лежит на окружности, а стороны пересекают окружность, называется вписанным угл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писанный угол измеряется половиной дуги на которую он опирает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Номер слайда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5F2C-F0D8-4B6E-9F16-354A6A585CE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4" descr="111111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16240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6"/>
          <p:cNvSpPr/>
          <p:nvPr/>
        </p:nvSpPr>
        <p:spPr>
          <a:xfrm>
            <a:off x="2340000" y="27288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писанный уго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Номер слайда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C7BC-C300-440D-AFB3-62734595878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4" descr="111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843520"/>
          </a:xfrm>
          <a:prstGeom prst="rect">
            <a:avLst/>
          </a:prstGeom>
          <a:ln w="0">
            <a:noFill/>
          </a:ln>
        </p:spPr>
      </p:pic>
      <p:sp>
        <p:nvSpPr>
          <p:cNvPr id="413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1007-E665-493E-A82D-BFD5243462B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5:09:57Z</dcterms:created>
  <dc:creator>Эвольвента</dc:creator>
  <dc:description/>
  <dc:language>en-US</dc:language>
  <cp:lastModifiedBy>Олег Грибан</cp:lastModifiedBy>
  <dcterms:modified xsi:type="dcterms:W3CDTF">2011-09-02T01:38:48Z</dcterms:modified>
  <cp:revision>12</cp:revision>
  <dc:subject/>
  <dc:title>Центральные и вписанные углы</dc:title>
</cp:coreProperties>
</file>