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932-A7A8-4A0B-8793-31720826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5F3D-1857-4BA7-8B8A-0AF7B382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40D-7248-4959-9953-A03F709B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98CA-E0E4-4849-89B8-F4B45FBA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4512-75F4-45D4-B826-A0B36528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9D8D-B144-4F72-AFD4-A15C3FF5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7106-A932-468B-8FB5-9E6AA80B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5F7A-EB5F-4F62-BFC0-6BEAD229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2BD0-5C8A-4130-A5A4-8BF90E24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B280-D13B-43F0-BA58-BC6979A1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7A6D-44B6-4B18-A9EA-FE8345E6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F65-5D34-409B-8340-C1750611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8540-AD96-497E-902A-2CDE0AEC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DC88-42C9-4F48-8B5D-D403818B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78FA-1600-4EBB-8524-20A66572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6328-3D3C-48E9-A03F-177CBD66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C46B-1A61-45D8-B44B-754BABBC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A8C-E5C8-446D-B12C-41CF6DA3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1D7-3F0A-4109-AC5B-EC912489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9A28-3E9F-4D58-8655-F866A4F6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108-0284-4835-9690-05FCB232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35E-58A8-4A8B-BC4F-A1759A54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BBFA-680C-4678-ABF1-F2D14806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2CE-49DA-44CB-B06A-87D9B60A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C282-9EA5-4032-8F61-E92AC3F690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1B4E-5444-45F1-8373-A6A8AEA7B9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94284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5400000"/>
          </a:gradFill>
          <a:ln w="2232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ccff"/>
                </a:solidFill>
                <a:latin typeface="Arial"/>
              </a:rPr>
              <a:t>Теорема Виета</a:t>
            </a:r>
            <a:endParaRPr b="0" lang="en-US" sz="5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4000" y="2133360"/>
            <a:ext cx="7848360" cy="2881080"/>
          </a:xfrm>
          <a:prstGeom prst="rect">
            <a:avLst/>
          </a:prstGeom>
          <a:gradFill rotWithShape="0">
            <a:gsLst>
              <a:gs pos="0">
                <a:srgbClr val="0099cc">
                  <a:alpha val="71372"/>
                </a:srgbClr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2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Франсуа Виет (1540–1603) родился во Франции. Разработал почти всю элементарную алгебру; ввёл в алгебру буквенные обозначения и построил первое буквенное исчисление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Формулировка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2016000"/>
          </a:xfrm>
          <a:prstGeom prst="rect">
            <a:avLst/>
          </a:prstGeom>
          <a:solidFill>
            <a:srgbClr val="3333ff">
              <a:alpha val="90000"/>
            </a:srgbClr>
          </a:solidFill>
          <a:ln w="2844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99ff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корни квадратного уравнения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px+q=0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то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=-p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  <a:ea typeface="Arial"/>
              </a:rPr>
              <a:t>∙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4292640"/>
            <a:ext cx="8207640" cy="1584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eb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edebff"/>
                </a:solidFill>
                <a:latin typeface="Arial"/>
              </a:rPr>
              <a:t>С помощью теоремы Виета можно выразить коэффициенты квадратного уравнения через его кор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Доказательство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знаем, что при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≥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ни приведённого квадратного уравнения находятся по форму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286440" cy="1076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8353440" cy="1952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750160" y="5661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8720" y="2708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500280"/>
            <a:ext cx="84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перь выполни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лгеб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ические преобразования – и теорема Виета доказа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Обратим внимание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одно интересное соотношение – дискриминант уравнения равен квадрату разности его корн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=(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-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206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Посмотрим на теорему Виета в действии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2349360"/>
            <a:ext cx="84963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риведённое квадратное уравнение 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29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-7x+10=0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еет корн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5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 Их сумма равна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7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а произведение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10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076640"/>
            <a:ext cx="8496360" cy="1510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ы видим, что сумма корней равна второму коэффициенту с противоположным знаком, а произведение свободному члену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6192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нциклопедия «Математика» издательство «Аванта+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62373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готовил Медведев Макс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12:33:29Z</dcterms:created>
  <dc:creator>Максим</dc:creator>
  <dc:description/>
  <dc:language>en-US</dc:language>
  <cp:lastModifiedBy>Максим</cp:lastModifiedBy>
  <dcterms:modified xsi:type="dcterms:W3CDTF">2010-01-15T12:13:23Z</dcterms:modified>
  <cp:revision>23</cp:revision>
  <dc:subject/>
  <dc:title>Теорема Ви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1000000000001024140</vt:lpwstr>
  </property>
  <property fmtid="{D5CDD505-2E9C-101B-9397-08002B2CF9AE}" pid="3" name="Version">
    <vt:r8>9</vt:r8>
  </property>
</Properties>
</file>