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682F-ADFA-45BB-A347-9EE30CDE5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2519-7B5F-4459-A269-0EBEAFA6A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A56C-85C5-4425-8ACD-6174ABD76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B038-1994-4E5B-848B-B6C96DDCF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78BB9-C94F-4542-801A-6DE855ADD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2D292-9ECA-4455-BD01-E3FAEFF79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EA7BC-9A3F-4045-BA23-A188A54D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1168C-3B2B-4A8E-86B5-538344E6C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5DDC3-2D50-4D57-9AC7-DC96367AB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95CAB-D1CD-4046-A03D-B46633044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E034D-49EC-4834-BDB5-5FBA7BD5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8D77-7C5F-4548-8AF2-3C572579B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4B8B4-6269-429B-9016-00E3042C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37C5F-AE86-4641-8C8D-1F4A5872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36FC7-C30A-4280-BD13-205BE9967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5DA27-98C4-4BC8-A763-E14031BC8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835EF-9E35-4709-A31A-2DE3D8358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2A60-0E4C-4BBE-9C04-5280AC213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B477-C078-46D1-9DD8-7DBEF2193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5F92-2B6C-4142-819D-0BAA7E52D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D43E-3790-46CE-8F23-4D79CDB6F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DEF1-CBEA-4DE7-BA0C-C995560A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106F-16E1-4BF9-A99B-B9A1395E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4353-3AFB-47AD-AE13-A6E836C1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1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13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1a00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6a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1a00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1100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6e"/>
                </a:gs>
                <a:gs pos="100000">
                  <a:srgbClr val="00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2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4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73"/>
                </a:gs>
                <a:gs pos="100000">
                  <a:srgbClr val="00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10047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12004b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4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4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73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F312D-C7A4-43CE-8FEB-FF863631EC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1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13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1a00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6a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1a00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1100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6e"/>
                </a:gs>
                <a:gs pos="100000">
                  <a:srgbClr val="00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2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4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73"/>
                </a:gs>
                <a:gs pos="100000">
                  <a:srgbClr val="00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10047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12004b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4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4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73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A3EBB-7EA7-4E1F-91E7-16407906A83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00cc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cccc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942840"/>
          </a:xfrm>
          <a:prstGeom prst="rect">
            <a:avLst/>
          </a:prstGeom>
          <a:gradFill rotWithShape="0">
            <a:gsLst>
              <a:gs pos="0">
                <a:srgbClr val="00465e"/>
              </a:gs>
              <a:gs pos="100000">
                <a:srgbClr val="0099cc"/>
              </a:gs>
            </a:gsLst>
            <a:lin ang="5400000"/>
          </a:gradFill>
          <a:ln w="22320">
            <a:solidFill>
              <a:srgbClr val="00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ccff"/>
                </a:solidFill>
                <a:latin typeface="Arial"/>
              </a:rPr>
              <a:t>Теорема Виета</a:t>
            </a:r>
            <a:endParaRPr b="0" lang="en-US" sz="5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684000" y="2133360"/>
            <a:ext cx="7848360" cy="2881080"/>
          </a:xfrm>
          <a:prstGeom prst="rect">
            <a:avLst/>
          </a:prstGeom>
          <a:gradFill rotWithShape="0">
            <a:gsLst>
              <a:gs pos="0">
                <a:srgbClr val="0099cc">
                  <a:alpha val="71372"/>
                </a:srgbClr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2232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Франсуа Виет (1540–1603) родился во Франции. Разработал почти всю элементарную алгебру; ввёл в алгебру буквенные обозначения и построил первое буквенное исчисление.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9360">
            <a:solidFill>
              <a:srgbClr val="6600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Формулировка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712000" cy="2016000"/>
          </a:xfrm>
          <a:prstGeom prst="rect">
            <a:avLst/>
          </a:prstGeom>
          <a:solidFill>
            <a:srgbClr val="3333ff">
              <a:alpha val="90000"/>
            </a:srgbClr>
          </a:solidFill>
          <a:ln w="28440">
            <a:solidFill>
              <a:srgbClr val="00ff00"/>
            </a:solidFill>
            <a:miter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9999ff"/>
              </a:buClr>
              <a:buSzPct val="9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Если 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x</a:t>
            </a:r>
            <a:r>
              <a:rPr b="0" lang="en-US" sz="4000" spc="-1" strike="noStrike" baseline="-25000">
                <a:solidFill>
                  <a:srgbClr val="ccccff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x</a:t>
            </a:r>
            <a:r>
              <a:rPr b="0" lang="en-US" sz="4000" spc="-1" strike="noStrike" baseline="-25000">
                <a:solidFill>
                  <a:srgbClr val="ccccff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– корни квадратного уравнения 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x</a:t>
            </a:r>
            <a:r>
              <a:rPr b="0" lang="en-US" sz="4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+px+q=0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, то 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x</a:t>
            </a:r>
            <a:r>
              <a:rPr b="0" lang="en-US" sz="4000" spc="-1" strike="noStrike" baseline="-25000">
                <a:solidFill>
                  <a:srgbClr val="ccccff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+x</a:t>
            </a:r>
            <a:r>
              <a:rPr b="0" lang="en-US" sz="4000" spc="-1" strike="noStrike" baseline="-25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=-p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, а 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x</a:t>
            </a:r>
            <a:r>
              <a:rPr b="0" lang="en-US" sz="4000" spc="-1" strike="noStrike" baseline="-25000">
                <a:solidFill>
                  <a:srgbClr val="ccccff"/>
                </a:solidFill>
                <a:latin typeface="Arial"/>
              </a:rPr>
              <a:t>1</a:t>
            </a:r>
            <a:r>
              <a:rPr b="0" lang="ru-RU" sz="4000" spc="-1" strike="noStrike">
                <a:solidFill>
                  <a:srgbClr val="ccccff"/>
                </a:solidFill>
                <a:latin typeface="Arial"/>
                <a:ea typeface="Arial"/>
              </a:rPr>
              <a:t>∙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x</a:t>
            </a:r>
            <a:r>
              <a:rPr b="0" lang="en-US" sz="4000" spc="-1" strike="noStrike" baseline="-25000">
                <a:solidFill>
                  <a:srgbClr val="ccccff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ccccff"/>
                </a:solidFill>
                <a:latin typeface="Arial"/>
              </a:rPr>
              <a:t>=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q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9640" y="4292640"/>
            <a:ext cx="8207640" cy="158436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deb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edebff"/>
                </a:solidFill>
                <a:latin typeface="Arial"/>
              </a:rPr>
              <a:t>С помощью теоремы Виета можно выразить коэффициенты квадратного уравнения через его кор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9360">
            <a:solidFill>
              <a:srgbClr val="6600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Доказательство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6868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ы знаем, что при 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  <a:ea typeface="Arial"/>
              </a:rPr>
              <a:t>≥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орни приведённого квадратного уравнения находятся по формул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6610320" y="258588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2771640" y="2421000"/>
            <a:ext cx="3286440" cy="10764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468360" y="4437000"/>
            <a:ext cx="8353440" cy="19526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8750160" y="566100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868720" y="270828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3500280"/>
            <a:ext cx="843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перь выполни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алгеб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ические преобразования – и теорема Виета доказан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9360">
            <a:solidFill>
              <a:srgbClr val="6600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Обратим внимание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щё одно интересное соотношение – дискриминант уравнения равен квадрату разности его корней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D=(x</a:t>
            </a:r>
            <a:r>
              <a:rPr b="0" lang="en-US" sz="3200" spc="-1" strike="noStrike" baseline="-25000">
                <a:solidFill>
                  <a:srgbClr val="cccc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-x</a:t>
            </a:r>
            <a:r>
              <a:rPr b="0" lang="en-US" sz="3200" spc="-1" strike="noStrike" baseline="-25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)</a:t>
            </a:r>
            <a:r>
              <a:rPr b="0" lang="en-US" sz="32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206360"/>
          </a:xfrm>
          <a:prstGeom prst="rect">
            <a:avLst/>
          </a:prstGeom>
          <a:noFill/>
          <a:ln w="9360">
            <a:solidFill>
              <a:srgbClr val="6600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Посмотрим на теорему Виета в действии</a:t>
            </a:r>
            <a:endParaRPr b="0" lang="en-US" sz="4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184464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5280" y="2349360"/>
            <a:ext cx="849636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Приведённое квадратное уравнение </a:t>
            </a:r>
            <a:r>
              <a:rPr b="0" lang="en-US" sz="2900" spc="-1" strike="noStrike">
                <a:solidFill>
                  <a:srgbClr val="ccccff"/>
                </a:solidFill>
                <a:latin typeface="Arial"/>
              </a:rPr>
              <a:t>x</a:t>
            </a:r>
            <a:r>
              <a:rPr b="0" lang="en-US" sz="29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900" spc="-1" strike="noStrike">
                <a:solidFill>
                  <a:srgbClr val="ccccff"/>
                </a:solidFill>
                <a:latin typeface="Arial"/>
              </a:rPr>
              <a:t>-7x+10=0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имеет корни </a:t>
            </a:r>
            <a:r>
              <a:rPr b="0" lang="ru-RU" sz="2900" spc="-1" strike="noStrike">
                <a:solidFill>
                  <a:srgbClr val="ccccff"/>
                </a:solidFill>
                <a:latin typeface="Arial"/>
              </a:rPr>
              <a:t>2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ru-RU" sz="2900" spc="-1" strike="noStrike">
                <a:solidFill>
                  <a:srgbClr val="ccccff"/>
                </a:solidFill>
                <a:latin typeface="Arial"/>
              </a:rPr>
              <a:t>5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. Их сумма равна </a:t>
            </a:r>
            <a:r>
              <a:rPr b="0" lang="ru-RU" sz="2900" spc="-1" strike="noStrike">
                <a:solidFill>
                  <a:srgbClr val="ccccff"/>
                </a:solidFill>
                <a:latin typeface="Arial"/>
              </a:rPr>
              <a:t>7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, а произведение </a:t>
            </a:r>
            <a:r>
              <a:rPr b="0" lang="ru-RU" sz="2900" spc="-1" strike="noStrike">
                <a:solidFill>
                  <a:srgbClr val="ccccff"/>
                </a:solidFill>
                <a:latin typeface="Arial"/>
              </a:rPr>
              <a:t>10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5280" y="4076640"/>
            <a:ext cx="8496360" cy="151092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Мы видим, что сумма корней равна второму коэффициенту с противоположным знаком, а произведение свободному члену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Список литературы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32000" y="2492280"/>
            <a:ext cx="61927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нциклопедия «Математика» издательство «Аванта+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64000" y="623736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дготовил Медведев Макси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6T12:33:29Z</dcterms:created>
  <dc:creator>Максим</dc:creator>
  <dc:description/>
  <dc:language>en-US</dc:language>
  <cp:lastModifiedBy>Максим</cp:lastModifiedBy>
  <dcterms:modified xsi:type="dcterms:W3CDTF">2010-01-15T12:13:23Z</dcterms:modified>
  <cp:revision>23</cp:revision>
  <dc:subject/>
  <dc:title>Теорема Виет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601000000000001024140</vt:lpwstr>
  </property>
  <property fmtid="{D5CDD505-2E9C-101B-9397-08002B2CF9AE}" pid="3" name="Version">
    <vt:r8>9</vt:r8>
  </property>
</Properties>
</file>