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92A-FE72-4B9C-8C98-ACF99B41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AAD-7D59-4151-AEA5-2072127B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6AB-132C-4645-8528-58320D86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13A-AE69-4211-8CF4-9A2A60E4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ECAE-09E7-4E93-885B-DD1B86B5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0BB1-33B5-4D6C-A694-4AAE4805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BA48-76AB-4047-A50B-1A22202B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77B6-12D2-46AB-880F-2315D8CD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3E5A-92E8-4A02-B908-133681AB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11FB-B20F-4F32-AF48-7F984F51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222B-BEBA-442C-AB84-62CC10E2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3DC-559F-426A-A7E0-6E97CFA3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A57C-8E9D-457D-B14F-E23CA46E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CC1C-F853-4D29-A1A1-AEC27C59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ABAD-C1DF-4435-A84E-373513F7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3CC0-F19E-4839-B778-97BB0550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9457-7377-495D-A038-3C14CC0E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2A54-4641-42D2-AB63-4463B4B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BB5D-F774-4C0E-95A5-199892B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E07-20F4-4360-845C-320AB497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DC5-24B2-41EE-A1C1-DB383514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CDA-2E1D-4193-B167-EDCF64CF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489B-2F34-44D5-9D59-3347FC84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985-5298-4C77-84D7-68975CC8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FD13-C3D3-4890-93BC-9167B03951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3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6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1a00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1a006c"/>
                </a:gs>
                <a:gs pos="100000">
                  <a:srgbClr val="1100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6e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2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73"/>
                </a:gs>
                <a:gs pos="100000">
                  <a:srgbClr val="00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10047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12004b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1a00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140054"/>
                </a:gs>
                <a:gs pos="100000">
                  <a:srgbClr val="1a0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73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EE43-895B-49EF-AD4A-F70981CA08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00cc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42840"/>
          </a:xfrm>
          <a:prstGeom prst="rect">
            <a:avLst/>
          </a:prstGeom>
          <a:gradFill rotWithShape="0">
            <a:gsLst>
              <a:gs pos="0">
                <a:srgbClr val="00465e"/>
              </a:gs>
              <a:gs pos="100000">
                <a:srgbClr val="0099cc"/>
              </a:gs>
            </a:gsLst>
            <a:lin ang="5400000"/>
          </a:gradFill>
          <a:ln w="2232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ccff"/>
                </a:solidFill>
                <a:latin typeface="Arial"/>
              </a:rPr>
              <a:t>Теорема Виета</a:t>
            </a:r>
            <a:endParaRPr b="0" lang="en-US" sz="5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4000" y="2133360"/>
            <a:ext cx="7848360" cy="2881080"/>
          </a:xfrm>
          <a:prstGeom prst="rect">
            <a:avLst/>
          </a:prstGeom>
          <a:gradFill rotWithShape="0">
            <a:gsLst>
              <a:gs pos="0">
                <a:srgbClr val="0099cc">
                  <a:alpha val="71372"/>
                </a:srgbClr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22320">
            <a:solidFill>
              <a:srgbClr val="ffff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Франсуа Виет (1540–1603) родился во Франции. Разработал почти всю элементарную алгебру; ввёл в алгебру буквенные обозначения и построил первое буквенное исчислени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Формулировка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2016000"/>
          </a:xfrm>
          <a:prstGeom prst="rect">
            <a:avLst/>
          </a:prstGeom>
          <a:solidFill>
            <a:srgbClr val="3333ff">
              <a:alpha val="90000"/>
            </a:srgbClr>
          </a:solidFill>
          <a:ln w="2844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99ff"/>
              </a:buClr>
              <a:buSzPct val="9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Если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– корни квадратного уравнения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px+q=0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то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+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=-p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  <a:ea typeface="Arial"/>
              </a:rPr>
              <a:t>∙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40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4000" spc="-1" strike="noStrike">
                <a:solidFill>
                  <a:srgbClr val="ccccff"/>
                </a:solidFill>
                <a:latin typeface="Arial"/>
              </a:rPr>
              <a:t>=</a:t>
            </a: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4292640"/>
            <a:ext cx="8207640" cy="158436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deb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edebff"/>
                </a:solidFill>
                <a:latin typeface="Arial"/>
              </a:rPr>
              <a:t>С помощью теоремы Виета можно выразить коэффициенты квадратного уравнения через его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Arial"/>
              </a:rPr>
              <a:t>Доказательство</a:t>
            </a:r>
            <a:endParaRPr b="0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знаем, что при 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≥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ни приведённого квадратного уравнения находятся по форму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286440" cy="10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468360" y="4437000"/>
            <a:ext cx="835344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750160" y="566100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8720" y="270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500280"/>
            <a:ext cx="843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перь выполн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алгеб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ические преобразования – и теорема Виета доказа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Обратим внимание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одно интересное соотношение – дискриминант уравнения равен квадрату разности его корн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=(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-x</a:t>
            </a:r>
            <a:r>
              <a:rPr b="0" lang="en-US" sz="32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206360"/>
          </a:xfrm>
          <a:prstGeom prst="rect">
            <a:avLst/>
          </a:prstGeom>
          <a:noFill/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Посмотрим на теорему Виета в действии</a:t>
            </a:r>
            <a:endParaRPr b="0" lang="en-US" sz="4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844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2349360"/>
            <a:ext cx="84963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иведённое квадратное уравнение 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x</a:t>
            </a:r>
            <a:r>
              <a:rPr b="0" lang="en-US" sz="29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900" spc="-1" strike="noStrike">
                <a:solidFill>
                  <a:srgbClr val="ccccff"/>
                </a:solidFill>
                <a:latin typeface="Arial"/>
              </a:rPr>
              <a:t>-7x+10=0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меет корн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2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5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 Их сумма равна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7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а произведение </a:t>
            </a:r>
            <a:r>
              <a:rPr b="0" lang="ru-RU" sz="2900" spc="-1" strike="noStrike">
                <a:solidFill>
                  <a:srgbClr val="ccccff"/>
                </a:solidFill>
                <a:latin typeface="Arial"/>
              </a:rPr>
              <a:t>10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4076640"/>
            <a:ext cx="8496360" cy="1510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Мы видим, что сумма корней равна второму коэффициенту с противоположным знаком, а произведение свободному члену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6192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нциклопедия «Математика» издательство «Аванта+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64000" y="62373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готовил Медведев Макс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12:33:29Z</dcterms:created>
  <dc:creator>Максим</dc:creator>
  <dc:description/>
  <dc:language>en-US</dc:language>
  <cp:lastModifiedBy>Максим</cp:lastModifiedBy>
  <dcterms:modified xsi:type="dcterms:W3CDTF">2010-01-15T12:13:23Z</dcterms:modified>
  <cp:revision>23</cp:revision>
  <dc:subject/>
  <dc:title>Теорема Вие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1000000000001024140</vt:lpwstr>
  </property>
  <property fmtid="{D5CDD505-2E9C-101B-9397-08002B2CF9AE}" pid="3" name="Version">
    <vt:r8>9</vt:r8>
  </property>
</Properties>
</file>