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4.png" ContentType="image/png"/>
  <Override PartName="/ppt/media/image3.wmf" ContentType="image/x-wmf"/>
  <Override PartName="/ppt/media/image26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5.wmf" ContentType="image/x-wmf"/>
  <Override PartName="/ppt/media/image27.gif" ContentType="image/gif"/>
  <Override PartName="/ppt/media/image14.jpeg" ContentType="image/jpeg"/>
  <Override PartName="/ppt/media/image22.gif" ContentType="image/gif"/>
  <Override PartName="/ppt/media/image2.png" ContentType="image/png"/>
  <Override PartName="/ppt/media/image1.png" ContentType="image/png"/>
  <Override PartName="/ppt/media/image24.png" ContentType="image/png"/>
  <Override PartName="/ppt/media/image1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213C-924B-41CC-B009-7DE3F007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4BF-3DDD-4CF1-8B30-EF19B71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D83-533C-4832-8D05-D37C4A39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6E6-B115-49C7-85C4-3A008C86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17EB-9ED5-4E17-844A-E7C269C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7A54-3006-4E3D-B0EE-BEE543CE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641A-8BAE-419D-BEB7-475B9ACF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B934-55D8-4A6A-ADA9-531D4B7E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F994-1517-4A6D-B412-54221F0C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E9CB-BA82-4602-B868-469168D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2CF1-925B-4FB1-BE77-8964E09B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CCD-5865-4469-BD0C-8C2F3790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A3E7-E821-42B0-A6ED-3BBCABB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B94C-180B-4557-B98C-9A90AC3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05F6-515B-4C2F-912F-3C1C5F83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B0AF-C68A-4694-8280-3227CE8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1BB1-F5F2-4632-BF2A-367326CA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B370-03B2-4445-8F10-1F2FD74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8A63-E4E0-4829-AB4A-017185E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6BB-58B0-4B01-9757-B9F200AC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136C-5476-47A9-A401-1F3762FD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924-8B80-4E18-B402-8E775BCE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8C21-2791-4C05-8E43-DF0E01D6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B99-4E6D-4D7D-B234-0B0DB244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CDAF-A8D5-426A-965A-E7FAD4BFA03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2D4-04F0-43D2-A7D3-E1CB5F02172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hyperlink" Target="file:///C:/Documents%20and%20Settings/&#1043;&#1077;&#1086;&#1075;&#1088;&#1072;&#1092;&#1080;&#1103;/&#1056;&#1072;&#1073;&#1086;&#1095;&#1080;&#1081;%20&#1089;&#1090;&#1086;&#1083;/&#1050;&#1086;&#1088;&#1079;&#1080;&#1085;&#1072;.ppt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280" y="105264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Arial"/>
              </a:rPr>
              <a:t>«Математическая викторина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887280" y="3933360"/>
            <a:ext cx="5256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33"/>
                </a:solidFill>
                <a:latin typeface="Verdana"/>
              </a:rPr>
              <a:t>Для 5 – 6 клас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404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14400" y="1700280"/>
            <a:ext cx="49690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3280" y="1692360"/>
            <a:ext cx="381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Трети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Капитански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 минуты на подготовку, за правильный ответ 2 бал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19280" y="4797000"/>
            <a:ext cx="4927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ретий тур мы начинаем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Знатоков приглашае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удут трудные задачи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желаем им уда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39640" y="620640"/>
            <a:ext cx="3599640" cy="3455280"/>
            <a:chOff x="539640" y="620640"/>
            <a:chExt cx="3599640" cy="3455280"/>
          </a:xfrm>
        </p:grpSpPr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539640" y="1093320"/>
              <a:ext cx="3411720" cy="29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 txBox="1"/>
            <p:nvPr/>
          </p:nvSpPr>
          <p:spPr>
            <a:xfrm>
              <a:off x="864360" y="620640"/>
              <a:ext cx="3274920" cy="639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Четвертый тур</a:t>
            </a:r>
            <a:br>
              <a:rPr sz="4000"/>
            </a:br>
            <a:r>
              <a:rPr b="0" lang="en-US" sz="4000" spc="-1" strike="noStrike">
                <a:solidFill>
                  <a:srgbClr val="99ff33"/>
                </a:solidFill>
                <a:latin typeface="Arial"/>
              </a:rPr>
              <a:t>Анаграммный</a:t>
            </a:r>
            <a:br>
              <a:rPr sz="40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ую анаграмму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3388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етвертый тур пора начать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награммы разгадат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лово лишнее найд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ычеркни, потом прочт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292720" y="2490840"/>
            <a:ext cx="385128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Переме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4724280"/>
            <a:ext cx="5410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Чтобы зритель не скуч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мотрите развлечень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тер нам предмет нарисова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ез отрыва и повторен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995640" y="2016000"/>
            <a:ext cx="4392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арисовать предмет, не отрывая карандаша от доски и не проводя одну и ту же линию дважды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4072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Капитанский тур - проверка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ите задачу уравнени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3715920"/>
            <a:ext cx="8229600" cy="28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 двух карманах было 28 орехов, причем в левом кармане в 3 раза больше, чем в правом. Сколько орехов было в каждом кармане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780000" y="17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Реш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9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сть х орехов в правом кармане, 3х орехов в лево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х + 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х =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Х = 7       7* 3 = 2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ет: 7 орехов и 21 оре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372360" y="5373720"/>
            <a:ext cx="2495520" cy="14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21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640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роверка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Расшифруйте анаграммы и найдите лишнее слово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16360" y="2205000"/>
          <a:ext cx="4103640" cy="4463640"/>
        </p:xfrm>
        <a:graphic>
          <a:graphicData uri="http://schemas.openxmlformats.org/drawingml/2006/table">
            <a:tbl>
              <a:tblPr/>
              <a:tblGrid>
                <a:gridCol w="4103640"/>
              </a:tblGrid>
              <a:tr h="44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умм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Уменьш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Слаг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Раз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Отре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Вычита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95280" y="2133720"/>
          <a:ext cx="4032360" cy="466704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7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Маму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Нышаумемо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Егамоесл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Нораз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Ретозо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- Чивымоета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292720" y="292428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07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10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276640"/>
            <a:ext cx="37544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Веиздепр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Молиед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Стеча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Равниеу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Жильтемн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Телид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0" y="2276640"/>
            <a:ext cx="4114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Произвед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м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Частно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Уравне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Множ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Делител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411280" y="0"/>
            <a:ext cx="4968720" cy="2781000"/>
            <a:chOff x="2411280" y="0"/>
            <a:chExt cx="4968720" cy="2781000"/>
          </a:xfrm>
        </p:grpSpPr>
        <p:pic>
          <p:nvPicPr>
            <p:cNvPr id="231" name="" descr=""/>
            <p:cNvPicPr/>
            <p:nvPr/>
          </p:nvPicPr>
          <p:blipFill>
            <a:blip r:embed="rId1"/>
            <a:stretch/>
          </p:blipFill>
          <p:spPr>
            <a:xfrm>
              <a:off x="2411280" y="0"/>
              <a:ext cx="496872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 txBox="1"/>
            <p:nvPr/>
          </p:nvSpPr>
          <p:spPr>
            <a:xfrm>
              <a:off x="4273560" y="1131480"/>
              <a:ext cx="2485440" cy="63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Monotype Corsiva"/>
              </a:rPr>
              <a:t>Цели: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фронтальное повторение учебного материала по математике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логики мышления;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ccff"/>
                </a:solidFill>
                <a:latin typeface="Monotype Corsiva"/>
              </a:rPr>
              <a:t>развитие познавательного интерес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3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38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7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ят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ключитель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по 1 баллу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ы, ребята, все уста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ого думали, считал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дохнуть уже пора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ятый тур уже – «Ура»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051600" y="3573360"/>
            <a:ext cx="28368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Кто быстрее впишет в квадратики нужные циф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72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812000" y="6130800"/>
            <a:ext cx="8748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213372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8436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8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7280" y="350028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692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24360" y="350028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95640" y="220500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94200" y="4770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5128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46920" y="4770360"/>
            <a:ext cx="115272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51280" y="6066000"/>
            <a:ext cx="1152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728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9420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91640" y="6066000"/>
            <a:ext cx="115236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72360" y="4797360"/>
            <a:ext cx="1152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450360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6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67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500"/>
                            </p:stCondLst>
                            <p:childTnLst>
                              <p:par>
                                <p:cTn id="2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Внимательно посмотрите на рисунок, сложите числ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1280" y="450864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прос: Какие числа записаны, внутри какой фигур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76720" y="1268280"/>
            <a:ext cx="2447640" cy="21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2060640"/>
            <a:ext cx="2160720" cy="1512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3645000"/>
            <a:ext cx="2232000" cy="1871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6000" y="1989000"/>
            <a:ext cx="2016000" cy="1871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521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500"/>
                            </p:stCondLst>
                            <p:childTnLst>
                              <p:par>
                                <p:cTn id="30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1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Награждение команд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067280" y="3860640"/>
            <a:ext cx="1660320" cy="2735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Спасибо за игру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  <a:ea typeface="Arial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  <a:ea typeface="Arial"/>
              </a:rPr>
              <a:t>.Представление команд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Название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Девиз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419640" y="3281400"/>
            <a:ext cx="53416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67000" y="1692360"/>
            <a:ext cx="42908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Первы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Размин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угаданный ребус – 5 баллов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4581000"/>
            <a:ext cx="58341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ервый тур мы начинаем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бедителей узнае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десь загадки и ша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а разгадку – всем наград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Image1_img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808440" cy="3774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4665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snap0524" descr="Точка"/>
          <p:cNvPicPr/>
          <p:nvPr/>
        </p:nvPicPr>
        <p:blipFill>
          <a:blip r:embed="rId1"/>
          <a:stretch/>
        </p:blipFill>
        <p:spPr>
          <a:xfrm>
            <a:off x="4948200" y="0"/>
            <a:ext cx="4195800" cy="3220920"/>
          </a:xfrm>
          <a:prstGeom prst="rect">
            <a:avLst/>
          </a:prstGeom>
          <a:ln w="0">
            <a:noFill/>
          </a:ln>
        </p:spPr>
      </p:pic>
      <p:pic>
        <p:nvPicPr>
          <p:cNvPr id="171" name="snap0501" descr="Осень"/>
          <p:cNvPicPr/>
          <p:nvPr/>
        </p:nvPicPr>
        <p:blipFill>
          <a:blip r:embed="rId2"/>
          <a:stretch/>
        </p:blipFill>
        <p:spPr>
          <a:xfrm>
            <a:off x="4896000" y="3716280"/>
            <a:ext cx="42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snap0532" descr="Задача"/>
          <p:cNvPicPr/>
          <p:nvPr/>
        </p:nvPicPr>
        <p:blipFill>
          <a:blip r:embed="rId3"/>
          <a:stretch/>
        </p:blipFill>
        <p:spPr>
          <a:xfrm>
            <a:off x="468360" y="0"/>
            <a:ext cx="3887640" cy="3197160"/>
          </a:xfrm>
          <a:prstGeom prst="rect">
            <a:avLst/>
          </a:prstGeom>
          <a:ln w="0">
            <a:noFill/>
          </a:ln>
        </p:spPr>
      </p:pic>
      <p:pic>
        <p:nvPicPr>
          <p:cNvPr id="173" name="snap0512" descr="Диаметр"/>
          <p:cNvPicPr/>
          <p:nvPr/>
        </p:nvPicPr>
        <p:blipFill>
          <a:blip r:embed="rId4"/>
          <a:stretch/>
        </p:blipFill>
        <p:spPr>
          <a:xfrm>
            <a:off x="395280" y="3716280"/>
            <a:ext cx="39607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snap0502" descr="Родина"/>
          <p:cNvPicPr/>
          <p:nvPr/>
        </p:nvPicPr>
        <p:blipFill>
          <a:blip r:embed="rId1"/>
          <a:stretch/>
        </p:blipFill>
        <p:spPr>
          <a:xfrm>
            <a:off x="179280" y="0"/>
            <a:ext cx="3888000" cy="3057480"/>
          </a:xfrm>
          <a:prstGeom prst="rect">
            <a:avLst/>
          </a:prstGeom>
          <a:ln w="0">
            <a:noFill/>
          </a:ln>
        </p:spPr>
      </p:pic>
      <p:pic>
        <p:nvPicPr>
          <p:cNvPr id="177" name="snap0509" descr="Вектор"/>
          <p:cNvPicPr/>
          <p:nvPr/>
        </p:nvPicPr>
        <p:blipFill>
          <a:blip r:embed="rId2"/>
          <a:stretch/>
        </p:blipFill>
        <p:spPr>
          <a:xfrm>
            <a:off x="4572000" y="0"/>
            <a:ext cx="4105440" cy="2938320"/>
          </a:xfrm>
          <a:prstGeom prst="rect">
            <a:avLst/>
          </a:prstGeom>
          <a:ln w="0">
            <a:noFill/>
          </a:ln>
        </p:spPr>
      </p:pic>
      <p:pic>
        <p:nvPicPr>
          <p:cNvPr id="178" name="snap0517" descr="Вершина"/>
          <p:cNvPicPr/>
          <p:nvPr/>
        </p:nvPicPr>
        <p:blipFill>
          <a:blip r:embed="rId3"/>
          <a:stretch/>
        </p:blipFill>
        <p:spPr>
          <a:xfrm>
            <a:off x="250920" y="3500280"/>
            <a:ext cx="4105080" cy="3187800"/>
          </a:xfrm>
          <a:prstGeom prst="rect">
            <a:avLst/>
          </a:prstGeom>
          <a:ln w="0">
            <a:noFill/>
          </a:ln>
        </p:spPr>
      </p:pic>
      <p:pic>
        <p:nvPicPr>
          <p:cNvPr id="179" name="snap0525" descr="Минус"/>
          <p:cNvPicPr/>
          <p:nvPr/>
        </p:nvPicPr>
        <p:blipFill>
          <a:blip r:embed="rId4"/>
          <a:stretch/>
        </p:blipFill>
        <p:spPr>
          <a:xfrm>
            <a:off x="4716360" y="3500280"/>
            <a:ext cx="4103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3203640" cy="1557360"/>
            <a:chOff x="0" y="0"/>
            <a:chExt cx="3203640" cy="1557360"/>
          </a:xfrm>
        </p:grpSpPr>
        <p:pic>
          <p:nvPicPr>
            <p:cNvPr id="1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203640" cy="15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 txBox="1"/>
            <p:nvPr/>
          </p:nvSpPr>
          <p:spPr>
            <a:xfrm>
              <a:off x="1200600" y="633600"/>
              <a:ext cx="1602360" cy="35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2622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Impact"/>
                </a:rPr>
                <a:t>Молодец!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  <a:ea typeface="Impact"/>
              </a:endParaRPr>
            </a:p>
          </p:txBody>
        </p:sp>
      </p:grpSp>
      <p:graphicFrame>
        <p:nvGraphicFramePr>
          <p:cNvPr id="185" name=""/>
          <p:cNvGraphicFramePr/>
          <p:nvPr/>
        </p:nvGraphicFramePr>
        <p:xfrm>
          <a:off x="457200" y="1600200"/>
          <a:ext cx="8229600" cy="965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33cc"/>
                          </a:solidFill>
                          <a:latin typeface="Verdana"/>
                        </a:rPr>
                        <a:t>Рейтинговая </a:t>
                      </a:r>
                      <a:r>
                        <a:rPr b="0" lang="ru-RU" sz="4000" spc="-1" strike="noStrike" u="sng">
                          <a:solidFill>
                            <a:srgbClr val="ffffcc"/>
                          </a:solidFill>
                          <a:uFillTx/>
                          <a:latin typeface="Verdana"/>
                          <a:hlinkClick r:id="rId3"/>
                        </a:rPr>
                        <a:t>Корзина.ppt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3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99640" y="1484280"/>
            <a:ext cx="55436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Второй тур</a:t>
            </a:r>
            <a:br>
              <a:rPr sz="4800"/>
            </a:br>
            <a:r>
              <a:rPr b="0" lang="en-US" sz="4800" spc="-1" strike="noStrike">
                <a:solidFill>
                  <a:srgbClr val="99ff33"/>
                </a:solidFill>
                <a:latin typeface="Arial"/>
              </a:rPr>
              <a:t>Загадочный</a:t>
            </a:r>
            <a:br>
              <a:rPr sz="4800"/>
            </a:b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За каждый правильный ответ 1 бал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83272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ур второй: пусть всякий знает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то же лучше вычисляет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не задачки прочитат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ам же думать и счита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37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-2127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1 Шла старуха в Москву, и навстречу ей три старика. Сколько человек шло в Москву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2 Что легче: пуд ваты или пуд желез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3 К 7 прибавить 5. Как правильно записать: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одиннадцать»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или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«адиннадцать»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4 Спутник Земли делает оборот за 1 ч 40 мин, а второй за 100 мин. Как это получается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5 Двое играли в шахматы 4 часа. Сколько времени играл каждый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6 В каждом из четырех углов комнаты  сидит кошка. Напротив каждой из этих кошек сидит три кошки. Сколько кошек в комнат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7 У отца 6 сыновей. Каждый из них имеет сестру. Сколько всего детей у отц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8 Горело 5 свечей. Две из них потухли. Сколько свечей осталось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08:52Z</dcterms:created>
  <dc:creator>Г А</dc:creator>
  <dc:description/>
  <dc:language>en-US</dc:language>
  <cp:lastModifiedBy>Маринкевич</cp:lastModifiedBy>
  <dcterms:modified xsi:type="dcterms:W3CDTF">2011-09-12T09:06:12Z</dcterms:modified>
  <cp:revision>20</cp:revision>
  <dc:subject/>
  <dc:title>Ох уж эта матема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f0000000000010250300207f7000400038000</vt:lpwstr>
  </property>
</Properties>
</file>