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25.gif" ContentType="image/gif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3.wmf" ContentType="image/x-wmf"/>
  <Override PartName="/ppt/media/image6.jpeg" ContentType="image/jpeg"/>
  <Override PartName="/ppt/media/image13.jpeg" ContentType="image/jpeg"/>
  <Override PartName="/ppt/media/image18.gif" ContentType="image/gif"/>
  <Override PartName="/ppt/media/image20.gif" ContentType="image/gif"/>
  <Override PartName="/ppt/media/image4.png" ContentType="image/png"/>
  <Override PartName="/ppt/media/image3.wmf" ContentType="image/x-wmf"/>
  <Override PartName="/ppt/media/image26.png" ContentType="image/png"/>
  <Override PartName="/ppt/media/image21.png" ContentType="image/png"/>
  <Override PartName="/ppt/media/image17.png" ContentType="image/png"/>
  <Override PartName="/ppt/media/image16.png" ContentType="image/png"/>
  <Override PartName="/ppt/media/chimes.wav" ContentType="audio/x-wav"/>
  <Override PartName="/ppt/media/image15.wmf" ContentType="image/x-wmf"/>
  <Override PartName="/ppt/media/image27.gif" ContentType="image/gif"/>
  <Override PartName="/ppt/media/image14.jpeg" ContentType="image/jpeg"/>
  <Override PartName="/ppt/media/image22.gif" ContentType="image/gif"/>
  <Override PartName="/ppt/media/image2.png" ContentType="image/png"/>
  <Override PartName="/ppt/media/image1.png" ContentType="image/png"/>
  <Override PartName="/ppt/media/image24.png" ContentType="image/png"/>
  <Override PartName="/ppt/media/image1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DDA2-B60D-45E9-9E19-D14E59E6C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C52E-C385-4905-BC02-577E45129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4F17-06EE-45BC-B64A-FD1A7AD7F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D323-D1D5-4F91-A2C7-FE09E02C1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E8A9B-29FF-4DD5-AB81-58B409134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4848A-8982-4E8B-A46B-BE2BDB0A4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1F049-773C-4103-8CBA-E9A72F5D7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0F874-D5E7-4A65-A343-86EE3B7DD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173E7-C21C-4867-901E-52F1FE8CD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E71C5-C77A-4E7B-B8E2-B53974DED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64EEA-F4CD-471B-83BC-5C8E3F09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BD85-6E9E-4E4B-B918-840DA1E92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EE076-8025-4FF4-A814-B3D4036B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76FD1-A78B-4ADC-B263-75C812B8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3E078-5041-4D82-A157-A9BB94B82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137A5-E049-4C3C-9987-9F2E2B9A2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25F35-3244-4D89-A183-EBC46316E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DF31-8277-476E-91D4-CAEE4E1A3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44C3-ACE2-4851-8AE1-78B1DFD61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57FD-D86B-4DB8-998C-6D79A2F4B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E6C5-5563-4996-AB2D-4B19B3A1B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4F84-E961-4044-BEEC-2A154873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4063-4E13-409A-B323-3D5EDC86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B7A3-43C4-49FC-852C-4F057093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D29D2-B241-4191-B355-C4B91CBE3C49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B1AF6-6D57-4F03-85AF-A0C8B8315560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hyperlink" Target="file:///C:/Documents%20and%20Settings/&#1043;&#1077;&#1086;&#1075;&#1088;&#1072;&#1092;&#1080;&#1103;/&#1056;&#1072;&#1073;&#1086;&#1095;&#1080;&#1081;%20&#1089;&#1090;&#1086;&#1083;/&#1050;&#1086;&#1088;&#1079;&#1080;&#1085;&#1072;.ppt" TargetMode="External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hyperlink" Target="file:///C:/Documents%20and%20Settings/&#1043;&#1077;&#1086;&#1075;&#1088;&#1072;&#1092;&#1080;&#1103;/&#1056;&#1072;&#1073;&#1086;&#1095;&#1080;&#1081;%20&#1089;&#1090;&#1086;&#1083;/&#1050;&#1086;&#1088;&#1079;&#1080;&#1085;&#1072;.ppt" TargetMode="External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hyperlink" Target="file:///C:/Documents%20and%20Settings/&#1043;&#1077;&#1086;&#1075;&#1088;&#1072;&#1092;&#1080;&#1103;/&#1056;&#1072;&#1073;&#1086;&#1095;&#1080;&#1081;%20&#1089;&#1090;&#1086;&#1083;/&#1050;&#1086;&#1088;&#1079;&#1080;&#1085;&#1072;.ppt" TargetMode="External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hyperlink" Target="file:///C:/Documents%20and%20Settings/&#1043;&#1077;&#1086;&#1075;&#1088;&#1072;&#1092;&#1080;&#1103;/&#1056;&#1072;&#1073;&#1086;&#1095;&#1080;&#1081;%20&#1089;&#1090;&#1086;&#1083;/&#1050;&#1086;&#1088;&#1079;&#1080;&#1085;&#1072;.ppt" TargetMode="External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hyperlink" Target="file:///C:/Documents%20and%20Settings/&#1043;&#1077;&#1086;&#1075;&#1088;&#1072;&#1092;&#1080;&#1103;/&#1056;&#1072;&#1073;&#1086;&#1095;&#1080;&#1081;%20&#1089;&#1090;&#1086;&#1083;/&#1050;&#1086;&#1088;&#1079;&#1080;&#1085;&#1072;.ppt" TargetMode="External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hyperlink" Target="file:///C:/Documents%20and%20Settings/&#1043;&#1077;&#1086;&#1075;&#1088;&#1072;&#1092;&#1080;&#1103;/&#1056;&#1072;&#1073;&#1086;&#1095;&#1080;&#1081;%20&#1089;&#1090;&#1086;&#1083;/&#1050;&#1086;&#1088;&#1079;&#1080;&#1085;&#1072;.ppt" TargetMode="External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7280" y="105264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Arial"/>
              </a:rPr>
              <a:t>«Математическая викторина»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887280" y="3933360"/>
            <a:ext cx="5256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Verdana"/>
              </a:rPr>
              <a:t>Для 5 – 6 класс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40464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-14400" y="1700280"/>
            <a:ext cx="4969080" cy="51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1200"/>
          </a:xfrm>
          <a:prstGeom prst="rect">
            <a:avLst/>
          </a:prstGeom>
          <a:ln w="0">
            <a:noFill/>
          </a:ln>
        </p:spPr>
      </p:pic>
      <p:grpSp>
        <p:nvGrpSpPr>
          <p:cNvPr id="193" name=""/>
          <p:cNvGrpSpPr/>
          <p:nvPr/>
        </p:nvGrpSpPr>
        <p:grpSpPr>
          <a:xfrm>
            <a:off x="0" y="0"/>
            <a:ext cx="3203640" cy="1557360"/>
            <a:chOff x="0" y="0"/>
            <a:chExt cx="3203640" cy="1557360"/>
          </a:xfrm>
        </p:grpSpPr>
        <p:pic>
          <p:nvPicPr>
            <p:cNvPr id="19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203640" cy="15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 txBox="1"/>
            <p:nvPr/>
          </p:nvSpPr>
          <p:spPr>
            <a:xfrm>
              <a:off x="1200600" y="633600"/>
              <a:ext cx="1602360" cy="35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Молодец!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</p:grpSp>
      <p:graphicFrame>
        <p:nvGraphicFramePr>
          <p:cNvPr id="196" name=""/>
          <p:cNvGraphicFramePr/>
          <p:nvPr/>
        </p:nvGraphicFramePr>
        <p:xfrm>
          <a:off x="457200" y="1600200"/>
          <a:ext cx="8229600" cy="9651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</a:t>
                      </a:r>
                      <a:r>
                        <a:rPr b="1" lang="ru-RU" sz="4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Рейтинговая </a:t>
                      </a:r>
                      <a:r>
                        <a:rPr b="0" lang="ru-RU" sz="40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3"/>
                        </a:rPr>
                        <a:t>Корзина.pp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500"/>
                            </p:stCondLst>
                            <p:childTnLst>
                              <p:par>
                                <p:cTn id="54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2500"/>
                            </p:stCondLst>
                            <p:childTnLst>
                              <p:par>
                                <p:cTn id="68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03280" y="1692360"/>
            <a:ext cx="381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Третий тур</a:t>
            </a:r>
            <a:br>
              <a:rPr sz="4800"/>
            </a:br>
            <a:r>
              <a:rPr b="0" lang="en-US" sz="4800" spc="-1" strike="noStrike">
                <a:solidFill>
                  <a:srgbClr val="99ff33"/>
                </a:solidFill>
                <a:latin typeface="Arial"/>
              </a:rPr>
              <a:t>Капитанский</a:t>
            </a:r>
            <a:br>
              <a:rPr sz="4800"/>
            </a:b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3 минуты на подготовку, за правильный ответ 2 балла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619280" y="4797000"/>
            <a:ext cx="4927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Третий тур мы начинаем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Знатоков приглашаем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Будут трудные задачи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Пожелаем им удач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539640" y="620640"/>
            <a:ext cx="3599640" cy="3455280"/>
            <a:chOff x="539640" y="620640"/>
            <a:chExt cx="3599640" cy="3455280"/>
          </a:xfrm>
        </p:grpSpPr>
        <p:pic>
          <p:nvPicPr>
            <p:cNvPr id="200" name="" descr=""/>
            <p:cNvPicPr/>
            <p:nvPr/>
          </p:nvPicPr>
          <p:blipFill>
            <a:blip r:embed="rId1"/>
            <a:stretch/>
          </p:blipFill>
          <p:spPr>
            <a:xfrm>
              <a:off x="539640" y="1093320"/>
              <a:ext cx="3411720" cy="29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 txBox="1"/>
            <p:nvPr/>
          </p:nvSpPr>
          <p:spPr>
            <a:xfrm>
              <a:off x="864360" y="620640"/>
              <a:ext cx="3274920" cy="639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Подумай!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59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Четвертый тур</a:t>
            </a:r>
            <a:br>
              <a:rPr sz="4000"/>
            </a:br>
            <a:r>
              <a:rPr b="0" lang="en-US" sz="4000" spc="-1" strike="noStrike">
                <a:solidFill>
                  <a:srgbClr val="99ff33"/>
                </a:solidFill>
                <a:latin typeface="Arial"/>
              </a:rPr>
              <a:t>Анаграммный</a:t>
            </a:r>
            <a:br>
              <a:rPr sz="4000"/>
            </a:b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за каждую анаграмму по 1 баллу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4724280"/>
            <a:ext cx="5338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Четвертый тур пора начать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Анаграммы разгадат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Слово лишнее найд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Вычеркни, потом прочт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5292720" y="2490840"/>
            <a:ext cx="385128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Переме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4724280"/>
            <a:ext cx="541008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Чтобы зритель не скуча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Посмотрите развлечень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Мастер нам предмет нарисова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Без отрыва и повторени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995640" y="2016000"/>
            <a:ext cx="439272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Нарисовать предмет, не отрывая карандаша от доски и не проводя одну и ту же линию дважды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264072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Капитанский тур - проверка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Решите задачу уравнение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360" y="3715920"/>
            <a:ext cx="8229600" cy="28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 двух карманах было 28 орехов, причем в левом кармане в 3 раза больше, чем в правом. Сколько орехов было в каждом кармане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780000" y="177336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Решение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8920" y="2060280"/>
            <a:ext cx="8496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Пусть х орехов в правом кармане, 3х орехов в лево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х + х = 2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4х = 2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Х = 7       7* 3 = 2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Ответ: 7 орехов и 21 орех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372360" y="5373720"/>
            <a:ext cx="2495520" cy="148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1200"/>
          </a:xfrm>
          <a:prstGeom prst="rect">
            <a:avLst/>
          </a:prstGeom>
          <a:ln w="0">
            <a:noFill/>
          </a:ln>
        </p:spPr>
      </p:pic>
      <p:grpSp>
        <p:nvGrpSpPr>
          <p:cNvPr id="218" name=""/>
          <p:cNvGrpSpPr/>
          <p:nvPr/>
        </p:nvGrpSpPr>
        <p:grpSpPr>
          <a:xfrm>
            <a:off x="0" y="0"/>
            <a:ext cx="3203640" cy="1557360"/>
            <a:chOff x="0" y="0"/>
            <a:chExt cx="3203640" cy="1557360"/>
          </a:xfrm>
        </p:grpSpPr>
        <p:pic>
          <p:nvPicPr>
            <p:cNvPr id="21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203640" cy="15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 txBox="1"/>
            <p:nvPr/>
          </p:nvSpPr>
          <p:spPr>
            <a:xfrm>
              <a:off x="1200600" y="633600"/>
              <a:ext cx="1602360" cy="35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Молодец!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</p:grpSp>
      <p:graphicFrame>
        <p:nvGraphicFramePr>
          <p:cNvPr id="221" name=""/>
          <p:cNvGraphicFramePr/>
          <p:nvPr/>
        </p:nvGraphicFramePr>
        <p:xfrm>
          <a:off x="457200" y="1600200"/>
          <a:ext cx="8229600" cy="9651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</a:t>
                      </a:r>
                      <a:r>
                        <a:rPr b="1" lang="ru-RU" sz="4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Рейтинговая </a:t>
                      </a:r>
                      <a:r>
                        <a:rPr b="0" lang="ru-RU" sz="40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3"/>
                        </a:rPr>
                        <a:t>Корзина.pp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0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500"/>
                            </p:stCondLst>
                            <p:childTnLst>
                              <p:par>
                                <p:cTn id="107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0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9000"/>
                            </p:stCondLst>
                            <p:childTnLst>
                              <p:par>
                                <p:cTn id="114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1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1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2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6407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Проверка </a:t>
            </a:r>
            <a:br>
              <a:rPr sz="3200"/>
            </a:b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Расшифруйте анаграммы и найдите лишнее слово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4716360" y="2205000"/>
          <a:ext cx="4103640" cy="4463640"/>
        </p:xfrm>
        <a:graphic>
          <a:graphicData uri="http://schemas.openxmlformats.org/drawingml/2006/table">
            <a:tbl>
              <a:tblPr/>
              <a:tblGrid>
                <a:gridCol w="4103640"/>
              </a:tblGrid>
              <a:tr h="44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Сумм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Уменьшаемо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Слагаемо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Разност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Отрезок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Вычитаемо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395280" y="2133720"/>
          <a:ext cx="4032360" cy="4667040"/>
        </p:xfrm>
        <a:graphic>
          <a:graphicData uri="http://schemas.openxmlformats.org/drawingml/2006/table">
            <a:tbl>
              <a:tblPr/>
              <a:tblGrid>
                <a:gridCol w="4032360"/>
              </a:tblGrid>
              <a:tr h="470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Мамус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Нышаумемо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 Егамоесл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 Норазст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 Ретозок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 Чивымоета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>
            <a:off x="5292720" y="2924280"/>
            <a:ext cx="156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588000" y="981000"/>
            <a:ext cx="2079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10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2276640"/>
            <a:ext cx="375444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Веиздепре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Молиед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Стечан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Равниеун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Жильтемн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Телидел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0" y="2276640"/>
            <a:ext cx="41148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Произведе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Делимо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Частно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Уравне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Множител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Делител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2411280" y="0"/>
            <a:ext cx="4968720" cy="2781000"/>
            <a:chOff x="2411280" y="0"/>
            <a:chExt cx="4968720" cy="2781000"/>
          </a:xfrm>
        </p:grpSpPr>
        <p:pic>
          <p:nvPicPr>
            <p:cNvPr id="231" name="" descr=""/>
            <p:cNvPicPr/>
            <p:nvPr/>
          </p:nvPicPr>
          <p:blipFill>
            <a:blip r:embed="rId1"/>
            <a:stretch/>
          </p:blipFill>
          <p:spPr>
            <a:xfrm>
              <a:off x="2411280" y="0"/>
              <a:ext cx="4968720" cy="27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 txBox="1"/>
            <p:nvPr/>
          </p:nvSpPr>
          <p:spPr>
            <a:xfrm>
              <a:off x="4273560" y="1131480"/>
              <a:ext cx="2485440" cy="63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Молодец!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3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500"/>
                            </p:stCondLst>
                            <p:childTnLst>
                              <p:par>
                                <p:cTn id="139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4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9000"/>
                            </p:stCondLst>
                            <p:childTnLst>
                              <p:par>
                                <p:cTn id="146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4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3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5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ccff"/>
                </a:solidFill>
                <a:latin typeface="Monotype Corsiva"/>
              </a:rPr>
              <a:t>Цели: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ccff"/>
                </a:solidFill>
                <a:latin typeface="Monotype Corsiva"/>
              </a:rPr>
              <a:t>фронтальное повторение учебного материала по математике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ccff"/>
                </a:solidFill>
                <a:latin typeface="Monotype Corsiva"/>
              </a:rPr>
              <a:t>развитие логики мышления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ccff"/>
                </a:solidFill>
                <a:latin typeface="Monotype Corsiva"/>
              </a:rPr>
              <a:t>развитие познавательного интереса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1200"/>
          </a:xfrm>
          <a:prstGeom prst="rect">
            <a:avLst/>
          </a:prstGeom>
          <a:ln w="0">
            <a:noFill/>
          </a:ln>
        </p:spPr>
      </p:pic>
      <p:grpSp>
        <p:nvGrpSpPr>
          <p:cNvPr id="235" name=""/>
          <p:cNvGrpSpPr/>
          <p:nvPr/>
        </p:nvGrpSpPr>
        <p:grpSpPr>
          <a:xfrm>
            <a:off x="0" y="0"/>
            <a:ext cx="3203640" cy="1557360"/>
            <a:chOff x="0" y="0"/>
            <a:chExt cx="3203640" cy="1557360"/>
          </a:xfrm>
        </p:grpSpPr>
        <p:pic>
          <p:nvPicPr>
            <p:cNvPr id="23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203640" cy="15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 txBox="1"/>
            <p:nvPr/>
          </p:nvSpPr>
          <p:spPr>
            <a:xfrm>
              <a:off x="1200600" y="633600"/>
              <a:ext cx="1602360" cy="35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Молодец!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</p:grpSp>
      <p:graphicFrame>
        <p:nvGraphicFramePr>
          <p:cNvPr id="238" name=""/>
          <p:cNvGraphicFramePr/>
          <p:nvPr/>
        </p:nvGraphicFramePr>
        <p:xfrm>
          <a:off x="457200" y="1600200"/>
          <a:ext cx="8229600" cy="9651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</a:t>
                      </a:r>
                      <a:r>
                        <a:rPr b="1" lang="ru-RU" sz="4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Рейтинговая </a:t>
                      </a:r>
                      <a:r>
                        <a:rPr b="0" lang="ru-RU" sz="40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3"/>
                        </a:rPr>
                        <a:t>Корзина.pp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6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500"/>
                            </p:stCondLst>
                            <p:childTnLst>
                              <p:par>
                                <p:cTn id="171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7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9000"/>
                            </p:stCondLst>
                            <p:childTnLst>
                              <p:par>
                                <p:cTn id="178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7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85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8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Пятый тур</a:t>
            </a:r>
            <a:br>
              <a:rPr sz="4800"/>
            </a:br>
            <a:r>
              <a:rPr b="0" lang="en-US" sz="4800" spc="-1" strike="noStrike">
                <a:solidFill>
                  <a:srgbClr val="99ff33"/>
                </a:solidFill>
                <a:latin typeface="Arial"/>
              </a:rPr>
              <a:t>Заключительный</a:t>
            </a:r>
            <a:br>
              <a:rPr sz="4800"/>
            </a:b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за каждый правильный ответ по 1 баллу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Вы, ребята, все устал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Много думали, считал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Отдохнуть уже пора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Пятый тур уже – «Ура»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6051600" y="3573360"/>
            <a:ext cx="2836800" cy="29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Кто быстрее впишет в квадратики нужные цифр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572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7812000" y="6130800"/>
            <a:ext cx="87480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/>
          <p:nvPr/>
        </p:nvSpPr>
        <p:spPr>
          <a:xfrm>
            <a:off x="755640" y="2133720"/>
            <a:ext cx="1152360" cy="79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484360" y="2205000"/>
            <a:ext cx="115272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580000" y="2205000"/>
            <a:ext cx="115272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484360" y="3500280"/>
            <a:ext cx="115272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6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067280" y="3500280"/>
            <a:ext cx="115236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49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26920" y="3500280"/>
            <a:ext cx="115272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724360" y="3500280"/>
            <a:ext cx="115272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8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95640" y="2205000"/>
            <a:ext cx="115272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094200" y="4770360"/>
            <a:ext cx="115236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751280" y="4770360"/>
            <a:ext cx="115272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846920" y="4770360"/>
            <a:ext cx="115272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751280" y="6066000"/>
            <a:ext cx="1152720" cy="79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407280" y="6066000"/>
            <a:ext cx="1152360" cy="79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27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94200" y="6066000"/>
            <a:ext cx="1152360" cy="79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991640" y="6066000"/>
            <a:ext cx="1152360" cy="79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6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372360" y="4797360"/>
            <a:ext cx="115236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0" y="4503600"/>
            <a:ext cx="31320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1200"/>
          </a:xfrm>
          <a:prstGeom prst="rect">
            <a:avLst/>
          </a:prstGeom>
          <a:ln w="0">
            <a:noFill/>
          </a:ln>
        </p:spPr>
      </p:pic>
      <p:grpSp>
        <p:nvGrpSpPr>
          <p:cNvPr id="264" name=""/>
          <p:cNvGrpSpPr/>
          <p:nvPr/>
        </p:nvGrpSpPr>
        <p:grpSpPr>
          <a:xfrm>
            <a:off x="0" y="0"/>
            <a:ext cx="3203640" cy="1557360"/>
            <a:chOff x="0" y="0"/>
            <a:chExt cx="3203640" cy="1557360"/>
          </a:xfrm>
        </p:grpSpPr>
        <p:pic>
          <p:nvPicPr>
            <p:cNvPr id="265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203640" cy="15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 txBox="1"/>
            <p:nvPr/>
          </p:nvSpPr>
          <p:spPr>
            <a:xfrm>
              <a:off x="1200600" y="633600"/>
              <a:ext cx="1602360" cy="35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Молодец!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</p:grpSp>
      <p:graphicFrame>
        <p:nvGraphicFramePr>
          <p:cNvPr id="267" name=""/>
          <p:cNvGraphicFramePr/>
          <p:nvPr/>
        </p:nvGraphicFramePr>
        <p:xfrm>
          <a:off x="457200" y="1600200"/>
          <a:ext cx="8229600" cy="9651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</a:t>
                      </a:r>
                      <a:r>
                        <a:rPr b="1" lang="ru-RU" sz="4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Рейтинговая </a:t>
                      </a:r>
                      <a:r>
                        <a:rPr b="0" lang="ru-RU" sz="40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3"/>
                        </a:rPr>
                        <a:t>Корзина.pp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2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500"/>
                            </p:stCondLst>
                            <p:childTnLst>
                              <p:par>
                                <p:cTn id="229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3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000"/>
                            </p:stCondLst>
                            <p:childTnLst>
                              <p:par>
                                <p:cTn id="236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3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2500"/>
                            </p:stCondLst>
                            <p:childTnLst>
                              <p:par>
                                <p:cTn id="243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4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Внимательно посмотрите на рисунок, сложите числа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042920" y="2060640"/>
            <a:ext cx="2160720" cy="1512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203640" y="3645000"/>
            <a:ext cx="2232000" cy="187164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796000" y="1989000"/>
            <a:ext cx="2016000" cy="1871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11280" y="450864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опрос: Какие числа записаны, внутри какой фигуры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3276720" y="1268280"/>
            <a:ext cx="2447640" cy="215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1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5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9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3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042920" y="2060640"/>
            <a:ext cx="2160720" cy="1512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03640" y="3645000"/>
            <a:ext cx="2232000" cy="187164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796000" y="1989000"/>
            <a:ext cx="2016000" cy="1871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6156360" y="4365720"/>
            <a:ext cx="2521080" cy="23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9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3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7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1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1200"/>
          </a:xfrm>
          <a:prstGeom prst="rect">
            <a:avLst/>
          </a:prstGeom>
          <a:ln w="0">
            <a:noFill/>
          </a:ln>
        </p:spPr>
      </p:pic>
      <p:grpSp>
        <p:nvGrpSpPr>
          <p:cNvPr id="281" name=""/>
          <p:cNvGrpSpPr/>
          <p:nvPr/>
        </p:nvGrpSpPr>
        <p:grpSpPr>
          <a:xfrm>
            <a:off x="0" y="0"/>
            <a:ext cx="3203640" cy="1557360"/>
            <a:chOff x="0" y="0"/>
            <a:chExt cx="3203640" cy="1557360"/>
          </a:xfrm>
        </p:grpSpPr>
        <p:pic>
          <p:nvPicPr>
            <p:cNvPr id="28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203640" cy="15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 txBox="1"/>
            <p:nvPr/>
          </p:nvSpPr>
          <p:spPr>
            <a:xfrm>
              <a:off x="1200600" y="633600"/>
              <a:ext cx="1602360" cy="35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Молодец!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</p:grpSp>
      <p:graphicFrame>
        <p:nvGraphicFramePr>
          <p:cNvPr id="284" name=""/>
          <p:cNvGraphicFramePr/>
          <p:nvPr/>
        </p:nvGraphicFramePr>
        <p:xfrm>
          <a:off x="457200" y="1600200"/>
          <a:ext cx="8229600" cy="9651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</a:t>
                      </a:r>
                      <a:r>
                        <a:rPr b="1" lang="ru-RU" sz="4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Рейтинговая </a:t>
                      </a:r>
                      <a:r>
                        <a:rPr b="0" lang="ru-RU" sz="40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3"/>
                        </a:rPr>
                        <a:t>Корзина.pp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0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500"/>
                            </p:stCondLst>
                            <p:childTnLst>
                              <p:par>
                                <p:cTn id="309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1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9000"/>
                            </p:stCondLst>
                            <p:childTnLst>
                              <p:par>
                                <p:cTn id="316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1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2500"/>
                            </p:stCondLst>
                            <p:childTnLst>
                              <p:par>
                                <p:cTn id="323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2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Verdana"/>
              </a:rPr>
              <a:t>Награждение команд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4067280" y="3860640"/>
            <a:ext cx="1660320" cy="273528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Спасибо за игру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Arial"/>
              </a:rPr>
              <a:t>I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  <a:ea typeface="Arial"/>
              </a:rPr>
              <a:t>.Представление команд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Название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Девиз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419640" y="3281400"/>
            <a:ext cx="534168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67000" y="1692360"/>
            <a:ext cx="429084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Первый тур</a:t>
            </a:r>
            <a:br>
              <a:rPr sz="4800"/>
            </a:br>
            <a:r>
              <a:rPr b="0" lang="en-US" sz="4800" spc="-1" strike="noStrike">
                <a:solidFill>
                  <a:srgbClr val="99ff33"/>
                </a:solidFill>
                <a:latin typeface="Arial"/>
              </a:rPr>
              <a:t>Разминочный</a:t>
            </a:r>
            <a:br>
              <a:rPr sz="4800"/>
            </a:b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За каждый угаданный ребус – 5 баллов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2771640" y="4581000"/>
            <a:ext cx="583416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Первый тур мы начинаем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Победителей узнаем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Здесь загадки и шарад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За разгадку – всем наград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Image1_img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3808440" cy="37749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7928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4665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snap0524" descr="Точка"/>
          <p:cNvPicPr/>
          <p:nvPr/>
        </p:nvPicPr>
        <p:blipFill>
          <a:blip r:embed="rId1"/>
          <a:stretch/>
        </p:blipFill>
        <p:spPr>
          <a:xfrm>
            <a:off x="4948200" y="0"/>
            <a:ext cx="4195800" cy="3220920"/>
          </a:xfrm>
          <a:prstGeom prst="rect">
            <a:avLst/>
          </a:prstGeom>
          <a:ln w="0">
            <a:noFill/>
          </a:ln>
        </p:spPr>
      </p:pic>
      <p:pic>
        <p:nvPicPr>
          <p:cNvPr id="171" name="snap0501" descr="Осень"/>
          <p:cNvPicPr/>
          <p:nvPr/>
        </p:nvPicPr>
        <p:blipFill>
          <a:blip r:embed="rId2"/>
          <a:stretch/>
        </p:blipFill>
        <p:spPr>
          <a:xfrm>
            <a:off x="4896000" y="3716280"/>
            <a:ext cx="4248000" cy="3141720"/>
          </a:xfrm>
          <a:prstGeom prst="rect">
            <a:avLst/>
          </a:prstGeom>
          <a:ln w="0">
            <a:noFill/>
          </a:ln>
        </p:spPr>
      </p:pic>
      <p:pic>
        <p:nvPicPr>
          <p:cNvPr id="172" name="snap0532" descr="Задача"/>
          <p:cNvPicPr/>
          <p:nvPr/>
        </p:nvPicPr>
        <p:blipFill>
          <a:blip r:embed="rId3"/>
          <a:stretch/>
        </p:blipFill>
        <p:spPr>
          <a:xfrm>
            <a:off x="468360" y="0"/>
            <a:ext cx="3887640" cy="3197160"/>
          </a:xfrm>
          <a:prstGeom prst="rect">
            <a:avLst/>
          </a:prstGeom>
          <a:ln w="0">
            <a:noFill/>
          </a:ln>
        </p:spPr>
      </p:pic>
      <p:pic>
        <p:nvPicPr>
          <p:cNvPr id="173" name="snap0512" descr="Диаметр"/>
          <p:cNvPicPr/>
          <p:nvPr/>
        </p:nvPicPr>
        <p:blipFill>
          <a:blip r:embed="rId4"/>
          <a:stretch/>
        </p:blipFill>
        <p:spPr>
          <a:xfrm>
            <a:off x="395280" y="3716280"/>
            <a:ext cx="396072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snap0502" descr="Родина"/>
          <p:cNvPicPr/>
          <p:nvPr/>
        </p:nvPicPr>
        <p:blipFill>
          <a:blip r:embed="rId1"/>
          <a:stretch/>
        </p:blipFill>
        <p:spPr>
          <a:xfrm>
            <a:off x="179280" y="0"/>
            <a:ext cx="3888000" cy="3057480"/>
          </a:xfrm>
          <a:prstGeom prst="rect">
            <a:avLst/>
          </a:prstGeom>
          <a:ln w="0">
            <a:noFill/>
          </a:ln>
        </p:spPr>
      </p:pic>
      <p:pic>
        <p:nvPicPr>
          <p:cNvPr id="177" name="snap0509" descr="Вектор"/>
          <p:cNvPicPr/>
          <p:nvPr/>
        </p:nvPicPr>
        <p:blipFill>
          <a:blip r:embed="rId2"/>
          <a:stretch/>
        </p:blipFill>
        <p:spPr>
          <a:xfrm>
            <a:off x="4572000" y="0"/>
            <a:ext cx="4105440" cy="2938320"/>
          </a:xfrm>
          <a:prstGeom prst="rect">
            <a:avLst/>
          </a:prstGeom>
          <a:ln w="0">
            <a:noFill/>
          </a:ln>
        </p:spPr>
      </p:pic>
      <p:pic>
        <p:nvPicPr>
          <p:cNvPr id="178" name="snap0517" descr="Вершина"/>
          <p:cNvPicPr/>
          <p:nvPr/>
        </p:nvPicPr>
        <p:blipFill>
          <a:blip r:embed="rId3"/>
          <a:stretch/>
        </p:blipFill>
        <p:spPr>
          <a:xfrm>
            <a:off x="250920" y="3500280"/>
            <a:ext cx="4105080" cy="3187800"/>
          </a:xfrm>
          <a:prstGeom prst="rect">
            <a:avLst/>
          </a:prstGeom>
          <a:ln w="0">
            <a:noFill/>
          </a:ln>
        </p:spPr>
      </p:pic>
      <p:pic>
        <p:nvPicPr>
          <p:cNvPr id="179" name="snap0525" descr="Минус"/>
          <p:cNvPicPr/>
          <p:nvPr/>
        </p:nvPicPr>
        <p:blipFill>
          <a:blip r:embed="rId4"/>
          <a:stretch/>
        </p:blipFill>
        <p:spPr>
          <a:xfrm>
            <a:off x="4716360" y="3500280"/>
            <a:ext cx="4103640" cy="31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1200"/>
          </a:xfrm>
          <a:prstGeom prst="rect">
            <a:avLst/>
          </a:prstGeom>
          <a:ln w="0">
            <a:noFill/>
          </a:ln>
        </p:spPr>
      </p:pic>
      <p:grpSp>
        <p:nvGrpSpPr>
          <p:cNvPr id="182" name=""/>
          <p:cNvGrpSpPr/>
          <p:nvPr/>
        </p:nvGrpSpPr>
        <p:grpSpPr>
          <a:xfrm>
            <a:off x="0" y="0"/>
            <a:ext cx="3203640" cy="1557360"/>
            <a:chOff x="0" y="0"/>
            <a:chExt cx="3203640" cy="1557360"/>
          </a:xfrm>
        </p:grpSpPr>
        <p:pic>
          <p:nvPicPr>
            <p:cNvPr id="183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203640" cy="15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 txBox="1"/>
            <p:nvPr/>
          </p:nvSpPr>
          <p:spPr>
            <a:xfrm>
              <a:off x="1200600" y="633600"/>
              <a:ext cx="1602360" cy="35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Молодец!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</p:grpSp>
      <p:graphicFrame>
        <p:nvGraphicFramePr>
          <p:cNvPr id="185" name=""/>
          <p:cNvGraphicFramePr/>
          <p:nvPr/>
        </p:nvGraphicFramePr>
        <p:xfrm>
          <a:off x="457200" y="1600200"/>
          <a:ext cx="8229600" cy="9651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</a:t>
                      </a:r>
                      <a:r>
                        <a:rPr b="1" lang="ru-RU" sz="4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Рейтинговая </a:t>
                      </a:r>
                      <a:r>
                        <a:rPr b="0" lang="ru-RU" sz="40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3"/>
                        </a:rPr>
                        <a:t>Корзина.pp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500"/>
                            </p:stCondLst>
                            <p:childTnLst>
                              <p:par>
                                <p:cTn id="22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9000"/>
                            </p:stCondLst>
                            <p:childTnLst>
                              <p:par>
                                <p:cTn id="29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2500"/>
                            </p:stCondLst>
                            <p:childTnLst>
                              <p:par>
                                <p:cTn id="36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99640" y="1484280"/>
            <a:ext cx="554364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Второй тур</a:t>
            </a:r>
            <a:br>
              <a:rPr sz="4800"/>
            </a:br>
            <a:r>
              <a:rPr b="0" lang="en-US" sz="4800" spc="-1" strike="noStrike">
                <a:solidFill>
                  <a:srgbClr val="99ff33"/>
                </a:solidFill>
                <a:latin typeface="Arial"/>
              </a:rPr>
              <a:t>Загадочный</a:t>
            </a:r>
            <a:br>
              <a:rPr sz="4800"/>
            </a:b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За каждый правильный ответ 1 балл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539640" y="4653000"/>
            <a:ext cx="583272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Тур второй: пусть всякий знает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Кто же лучше вычисляет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Мне задачки прочитать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Вам же думать и считать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372360" y="1341360"/>
            <a:ext cx="23778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-212760"/>
            <a:ext cx="8002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9280" y="188640"/>
            <a:ext cx="896472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1 Шла старуха в Москву, и навстречу ей три старика. Сколько человек шло в Москву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2 Что легче: пуд ваты или пуд железа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3 К 7 прибавить 5. Как правильно записать: </a:t>
            </a: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«одиннадцать» </a:t>
            </a: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или </a:t>
            </a: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«адиннадцать»</a:t>
            </a: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4 Спутник Земли делает оборот за 1 ч 40 мин, а второй за 100 мин. Как это получается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5 Двое играли в шахматы 4 часа. Сколько времени играл каждый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6 В каждом из четырех углов комнаты  сидит кошка. Напротив каждой из этих кошек сидит три кошки. Сколько кошек в комнате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7 У отца 6 сыновей. Каждый из них имеет сестру. Сколько всего детей у отца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8 Горело 5 свечей. Две из них потухли. Сколько свечей осталось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08:52Z</dcterms:created>
  <dc:creator>Г А</dc:creator>
  <dc:description/>
  <dc:language>en-US</dc:language>
  <cp:lastModifiedBy>Маринкевич</cp:lastModifiedBy>
  <dcterms:modified xsi:type="dcterms:W3CDTF">2011-09-12T09:06:12Z</dcterms:modified>
  <cp:revision>20</cp:revision>
  <dc:subject/>
  <dc:title>Ох уж эта математи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00f0000000000010250300207f7000400038000</vt:lpwstr>
  </property>
</Properties>
</file>