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8.jpeg" ContentType="image/jpeg"/>
  <Override PartName="/ppt/media/image25.gif" ContentType="image/gif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23.wmf" ContentType="image/x-wmf"/>
  <Override PartName="/ppt/media/image6.jpeg" ContentType="image/jpeg"/>
  <Override PartName="/ppt/media/image13.jpeg" ContentType="image/jpeg"/>
  <Override PartName="/ppt/media/image18.gif" ContentType="image/gif"/>
  <Override PartName="/ppt/media/image20.gif" ContentType="image/gif"/>
  <Override PartName="/ppt/media/image4.png" ContentType="image/png"/>
  <Override PartName="/ppt/media/image3.wmf" ContentType="image/x-wmf"/>
  <Override PartName="/ppt/media/image26.png" ContentType="image/png"/>
  <Override PartName="/ppt/media/image21.png" ContentType="image/png"/>
  <Override PartName="/ppt/media/image17.png" ContentType="image/png"/>
  <Override PartName="/ppt/media/image16.png" ContentType="image/png"/>
  <Override PartName="/ppt/media/chimes.wav" ContentType="audio/x-wav"/>
  <Override PartName="/ppt/media/image15.wmf" ContentType="image/x-wmf"/>
  <Override PartName="/ppt/media/image27.gif" ContentType="image/gif"/>
  <Override PartName="/ppt/media/image14.jpeg" ContentType="image/jpeg"/>
  <Override PartName="/ppt/media/image22.gif" ContentType="image/gif"/>
  <Override PartName="/ppt/media/image2.png" ContentType="image/png"/>
  <Override PartName="/ppt/media/image1.png" ContentType="image/png"/>
  <Override PartName="/ppt/media/image24.png" ContentType="image/png"/>
  <Override PartName="/ppt/media/image19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07B9-B276-4F03-B4DE-5EFDB08EC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443D-A3DD-49F0-9F18-11E6CC715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F300-DA0D-4483-AF7A-813A20253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C9B3-35FA-44F4-B977-B2509AB13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E716E-5825-4CCD-B069-5310FEB52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E93F3-D2C2-444F-8CBC-417C36B4B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F70C7-4E0A-48C3-8A27-D8B2B1953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333DE-7EFC-42A6-A5B5-E81F72029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1E11D-7CFC-4E36-9A56-82FE387EB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5AED7-9B79-49CF-8A78-73366159F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F07DE-FE03-4C2C-A1D3-28F8411AD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D265-08FB-4436-B95E-7D1C09D6F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DF42C-BD0C-43C6-A1EB-EE0713BB5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46DF9-E214-4674-9DE4-5E8C5C44A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A8D15-F047-4FA8-BC63-161DA2E92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3A620-2AB4-405D-90F5-77AB5B50F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9A598-ACD2-4BED-95F3-AE55E2A2B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689E-AB06-49AD-8BC6-0DAE17F84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1DE1-C5F6-4F6D-A0DA-67C234FAB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7AB8-2294-497E-813B-34DBB33BC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22CD-5C18-4835-823C-23C698B36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9376-7C50-425D-B163-EEB8B1C78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33B9-9B96-4FC6-9F6A-AA552BB84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CF40-FA0D-4618-B749-96A0F9A21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6471E-B1E0-404B-A124-040B531E4DB9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E78E4-7892-4426-BB9C-5EA7C6BC0C75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wmf"/><Relationship Id="rId3" Type="http://schemas.openxmlformats.org/officeDocument/2006/relationships/hyperlink" Target="file:///C:/Documents%20and%20Settings/&#1043;&#1077;&#1086;&#1075;&#1088;&#1072;&#1092;&#1080;&#1103;/&#1056;&#1072;&#1073;&#1086;&#1095;&#1080;&#1081;%20&#1089;&#1090;&#1086;&#1083;/&#1050;&#1086;&#1088;&#1079;&#1080;&#1085;&#1072;.ppt" TargetMode="External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wmf"/><Relationship Id="rId3" Type="http://schemas.openxmlformats.org/officeDocument/2006/relationships/hyperlink" Target="file:///C:/Documents%20and%20Settings/&#1043;&#1077;&#1086;&#1075;&#1088;&#1072;&#1092;&#1080;&#1103;/&#1056;&#1072;&#1073;&#1086;&#1095;&#1080;&#1081;%20&#1089;&#1090;&#1086;&#1083;/&#1050;&#1086;&#1088;&#1079;&#1080;&#1085;&#1072;.ppt" TargetMode="External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wmf"/><Relationship Id="rId3" Type="http://schemas.openxmlformats.org/officeDocument/2006/relationships/hyperlink" Target="file:///C:/Documents%20and%20Settings/&#1043;&#1077;&#1086;&#1075;&#1088;&#1072;&#1092;&#1080;&#1103;/&#1056;&#1072;&#1073;&#1086;&#1095;&#1080;&#1081;%20&#1089;&#1090;&#1086;&#1083;/&#1050;&#1086;&#1088;&#1079;&#1080;&#1085;&#1072;.ppt" TargetMode="External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wmf"/><Relationship Id="rId3" Type="http://schemas.openxmlformats.org/officeDocument/2006/relationships/hyperlink" Target="file:///C:/Documents%20and%20Settings/&#1043;&#1077;&#1086;&#1075;&#1088;&#1072;&#1092;&#1080;&#1103;/&#1056;&#1072;&#1073;&#1086;&#1095;&#1080;&#1081;%20&#1089;&#1090;&#1086;&#1083;/&#1050;&#1086;&#1088;&#1079;&#1080;&#1085;&#1072;.ppt" TargetMode="External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wmf"/><Relationship Id="rId3" Type="http://schemas.openxmlformats.org/officeDocument/2006/relationships/hyperlink" Target="file:///C:/Documents%20and%20Settings/&#1043;&#1077;&#1086;&#1075;&#1088;&#1072;&#1092;&#1080;&#1103;/&#1056;&#1072;&#1073;&#1086;&#1095;&#1080;&#1081;%20&#1089;&#1090;&#1086;&#1083;/&#1050;&#1086;&#1088;&#1079;&#1080;&#1085;&#1072;.ppt" TargetMode="External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wmf"/><Relationship Id="rId3" Type="http://schemas.openxmlformats.org/officeDocument/2006/relationships/hyperlink" Target="file:///C:/Documents%20and%20Settings/&#1043;&#1077;&#1086;&#1075;&#1088;&#1072;&#1092;&#1080;&#1103;/&#1056;&#1072;&#1073;&#1086;&#1095;&#1080;&#1081;%20&#1089;&#1090;&#1086;&#1083;/&#1050;&#1086;&#1088;&#1079;&#1080;&#1085;&#1072;.ppt" TargetMode="External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7280" y="105264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Arial"/>
              </a:rPr>
              <a:t>«Математическая викторина»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887280" y="3933360"/>
            <a:ext cx="52563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33"/>
                </a:solidFill>
                <a:latin typeface="Verdana"/>
              </a:rPr>
              <a:t>Для 5 – 6 классо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404640"/>
            <a:ext cx="813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-14400" y="1700280"/>
            <a:ext cx="4969080" cy="515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91200"/>
          </a:xfrm>
          <a:prstGeom prst="rect">
            <a:avLst/>
          </a:prstGeom>
          <a:ln w="0">
            <a:noFill/>
          </a:ln>
        </p:spPr>
      </p:pic>
      <p:grpSp>
        <p:nvGrpSpPr>
          <p:cNvPr id="193" name=""/>
          <p:cNvGrpSpPr/>
          <p:nvPr/>
        </p:nvGrpSpPr>
        <p:grpSpPr>
          <a:xfrm>
            <a:off x="0" y="0"/>
            <a:ext cx="3203640" cy="1557360"/>
            <a:chOff x="0" y="0"/>
            <a:chExt cx="3203640" cy="1557360"/>
          </a:xfrm>
        </p:grpSpPr>
        <p:pic>
          <p:nvPicPr>
            <p:cNvPr id="194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203640" cy="15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 txBox="1"/>
            <p:nvPr/>
          </p:nvSpPr>
          <p:spPr>
            <a:xfrm>
              <a:off x="1200600" y="633600"/>
              <a:ext cx="1602360" cy="353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26227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Impact"/>
                </a:rPr>
                <a:t>Молодец!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  <a:ea typeface="Impact"/>
              </a:endParaRPr>
            </a:p>
          </p:txBody>
        </p:sp>
      </p:grpSp>
      <p:graphicFrame>
        <p:nvGraphicFramePr>
          <p:cNvPr id="196" name=""/>
          <p:cNvGraphicFramePr/>
          <p:nvPr/>
        </p:nvGraphicFramePr>
        <p:xfrm>
          <a:off x="457200" y="1600200"/>
          <a:ext cx="8229600" cy="96516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 </a:t>
                      </a:r>
                      <a:r>
                        <a:rPr b="1" lang="ru-RU" sz="40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Рейтинговая </a:t>
                      </a:r>
                      <a:r>
                        <a:rPr b="0" lang="ru-RU" sz="4000" spc="-1" strike="noStrike" u="sng">
                          <a:solidFill>
                            <a:srgbClr val="ffffcc"/>
                          </a:solidFill>
                          <a:uFillTx/>
                          <a:latin typeface="Verdana"/>
                          <a:hlinkClick r:id="rId3"/>
                        </a:rPr>
                        <a:t>Корзина.ppt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000"/>
                            </p:stCondLst>
                            <p:childTnLst>
                              <p:par>
                                <p:cTn id="47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4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500"/>
                            </p:stCondLst>
                            <p:childTnLst>
                              <p:par>
                                <p:cTn id="54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2500"/>
                            </p:stCondLst>
                            <p:childTnLst>
                              <p:par>
                                <p:cTn id="68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03280" y="1692360"/>
            <a:ext cx="381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Arial"/>
              </a:rPr>
              <a:t>Третий тур</a:t>
            </a:r>
            <a:br>
              <a:rPr sz="4800"/>
            </a:br>
            <a:r>
              <a:rPr b="0" lang="en-US" sz="4800" spc="-1" strike="noStrike">
                <a:solidFill>
                  <a:srgbClr val="99ff33"/>
                </a:solidFill>
                <a:latin typeface="Arial"/>
              </a:rPr>
              <a:t>Капитанский</a:t>
            </a:r>
            <a:br>
              <a:rPr sz="4800"/>
            </a:b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3 минуты на подготовку, за правильный ответ 2 балла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1619280" y="4797000"/>
            <a:ext cx="49276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Третий тур мы начинаем,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Знатоков приглашаем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Будут трудные задачи,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Пожелаем им удачи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539640" y="620640"/>
            <a:ext cx="3599640" cy="3455280"/>
            <a:chOff x="539640" y="620640"/>
            <a:chExt cx="3599640" cy="3455280"/>
          </a:xfrm>
        </p:grpSpPr>
        <p:pic>
          <p:nvPicPr>
            <p:cNvPr id="200" name="" descr=""/>
            <p:cNvPicPr/>
            <p:nvPr/>
          </p:nvPicPr>
          <p:blipFill>
            <a:blip r:embed="rId1"/>
            <a:stretch/>
          </p:blipFill>
          <p:spPr>
            <a:xfrm>
              <a:off x="539640" y="1093320"/>
              <a:ext cx="3411720" cy="298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"/>
            <p:cNvSpPr txBox="1"/>
            <p:nvPr/>
          </p:nvSpPr>
          <p:spPr>
            <a:xfrm>
              <a:off x="864360" y="620640"/>
              <a:ext cx="3274920" cy="6397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Подумай!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59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Четвертый тур</a:t>
            </a:r>
            <a:br>
              <a:rPr sz="4000"/>
            </a:br>
            <a:r>
              <a:rPr b="0" lang="en-US" sz="4000" spc="-1" strike="noStrike">
                <a:solidFill>
                  <a:srgbClr val="99ff33"/>
                </a:solidFill>
                <a:latin typeface="Arial"/>
              </a:rPr>
              <a:t>Анаграммный</a:t>
            </a:r>
            <a:br>
              <a:rPr sz="4000"/>
            </a:b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за каждую анаграмму по 1 баллу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4724280"/>
            <a:ext cx="5338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Четвертый тур пора начать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Анаграммы разгадат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Слово лишнее найди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Вычеркни, потом прочти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5292720" y="2490840"/>
            <a:ext cx="3851280" cy="38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Перемен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4724280"/>
            <a:ext cx="541008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Чтобы зритель не скучал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Посмотрите развлеченье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Мастер нам предмет нарисовал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Без отрыва и повторений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3995640" y="2016000"/>
            <a:ext cx="4392720" cy="30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Нарисовать предмет, не отрывая карандаша от доски и не проводя одну и ту же линию дважды.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3" dur="264072" fill="hold"/>
                                        <p:tgtEl>
                                          <p:spTgt spid="2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Капитанский тур - проверка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Решите задачу уравнением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68360" y="3715920"/>
            <a:ext cx="8229600" cy="28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В двух карманах было 28 орехов, причем в левом кармане в 3 раза больше, чем в правом. Сколько орехов было в каждом кармане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3780000" y="1773360"/>
            <a:ext cx="1871640" cy="187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Решение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78920" y="2060280"/>
            <a:ext cx="8496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Пусть х орехов в правом кармане, 3х орехов в левом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3х + х = 28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4х = 28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Х = 7       7* 3 = 2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Ответ: 7 орехов и 21 орех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6372360" y="5373720"/>
            <a:ext cx="2495520" cy="1484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91200"/>
          </a:xfrm>
          <a:prstGeom prst="rect">
            <a:avLst/>
          </a:prstGeom>
          <a:ln w="0">
            <a:noFill/>
          </a:ln>
        </p:spPr>
      </p:pic>
      <p:grpSp>
        <p:nvGrpSpPr>
          <p:cNvPr id="218" name=""/>
          <p:cNvGrpSpPr/>
          <p:nvPr/>
        </p:nvGrpSpPr>
        <p:grpSpPr>
          <a:xfrm>
            <a:off x="0" y="0"/>
            <a:ext cx="3203640" cy="1557360"/>
            <a:chOff x="0" y="0"/>
            <a:chExt cx="3203640" cy="1557360"/>
          </a:xfrm>
        </p:grpSpPr>
        <p:pic>
          <p:nvPicPr>
            <p:cNvPr id="219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203640" cy="15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"/>
            <p:cNvSpPr txBox="1"/>
            <p:nvPr/>
          </p:nvSpPr>
          <p:spPr>
            <a:xfrm>
              <a:off x="1200600" y="633600"/>
              <a:ext cx="1602360" cy="353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26227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Impact"/>
                </a:rPr>
                <a:t>Молодец!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  <a:ea typeface="Impact"/>
              </a:endParaRPr>
            </a:p>
          </p:txBody>
        </p:sp>
      </p:grpSp>
      <p:graphicFrame>
        <p:nvGraphicFramePr>
          <p:cNvPr id="221" name=""/>
          <p:cNvGraphicFramePr/>
          <p:nvPr/>
        </p:nvGraphicFramePr>
        <p:xfrm>
          <a:off x="457200" y="1600200"/>
          <a:ext cx="8229600" cy="96516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 </a:t>
                      </a:r>
                      <a:r>
                        <a:rPr b="1" lang="ru-RU" sz="40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Рейтинговая </a:t>
                      </a:r>
                      <a:r>
                        <a:rPr b="0" lang="ru-RU" sz="4000" spc="-1" strike="noStrike" u="sng">
                          <a:solidFill>
                            <a:srgbClr val="ffffcc"/>
                          </a:solidFill>
                          <a:uFillTx/>
                          <a:latin typeface="Verdana"/>
                          <a:hlinkClick r:id="rId3"/>
                        </a:rPr>
                        <a:t>Корзина.ppt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0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500"/>
                            </p:stCondLst>
                            <p:childTnLst>
                              <p:par>
                                <p:cTn id="107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08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9000"/>
                            </p:stCondLst>
                            <p:childTnLst>
                              <p:par>
                                <p:cTn id="114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1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2500"/>
                            </p:stCondLst>
                            <p:childTnLst>
                              <p:par>
                                <p:cTn id="121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2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64072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Проверка </a:t>
            </a:r>
            <a:br>
              <a:rPr sz="3200"/>
            </a:b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Расшифруйте анаграммы и найдите лишнее слово.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4716360" y="2205000"/>
          <a:ext cx="4103640" cy="4463640"/>
        </p:xfrm>
        <a:graphic>
          <a:graphicData uri="http://schemas.openxmlformats.org/drawingml/2006/table">
            <a:tbl>
              <a:tblPr/>
              <a:tblGrid>
                <a:gridCol w="4103640"/>
              </a:tblGrid>
              <a:tr h="446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-Сумма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Уменьшаемое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-Слагаемое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-Разность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-Отрезок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-Вычитаемое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4" name=""/>
          <p:cNvGraphicFramePr/>
          <p:nvPr/>
        </p:nvGraphicFramePr>
        <p:xfrm>
          <a:off x="395280" y="2133720"/>
          <a:ext cx="4032360" cy="4667040"/>
        </p:xfrm>
        <a:graphic>
          <a:graphicData uri="http://schemas.openxmlformats.org/drawingml/2006/table">
            <a:tbl>
              <a:tblPr/>
              <a:tblGrid>
                <a:gridCol w="4032360"/>
              </a:tblGrid>
              <a:tr h="470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-Мамус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-Нышаумемое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- Егамоесла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- Норазсть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- Ретозок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- Чивымоетае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5" name=""/>
          <p:cNvSpPr/>
          <p:nvPr/>
        </p:nvSpPr>
        <p:spPr>
          <a:xfrm>
            <a:off x="5292720" y="2924280"/>
            <a:ext cx="1565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588000" y="981000"/>
            <a:ext cx="207972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-10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2276640"/>
            <a:ext cx="3754440" cy="45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- Веиздепрени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- Молиед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- Стечано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- Равниеун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- Жильтемно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- Телидел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72000" y="2276640"/>
            <a:ext cx="41148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-Произведени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-Делимо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-Частно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-Уравнени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-Множител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-Делител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2411280" y="0"/>
            <a:ext cx="4968720" cy="2781000"/>
            <a:chOff x="2411280" y="0"/>
            <a:chExt cx="4968720" cy="2781000"/>
          </a:xfrm>
        </p:grpSpPr>
        <p:pic>
          <p:nvPicPr>
            <p:cNvPr id="231" name="" descr=""/>
            <p:cNvPicPr/>
            <p:nvPr/>
          </p:nvPicPr>
          <p:blipFill>
            <a:blip r:embed="rId1"/>
            <a:stretch/>
          </p:blipFill>
          <p:spPr>
            <a:xfrm>
              <a:off x="2411280" y="0"/>
              <a:ext cx="4968720" cy="278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 txBox="1"/>
            <p:nvPr/>
          </p:nvSpPr>
          <p:spPr>
            <a:xfrm>
              <a:off x="4273560" y="1131480"/>
              <a:ext cx="2485440" cy="630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26227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Impact"/>
                </a:rPr>
                <a:t>Молодец!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  <a:ea typeface="Impac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3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500"/>
                            </p:stCondLst>
                            <p:childTnLst>
                              <p:par>
                                <p:cTn id="139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4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9000"/>
                            </p:stCondLst>
                            <p:childTnLst>
                              <p:par>
                                <p:cTn id="146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4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2500"/>
                            </p:stCondLst>
                            <p:childTnLst>
                              <p:par>
                                <p:cTn id="153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5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ccff"/>
                </a:solidFill>
                <a:latin typeface="Monotype Corsiva"/>
              </a:rPr>
              <a:t>Цели: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ccff"/>
                </a:solidFill>
                <a:latin typeface="Monotype Corsiva"/>
              </a:rPr>
              <a:t>фронтальное повторение учебного материала по математике;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ccff"/>
                </a:solidFill>
                <a:latin typeface="Monotype Corsiva"/>
              </a:rPr>
              <a:t>развитие логики мышления;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ccff"/>
                </a:solidFill>
                <a:latin typeface="Monotype Corsiva"/>
              </a:rPr>
              <a:t>развитие познавательного интереса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91200"/>
          </a:xfrm>
          <a:prstGeom prst="rect">
            <a:avLst/>
          </a:prstGeom>
          <a:ln w="0">
            <a:noFill/>
          </a:ln>
        </p:spPr>
      </p:pic>
      <p:grpSp>
        <p:nvGrpSpPr>
          <p:cNvPr id="235" name=""/>
          <p:cNvGrpSpPr/>
          <p:nvPr/>
        </p:nvGrpSpPr>
        <p:grpSpPr>
          <a:xfrm>
            <a:off x="0" y="0"/>
            <a:ext cx="3203640" cy="1557360"/>
            <a:chOff x="0" y="0"/>
            <a:chExt cx="3203640" cy="1557360"/>
          </a:xfrm>
        </p:grpSpPr>
        <p:pic>
          <p:nvPicPr>
            <p:cNvPr id="23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203640" cy="15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 txBox="1"/>
            <p:nvPr/>
          </p:nvSpPr>
          <p:spPr>
            <a:xfrm>
              <a:off x="1200600" y="633600"/>
              <a:ext cx="1602360" cy="353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26227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Impact"/>
                </a:rPr>
                <a:t>Молодец!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  <a:ea typeface="Impact"/>
              </a:endParaRPr>
            </a:p>
          </p:txBody>
        </p:sp>
      </p:grpSp>
      <p:graphicFrame>
        <p:nvGraphicFramePr>
          <p:cNvPr id="238" name=""/>
          <p:cNvGraphicFramePr/>
          <p:nvPr/>
        </p:nvGraphicFramePr>
        <p:xfrm>
          <a:off x="457200" y="1600200"/>
          <a:ext cx="8229600" cy="96516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 </a:t>
                      </a:r>
                      <a:r>
                        <a:rPr b="1" lang="ru-RU" sz="40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Рейтинговая </a:t>
                      </a:r>
                      <a:r>
                        <a:rPr b="0" lang="ru-RU" sz="4000" spc="-1" strike="noStrike" u="sng">
                          <a:solidFill>
                            <a:srgbClr val="ffffcc"/>
                          </a:solidFill>
                          <a:uFillTx/>
                          <a:latin typeface="Verdana"/>
                          <a:hlinkClick r:id="rId3"/>
                        </a:rPr>
                        <a:t>Корзина.ppt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000"/>
                            </p:stCondLst>
                            <p:childTnLst>
                              <p:par>
                                <p:cTn id="164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6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500"/>
                            </p:stCondLst>
                            <p:childTnLst>
                              <p:par>
                                <p:cTn id="171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7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9000"/>
                            </p:stCondLst>
                            <p:childTnLst>
                              <p:par>
                                <p:cTn id="178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7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2500"/>
                            </p:stCondLst>
                            <p:childTnLst>
                              <p:par>
                                <p:cTn id="185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8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Arial"/>
              </a:rPr>
              <a:t>Пятый тур</a:t>
            </a:r>
            <a:br>
              <a:rPr sz="4800"/>
            </a:br>
            <a:r>
              <a:rPr b="0" lang="en-US" sz="4800" spc="-1" strike="noStrike">
                <a:solidFill>
                  <a:srgbClr val="99ff33"/>
                </a:solidFill>
                <a:latin typeface="Arial"/>
              </a:rPr>
              <a:t>Заключительный</a:t>
            </a:r>
            <a:br>
              <a:rPr sz="4800"/>
            </a:b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за каждый правильный ответ по 1 баллу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Вы, ребята, все устал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Много думали, считали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Отдохнуть уже пора!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Пятый тур уже – «Ура»!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6051600" y="3573360"/>
            <a:ext cx="2836800" cy="29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Кто быстрее впишет в квадратики нужные цифры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457200" cy="24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7812000" y="6130800"/>
            <a:ext cx="874800" cy="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3040" bIns="2304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"/>
          <p:cNvSpPr/>
          <p:nvPr/>
        </p:nvSpPr>
        <p:spPr>
          <a:xfrm>
            <a:off x="755640" y="2133720"/>
            <a:ext cx="1152360" cy="7920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484360" y="2205000"/>
            <a:ext cx="1152720" cy="7923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580000" y="2205000"/>
            <a:ext cx="1152720" cy="7923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9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484360" y="3500280"/>
            <a:ext cx="1152720" cy="7923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16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067280" y="3500280"/>
            <a:ext cx="1152360" cy="7923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49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826920" y="3500280"/>
            <a:ext cx="1152720" cy="7923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9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724360" y="3500280"/>
            <a:ext cx="1152720" cy="7923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8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995640" y="2205000"/>
            <a:ext cx="1152720" cy="7923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094200" y="4770360"/>
            <a:ext cx="1152360" cy="7923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751280" y="4770360"/>
            <a:ext cx="1152720" cy="7923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846920" y="4770360"/>
            <a:ext cx="1152720" cy="7923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751280" y="6066000"/>
            <a:ext cx="1152720" cy="7920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407280" y="6066000"/>
            <a:ext cx="1152360" cy="7920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27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94200" y="6066000"/>
            <a:ext cx="1152360" cy="7920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7991640" y="6066000"/>
            <a:ext cx="1152360" cy="7920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64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372360" y="4797360"/>
            <a:ext cx="1152360" cy="7923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0" y="4503600"/>
            <a:ext cx="31320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91200"/>
          </a:xfrm>
          <a:prstGeom prst="rect">
            <a:avLst/>
          </a:prstGeom>
          <a:ln w="0">
            <a:noFill/>
          </a:ln>
        </p:spPr>
      </p:pic>
      <p:grpSp>
        <p:nvGrpSpPr>
          <p:cNvPr id="264" name=""/>
          <p:cNvGrpSpPr/>
          <p:nvPr/>
        </p:nvGrpSpPr>
        <p:grpSpPr>
          <a:xfrm>
            <a:off x="0" y="0"/>
            <a:ext cx="3203640" cy="1557360"/>
            <a:chOff x="0" y="0"/>
            <a:chExt cx="3203640" cy="1557360"/>
          </a:xfrm>
        </p:grpSpPr>
        <p:pic>
          <p:nvPicPr>
            <p:cNvPr id="265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203640" cy="15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 txBox="1"/>
            <p:nvPr/>
          </p:nvSpPr>
          <p:spPr>
            <a:xfrm>
              <a:off x="1200600" y="633600"/>
              <a:ext cx="1602360" cy="353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26227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Impact"/>
                </a:rPr>
                <a:t>Молодец!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  <a:ea typeface="Impact"/>
              </a:endParaRPr>
            </a:p>
          </p:txBody>
        </p:sp>
      </p:grpSp>
      <p:graphicFrame>
        <p:nvGraphicFramePr>
          <p:cNvPr id="267" name=""/>
          <p:cNvGraphicFramePr/>
          <p:nvPr/>
        </p:nvGraphicFramePr>
        <p:xfrm>
          <a:off x="457200" y="1600200"/>
          <a:ext cx="8229600" cy="96516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 </a:t>
                      </a:r>
                      <a:r>
                        <a:rPr b="1" lang="ru-RU" sz="40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Рейтинговая </a:t>
                      </a:r>
                      <a:r>
                        <a:rPr b="0" lang="ru-RU" sz="4000" spc="-1" strike="noStrike" u="sng">
                          <a:solidFill>
                            <a:srgbClr val="ffffcc"/>
                          </a:solidFill>
                          <a:uFillTx/>
                          <a:latin typeface="Verdana"/>
                          <a:hlinkClick r:id="rId3"/>
                        </a:rPr>
                        <a:t>Корзина.ppt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2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23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500"/>
                            </p:stCondLst>
                            <p:childTnLst>
                              <p:par>
                                <p:cTn id="229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3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000"/>
                            </p:stCondLst>
                            <p:childTnLst>
                              <p:par>
                                <p:cTn id="236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37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2500"/>
                            </p:stCondLst>
                            <p:childTnLst>
                              <p:par>
                                <p:cTn id="243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44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Внимательно посмотрите на рисунок, сложите числа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042920" y="2060640"/>
            <a:ext cx="2160720" cy="15127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203640" y="3645000"/>
            <a:ext cx="2232000" cy="1871640"/>
          </a:xfrm>
          <a:prstGeom prst="triangle">
            <a:avLst>
              <a:gd name="adj" fmla="val 5000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796000" y="1989000"/>
            <a:ext cx="2016000" cy="187164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11280" y="4508640"/>
            <a:ext cx="835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опрос: Какие числа записаны, внутри какой фигуры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3276720" y="1268280"/>
            <a:ext cx="2447640" cy="215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1" dur="5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5" dur="50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9" dur="5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3" dur="50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Проверь себ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042920" y="2060640"/>
            <a:ext cx="2160720" cy="15127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203640" y="3645000"/>
            <a:ext cx="2232000" cy="1871640"/>
          </a:xfrm>
          <a:prstGeom prst="triangle">
            <a:avLst>
              <a:gd name="adj" fmla="val 5000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796000" y="1989000"/>
            <a:ext cx="2016000" cy="187164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6156360" y="4365720"/>
            <a:ext cx="2521080" cy="232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9" dur="5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3" dur="5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7" dur="50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1" dur="50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91200"/>
          </a:xfrm>
          <a:prstGeom prst="rect">
            <a:avLst/>
          </a:prstGeom>
          <a:ln w="0">
            <a:noFill/>
          </a:ln>
        </p:spPr>
      </p:pic>
      <p:grpSp>
        <p:nvGrpSpPr>
          <p:cNvPr id="281" name=""/>
          <p:cNvGrpSpPr/>
          <p:nvPr/>
        </p:nvGrpSpPr>
        <p:grpSpPr>
          <a:xfrm>
            <a:off x="0" y="0"/>
            <a:ext cx="3203640" cy="1557360"/>
            <a:chOff x="0" y="0"/>
            <a:chExt cx="3203640" cy="1557360"/>
          </a:xfrm>
        </p:grpSpPr>
        <p:pic>
          <p:nvPicPr>
            <p:cNvPr id="28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203640" cy="15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"/>
            <p:cNvSpPr txBox="1"/>
            <p:nvPr/>
          </p:nvSpPr>
          <p:spPr>
            <a:xfrm>
              <a:off x="1200600" y="633600"/>
              <a:ext cx="1602360" cy="353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26227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Impact"/>
                </a:rPr>
                <a:t>Молодец!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  <a:ea typeface="Impact"/>
              </a:endParaRPr>
            </a:p>
          </p:txBody>
        </p:sp>
      </p:grpSp>
      <p:graphicFrame>
        <p:nvGraphicFramePr>
          <p:cNvPr id="284" name=""/>
          <p:cNvGraphicFramePr/>
          <p:nvPr/>
        </p:nvGraphicFramePr>
        <p:xfrm>
          <a:off x="457200" y="1600200"/>
          <a:ext cx="8229600" cy="96516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 </a:t>
                      </a:r>
                      <a:r>
                        <a:rPr b="1" lang="ru-RU" sz="40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Рейтинговая </a:t>
                      </a:r>
                      <a:r>
                        <a:rPr b="0" lang="ru-RU" sz="4000" spc="-1" strike="noStrike" u="sng">
                          <a:solidFill>
                            <a:srgbClr val="ffffcc"/>
                          </a:solidFill>
                          <a:uFillTx/>
                          <a:latin typeface="Verdana"/>
                          <a:hlinkClick r:id="rId3"/>
                        </a:rPr>
                        <a:t>Корзина.ppt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03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5500"/>
                            </p:stCondLst>
                            <p:childTnLst>
                              <p:par>
                                <p:cTn id="309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1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9000"/>
                            </p:stCondLst>
                            <p:childTnLst>
                              <p:par>
                                <p:cTn id="316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17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2500"/>
                            </p:stCondLst>
                            <p:childTnLst>
                              <p:par>
                                <p:cTn id="323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24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Verdana"/>
              </a:rPr>
              <a:t>Награждение команд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4067280" y="3860640"/>
            <a:ext cx="1660320" cy="2735280"/>
          </a:xfrm>
          <a:prstGeom prst="rect">
            <a:avLst/>
          </a:prstGeom>
          <a:ln w="0">
            <a:noFill/>
          </a:ln>
        </p:spPr>
      </p:pic>
      <p:sp>
        <p:nvSpPr>
          <p:cNvPr id="287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Спасибо за игру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  <a:ea typeface="Arial"/>
              </a:rPr>
              <a:t>I</a:t>
            </a:r>
            <a:r>
              <a:rPr b="0" lang="ru-RU" sz="3600" spc="-1" strike="noStrike">
                <a:solidFill>
                  <a:srgbClr val="ffffff"/>
                </a:solidFill>
                <a:latin typeface="Verdana"/>
                <a:ea typeface="Arial"/>
              </a:rPr>
              <a:t>.Представление команд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  <a:ea typeface="Arial"/>
              </a:rPr>
              <a:t>Название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  <a:ea typeface="Arial"/>
              </a:rPr>
              <a:t>Девиз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3419640" y="3281400"/>
            <a:ext cx="5341680" cy="28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167000" y="1692360"/>
            <a:ext cx="429084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Arial"/>
              </a:rPr>
              <a:t>Первый тур</a:t>
            </a:r>
            <a:br>
              <a:rPr sz="4800"/>
            </a:br>
            <a:r>
              <a:rPr b="0" lang="en-US" sz="4800" spc="-1" strike="noStrike">
                <a:solidFill>
                  <a:srgbClr val="99ff33"/>
                </a:solidFill>
                <a:latin typeface="Arial"/>
              </a:rPr>
              <a:t>Разминочный</a:t>
            </a:r>
            <a:br>
              <a:rPr sz="4800"/>
            </a:b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За каждый угаданный ребус – 5 баллов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2771640" y="4581000"/>
            <a:ext cx="583416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Первый тур мы начинаем,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Победителей узнаем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Здесь загадки и шарады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За разгадку – всем награды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6" name="Image1_img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3808440" cy="37749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179280" y="6021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94665" fill="hold"/>
                                        <p:tgtEl>
                                          <p:spTgt spid="1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0" name="snap0524" descr="Точка"/>
          <p:cNvPicPr/>
          <p:nvPr/>
        </p:nvPicPr>
        <p:blipFill>
          <a:blip r:embed="rId1"/>
          <a:stretch/>
        </p:blipFill>
        <p:spPr>
          <a:xfrm>
            <a:off x="4948200" y="0"/>
            <a:ext cx="4195800" cy="3220920"/>
          </a:xfrm>
          <a:prstGeom prst="rect">
            <a:avLst/>
          </a:prstGeom>
          <a:ln w="0">
            <a:noFill/>
          </a:ln>
        </p:spPr>
      </p:pic>
      <p:pic>
        <p:nvPicPr>
          <p:cNvPr id="171" name="snap0501" descr="Осень"/>
          <p:cNvPicPr/>
          <p:nvPr/>
        </p:nvPicPr>
        <p:blipFill>
          <a:blip r:embed="rId2"/>
          <a:stretch/>
        </p:blipFill>
        <p:spPr>
          <a:xfrm>
            <a:off x="4896000" y="3716280"/>
            <a:ext cx="4248000" cy="3141720"/>
          </a:xfrm>
          <a:prstGeom prst="rect">
            <a:avLst/>
          </a:prstGeom>
          <a:ln w="0">
            <a:noFill/>
          </a:ln>
        </p:spPr>
      </p:pic>
      <p:pic>
        <p:nvPicPr>
          <p:cNvPr id="172" name="snap0532" descr="Задача"/>
          <p:cNvPicPr/>
          <p:nvPr/>
        </p:nvPicPr>
        <p:blipFill>
          <a:blip r:embed="rId3"/>
          <a:stretch/>
        </p:blipFill>
        <p:spPr>
          <a:xfrm>
            <a:off x="468360" y="0"/>
            <a:ext cx="3887640" cy="3197160"/>
          </a:xfrm>
          <a:prstGeom prst="rect">
            <a:avLst/>
          </a:prstGeom>
          <a:ln w="0">
            <a:noFill/>
          </a:ln>
        </p:spPr>
      </p:pic>
      <p:pic>
        <p:nvPicPr>
          <p:cNvPr id="173" name="snap0512" descr="Диаметр"/>
          <p:cNvPicPr/>
          <p:nvPr/>
        </p:nvPicPr>
        <p:blipFill>
          <a:blip r:embed="rId4"/>
          <a:stretch/>
        </p:blipFill>
        <p:spPr>
          <a:xfrm>
            <a:off x="395280" y="3716280"/>
            <a:ext cx="3960720" cy="31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6" name="snap0502" descr="Родина"/>
          <p:cNvPicPr/>
          <p:nvPr/>
        </p:nvPicPr>
        <p:blipFill>
          <a:blip r:embed="rId1"/>
          <a:stretch/>
        </p:blipFill>
        <p:spPr>
          <a:xfrm>
            <a:off x="179280" y="0"/>
            <a:ext cx="3888000" cy="3057480"/>
          </a:xfrm>
          <a:prstGeom prst="rect">
            <a:avLst/>
          </a:prstGeom>
          <a:ln w="0">
            <a:noFill/>
          </a:ln>
        </p:spPr>
      </p:pic>
      <p:pic>
        <p:nvPicPr>
          <p:cNvPr id="177" name="snap0509" descr="Вектор"/>
          <p:cNvPicPr/>
          <p:nvPr/>
        </p:nvPicPr>
        <p:blipFill>
          <a:blip r:embed="rId2"/>
          <a:stretch/>
        </p:blipFill>
        <p:spPr>
          <a:xfrm>
            <a:off x="4572000" y="0"/>
            <a:ext cx="4105440" cy="2938320"/>
          </a:xfrm>
          <a:prstGeom prst="rect">
            <a:avLst/>
          </a:prstGeom>
          <a:ln w="0">
            <a:noFill/>
          </a:ln>
        </p:spPr>
      </p:pic>
      <p:pic>
        <p:nvPicPr>
          <p:cNvPr id="178" name="snap0517" descr="Вершина"/>
          <p:cNvPicPr/>
          <p:nvPr/>
        </p:nvPicPr>
        <p:blipFill>
          <a:blip r:embed="rId3"/>
          <a:stretch/>
        </p:blipFill>
        <p:spPr>
          <a:xfrm>
            <a:off x="250920" y="3500280"/>
            <a:ext cx="4105080" cy="3187800"/>
          </a:xfrm>
          <a:prstGeom prst="rect">
            <a:avLst/>
          </a:prstGeom>
          <a:ln w="0">
            <a:noFill/>
          </a:ln>
        </p:spPr>
      </p:pic>
      <p:pic>
        <p:nvPicPr>
          <p:cNvPr id="179" name="snap0525" descr="Минус"/>
          <p:cNvPicPr/>
          <p:nvPr/>
        </p:nvPicPr>
        <p:blipFill>
          <a:blip r:embed="rId4"/>
          <a:stretch/>
        </p:blipFill>
        <p:spPr>
          <a:xfrm>
            <a:off x="4716360" y="3500280"/>
            <a:ext cx="4103640" cy="31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91200"/>
          </a:xfrm>
          <a:prstGeom prst="rect">
            <a:avLst/>
          </a:prstGeom>
          <a:ln w="0">
            <a:noFill/>
          </a:ln>
        </p:spPr>
      </p:pic>
      <p:grpSp>
        <p:nvGrpSpPr>
          <p:cNvPr id="182" name=""/>
          <p:cNvGrpSpPr/>
          <p:nvPr/>
        </p:nvGrpSpPr>
        <p:grpSpPr>
          <a:xfrm>
            <a:off x="0" y="0"/>
            <a:ext cx="3203640" cy="1557360"/>
            <a:chOff x="0" y="0"/>
            <a:chExt cx="3203640" cy="1557360"/>
          </a:xfrm>
        </p:grpSpPr>
        <p:pic>
          <p:nvPicPr>
            <p:cNvPr id="183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203640" cy="15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 txBox="1"/>
            <p:nvPr/>
          </p:nvSpPr>
          <p:spPr>
            <a:xfrm>
              <a:off x="1200600" y="633600"/>
              <a:ext cx="1602360" cy="353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26227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Impact"/>
                </a:rPr>
                <a:t>Молодец!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  <a:ea typeface="Impact"/>
              </a:endParaRPr>
            </a:p>
          </p:txBody>
        </p:sp>
      </p:grpSp>
      <p:graphicFrame>
        <p:nvGraphicFramePr>
          <p:cNvPr id="185" name=""/>
          <p:cNvGraphicFramePr/>
          <p:nvPr/>
        </p:nvGraphicFramePr>
        <p:xfrm>
          <a:off x="457200" y="1600200"/>
          <a:ext cx="8229600" cy="96516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 </a:t>
                      </a:r>
                      <a:r>
                        <a:rPr b="1" lang="ru-RU" sz="40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Рейтинговая </a:t>
                      </a:r>
                      <a:r>
                        <a:rPr b="0" lang="ru-RU" sz="4000" spc="-1" strike="noStrike" u="sng">
                          <a:solidFill>
                            <a:srgbClr val="ffffcc"/>
                          </a:solidFill>
                          <a:uFillTx/>
                          <a:latin typeface="Verdana"/>
                          <a:hlinkClick r:id="rId3"/>
                        </a:rPr>
                        <a:t>Корзина.ppt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500"/>
                            </p:stCondLst>
                            <p:childTnLst>
                              <p:par>
                                <p:cTn id="22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9000"/>
                            </p:stCondLst>
                            <p:childTnLst>
                              <p:par>
                                <p:cTn id="29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2500"/>
                            </p:stCondLst>
                            <p:childTnLst>
                              <p:par>
                                <p:cTn id="36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99640" y="1484280"/>
            <a:ext cx="554364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Arial"/>
              </a:rPr>
              <a:t>Второй тур</a:t>
            </a:r>
            <a:br>
              <a:rPr sz="4800"/>
            </a:br>
            <a:r>
              <a:rPr b="0" lang="en-US" sz="4800" spc="-1" strike="noStrike">
                <a:solidFill>
                  <a:srgbClr val="99ff33"/>
                </a:solidFill>
                <a:latin typeface="Arial"/>
              </a:rPr>
              <a:t>Загадочный</a:t>
            </a:r>
            <a:br>
              <a:rPr sz="4800"/>
            </a:b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За каждый правильный ответ 1 балл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539640" y="4653000"/>
            <a:ext cx="5832720" cy="19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Тур второй: пусть всякий знает,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Кто же лучше вычисляет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Мне задачки прочитать,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Вам же думать и считать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6372360" y="1341360"/>
            <a:ext cx="237780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-212760"/>
            <a:ext cx="80024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9280" y="188640"/>
            <a:ext cx="896472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1 Шла старуха в Москву, и навстречу ей три старика. Сколько человек шло в Москву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91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2 Что легче: пуд ваты или пуд железа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91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3 К 7 прибавить 5. Как правильно записать: </a:t>
            </a: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«одиннадцать» </a:t>
            </a: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или </a:t>
            </a: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«адиннадцать»</a:t>
            </a: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91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4 Спутник Земли делает оборот за 1 ч 40 мин, а второй за 100 мин. Как это получается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91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5 Двое играли в шахматы 4 часа. Сколько времени играл каждый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91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6 В каждом из четырех углов комнаты  сидит кошка. Напротив каждой из этих кошек сидит три кошки. Сколько кошек в комнате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91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7 У отца 6 сыновей. Каждый из них имеет сестру. Сколько всего детей у отца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91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8 Горело 5 свечей. Две из них потухли. Сколько свечей осталось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12:08:52Z</dcterms:created>
  <dc:creator>Г А</dc:creator>
  <dc:description/>
  <dc:language>en-US</dc:language>
  <cp:lastModifiedBy>Маринкевич</cp:lastModifiedBy>
  <dcterms:modified xsi:type="dcterms:W3CDTF">2011-09-12T09:06:12Z</dcterms:modified>
  <cp:revision>20</cp:revision>
  <dc:subject/>
  <dc:title>Ох уж эта математик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00f0000000000010250300207f7000400038000</vt:lpwstr>
  </property>
</Properties>
</file>