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3.wmf" ContentType="image/x-wmf"/>
  <Override PartName="/ppt/media/image26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chimes.wav" ContentType="audio/x-wav"/>
  <Override PartName="/ppt/media/image15.wmf" ContentType="image/x-wmf"/>
  <Override PartName="/ppt/media/image27.gif" ContentType="image/gif"/>
  <Override PartName="/ppt/media/image14.jpeg" ContentType="image/jpeg"/>
  <Override PartName="/ppt/media/image22.gif" ContentType="image/gif"/>
  <Override PartName="/ppt/media/image2.png" ContentType="image/png"/>
  <Override PartName="/ppt/media/image1.png" ContentType="image/png"/>
  <Override PartName="/ppt/media/image24.png" ContentType="image/png"/>
  <Override PartName="/ppt/media/image1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620-2247-4D45-AF82-DD7BA2A7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C33-1767-4567-9064-B7A8071B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809-48A8-45B7-81AC-B7F58D52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303-E48D-41F8-B3D5-7FEC3C03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548D-C222-4300-BBD1-1728F241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730C-8A0A-420F-912F-513C4E72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D69B-D846-4201-A366-89DBCD5D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A5D7-562B-450E-A68A-0515AF3B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EAF7-9187-4A7E-9B20-AF026725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BB2C-7558-453F-B143-CFA25173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5F76-D90D-4318-B5D9-2B5A05EF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500-75BC-4424-9A0E-35C05701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8041-FEC8-47BB-9EE5-05A47959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A6A7-7B6A-4FC3-8259-6308AE1E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79E3-F912-4F09-B556-08B62298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FBD7-11AD-4EA0-BD26-225B5BCE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0BF2-F14E-445C-9CE5-EA99C69B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27A8-EB92-46A8-B325-A68FA7C4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6D2-6862-49F5-8995-B302400D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CB7-4314-4FFC-B110-EFC69CC3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277-54CE-4942-873C-DE6D2F00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1A8-A9D9-4C8C-A794-9BB1FDDB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0AA-6830-4547-9400-149A3B18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BA1-D7C1-4826-9B5D-30C7B33B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A7F8-DDCB-4E86-8429-77D92A8BC14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7BEA-4144-4C29-BF6E-3396746BEF8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280" y="105264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«Математическая викторин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887280" y="3933360"/>
            <a:ext cx="5256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Verdana"/>
              </a:rPr>
              <a:t>Для 5 – 6 клас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04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14400" y="1700280"/>
            <a:ext cx="496908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3280" y="1692360"/>
            <a:ext cx="381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Трети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Капитански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 минуты на подготовку, за правильный ответ 2 бал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619280" y="4797000"/>
            <a:ext cx="4927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етий тур мы начинаем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натоков приглашае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удут трудные задач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желаем им удач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39640" y="620640"/>
            <a:ext cx="3599640" cy="3455280"/>
            <a:chOff x="539640" y="620640"/>
            <a:chExt cx="3599640" cy="345528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539640" y="1093320"/>
              <a:ext cx="341172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 txBox="1"/>
            <p:nvPr/>
          </p:nvSpPr>
          <p:spPr>
            <a:xfrm>
              <a:off x="864360" y="620640"/>
              <a:ext cx="3274920" cy="639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9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Четвертый тур</a:t>
            </a:r>
            <a:br>
              <a:rPr sz="4000"/>
            </a:b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Анаграммный</a:t>
            </a:r>
            <a:br>
              <a:rPr sz="40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ую анаграмму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338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Четвертый тур пора начат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награммы разгада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лово лишнее най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черкни, потом проч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292720" y="2490840"/>
            <a:ext cx="38512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ерем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410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Чтобы зритель не скуч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смотрите развлечень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стер нам предмет нарисов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ез отрыва и повторе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95640" y="2016000"/>
            <a:ext cx="43927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Нарисовать предмет, не отрывая карандаша от доски и не проводя одну и ту же линию дважды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64072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апитанский тур - проверка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ите задачу уравнени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8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двух карманах было 28 орехов, причем в левом кармане в 3 раза больше, чем в правом. Сколько орехов было в каждом карман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усть х орехов в правом кармане, 3х орехов в лев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х + 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Х = 7       7* 3 = 2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твет: 7 орехов и 21 оре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372360" y="5373720"/>
            <a:ext cx="249552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Проверка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Расшифруйте анаграммы и найдите лишнее слово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716360" y="2205000"/>
          <a:ext cx="4103640" cy="446364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44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умм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Уменьш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лаг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Раз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Отре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Вычит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95280" y="2133720"/>
          <a:ext cx="4032360" cy="466704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47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Маму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Нышаум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Егамоесл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Нораз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Рето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Чивымоета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292720" y="2924280"/>
            <a:ext cx="156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588000" y="981000"/>
            <a:ext cx="2079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276640"/>
            <a:ext cx="37544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Веиздепр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Молиед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Стеча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Равниеун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Жильтем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Телид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0" y="2276640"/>
            <a:ext cx="4114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Произвед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м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Част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Уравн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Множ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411280" y="0"/>
            <a:ext cx="4968720" cy="2781000"/>
            <a:chOff x="2411280" y="0"/>
            <a:chExt cx="4968720" cy="27810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2411280" y="0"/>
              <a:ext cx="496872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 txBox="1"/>
            <p:nvPr/>
          </p:nvSpPr>
          <p:spPr>
            <a:xfrm>
              <a:off x="4273560" y="1131480"/>
              <a:ext cx="2485440" cy="63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Monotype Corsiva"/>
              </a:rPr>
              <a:t>Цели: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фронтальное повторение учебного материала по математике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логики мышления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познавательного интерес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38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ят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ключитель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, ребята, все уста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ого думали, считал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дохнуть уже пора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ятый тур уже – «Ура»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051600" y="3573360"/>
            <a:ext cx="28368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то быстрее впишет в квадратики нужные циф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72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812000" y="6130800"/>
            <a:ext cx="8748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213372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8436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8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350028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692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9564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94200" y="4770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5128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4692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51280" y="6066000"/>
            <a:ext cx="115272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728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9420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9164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72360" y="4797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4503600"/>
            <a:ext cx="313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нимательно посмотрите на рисунок, сложите чис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4508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прос: Какие числа записаны, внутри какой фигу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76720" y="1268280"/>
            <a:ext cx="2447640" cy="21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2521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84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30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Награждение команд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067280" y="3860640"/>
            <a:ext cx="1660320" cy="2735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Спасибо за игру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  <a:ea typeface="Arial"/>
              </a:rPr>
              <a:t>.Представление команд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Назва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Девиз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19640" y="3281400"/>
            <a:ext cx="53416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67000" y="1692360"/>
            <a:ext cx="42908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ерв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Размин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угаданный ребус – 5 баллов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771640" y="4581000"/>
            <a:ext cx="5834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ервый тур мы начинаем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бедителей узнае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десь загадки и ша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а разгадку – всем наг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Image1_img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808440" cy="3774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66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snap0524" descr="Точка"/>
          <p:cNvPicPr/>
          <p:nvPr/>
        </p:nvPicPr>
        <p:blipFill>
          <a:blip r:embed="rId1"/>
          <a:stretch/>
        </p:blipFill>
        <p:spPr>
          <a:xfrm>
            <a:off x="4948200" y="0"/>
            <a:ext cx="4195800" cy="3220920"/>
          </a:xfrm>
          <a:prstGeom prst="rect">
            <a:avLst/>
          </a:prstGeom>
          <a:ln w="0">
            <a:noFill/>
          </a:ln>
        </p:spPr>
      </p:pic>
      <p:pic>
        <p:nvPicPr>
          <p:cNvPr id="171" name="snap0501" descr="Осень"/>
          <p:cNvPicPr/>
          <p:nvPr/>
        </p:nvPicPr>
        <p:blipFill>
          <a:blip r:embed="rId2"/>
          <a:stretch/>
        </p:blipFill>
        <p:spPr>
          <a:xfrm>
            <a:off x="4896000" y="3716280"/>
            <a:ext cx="4248000" cy="3141720"/>
          </a:xfrm>
          <a:prstGeom prst="rect">
            <a:avLst/>
          </a:prstGeom>
          <a:ln w="0">
            <a:noFill/>
          </a:ln>
        </p:spPr>
      </p:pic>
      <p:pic>
        <p:nvPicPr>
          <p:cNvPr id="172" name="snap0532" descr="Задача"/>
          <p:cNvPicPr/>
          <p:nvPr/>
        </p:nvPicPr>
        <p:blipFill>
          <a:blip r:embed="rId3"/>
          <a:stretch/>
        </p:blipFill>
        <p:spPr>
          <a:xfrm>
            <a:off x="468360" y="0"/>
            <a:ext cx="3887640" cy="3197160"/>
          </a:xfrm>
          <a:prstGeom prst="rect">
            <a:avLst/>
          </a:prstGeom>
          <a:ln w="0">
            <a:noFill/>
          </a:ln>
        </p:spPr>
      </p:pic>
      <p:pic>
        <p:nvPicPr>
          <p:cNvPr id="173" name="snap0512" descr="Диаметр"/>
          <p:cNvPicPr/>
          <p:nvPr/>
        </p:nvPicPr>
        <p:blipFill>
          <a:blip r:embed="rId4"/>
          <a:stretch/>
        </p:blipFill>
        <p:spPr>
          <a:xfrm>
            <a:off x="395280" y="3716280"/>
            <a:ext cx="3960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snap0502" descr="Родина"/>
          <p:cNvPicPr/>
          <p:nvPr/>
        </p:nvPicPr>
        <p:blipFill>
          <a:blip r:embed="rId1"/>
          <a:stretch/>
        </p:blipFill>
        <p:spPr>
          <a:xfrm>
            <a:off x="179280" y="0"/>
            <a:ext cx="3888000" cy="3057480"/>
          </a:xfrm>
          <a:prstGeom prst="rect">
            <a:avLst/>
          </a:prstGeom>
          <a:ln w="0">
            <a:noFill/>
          </a:ln>
        </p:spPr>
      </p:pic>
      <p:pic>
        <p:nvPicPr>
          <p:cNvPr id="177" name="snap0509" descr="Вектор"/>
          <p:cNvPicPr/>
          <p:nvPr/>
        </p:nvPicPr>
        <p:blipFill>
          <a:blip r:embed="rId2"/>
          <a:stretch/>
        </p:blipFill>
        <p:spPr>
          <a:xfrm>
            <a:off x="4572000" y="0"/>
            <a:ext cx="4105440" cy="2938320"/>
          </a:xfrm>
          <a:prstGeom prst="rect">
            <a:avLst/>
          </a:prstGeom>
          <a:ln w="0">
            <a:noFill/>
          </a:ln>
        </p:spPr>
      </p:pic>
      <p:pic>
        <p:nvPicPr>
          <p:cNvPr id="178" name="snap0517" descr="Вершина"/>
          <p:cNvPicPr/>
          <p:nvPr/>
        </p:nvPicPr>
        <p:blipFill>
          <a:blip r:embed="rId3"/>
          <a:stretch/>
        </p:blipFill>
        <p:spPr>
          <a:xfrm>
            <a:off x="250920" y="3500280"/>
            <a:ext cx="4105080" cy="3187800"/>
          </a:xfrm>
          <a:prstGeom prst="rect">
            <a:avLst/>
          </a:prstGeom>
          <a:ln w="0">
            <a:noFill/>
          </a:ln>
        </p:spPr>
      </p:pic>
      <p:pic>
        <p:nvPicPr>
          <p:cNvPr id="179" name="snap0525" descr="Минус"/>
          <p:cNvPicPr/>
          <p:nvPr/>
        </p:nvPicPr>
        <p:blipFill>
          <a:blip r:embed="rId4"/>
          <a:stretch/>
        </p:blipFill>
        <p:spPr>
          <a:xfrm>
            <a:off x="4716360" y="3500280"/>
            <a:ext cx="410364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85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99640" y="1484280"/>
            <a:ext cx="55436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Второ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гад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1 бал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39640" y="4653000"/>
            <a:ext cx="58327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Тур второй: пусть всякий знает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то же лучше вычисляет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е задачки прочитат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ам же думать и счита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2377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-21276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1 Шла старуха в Москву, и навстречу ей три старика. Сколько человек шло в Москву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2 Что легче: пуд ваты или пуд желез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3 К 7 прибавить 5. Как правильно записать: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одиннадцать»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или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адиннадцать»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4 Спутник Земли делает оборот за 1 ч 40 мин, а второй за 100 мин. Как это получаетс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5 Двое играли в шахматы 4 часа. Сколько времени играл каждый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6 В каждом из четырех углов комнаты  сидит кошка. Напротив каждой из этих кошек сидит три кошки. Сколько кошек в комнат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7 У отца 6 сыновей. Каждый из них имеет сестру. Сколько всего детей у отц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8 Горело 5 свечей. Две из них потухли. Сколько свечей осталось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08:52Z</dcterms:created>
  <dc:creator>Г А</dc:creator>
  <dc:description/>
  <dc:language>en-US</dc:language>
  <cp:lastModifiedBy>Маринкевич</cp:lastModifiedBy>
  <dcterms:modified xsi:type="dcterms:W3CDTF">2011-09-12T09:06:12Z</dcterms:modified>
  <cp:revision>20</cp:revision>
  <dc:subject/>
  <dc:title>Ох уж эта матема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f0000000000010250300207f7000400038000</vt:lpwstr>
  </property>
</Properties>
</file>