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BEE-7DFA-4074-A21B-2C5653D8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CB8B-41B4-4E3A-B652-9269133A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C68-B03A-4359-8E86-03BD6EA4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D0E-AEAE-4E33-9433-FF5AFEEC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DECB-0E6B-46DB-9149-7195AA12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E168-96DC-4934-983D-3BBA17C3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504A-636E-4B3C-9965-7B3375D9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9DDC-D639-4015-9070-EDD8E8CD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0DF1-C860-40B9-B684-B8BFD40E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CBCC-03A0-42AC-821B-F4CB4C2E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75BA-442F-4D55-B559-8F13BFF7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7BB6-D23C-48CE-BDCC-AB84314F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54CD-69D1-4FEC-B8B4-B841E773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8606-804D-4C28-AF36-561BB92A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43F0-DD8D-4935-A358-251854B0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2D2D-1A88-4DFD-B437-73DB6389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3C21-855E-4042-A922-925A750F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F0C-65E9-4878-803A-21ECB3CD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7F58-3259-4D9E-BF23-0CAA2333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DE40-8F6C-4DEE-B304-DD8538E0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FC90-53E5-47CD-9070-76D2C53A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8C74-C6A0-4B7E-989E-7B8F1C5E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0C58-50DD-4ED6-9FC1-2EAB91B0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1DD-9126-4B45-B25A-B3853D0C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3F3D-CB7E-48CD-AEDF-11A132DD16D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5DF7-7901-4C83-A458-6BD1924EEC8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Наглядное представление статистической информации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3357360"/>
            <a:ext cx="4013280" cy="13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Из опыта работы учителя математики МОУ СОШ №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гт Прогресс, Амурской обла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Ермишко Ольги Константиновн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929120" y="57150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носительная част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носительная частота – отношение частоты к общему числу данных в ряду, выраженное в процента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38080" y="4300560"/>
          <a:ext cx="8126640" cy="1785960"/>
        </p:xfrm>
        <a:graphic>
          <a:graphicData uri="http://schemas.openxmlformats.org/drawingml/2006/table">
            <a:tbl>
              <a:tblPr/>
              <a:tblGrid>
                <a:gridCol w="1433520"/>
                <a:gridCol w="561960"/>
                <a:gridCol w="784440"/>
                <a:gridCol w="711000"/>
                <a:gridCol w="387360"/>
                <a:gridCol w="719280"/>
                <a:gridCol w="576360"/>
                <a:gridCol w="647640"/>
                <a:gridCol w="720720"/>
                <a:gridCol w="792000"/>
                <a:gridCol w="79236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носительная частота, 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зависимо от того, в какой отрасли знания получены числовые данные, они обладают определёнными свойствами, для выявления которых может потребоваться особого рода научный метод обработки. Последний известен как статистический метод или, короче, статисти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ж.Юл.М.Кендалл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«Теория статистик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C:\Documents and Settings\Владелец\Рабочий стол\Моя рабочая1\ермишко\49755.gif"/>
          <p:cNvPicPr/>
          <p:nvPr/>
        </p:nvPicPr>
        <p:blipFill>
          <a:blip r:embed="rId1"/>
          <a:stretch/>
        </p:blipFill>
        <p:spPr>
          <a:xfrm>
            <a:off x="5643720" y="3000240"/>
            <a:ext cx="271440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66"/>
                </a:solidFill>
                <a:latin typeface="Arial"/>
              </a:rPr>
              <a:t>Статистика – дизайн информаци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3" descr="C:\Documents and Settings\Владелец\Рабочий стол\Моя рабочая1\ермишко\Рисунок80.wmf"/>
          <p:cNvPicPr/>
          <p:nvPr/>
        </p:nvPicPr>
        <p:blipFill>
          <a:blip r:embed="rId1"/>
          <a:stretch/>
        </p:blipFill>
        <p:spPr>
          <a:xfrm>
            <a:off x="3214800" y="4071960"/>
            <a:ext cx="28782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атистические характерист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Среднее арифметичес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Разм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М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Медиа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Част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Относительная част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4" descr="C:\Documents and Settings\Владелец\Рабочий стол\Моя рабочая1\ермишко\12.gif"/>
          <p:cNvPicPr/>
          <p:nvPr/>
        </p:nvPicPr>
        <p:blipFill>
          <a:blip r:embed="rId8"/>
          <a:stretch/>
        </p:blipFill>
        <p:spPr>
          <a:xfrm>
            <a:off x="6286680" y="2541600"/>
            <a:ext cx="207144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реднее арифметическо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377028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редним арифметическим ряда чисел называется частное от деления суммы этих чисел на число слагаем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C:\Documents and Settings\Владелец\Рабочий стол\Моя рабочая1\ермишко\9.gif"/>
          <p:cNvPicPr/>
          <p:nvPr/>
        </p:nvPicPr>
        <p:blipFill>
          <a:blip r:embed="rId1"/>
          <a:stretch/>
        </p:blipFill>
        <p:spPr>
          <a:xfrm>
            <a:off x="5929200" y="3214800"/>
            <a:ext cx="17128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мах ряда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махом ряда чисел называется разность между наибольшим и наименьшим из этих чисе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3,18,25,20,25,32,37,34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6,34,2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мах: 37-18=1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5" descr="C:\Documents and Settings\Владелец\Рабочий стол\Моя рабочая1\ермишко\1.gif"/>
          <p:cNvPicPr/>
          <p:nvPr/>
        </p:nvPicPr>
        <p:blipFill>
          <a:blip r:embed="rId1"/>
          <a:stretch/>
        </p:blipFill>
        <p:spPr>
          <a:xfrm>
            <a:off x="1357200" y="2660760"/>
            <a:ext cx="25718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а ряда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дой ряда чисел называется число, наиболее часто встречающееся в данном ря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 flipV="1" rot="10800000">
            <a:off x="1042920" y="436464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3,18,25,20,25,32,37,34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6,34,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да ряда: 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6" descr="C:\Documents and Settings\Владелец\Рабочий стол\Моя рабочая1\ермишко\50304.gif"/>
          <p:cNvPicPr/>
          <p:nvPr/>
        </p:nvPicPr>
        <p:blipFill>
          <a:blip r:embed="rId1"/>
          <a:stretch/>
        </p:blipFill>
        <p:spPr>
          <a:xfrm>
            <a:off x="5764320" y="2743200"/>
            <a:ext cx="17618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диа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дианой упорядоченного ряда чисел с нечетным числом членом называется число, записанное посередине, а медианой упорядоченного ряда чисел с чётным числом членом называется среднее арифметическое двух чисел, записанных посередин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4,72,72,75,78,82,85,91,93. Медиана: 78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4,72,72,75,78,82,85,88,91,93. Медиана: (78+82):2=8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дианой произвольного ряда чисел называется медиана соответствующего упорядоченного ряд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C:\Documents and Settings\Владелец\Рабочий стол\Моя рабочая1\ермишко\Рисунок123.gif"/>
          <p:cNvPicPr/>
          <p:nvPr/>
        </p:nvPicPr>
        <p:blipFill>
          <a:blip r:embed="rId1"/>
          <a:stretch/>
        </p:blipFill>
        <p:spPr>
          <a:xfrm>
            <a:off x="6715080" y="507204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аст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астота – количество появлений числа в ря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4360" y="4300560"/>
          <a:ext cx="8208720" cy="1785960"/>
        </p:xfrm>
        <a:graphic>
          <a:graphicData uri="http://schemas.openxmlformats.org/drawingml/2006/table">
            <a:tbl>
              <a:tblPr/>
              <a:tblGrid>
                <a:gridCol w="1355400"/>
                <a:gridCol w="660600"/>
                <a:gridCol w="792000"/>
                <a:gridCol w="719280"/>
                <a:gridCol w="647640"/>
                <a:gridCol w="792360"/>
                <a:gridCol w="649080"/>
                <a:gridCol w="719280"/>
                <a:gridCol w="576360"/>
                <a:gridCol w="647640"/>
                <a:gridCol w="64908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асто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глядное представление частот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Object 4" descr=""/>
          <p:cNvPicPr/>
          <p:nvPr/>
        </p:nvPicPr>
        <p:blipFill>
          <a:blip r:embed="rId1"/>
          <a:stretch/>
        </p:blipFill>
        <p:spPr>
          <a:xfrm>
            <a:off x="227160" y="2362320"/>
            <a:ext cx="880560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23:16:43Z</dcterms:created>
  <dc:creator>Ермишко</dc:creator>
  <dc:description/>
  <dc:language>en-US</dc:language>
  <cp:lastModifiedBy>Admin</cp:lastModifiedBy>
  <dcterms:modified xsi:type="dcterms:W3CDTF">2011-04-30T05:03:23Z</dcterms:modified>
  <cp:revision>18</cp:revision>
  <dc:subject>Алгебра 8 класс</dc:subject>
  <dc:title>Наглядное представление статистической информ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70000000000010243100207f6000400038000</vt:lpwstr>
  </property>
</Properties>
</file>