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wmf" ContentType="image/x-wm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B61-7571-421D-A6A7-5C3B1331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133-7815-41EB-B7D0-F7A5B424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309-3A3B-4659-82FC-8C57DD77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E651-42F3-443D-AD9C-56FCC366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1D67-8B2C-4B02-AFBC-C75F4885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07F4-A56F-43B2-8FB2-A1183A8E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40D9-D098-499E-A88D-3CF79CC8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E821-FA34-40BF-A22A-F2DF7479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2530-9F79-445D-AF00-E0515E58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F40C-7F40-4E6F-8450-30171CC1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B873-3079-4F58-A060-E6C235A3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78E-FAE7-4229-8E80-03C9A3D0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E091-10CA-4E85-A24B-725D965A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DB45-51BD-4689-BCD1-7C30856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1977-32F0-45BC-8B40-B09BECB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6111-0386-4497-8661-CF8EC409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F36C-8ABF-4657-ADE9-E995E0F3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69E8-48A5-4304-84B8-BEB33B47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07B6-D667-4216-81C7-4A96A452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FC72-16BB-44DB-AA40-027AF736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F35-9C61-4EAF-AF73-336EEEC8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C919-5751-411E-9AFA-D8E1340B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9BB-922D-49A4-8155-4AD8267F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E79-FB1E-493D-BC11-68BCDD02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6957-5839-43C6-9183-02BBDA7102F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7736-1BB6-47CD-A870-4999DADB017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Наглядное представление статистической информации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357360"/>
            <a:ext cx="4013280" cy="13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Из опыта работы учителя математики МОУ СОШ № 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гт Прогресс, Амурской област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Ермишко Ольги Константиновн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929120" y="57150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носительная 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тносительная частота – отношение частоты к общему числу данных в ряду, выраженное в процента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4300560"/>
          <a:ext cx="8126640" cy="1785960"/>
        </p:xfrm>
        <a:graphic>
          <a:graphicData uri="http://schemas.openxmlformats.org/drawingml/2006/table">
            <a:tbl>
              <a:tblPr/>
              <a:tblGrid>
                <a:gridCol w="1433520"/>
                <a:gridCol w="561960"/>
                <a:gridCol w="784440"/>
                <a:gridCol w="711000"/>
                <a:gridCol w="387360"/>
                <a:gridCol w="719280"/>
                <a:gridCol w="576360"/>
                <a:gridCol w="647640"/>
                <a:gridCol w="720720"/>
                <a:gridCol w="792000"/>
                <a:gridCol w="79236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носительная частота, %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,5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Независимо от того, в какой отрасли знания получены числовые данные, они обладают определёнными свойствами, для выявления которых может потребоваться особого рода научный метод обработки. Последний известен как статистический метод или, короче, статистик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ж.Юл.М.Кендалл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58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Теория статистик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:\Documents and Settings\Владелец\Рабочий стол\Моя рабочая1\ермишко\49755.gif"/>
          <p:cNvPicPr/>
          <p:nvPr/>
        </p:nvPicPr>
        <p:blipFill>
          <a:blip r:embed="rId1"/>
          <a:stretch/>
        </p:blipFill>
        <p:spPr>
          <a:xfrm>
            <a:off x="5643720" y="3000240"/>
            <a:ext cx="27144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Arial"/>
              </a:rPr>
              <a:t>Статистика – дизайн информа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C:\Documents and Settings\Владелец\Рабочий стол\Моя рабочая1\ермишко\Рисунок80.wmf"/>
          <p:cNvPicPr/>
          <p:nvPr/>
        </p:nvPicPr>
        <p:blipFill>
          <a:blip r:embed="rId1"/>
          <a:stretch/>
        </p:blipFill>
        <p:spPr>
          <a:xfrm>
            <a:off x="3214800" y="4071960"/>
            <a:ext cx="2878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татистические характеристи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Среднее арифметическо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 action="ppaction://hlinksldjump"/>
              </a:rPr>
              <a:t>Разм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 action="ppaction://hlinksldjump"/>
              </a:rPr>
              <a:t>М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 action="ppaction://hlinksldjump"/>
              </a:rPr>
              <a:t>Меди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 action="ppaction://hlinksldjump"/>
              </a:rPr>
              <a:t>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 action="ppaction://hlinksldjump"/>
              </a:rPr>
              <a:t>Относительная ча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7" action="ppaction://hlinksldjump"/>
              </a:rPr>
              <a:t>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C:\Documents and Settings\Владелец\Рабочий стол\Моя рабочая1\ермишко\12.gif"/>
          <p:cNvPicPr/>
          <p:nvPr/>
        </p:nvPicPr>
        <p:blipFill>
          <a:blip r:embed="rId8"/>
          <a:stretch/>
        </p:blipFill>
        <p:spPr>
          <a:xfrm>
            <a:off x="6286680" y="2541600"/>
            <a:ext cx="20714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реднее арифметическо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85520" y="2357280"/>
            <a:ext cx="377028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редним арифметическим ряда чисел называется частное от деления суммы этих чисел на число слагаем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C:\Documents and Settings\Владелец\Рабочий стол\Моя рабочая1\ермишко\9.gif"/>
          <p:cNvPicPr/>
          <p:nvPr/>
        </p:nvPicPr>
        <p:blipFill>
          <a:blip r:embed="rId1"/>
          <a:stretch/>
        </p:blipFill>
        <p:spPr>
          <a:xfrm>
            <a:off x="5929200" y="3214800"/>
            <a:ext cx="171288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азмах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ом ряда чисел называется разность между наибольшим и наименьшим из этих чи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змах: 37-18=19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C:\Documents and Settings\Владелец\Рабочий стол\Моя рабочая1\ермишко\1.gif"/>
          <p:cNvPicPr/>
          <p:nvPr/>
        </p:nvPicPr>
        <p:blipFill>
          <a:blip r:embed="rId1"/>
          <a:stretch/>
        </p:blipFill>
        <p:spPr>
          <a:xfrm>
            <a:off x="1357200" y="2660760"/>
            <a:ext cx="25718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а ряда чисе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дой ряда чисел называется число, наиболее часто встречающееся в данном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flipV="1" rot="10800000">
            <a:off x="1042920" y="436464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3,18,25,20,25,32,37,34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6,34,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ода ряда: 2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6" descr="C:\Documents and Settings\Владелец\Рабочий стол\Моя рабочая1\ермишко\50304.gif"/>
          <p:cNvPicPr/>
          <p:nvPr/>
        </p:nvPicPr>
        <p:blipFill>
          <a:blip r:embed="rId1"/>
          <a:stretch/>
        </p:blipFill>
        <p:spPr>
          <a:xfrm>
            <a:off x="5764320" y="2743200"/>
            <a:ext cx="1761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диа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упорядоченного ряда чисел с нечетным числом членом называется число, записанное посередине, а медианой упорядоченного ряда чисел с чётным числом членом называется среднее арифметическое двух чисел, записанных посередин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91,93. Медиана: 78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4,72,72,75,78,82,85,88,91,93. Медиана: (78+82):2=8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едианой произвольного ряда чисел называется медиана соответствующего упорядоченного ряд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" name="Picture 4" descr="C:\Documents and Settings\Владелец\Рабочий стол\Моя рабочая1\ермишко\Рисунок123.gif"/>
          <p:cNvPicPr/>
          <p:nvPr/>
        </p:nvPicPr>
        <p:blipFill>
          <a:blip r:embed="rId1"/>
          <a:stretch/>
        </p:blipFill>
        <p:spPr>
          <a:xfrm>
            <a:off x="6715080" y="5072040"/>
            <a:ext cx="18576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Часто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астота – количество появлений числа в ряд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4360" y="4300560"/>
          <a:ext cx="8208720" cy="1785960"/>
        </p:xfrm>
        <a:graphic>
          <a:graphicData uri="http://schemas.openxmlformats.org/drawingml/2006/table">
            <a:tbl>
              <a:tblPr/>
              <a:tblGrid>
                <a:gridCol w="1355400"/>
                <a:gridCol w="660600"/>
                <a:gridCol w="792000"/>
                <a:gridCol w="719280"/>
                <a:gridCol w="647640"/>
                <a:gridCol w="792360"/>
                <a:gridCol w="649080"/>
                <a:gridCol w="719280"/>
                <a:gridCol w="576360"/>
                <a:gridCol w="647640"/>
                <a:gridCol w="649080"/>
              </a:tblGrid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исло верно выполненных заданий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Часто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глядное представление частот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0" name="Object 4" descr=""/>
          <p:cNvPicPr/>
          <p:nvPr/>
        </p:nvPicPr>
        <p:blipFill>
          <a:blip r:embed="rId1"/>
          <a:stretch/>
        </p:blipFill>
        <p:spPr>
          <a:xfrm>
            <a:off x="227160" y="2362320"/>
            <a:ext cx="88056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23:16:43Z</dcterms:created>
  <dc:creator>Ермишко</dc:creator>
  <dc:description/>
  <dc:language>en-US</dc:language>
  <cp:lastModifiedBy>Admin</cp:lastModifiedBy>
  <dcterms:modified xsi:type="dcterms:W3CDTF">2011-04-30T05:03:23Z</dcterms:modified>
  <cp:revision>18</cp:revision>
  <dc:subject>Алгебра 8 класс</dc:subject>
  <dc:title>Наглядное представление статистической информ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070000000000010243100207f6000400038000</vt:lpwstr>
  </property>
</Properties>
</file>