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wmf" ContentType="image/x-wm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C1CF-007E-4DC8-89AE-36DE4F28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AE43-CC0F-49BE-9288-68DE03F6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71F8-CEDB-4A05-9F37-70D74C55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296D-64A1-4FCE-9801-FB4F7687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B6AA-8CDB-44EF-873D-E9EC552F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0831-55A7-4A4A-8FAB-4BDBC4B6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E7A0-B23D-44C4-BED8-10EF20F0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6E7A-6A94-49DB-A528-F9F7FF9A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7E76-2578-4E9A-A899-B09D1714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6850-1131-4A7B-B0A2-2C23EB25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1C02-99AC-4B5C-81CC-A314BF82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65F0-25F0-43B6-B90F-229A0200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55EB-AFFE-4029-8942-92B3503D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CEB7-A7D0-491E-8404-F42A0E44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2BB4-1476-4698-89C2-7D0E10AB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F5F9-6E6A-4735-95FA-188573387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1561-F2BB-4932-B5FE-AB867893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EC4D-BC7E-4255-B73C-9489CD12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C25B-3E1A-4A99-901F-E3E8D1AF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9635-AA1C-4BA7-98E2-CAA1050B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D660-7EBE-4B9B-B7EF-F7C8976A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EC2C-86D1-4DB5-80AC-E15A4DE6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0F26-74C1-4CEF-9641-C2564BBB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FDE7-5A66-42A5-AD48-9E09DC69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7543-7A11-445D-B9DA-2F964B02BDD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4D95-6DD4-4E5A-8A63-99268FBBCAC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Наглядное представление статистической информации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3357360"/>
            <a:ext cx="4013280" cy="13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Из опыта работы учителя математики МОУ СОШ № 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пгт Прогресс, Амурской област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Ермишко Ольги Константиновн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4929120" y="571500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носительная част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носительная частота – отношение частоты к общему числу данных в ряду, выраженное в процента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38080" y="4300560"/>
          <a:ext cx="8126640" cy="1785960"/>
        </p:xfrm>
        <a:graphic>
          <a:graphicData uri="http://schemas.openxmlformats.org/drawingml/2006/table">
            <a:tbl>
              <a:tblPr/>
              <a:tblGrid>
                <a:gridCol w="1433520"/>
                <a:gridCol w="561960"/>
                <a:gridCol w="784440"/>
                <a:gridCol w="711000"/>
                <a:gridCol w="387360"/>
                <a:gridCol w="719280"/>
                <a:gridCol w="576360"/>
                <a:gridCol w="647640"/>
                <a:gridCol w="720720"/>
                <a:gridCol w="792000"/>
                <a:gridCol w="79236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исло верно выполненных задан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тносительная частота, 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зависимо от того, в какой отрасли знания получены числовые данные, они обладают определёнными свойствами, для выявления которых может потребоваться особого рода научный метод обработки. Последний известен как статистический метод или, короче, статисти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ж.Юл.М.Кендалл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«Теория статистики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4" descr="C:\Documents and Settings\Владелец\Рабочий стол\Моя рабочая1\ермишко\49755.gif"/>
          <p:cNvPicPr/>
          <p:nvPr/>
        </p:nvPicPr>
        <p:blipFill>
          <a:blip r:embed="rId1"/>
          <a:stretch/>
        </p:blipFill>
        <p:spPr>
          <a:xfrm>
            <a:off x="5643720" y="3000240"/>
            <a:ext cx="271440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66"/>
                </a:solidFill>
                <a:latin typeface="Arial"/>
              </a:rPr>
              <a:t>Статистика – дизайн информации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3" descr="C:\Documents and Settings\Владелец\Рабочий стол\Моя рабочая1\ермишко\Рисунок80.wmf"/>
          <p:cNvPicPr/>
          <p:nvPr/>
        </p:nvPicPr>
        <p:blipFill>
          <a:blip r:embed="rId1"/>
          <a:stretch/>
        </p:blipFill>
        <p:spPr>
          <a:xfrm>
            <a:off x="3214800" y="4071960"/>
            <a:ext cx="28782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атистические характерист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Среднее арифметическ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Разм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Мо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Медиа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Част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Относительная част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7" action="ppaction://hlinksldjump"/>
              </a:rPr>
              <a:t>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4" descr="C:\Documents and Settings\Владелец\Рабочий стол\Моя рабочая1\ермишко\12.gif"/>
          <p:cNvPicPr/>
          <p:nvPr/>
        </p:nvPicPr>
        <p:blipFill>
          <a:blip r:embed="rId8"/>
          <a:stretch/>
        </p:blipFill>
        <p:spPr>
          <a:xfrm>
            <a:off x="6286680" y="2541600"/>
            <a:ext cx="207144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реднее арифметическо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377028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редним арифметическим ряда чисел называется частное от деления суммы этих чисел на число слагаемы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5" descr="C:\Documents and Settings\Владелец\Рабочий стол\Моя рабочая1\ермишко\9.gif"/>
          <p:cNvPicPr/>
          <p:nvPr/>
        </p:nvPicPr>
        <p:blipFill>
          <a:blip r:embed="rId1"/>
          <a:stretch/>
        </p:blipFill>
        <p:spPr>
          <a:xfrm>
            <a:off x="5929200" y="3214800"/>
            <a:ext cx="171288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змах ряда чисе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махом ряда чисел называется разность между наибольшим и наименьшим из этих чисе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3,18,25,20,25,32,37,34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6,34,2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мах: 37-18=1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5" descr="C:\Documents and Settings\Владелец\Рабочий стол\Моя рабочая1\ермишко\1.gif"/>
          <p:cNvPicPr/>
          <p:nvPr/>
        </p:nvPicPr>
        <p:blipFill>
          <a:blip r:embed="rId1"/>
          <a:stretch/>
        </p:blipFill>
        <p:spPr>
          <a:xfrm>
            <a:off x="1357200" y="2660760"/>
            <a:ext cx="25718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а ряда чисе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одой ряда чисел называется число, наиболее часто встречающееся в данном ряд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 flipV="1" rot="10800000">
            <a:off x="1042920" y="436464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3,18,25,20,25,32,37,34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6,34,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да ряда: 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6" descr="C:\Documents and Settings\Владелец\Рабочий стол\Моя рабочая1\ермишко\50304.gif"/>
          <p:cNvPicPr/>
          <p:nvPr/>
        </p:nvPicPr>
        <p:blipFill>
          <a:blip r:embed="rId1"/>
          <a:stretch/>
        </p:blipFill>
        <p:spPr>
          <a:xfrm>
            <a:off x="5764320" y="2743200"/>
            <a:ext cx="176184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диа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едианой упорядоченного ряда чисел с нечетным числом членом называется число, записанное посередине, а медианой упорядоченного ряда чисел с чётным числом членом называется среднее арифметическое двух чисел, записанных посередин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4,72,72,75,78,82,85,91,93. Медиана: 78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4,72,72,75,78,82,85,88,91,93. Медиана: (78+82):2=8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едианой произвольного ряда чисел называется медиана соответствующего упорядоченного ряд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C:\Documents and Settings\Владелец\Рабочий стол\Моя рабочая1\ермишко\Рисунок123.gif"/>
          <p:cNvPicPr/>
          <p:nvPr/>
        </p:nvPicPr>
        <p:blipFill>
          <a:blip r:embed="rId1"/>
          <a:stretch/>
        </p:blipFill>
        <p:spPr>
          <a:xfrm>
            <a:off x="6715080" y="5072040"/>
            <a:ext cx="1857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аст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астота – количество появлений числа в ряд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4360" y="4300560"/>
          <a:ext cx="8208720" cy="1785960"/>
        </p:xfrm>
        <a:graphic>
          <a:graphicData uri="http://schemas.openxmlformats.org/drawingml/2006/table">
            <a:tbl>
              <a:tblPr/>
              <a:tblGrid>
                <a:gridCol w="1355400"/>
                <a:gridCol w="660600"/>
                <a:gridCol w="792000"/>
                <a:gridCol w="719280"/>
                <a:gridCol w="647640"/>
                <a:gridCol w="792360"/>
                <a:gridCol w="649080"/>
                <a:gridCol w="719280"/>
                <a:gridCol w="576360"/>
                <a:gridCol w="647640"/>
                <a:gridCol w="64908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исло верно выполненных задан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асто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глядное представление частот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Object 4" descr=""/>
          <p:cNvPicPr/>
          <p:nvPr/>
        </p:nvPicPr>
        <p:blipFill>
          <a:blip r:embed="rId1"/>
          <a:stretch/>
        </p:blipFill>
        <p:spPr>
          <a:xfrm>
            <a:off x="227160" y="2362320"/>
            <a:ext cx="880560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23:16:43Z</dcterms:created>
  <dc:creator>Ермишко</dc:creator>
  <dc:description/>
  <dc:language>en-US</dc:language>
  <cp:lastModifiedBy>Admin</cp:lastModifiedBy>
  <dcterms:modified xsi:type="dcterms:W3CDTF">2011-04-30T05:03:23Z</dcterms:modified>
  <cp:revision>18</cp:revision>
  <dc:subject>Алгебра 8 класс</dc:subject>
  <dc:title>Наглядное представление статистической информ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70000000000010243100207f6000400038000</vt:lpwstr>
  </property>
</Properties>
</file>