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6F3-8D2A-49E8-B61D-4C6E0406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425-AAE1-41D7-B7FC-D42C2FAF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3DB-E6C4-4992-8A22-56AD1600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C15-C0B6-45E1-A39B-B192EDA4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D32B-918F-41DF-884C-0C0D600B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507A-5BE9-4B56-B4ED-D426DC40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0B51-B3C4-4375-8639-FB8CF728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EBB3-C4D3-4A15-80B8-CB61A651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3F5F-2F1F-4DE7-AB25-294F2F65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6CBE-61A2-47EF-8606-0BE12A07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2A8F-9CA6-4251-B101-C63B4651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788-139C-4733-9E78-8CA97644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89FF-C2D3-4D23-AD5E-0012012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BA9B-80DA-4FEA-A2BA-A47F1AB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9FD0-4709-4102-A137-7DC64CBF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333B-F8BA-4B46-A8E8-F210B125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7B7C-9D05-4BF6-BAA3-6D8483F9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475-D6EC-4118-AD65-5AA16A55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837-4E0C-43B7-9E1A-19C44C87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003-943A-4A6A-971A-5D9C1D0C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F80-FDC6-4703-BEEE-6B4AB9CA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8BE-7A21-410A-9D86-2E83D89D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3F8-1ED1-462F-BAC4-4FE8458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1F0-5CDA-4D33-8E42-2A37F06E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697E-E0EF-48EE-B8A4-4F3C7A988CC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3687-8108-4D2A-8CBB-289FA63215B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Наглядное представление статистической информац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Из опыта работы учителя математики МОУ СОШ №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гт Прогресс,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Ермишко Ольги Константин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92912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носительная 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сительная частота – отношение частоты к общему числу данных в ряду, выраженное в процент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4300560"/>
          <a:ext cx="8126640" cy="1785960"/>
        </p:xfrm>
        <a:graphic>
          <a:graphicData uri="http://schemas.openxmlformats.org/drawingml/2006/table">
            <a:tbl>
              <a:tblPr/>
              <a:tblGrid>
                <a:gridCol w="1433520"/>
                <a:gridCol w="561960"/>
                <a:gridCol w="784440"/>
                <a:gridCol w="711000"/>
                <a:gridCol w="387360"/>
                <a:gridCol w="719280"/>
                <a:gridCol w="576360"/>
                <a:gridCol w="647640"/>
                <a:gridCol w="720720"/>
                <a:gridCol w="792000"/>
                <a:gridCol w="792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носительная частота,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зависимо от того, в какой отрасли знания получены числовые данные, они обладают определёнными свойствами, для выявления которых может потребоваться особого рода научный метод обработки. Последний известен как статистический метод или, короче, статист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ж.Юл.М.Кендал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Теория статистик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:\Documents and Settings\Владелец\Рабочий стол\Моя рабочая1\ермишко\49755.gif"/>
          <p:cNvPicPr/>
          <p:nvPr/>
        </p:nvPicPr>
        <p:blipFill>
          <a:blip r:embed="rId1"/>
          <a:stretch/>
        </p:blipFill>
        <p:spPr>
          <a:xfrm>
            <a:off x="5643720" y="3000240"/>
            <a:ext cx="27144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татистика – дизайн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C:\Documents and Settings\Владелец\Рабочий стол\Моя рабочая1\ермишко\Рисунок80.wmf"/>
          <p:cNvPicPr/>
          <p:nvPr/>
        </p:nvPicPr>
        <p:blipFill>
          <a:blip r:embed="rId1"/>
          <a:stretch/>
        </p:blipFill>
        <p:spPr>
          <a:xfrm>
            <a:off x="3214800" y="4071960"/>
            <a:ext cx="287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атистические характери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Раз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Меди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Относительная 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:\Documents and Settings\Владелец\Рабочий стол\Моя рабочая1\ермишко\12.gif"/>
          <p:cNvPicPr/>
          <p:nvPr/>
        </p:nvPicPr>
        <p:blipFill>
          <a:blip r:embed="rId8"/>
          <a:stretch/>
        </p:blipFill>
        <p:spPr>
          <a:xfrm>
            <a:off x="6286680" y="2541600"/>
            <a:ext cx="20714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е арифметическ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Моя рабочая1\ермишко\9.gif"/>
          <p:cNvPicPr/>
          <p:nvPr/>
        </p:nvPicPr>
        <p:blipFill>
          <a:blip r:embed="rId1"/>
          <a:stretch/>
        </p:blipFill>
        <p:spPr>
          <a:xfrm>
            <a:off x="5929200" y="3214800"/>
            <a:ext cx="17128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мах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: 37-18=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Documents and Settings\Владелец\Рабочий стол\Моя рабочая1\ермишко\1.gif"/>
          <p:cNvPicPr/>
          <p:nvPr/>
        </p:nvPicPr>
        <p:blipFill>
          <a:blip r:embed="rId1"/>
          <a:stretch/>
        </p:blipFill>
        <p:spPr>
          <a:xfrm>
            <a:off x="1357200" y="2660760"/>
            <a:ext cx="25718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а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flipV="1" rot="10800000">
            <a:off x="1042920" y="4364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а ряда: 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C:\Documents and Settings\Владелец\Рабочий стол\Моя рабочая1\ермишко\50304.gif"/>
          <p:cNvPicPr/>
          <p:nvPr/>
        </p:nvPicPr>
        <p:blipFill>
          <a:blip r:embed="rId1"/>
          <a:stretch/>
        </p:blipFill>
        <p:spPr>
          <a:xfrm>
            <a:off x="5764320" y="2743200"/>
            <a:ext cx="1761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иа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упорядоченного ряда чисел с нечетным числом членом называется число, записанное посередине, а медианой упорядоченного ряда чисел с чётным числом членом называется среднее арифметическое двух чисел, записанных посеред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91,93. Медиана: 7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88,91,93. Медиана: (78+82):2=8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C:\Documents and Settings\Владелец\Рабочий стол\Моя рабочая1\ермишко\Рисунок123.gif"/>
          <p:cNvPicPr/>
          <p:nvPr/>
        </p:nvPicPr>
        <p:blipFill>
          <a:blip r:embed="rId1"/>
          <a:stretch/>
        </p:blipFill>
        <p:spPr>
          <a:xfrm>
            <a:off x="671508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та – количество появлений числа в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4300560"/>
          <a:ext cx="8208720" cy="1785960"/>
        </p:xfrm>
        <a:graphic>
          <a:graphicData uri="http://schemas.openxmlformats.org/drawingml/2006/table">
            <a:tbl>
              <a:tblPr/>
              <a:tblGrid>
                <a:gridCol w="1355400"/>
                <a:gridCol w="660600"/>
                <a:gridCol w="792000"/>
                <a:gridCol w="719280"/>
                <a:gridCol w="647640"/>
                <a:gridCol w="792360"/>
                <a:gridCol w="649080"/>
                <a:gridCol w="719280"/>
                <a:gridCol w="576360"/>
                <a:gridCol w="647640"/>
                <a:gridCol w="6490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асто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глядное представление часто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227160" y="2362320"/>
            <a:ext cx="8805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3:16:43Z</dcterms:created>
  <dc:creator>Ермишко</dc:creator>
  <dc:description/>
  <dc:language>en-US</dc:language>
  <cp:lastModifiedBy>Admin</cp:lastModifiedBy>
  <dcterms:modified xsi:type="dcterms:W3CDTF">2011-04-30T05:03:23Z</dcterms:modified>
  <cp:revision>18</cp:revision>
  <dc:subject>Алгебра 8 класс</dc:subject>
  <dc:title>Наглядное представление статистической информ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3100207f6000400038000</vt:lpwstr>
  </property>
</Properties>
</file>