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B14-DBE8-47BD-B6C7-9533DF6C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A01-DD0A-4B74-86AD-1F0D2E25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F9F-B061-42FA-90BD-70CB5614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85D-9793-4545-B12B-5080BC2C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62F9-0B5A-4155-814D-DE3F2BDE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F044-CC40-443C-89A4-77D142AF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2C6E-9709-4A16-8753-67816A93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711B-37EB-430B-8307-7369AA4A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A160-6411-4C80-898A-3B1B7A58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DCDA-7A04-454B-A61F-7E2F061E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4773-A952-49F9-9FD6-7D4F054E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2AAB-D6C5-4703-B921-464BF97A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10F7-32CE-4E16-8767-1E9803AA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7377-FE11-46CB-BC0E-64CB8D0E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71A6-FBB9-4C1E-8091-03D12AC3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A330-A451-4293-9C02-F588C786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64D8-309A-4AC5-A9E1-48B50B6A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78E8-172A-42A3-A467-8DAEE5B6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BB7-91CD-4BE4-8600-CEE75887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5C4-DD5F-44CC-A88F-1F944F37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653-6CE9-44C7-9DCE-2D235321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910-DF56-455C-8CE8-E41A8311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AF93-91E9-466A-BEA9-1ABA2610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7AA2-0F43-41CB-BED3-26AC3C42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13F9-24C2-437F-BA64-F08A4AD1028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634D-992C-4FAF-B2CF-80F04E11806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Наглядное представление статистической информаци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357360"/>
            <a:ext cx="401328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Из опыта работы учителя математики МОУ СОШ №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гт Прогресс, Амурской обла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Ермишко Ольги Константиновн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929120" y="5715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носительная 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носительная частота – отношение частоты к общему числу данных в ряду, выраженное в процент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4300560"/>
          <a:ext cx="8126640" cy="1785960"/>
        </p:xfrm>
        <a:graphic>
          <a:graphicData uri="http://schemas.openxmlformats.org/drawingml/2006/table">
            <a:tbl>
              <a:tblPr/>
              <a:tblGrid>
                <a:gridCol w="1433520"/>
                <a:gridCol w="561960"/>
                <a:gridCol w="784440"/>
                <a:gridCol w="711000"/>
                <a:gridCol w="387360"/>
                <a:gridCol w="719280"/>
                <a:gridCol w="576360"/>
                <a:gridCol w="647640"/>
                <a:gridCol w="720720"/>
                <a:gridCol w="792000"/>
                <a:gridCol w="79236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носительная частота,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зависимо от того, в какой отрасли знания получены числовые данные, они обладают определёнными свойствами, для выявления которых может потребоваться особого рода научный метод обработки. Последний известен как статистический метод или, короче, статисти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ж.Юл.М.Кендалл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Теория статистик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:\Documents and Settings\Владелец\Рабочий стол\Моя рабочая1\ермишко\49755.gif"/>
          <p:cNvPicPr/>
          <p:nvPr/>
        </p:nvPicPr>
        <p:blipFill>
          <a:blip r:embed="rId1"/>
          <a:stretch/>
        </p:blipFill>
        <p:spPr>
          <a:xfrm>
            <a:off x="5643720" y="3000240"/>
            <a:ext cx="271440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66"/>
                </a:solidFill>
                <a:latin typeface="Arial"/>
              </a:rPr>
              <a:t>Статистика – дизайн информа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3" descr="C:\Documents and Settings\Владелец\Рабочий стол\Моя рабочая1\ермишко\Рисунок80.wmf"/>
          <p:cNvPicPr/>
          <p:nvPr/>
        </p:nvPicPr>
        <p:blipFill>
          <a:blip r:embed="rId1"/>
          <a:stretch/>
        </p:blipFill>
        <p:spPr>
          <a:xfrm>
            <a:off x="3214800" y="4071960"/>
            <a:ext cx="2878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атистические характерист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Среднее арифметичес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Раз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М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Медиа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Относительная 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4" descr="C:\Documents and Settings\Владелец\Рабочий стол\Моя рабочая1\ермишко\12.gif"/>
          <p:cNvPicPr/>
          <p:nvPr/>
        </p:nvPicPr>
        <p:blipFill>
          <a:blip r:embed="rId8"/>
          <a:stretch/>
        </p:blipFill>
        <p:spPr>
          <a:xfrm>
            <a:off x="6286680" y="2541600"/>
            <a:ext cx="20714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реднее арифметическо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редним арифметическим ряда чисел называется частное от деления суммы этих чисел на число слагаем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C:\Documents and Settings\Владелец\Рабочий стол\Моя рабочая1\ермишко\9.gif"/>
          <p:cNvPicPr/>
          <p:nvPr/>
        </p:nvPicPr>
        <p:blipFill>
          <a:blip r:embed="rId1"/>
          <a:stretch/>
        </p:blipFill>
        <p:spPr>
          <a:xfrm>
            <a:off x="5929200" y="3214800"/>
            <a:ext cx="17128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мах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ом ряда чисел называется разность между наибольшим и наименьшим из этих чисе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: 37-18=1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C:\Documents and Settings\Владелец\Рабочий стол\Моя рабочая1\ермишко\1.gif"/>
          <p:cNvPicPr/>
          <p:nvPr/>
        </p:nvPicPr>
        <p:blipFill>
          <a:blip r:embed="rId1"/>
          <a:stretch/>
        </p:blipFill>
        <p:spPr>
          <a:xfrm>
            <a:off x="1357200" y="2660760"/>
            <a:ext cx="25718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а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дой ряда чисел называется число, наиболее часто встречающееся в данном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 flipV="1" rot="10800000">
            <a:off x="1042920" y="4364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да ряда: 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6" descr="C:\Documents and Settings\Владелец\Рабочий стол\Моя рабочая1\ермишко\50304.gif"/>
          <p:cNvPicPr/>
          <p:nvPr/>
        </p:nvPicPr>
        <p:blipFill>
          <a:blip r:embed="rId1"/>
          <a:stretch/>
        </p:blipFill>
        <p:spPr>
          <a:xfrm>
            <a:off x="5764320" y="2743200"/>
            <a:ext cx="17618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диа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упорядоченного ряда чисел с нечетным числом членом называется число, записанное посередине, а медианой упорядоченного ряда чисел с чётным числом членом называется среднее арифметическое двух чисел, записанных посереди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91,93. Медиана: 78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88,91,93. Медиана: (78+82):2=8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произвольного ряда чисел называется медиана соответствующего упорядоченного ряд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C:\Documents and Settings\Владелец\Рабочий стол\Моя рабочая1\ермишко\Рисунок123.gif"/>
          <p:cNvPicPr/>
          <p:nvPr/>
        </p:nvPicPr>
        <p:blipFill>
          <a:blip r:embed="rId1"/>
          <a:stretch/>
        </p:blipFill>
        <p:spPr>
          <a:xfrm>
            <a:off x="6715080" y="507204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астота – количество появлений числа в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4360" y="4300560"/>
          <a:ext cx="8208720" cy="1785960"/>
        </p:xfrm>
        <a:graphic>
          <a:graphicData uri="http://schemas.openxmlformats.org/drawingml/2006/table">
            <a:tbl>
              <a:tblPr/>
              <a:tblGrid>
                <a:gridCol w="1355400"/>
                <a:gridCol w="660600"/>
                <a:gridCol w="792000"/>
                <a:gridCol w="719280"/>
                <a:gridCol w="647640"/>
                <a:gridCol w="792360"/>
                <a:gridCol w="649080"/>
                <a:gridCol w="719280"/>
                <a:gridCol w="576360"/>
                <a:gridCol w="647640"/>
                <a:gridCol w="64908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асто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глядное представление частот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Object 4" descr=""/>
          <p:cNvPicPr/>
          <p:nvPr/>
        </p:nvPicPr>
        <p:blipFill>
          <a:blip r:embed="rId1"/>
          <a:stretch/>
        </p:blipFill>
        <p:spPr>
          <a:xfrm>
            <a:off x="227160" y="2362320"/>
            <a:ext cx="88056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23:16:43Z</dcterms:created>
  <dc:creator>Ермишко</dc:creator>
  <dc:description/>
  <dc:language>en-US</dc:language>
  <cp:lastModifiedBy>Admin</cp:lastModifiedBy>
  <dcterms:modified xsi:type="dcterms:W3CDTF">2011-04-30T05:03:23Z</dcterms:modified>
  <cp:revision>18</cp:revision>
  <dc:subject>Алгебра 8 класс</dc:subject>
  <dc:title>Наглядное представление статистической информ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70000000000010243100207f6000400038000</vt:lpwstr>
  </property>
</Properties>
</file>