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1098-09A8-47BB-A9A1-32F25C6D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CE2-2819-4C88-BA4A-63670763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D76-F0A0-4758-A8B2-27B9B15E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720-6CD7-4CF1-A4AA-E5C3AAF9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6FEE-FBB1-4378-9BAE-A2BD6170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A5E9-7A31-4460-A11C-27B2A287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0289-8D10-4E96-BAB1-4AF52720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DBAB-58CF-4898-8F07-79CF2DF5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8B0C-0409-4EAE-B77F-1DFC7657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A143-3509-44F0-A7E1-4062F76B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3EE4-7500-4D84-970C-F9B3AC5C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1BF9-BDB6-482C-B7D7-39931767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6A8E-8842-4CA5-9DF9-449B6387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BEA0-1863-47E8-85EF-12873260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A8EA-4500-4B2C-A8D8-E7258D54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CAA3-8C22-4603-909D-1EF450F2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CCE3-67CD-4601-AEA2-B120CB37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87D-8F47-4C40-A2D8-E959452F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0E4F-BFF8-4159-89AF-2FB41271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B43-3D16-4266-B4C3-B1990509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F5FE-14EE-4C67-9738-25B7C730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C8C6-70F5-40EA-AFEE-DC7E26B6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4F9-8B35-4CCF-8E43-698AB9D5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D5F-000A-423B-B5E6-14608C34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009D-8B3C-4512-B49A-775C865B778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DC96-0C79-43D4-A9ED-E4A958898FA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Наглядное представление статистической информации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357360"/>
            <a:ext cx="4013280" cy="13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Из опыта работы учителя математики МОУ СОШ №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гт Прогресс, Амурской обла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Ермишко Ольги Константиновн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929120" y="57150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носительная част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носительная частота – отношение частоты к общему числу данных в ряду, выраженное в процента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4300560"/>
          <a:ext cx="8126640" cy="1785960"/>
        </p:xfrm>
        <a:graphic>
          <a:graphicData uri="http://schemas.openxmlformats.org/drawingml/2006/table">
            <a:tbl>
              <a:tblPr/>
              <a:tblGrid>
                <a:gridCol w="1433520"/>
                <a:gridCol w="561960"/>
                <a:gridCol w="784440"/>
                <a:gridCol w="711000"/>
                <a:gridCol w="387360"/>
                <a:gridCol w="719280"/>
                <a:gridCol w="576360"/>
                <a:gridCol w="647640"/>
                <a:gridCol w="720720"/>
                <a:gridCol w="792000"/>
                <a:gridCol w="79236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носительная частота, 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зависимо от того, в какой отрасли знания получены числовые данные, они обладают определёнными свойствами, для выявления которых может потребоваться особого рода научный метод обработки. Последний известен как статистический метод или, короче, статисти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ж.Юл.М.Кендалл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Теория статистик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C:\Documents and Settings\Владелец\Рабочий стол\Моя рабочая1\ермишко\49755.gif"/>
          <p:cNvPicPr/>
          <p:nvPr/>
        </p:nvPicPr>
        <p:blipFill>
          <a:blip r:embed="rId1"/>
          <a:stretch/>
        </p:blipFill>
        <p:spPr>
          <a:xfrm>
            <a:off x="5643720" y="3000240"/>
            <a:ext cx="271440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66"/>
                </a:solidFill>
                <a:latin typeface="Arial"/>
              </a:rPr>
              <a:t>Статистика – дизайн информа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3" descr="C:\Documents and Settings\Владелец\Рабочий стол\Моя рабочая1\ермишко\Рисунок80.wmf"/>
          <p:cNvPicPr/>
          <p:nvPr/>
        </p:nvPicPr>
        <p:blipFill>
          <a:blip r:embed="rId1"/>
          <a:stretch/>
        </p:blipFill>
        <p:spPr>
          <a:xfrm>
            <a:off x="3214800" y="4071960"/>
            <a:ext cx="28782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атистические характерист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Среднее арифметичес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Разм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М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Медиа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Ча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Относительная ча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4" descr="C:\Documents and Settings\Владелец\Рабочий стол\Моя рабочая1\ермишко\12.gif"/>
          <p:cNvPicPr/>
          <p:nvPr/>
        </p:nvPicPr>
        <p:blipFill>
          <a:blip r:embed="rId8"/>
          <a:stretch/>
        </p:blipFill>
        <p:spPr>
          <a:xfrm>
            <a:off x="6286680" y="2541600"/>
            <a:ext cx="207144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реднее арифметическо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редним арифметическим ряда чисел называется частное от деления суммы этих чисел на число слагаем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C:\Documents and Settings\Владелец\Рабочий стол\Моя рабочая1\ермишко\9.gif"/>
          <p:cNvPicPr/>
          <p:nvPr/>
        </p:nvPicPr>
        <p:blipFill>
          <a:blip r:embed="rId1"/>
          <a:stretch/>
        </p:blipFill>
        <p:spPr>
          <a:xfrm>
            <a:off x="5929200" y="3214800"/>
            <a:ext cx="17128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мах ряда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махом ряда чисел называется разность между наибольшим и наименьшим из этих чисе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3,18,25,20,25,32,37,34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6,34,2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мах: 37-18=1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5" descr="C:\Documents and Settings\Владелец\Рабочий стол\Моя рабочая1\ермишко\1.gif"/>
          <p:cNvPicPr/>
          <p:nvPr/>
        </p:nvPicPr>
        <p:blipFill>
          <a:blip r:embed="rId1"/>
          <a:stretch/>
        </p:blipFill>
        <p:spPr>
          <a:xfrm>
            <a:off x="1357200" y="2660760"/>
            <a:ext cx="25718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а ряда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дой ряда чисел называется число, наиболее часто встречающееся в данном ря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 flipV="1" rot="10800000">
            <a:off x="1042920" y="436464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3,18,25,20,25,32,37,34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6,34,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да ряда: 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6" descr="C:\Documents and Settings\Владелец\Рабочий стол\Моя рабочая1\ермишко\50304.gif"/>
          <p:cNvPicPr/>
          <p:nvPr/>
        </p:nvPicPr>
        <p:blipFill>
          <a:blip r:embed="rId1"/>
          <a:stretch/>
        </p:blipFill>
        <p:spPr>
          <a:xfrm>
            <a:off x="5764320" y="2743200"/>
            <a:ext cx="17618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диа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аной упорядоченного ряда чисел с нечетным числом членом называется число, записанное посередине, а медианой упорядоченного ряда чисел с чётным числом членом называется среднее арифметическое двух чисел, записанных посереди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4,72,72,75,78,82,85,91,93. Медиана: 78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4,72,72,75,78,82,85,88,91,93. Медиана: (78+82):2=8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аной произвольного ряда чисел называется медиана соответствующего упорядоченного ряд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C:\Documents and Settings\Владелец\Рабочий стол\Моя рабочая1\ермишко\Рисунок123.gif"/>
          <p:cNvPicPr/>
          <p:nvPr/>
        </p:nvPicPr>
        <p:blipFill>
          <a:blip r:embed="rId1"/>
          <a:stretch/>
        </p:blipFill>
        <p:spPr>
          <a:xfrm>
            <a:off x="6715080" y="507204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аст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астота – количество появлений числа в ря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4360" y="4300560"/>
          <a:ext cx="8208720" cy="1785960"/>
        </p:xfrm>
        <a:graphic>
          <a:graphicData uri="http://schemas.openxmlformats.org/drawingml/2006/table">
            <a:tbl>
              <a:tblPr/>
              <a:tblGrid>
                <a:gridCol w="1355400"/>
                <a:gridCol w="660600"/>
                <a:gridCol w="792000"/>
                <a:gridCol w="719280"/>
                <a:gridCol w="647640"/>
                <a:gridCol w="792360"/>
                <a:gridCol w="649080"/>
                <a:gridCol w="719280"/>
                <a:gridCol w="576360"/>
                <a:gridCol w="647640"/>
                <a:gridCol w="64908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асто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глядное представление частот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Object 4" descr=""/>
          <p:cNvPicPr/>
          <p:nvPr/>
        </p:nvPicPr>
        <p:blipFill>
          <a:blip r:embed="rId1"/>
          <a:stretch/>
        </p:blipFill>
        <p:spPr>
          <a:xfrm>
            <a:off x="227160" y="2362320"/>
            <a:ext cx="880560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23:16:43Z</dcterms:created>
  <dc:creator>Ермишко</dc:creator>
  <dc:description/>
  <dc:language>en-US</dc:language>
  <cp:lastModifiedBy>Admin</cp:lastModifiedBy>
  <dcterms:modified xsi:type="dcterms:W3CDTF">2011-04-30T05:03:23Z</dcterms:modified>
  <cp:revision>18</cp:revision>
  <dc:subject>Алгебра 8 класс</dc:subject>
  <dc:title>Наглядное представление статистической информ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70000000000010243100207f6000400038000</vt:lpwstr>
  </property>
</Properties>
</file>