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EA4-7F76-41CE-AE1A-4D28C06C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E96-4241-449D-B67B-5349E828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69D-6C58-49AC-B997-6FF5C489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F71-5F26-40A4-BF30-D9BAD727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E66-E241-4C15-A651-36DAD330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604-6474-403F-9A75-E38E5157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864-C6A2-43E3-82E2-F304B7F4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416-5DC4-4DD3-BC71-B15097B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AC5-AE81-49B2-A1CE-77D26C0D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6F5-D21A-4669-A6F7-BE4F425D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718-2F7F-430A-8DE0-E6547141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870-4393-444E-A01F-AE6BFCA1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ED1B-448A-43C4-B633-9DA785B2B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Работу выполнила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Артамонова Лариса Владимировна -        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учитель математики первой квалификационной категории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ОУ «Москаленский лицей»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количество процентов выразить в виде десятичной дроби, надо это число раздел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 умнож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,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 125:100=1,25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125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* 0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,01= 1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ook14"/>
          <p:cNvPicPr/>
          <p:nvPr/>
        </p:nvPicPr>
        <p:blipFill>
          <a:blip r:embed="rId1"/>
          <a:stretch/>
        </p:blipFill>
        <p:spPr>
          <a:xfrm>
            <a:off x="539640" y="260280"/>
            <a:ext cx="171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шите в виде десятичной дроби проц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43%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56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7,2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ook14"/>
          <p:cNvPicPr/>
          <p:nvPr/>
        </p:nvPicPr>
        <p:blipFill>
          <a:blip r:embed="rId1"/>
          <a:stretch/>
        </p:blipFill>
        <p:spPr>
          <a:xfrm>
            <a:off x="324000" y="189000"/>
            <a:ext cx="1303200" cy="136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692360" y="2060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,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47640" y="314172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19280" y="40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пчёлка"/>
          <p:cNvPicPr/>
          <p:nvPr/>
        </p:nvPicPr>
        <p:blipFill>
          <a:blip r:embed="rId2"/>
          <a:stretch/>
        </p:blipFill>
        <p:spPr>
          <a:xfrm>
            <a:off x="5796000" y="342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3492360" y="3284640"/>
            <a:ext cx="2303640" cy="1873080"/>
          </a:xfrm>
          <a:prstGeom prst="wedgeEllipseCallout">
            <a:avLst>
              <a:gd name="adj1" fmla="val 6337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5128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записать дробь в виде процентов, надо умножить её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7 = 0,7 * 100% =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45 = 0,45 * 100% =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43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39640" y="184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9640" y="2060640"/>
            <a:ext cx="806472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шите в процентах десятичные дроб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8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1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0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2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050920" y="335772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050920" y="335772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908000" y="3933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835280" y="3141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908000" y="4653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908000" y="54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пчёлка"/>
          <p:cNvPicPr/>
          <p:nvPr/>
        </p:nvPicPr>
        <p:blipFill>
          <a:blip r:embed="rId2"/>
          <a:stretch/>
        </p:blipFill>
        <p:spPr>
          <a:xfrm>
            <a:off x="6084720" y="3357720"/>
            <a:ext cx="2214720" cy="2912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4"/>
          <p:cNvSpPr/>
          <p:nvPr/>
        </p:nvSpPr>
        <p:spPr>
          <a:xfrm>
            <a:off x="3132000" y="3645000"/>
            <a:ext cx="2448000" cy="1800000"/>
          </a:xfrm>
          <a:prstGeom prst="wedgeEllipseCallout">
            <a:avLst>
              <a:gd name="adj1" fmla="val 83398"/>
              <a:gd name="adj2" fmla="val -11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419640" y="4005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акое из равенств вер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% = 0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%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% =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3492360" y="263700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Как записать десятичной дробью 5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0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0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3419640" y="522936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Как  записать десятичной дробью 120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20% = 1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20% =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20% = 1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20% 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3492360" y="350028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24000" y="1600200"/>
          <a:ext cx="8362800" cy="472752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есятичная 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ц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Line 31"/>
          <p:cNvSpPr/>
          <p:nvPr/>
        </p:nvSpPr>
        <p:spPr>
          <a:xfrm>
            <a:off x="3203640" y="21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3276720" y="2276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 каким новым понятием мы познакомились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такое "процент"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 его най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де используется процен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еодолели мы возникшие труд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ему научили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м образом проценты перевести в дробь и наоборо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цените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6421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расширить  представл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учащихся о возможност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записи чисел в различ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эквивалентных форм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ввести понятие проц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68360" y="333360"/>
            <a:ext cx="47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0920" y="501336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и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формировать умения перевода десятичных дробей в проценты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002"/>
          <p:cNvPicPr/>
          <p:nvPr/>
        </p:nvPicPr>
        <p:blipFill>
          <a:blip r:embed="rId1"/>
          <a:stretch/>
        </p:blipFill>
        <p:spPr>
          <a:xfrm>
            <a:off x="611280" y="2637000"/>
            <a:ext cx="172728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5 *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+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- 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Line 5"/>
          <p:cNvSpPr/>
          <p:nvPr/>
        </p:nvSpPr>
        <p:spPr>
          <a:xfrm>
            <a:off x="1332000" y="4365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427640" y="1916280"/>
            <a:ext cx="439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ЫРАЗИ В САНТИМЕ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,23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62,5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32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5092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2109600"/>
                <a:gridCol w="2108160"/>
                <a:gridCol w="2109960"/>
                <a:gridCol w="21081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ислит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наменат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38"/>
          <p:cNvSpPr/>
          <p:nvPr/>
        </p:nvSpPr>
        <p:spPr>
          <a:xfrm>
            <a:off x="529272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брый день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чёлка"/>
          <p:cNvPicPr/>
          <p:nvPr/>
        </p:nvPicPr>
        <p:blipFill>
          <a:blip r:embed="rId1"/>
          <a:stretch/>
        </p:blipFill>
        <p:spPr>
          <a:xfrm>
            <a:off x="6877080" y="260280"/>
            <a:ext cx="202392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39640" y="148428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недавно узнала, что слово </a:t>
            </a:r>
            <a:r>
              <a:rPr b="1" i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роцент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означает «сотая част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только не поняла, сотая часть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book14"/>
          <p:cNvPicPr/>
          <p:nvPr/>
        </p:nvPicPr>
        <p:blipFill>
          <a:blip r:embed="rId2"/>
          <a:stretch/>
        </p:blipFill>
        <p:spPr>
          <a:xfrm>
            <a:off x="539640" y="4653000"/>
            <a:ext cx="178272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2484360" y="3284640"/>
            <a:ext cx="5975280" cy="2305080"/>
          </a:xfrm>
          <a:prstGeom prst="wedgeRectCallout">
            <a:avLst>
              <a:gd name="adj1" fmla="val -57120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84360" y="3284640"/>
            <a:ext cx="583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оцент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сотая часть любой величины: пути, массы, площади, количества объёма… Придумана даже специальная запись (символ, обозначение) слова «процент» 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0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1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ook14"/>
          <p:cNvPicPr/>
          <p:nvPr/>
        </p:nvPicPr>
        <p:blipFill>
          <a:blip r:embed="rId1"/>
          <a:stretch/>
        </p:blipFill>
        <p:spPr>
          <a:xfrm>
            <a:off x="324000" y="76500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3132000" y="260280"/>
            <a:ext cx="4535640" cy="2808360"/>
          </a:xfrm>
          <a:prstGeom prst="wedgeRoundRectCallout">
            <a:avLst>
              <a:gd name="adj1" fmla="val -83111"/>
              <a:gd name="adj2" fmla="val -1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19640" y="62064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% (п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% (дес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0% (сто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8"/>
          <p:cNvSpPr/>
          <p:nvPr/>
        </p:nvSpPr>
        <p:spPr>
          <a:xfrm>
            <a:off x="684360" y="3357720"/>
            <a:ext cx="4751280" cy="3095640"/>
          </a:xfrm>
          <a:prstGeom prst="wedgeEllipseCallout">
            <a:avLst>
              <a:gd name="adj1" fmla="val 76361"/>
              <a:gd name="adj2" fmla="val 5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332000" y="3789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187280" y="386064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 зачем мне , например, знать сотую часть моего веса? Зачем вообще нужны проц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2340000" y="260280"/>
            <a:ext cx="6480000" cy="3600360"/>
          </a:xfrm>
          <a:prstGeom prst="wedgeRoundRectCallout">
            <a:avLst>
              <a:gd name="adj1" fmla="val -61268"/>
              <a:gd name="adj2" fmla="val -7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843280" y="476280"/>
            <a:ext cx="540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мощью процентов можно выразить отношение между двумя величинами: частью и целым.  Например, можно узнать в процентах количество выполненной работы, пройденного пути, почитанных страниц книги, сахара в варенье, соли в морской воде. Удобно то, что мы имеем дело не с дробями, а с целыми числами, хотя речь идёт о той же велич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8"/>
          <p:cNvSpPr/>
          <p:nvPr/>
        </p:nvSpPr>
        <p:spPr>
          <a:xfrm>
            <a:off x="1692360" y="4076640"/>
            <a:ext cx="4608360" cy="2521080"/>
          </a:xfrm>
          <a:prstGeom prst="wedgeEllipseCallout">
            <a:avLst>
              <a:gd name="adj1" fmla="val 66671"/>
              <a:gd name="adj2" fmla="val 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00360" y="443700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совсем ничего не поняла. Сначала приведи мне пример, что такое проц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ook14"/>
          <p:cNvPicPr/>
          <p:nvPr/>
        </p:nvPicPr>
        <p:blipFill>
          <a:blip r:embed="rId1"/>
          <a:stretch/>
        </p:blipFill>
        <p:spPr>
          <a:xfrm>
            <a:off x="6948360" y="333360"/>
            <a:ext cx="171468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5"/>
          <p:cNvSpPr/>
          <p:nvPr/>
        </p:nvSpPr>
        <p:spPr>
          <a:xfrm>
            <a:off x="1116000" y="404640"/>
            <a:ext cx="4896000" cy="1152720"/>
          </a:xfrm>
          <a:prstGeom prst="wedgeRoundRectCallout">
            <a:avLst>
              <a:gd name="adj1" fmla="val 72180"/>
              <a:gd name="adj2" fmla="val 13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619280" y="620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ай вместе решим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J0232884"/>
          <p:cNvPicPr/>
          <p:nvPr/>
        </p:nvPicPr>
        <p:blipFill>
          <a:blip r:embed="rId2"/>
          <a:stretch/>
        </p:blipFill>
        <p:spPr>
          <a:xfrm>
            <a:off x="395280" y="1557360"/>
            <a:ext cx="1330200" cy="15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34067"/>
          <p:cNvPicPr/>
          <p:nvPr/>
        </p:nvPicPr>
        <p:blipFill>
          <a:blip r:embed="rId3"/>
          <a:stretch/>
        </p:blipFill>
        <p:spPr>
          <a:xfrm>
            <a:off x="6948360" y="1700280"/>
            <a:ext cx="1594080" cy="2305080"/>
          </a:xfrm>
          <a:prstGeom prst="rect">
            <a:avLst/>
          </a:prstGeom>
          <a:ln w="0">
            <a:noFill/>
          </a:ln>
        </p:spPr>
      </p:pic>
      <p:sp>
        <p:nvSpPr>
          <p:cNvPr id="79" name="Line 9"/>
          <p:cNvSpPr/>
          <p:nvPr/>
        </p:nvSpPr>
        <p:spPr>
          <a:xfrm>
            <a:off x="1763640" y="306864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635280" y="2060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16200000">
            <a:off x="2694960" y="2426400"/>
            <a:ext cx="730080" cy="2735280"/>
          </a:xfrm>
          <a:custGeom>
            <a:avLst/>
            <a:gdLst>
              <a:gd name="textAreaLeft" fmla="*/ 466560 w 730080"/>
              <a:gd name="textAreaRight" fmla="*/ 730440 w 73008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908000" y="40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ремя 1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755640" y="479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есь путь принимаем за 100%, значит на 1% приходится 1 м. А на 35% - 35 м. Значит она прошла 35м, а оста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5087E-006 L 0.28004 0.00047 E">
                                      <p:cBhvr>
                                        <p:cTn id="122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пчёлка"/>
          <p:cNvPicPr/>
          <p:nvPr/>
        </p:nvPicPr>
        <p:blipFill>
          <a:blip r:embed="rId1"/>
          <a:stretch/>
        </p:blipFill>
        <p:spPr>
          <a:xfrm>
            <a:off x="6659640" y="18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116000" y="333360"/>
            <a:ext cx="5256360" cy="2016000"/>
          </a:xfrm>
          <a:prstGeom prst="wedgeEllipseCallout">
            <a:avLst>
              <a:gd name="adj1" fmla="val 63078"/>
              <a:gd name="adj2" fmla="val 12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47640" y="692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не поняла, почему мы принимаем весь путь за 100%, а не, допустим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ook14"/>
          <p:cNvPicPr/>
          <p:nvPr/>
        </p:nvPicPr>
        <p:blipFill>
          <a:blip r:embed="rId2"/>
          <a:stretch/>
        </p:blipFill>
        <p:spPr>
          <a:xfrm>
            <a:off x="395280" y="242100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2627280" y="3141720"/>
            <a:ext cx="5616720" cy="2663640"/>
          </a:xfrm>
          <a:prstGeom prst="wedgeRoundRectCallout">
            <a:avLst>
              <a:gd name="adj1" fmla="val -62097"/>
              <a:gd name="adj2" fmla="val -476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132000" y="3357720"/>
            <a:ext cx="4680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ы же сама говорила, что процент – это сотая часть. А раз 1% - это сотая часть, значит вся величина 10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1:28:10Z</dcterms:created>
  <dc:creator>Admin</dc:creator>
  <dc:description/>
  <dc:language>en-US</dc:language>
  <cp:lastModifiedBy>User</cp:lastModifiedBy>
  <dcterms:modified xsi:type="dcterms:W3CDTF">2012-03-13T13:06:52Z</dcterms:modified>
  <cp:revision>17</cp:revision>
  <dc:subject/>
  <dc:title>процен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80000000000010250300207f7000400038000</vt:lpwstr>
  </property>
</Properties>
</file>