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3F6-532B-424F-BB3B-893AC015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4C7-30D5-4489-8A60-5C7AE59E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641-372E-45F5-937B-08D9BFB2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419-6E1B-4E02-A147-9C83E4C8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B96-D167-4CE1-876D-1642C5BC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40E-C05C-4AB8-8C9D-5A97C8F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5C1-8A5E-40DC-8B62-F3DCD2A9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4E5-5F73-434B-AE00-D1F36CE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878-D703-4301-A14B-8422C9D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7B4-65AE-493E-8750-3636D07B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087-A607-4DEE-8977-F1D5A7E6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A3C-D0DC-40AF-97A7-95C8D2C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7728-327F-49EA-8F04-D23C8A54B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боту выполнила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Артамонова Лариса Владимировна -        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учитель математики первой квалификационной категории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МОУ «Москаленский лицей»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м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количество процентов выразить в виде десятичной дроби, надо это число раздел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умножить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0,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 125:100=1,25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25%=125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* 0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,01= 1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book14"/>
          <p:cNvPicPr/>
          <p:nvPr/>
        </p:nvPicPr>
        <p:blipFill>
          <a:blip r:embed="rId1"/>
          <a:stretch/>
        </p:blipFill>
        <p:spPr>
          <a:xfrm>
            <a:off x="539640" y="260280"/>
            <a:ext cx="171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пишите в виде десятичной дроби проц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43%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56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7,2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book14"/>
          <p:cNvPicPr/>
          <p:nvPr/>
        </p:nvPicPr>
        <p:blipFill>
          <a:blip r:embed="rId1"/>
          <a:stretch/>
        </p:blipFill>
        <p:spPr>
          <a:xfrm>
            <a:off x="324000" y="189000"/>
            <a:ext cx="1303200" cy="136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692360" y="2060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47640" y="314172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0,0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пчёлка"/>
          <p:cNvPicPr/>
          <p:nvPr/>
        </p:nvPicPr>
        <p:blipFill>
          <a:blip r:embed="rId2"/>
          <a:stretch/>
        </p:blipFill>
        <p:spPr>
          <a:xfrm>
            <a:off x="5796000" y="342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9"/>
          <p:cNvSpPr/>
          <p:nvPr/>
        </p:nvSpPr>
        <p:spPr>
          <a:xfrm>
            <a:off x="3492360" y="3284640"/>
            <a:ext cx="2303640" cy="1873080"/>
          </a:xfrm>
          <a:prstGeom prst="wedgeEllipseCallout">
            <a:avLst>
              <a:gd name="adj1" fmla="val 6337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51280" y="36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бы записать дробь в виде процентов, надо умножить её н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при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7 = 0,7 * 100% = 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45 = 0,45 * 100% =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и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539640" y="184464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9640" y="2060640"/>
            <a:ext cx="8064720" cy="39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шите в процентах десятичные дроб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8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1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0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050920" y="335772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2050920" y="335772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90800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835280" y="3141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908000" y="4653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908000" y="54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пчёлка"/>
          <p:cNvPicPr/>
          <p:nvPr/>
        </p:nvPicPr>
        <p:blipFill>
          <a:blip r:embed="rId2"/>
          <a:stretch/>
        </p:blipFill>
        <p:spPr>
          <a:xfrm>
            <a:off x="6084720" y="3357720"/>
            <a:ext cx="2214720" cy="2912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4"/>
          <p:cNvSpPr/>
          <p:nvPr/>
        </p:nvSpPr>
        <p:spPr>
          <a:xfrm>
            <a:off x="3132000" y="3645000"/>
            <a:ext cx="2448000" cy="1800000"/>
          </a:xfrm>
          <a:prstGeom prst="wedgeEllipseCallout">
            <a:avLst>
              <a:gd name="adj1" fmla="val 83398"/>
              <a:gd name="adj2" fmla="val -1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419640" y="4005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Какое из равенств вер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% = 0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%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% =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/>
          <p:cNvSpPr/>
          <p:nvPr/>
        </p:nvSpPr>
        <p:spPr>
          <a:xfrm>
            <a:off x="3492360" y="263700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2. Как записать десятичной дробью 5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3419640" y="522936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3. Как  записать десятичной дробью 120%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) 120% = 1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) 120% = 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) 120% = 1,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)  120% 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3492360" y="350028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33812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4000" y="1600200"/>
          <a:ext cx="8362800" cy="4727520"/>
        </p:xfrm>
        <a:graphic>
          <a:graphicData uri="http://schemas.openxmlformats.org/drawingml/2006/table">
            <a:tbl>
              <a:tblPr/>
              <a:tblGrid>
                <a:gridCol w="2090520"/>
                <a:gridCol w="2090880"/>
                <a:gridCol w="2090520"/>
                <a:gridCol w="20908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Десятичная 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59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Line 31"/>
          <p:cNvSpPr/>
          <p:nvPr/>
        </p:nvSpPr>
        <p:spPr>
          <a:xfrm>
            <a:off x="3203640" y="21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276720" y="2276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каким новым понятием мы познакомились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то такое "процент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 его най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де используется процен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еодолели мы возникшие труд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му научилис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аким образом проценты перевести в дробь и наоборо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цените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1599840"/>
            <a:ext cx="864216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ль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расширить  представл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учащихся о возможност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записи чисел в различ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эквивалентных форм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ввести понятие проц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68360" y="333360"/>
            <a:ext cx="47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0920" y="501336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чи урока: </a:t>
            </a: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ировать умения перевода десятичных дробей в проценты и наобо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002"/>
          <p:cNvPicPr/>
          <p:nvPr/>
        </p:nvPicPr>
        <p:blipFill>
          <a:blip r:embed="rId1"/>
          <a:stretch/>
        </p:blipFill>
        <p:spPr>
          <a:xfrm>
            <a:off x="611280" y="2637000"/>
            <a:ext cx="172728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0,5 *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+ 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- 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Line 5"/>
          <p:cNvSpPr/>
          <p:nvPr/>
        </p:nvSpPr>
        <p:spPr>
          <a:xfrm>
            <a:off x="1332000" y="4365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427640" y="1916280"/>
            <a:ext cx="43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ЫРАЗИ В САНТИМЕ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,23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62,5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М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1,32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М  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ook14"/>
          <p:cNvPicPr/>
          <p:nvPr/>
        </p:nvPicPr>
        <p:blipFill>
          <a:blip r:embed="rId1"/>
          <a:stretch/>
        </p:blipFill>
        <p:spPr>
          <a:xfrm>
            <a:off x="250920" y="0"/>
            <a:ext cx="171432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5092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09600"/>
                <a:gridCol w="2108160"/>
                <a:gridCol w="2109960"/>
                <a:gridCol w="21081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ислите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намена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Обыкновен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38"/>
          <p:cNvSpPr/>
          <p:nvPr/>
        </p:nvSpPr>
        <p:spPr>
          <a:xfrm>
            <a:off x="529272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брый день, 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чёлка"/>
          <p:cNvPicPr/>
          <p:nvPr/>
        </p:nvPicPr>
        <p:blipFill>
          <a:blip r:embed="rId1"/>
          <a:stretch/>
        </p:blipFill>
        <p:spPr>
          <a:xfrm>
            <a:off x="6877080" y="260280"/>
            <a:ext cx="202392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39640" y="148428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недавно узнала, что слово </a:t>
            </a:r>
            <a:r>
              <a:rPr b="1" i="1" lang="ru-RU" sz="2800" spc="-1" strike="noStrike" u="sng">
                <a:solidFill>
                  <a:srgbClr val="003300"/>
                </a:solidFill>
                <a:uFillTx/>
                <a:latin typeface="Arial"/>
              </a:rPr>
              <a:t>процент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означает «сотая ча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 только не поняла, сотая часть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book14"/>
          <p:cNvPicPr/>
          <p:nvPr/>
        </p:nvPicPr>
        <p:blipFill>
          <a:blip r:embed="rId2"/>
          <a:stretch/>
        </p:blipFill>
        <p:spPr>
          <a:xfrm>
            <a:off x="539640" y="465300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7"/>
          <p:cNvSpPr/>
          <p:nvPr/>
        </p:nvSpPr>
        <p:spPr>
          <a:xfrm>
            <a:off x="2484360" y="3284640"/>
            <a:ext cx="5975280" cy="2305080"/>
          </a:xfrm>
          <a:prstGeom prst="wedgeRectCallout">
            <a:avLst>
              <a:gd name="adj1" fmla="val -57120"/>
              <a:gd name="adj2" fmla="val 4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4360" y="3284640"/>
            <a:ext cx="5832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цент –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сотая часть любой величины: пути, массы, площади, количества объёма… Придумана даже специальная запись (символ, обозначение) слова «процент» 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1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ook14"/>
          <p:cNvPicPr/>
          <p:nvPr/>
        </p:nvPicPr>
        <p:blipFill>
          <a:blip r:embed="rId1"/>
          <a:stretch/>
        </p:blipFill>
        <p:spPr>
          <a:xfrm>
            <a:off x="324000" y="76500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3132000" y="260280"/>
            <a:ext cx="4535640" cy="2808360"/>
          </a:xfrm>
          <a:prstGeom prst="wedgeRoundRectCallout">
            <a:avLst>
              <a:gd name="adj1" fmla="val -83111"/>
              <a:gd name="adj2" fmla="val -1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19640" y="620640"/>
            <a:ext cx="403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% (п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% (десять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0% (сто проц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8"/>
          <p:cNvSpPr/>
          <p:nvPr/>
        </p:nvSpPr>
        <p:spPr>
          <a:xfrm>
            <a:off x="684360" y="3357720"/>
            <a:ext cx="4751280" cy="3095640"/>
          </a:xfrm>
          <a:prstGeom prst="wedgeEllipseCallout">
            <a:avLst>
              <a:gd name="adj1" fmla="val 76361"/>
              <a:gd name="adj2" fmla="val 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332000" y="3789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187280" y="386064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А зачем мне , например, знать сотую часть моего веса? Зачем вообще нужны процен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ook14"/>
          <p:cNvPicPr/>
          <p:nvPr/>
        </p:nvPicPr>
        <p:blipFill>
          <a:blip r:embed="rId1"/>
          <a:stretch/>
        </p:blipFill>
        <p:spPr>
          <a:xfrm>
            <a:off x="250920" y="260280"/>
            <a:ext cx="1714320" cy="1800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2340000" y="260280"/>
            <a:ext cx="6480000" cy="3600360"/>
          </a:xfrm>
          <a:prstGeom prst="wedgeRoundRectCallout">
            <a:avLst>
              <a:gd name="adj1" fmla="val -61268"/>
              <a:gd name="adj2" fmla="val -7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843280" y="476280"/>
            <a:ext cx="540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помощью процентов можно выразить отношение между двумя величинами: частью и целым.  Например, можно узнать в процентах количество выполненной работы, пройденного пути, почитанных страниц книги, сахара в варенье, соли в морской воде. Удобно то, что мы имеем дело не с дробями, а с целыми числами, хотя речь идёт о той же велич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пчёлка"/>
          <p:cNvPicPr/>
          <p:nvPr/>
        </p:nvPicPr>
        <p:blipFill>
          <a:blip r:embed="rId2"/>
          <a:stretch/>
        </p:blipFill>
        <p:spPr>
          <a:xfrm>
            <a:off x="6732720" y="3573360"/>
            <a:ext cx="1860480" cy="244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8"/>
          <p:cNvSpPr/>
          <p:nvPr/>
        </p:nvSpPr>
        <p:spPr>
          <a:xfrm>
            <a:off x="1692360" y="4076640"/>
            <a:ext cx="4608360" cy="2521080"/>
          </a:xfrm>
          <a:prstGeom prst="wedgeEllipseCallout">
            <a:avLst>
              <a:gd name="adj1" fmla="val 66671"/>
              <a:gd name="adj2" fmla="val 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2700360" y="4437000"/>
            <a:ext cx="30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совсем ничего не поняла. Сначала приведи мне пример, что такое проц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14"/>
          <p:cNvPicPr/>
          <p:nvPr/>
        </p:nvPicPr>
        <p:blipFill>
          <a:blip r:embed="rId1"/>
          <a:stretch/>
        </p:blipFill>
        <p:spPr>
          <a:xfrm>
            <a:off x="6948360" y="333360"/>
            <a:ext cx="17146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1116000" y="404640"/>
            <a:ext cx="4896000" cy="1152720"/>
          </a:xfrm>
          <a:prstGeom prst="wedgeRoundRectCallout">
            <a:avLst>
              <a:gd name="adj1" fmla="val 72180"/>
              <a:gd name="adj2" fmla="val 1377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619280" y="620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вай вместе решим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J0232884"/>
          <p:cNvPicPr/>
          <p:nvPr/>
        </p:nvPicPr>
        <p:blipFill>
          <a:blip r:embed="rId2"/>
          <a:stretch/>
        </p:blipFill>
        <p:spPr>
          <a:xfrm>
            <a:off x="395280" y="1557360"/>
            <a:ext cx="1330200" cy="15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34067"/>
          <p:cNvPicPr/>
          <p:nvPr/>
        </p:nvPicPr>
        <p:blipFill>
          <a:blip r:embed="rId3"/>
          <a:stretch/>
        </p:blipFill>
        <p:spPr>
          <a:xfrm>
            <a:off x="6948360" y="1700280"/>
            <a:ext cx="159408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Line 9"/>
          <p:cNvSpPr/>
          <p:nvPr/>
        </p:nvSpPr>
        <p:spPr>
          <a:xfrm>
            <a:off x="1763640" y="3068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635280" y="206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1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6200000">
            <a:off x="2694960" y="2426400"/>
            <a:ext cx="730080" cy="2735280"/>
          </a:xfrm>
          <a:custGeom>
            <a:avLst/>
            <a:gdLst>
              <a:gd name="textAreaLeft" fmla="*/ 466560 w 730080"/>
              <a:gd name="textAreaRight" fmla="*/ 730440 w 73008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90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ремя 1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55640" y="4797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Весь путь принимаем за 100%, значит на 1% приходится 1 м. А на 35% - 35 м. Значит она прошла 35м, а оста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45087E-006 L 0.28004 0.00047 E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пчёлка"/>
          <p:cNvPicPr/>
          <p:nvPr/>
        </p:nvPicPr>
        <p:blipFill>
          <a:blip r:embed="rId1"/>
          <a:stretch/>
        </p:blipFill>
        <p:spPr>
          <a:xfrm>
            <a:off x="6659640" y="189000"/>
            <a:ext cx="2214360" cy="29131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16000" y="333360"/>
            <a:ext cx="5256360" cy="2016000"/>
          </a:xfrm>
          <a:prstGeom prst="wedgeEllipseCallout">
            <a:avLst>
              <a:gd name="adj1" fmla="val 63078"/>
              <a:gd name="adj2" fmla="val 12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547640" y="692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Я не поняла, почему мы принимаем весь путь за 100%, а не, допустим 6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ook14"/>
          <p:cNvPicPr/>
          <p:nvPr/>
        </p:nvPicPr>
        <p:blipFill>
          <a:blip r:embed="rId2"/>
          <a:stretch/>
        </p:blipFill>
        <p:spPr>
          <a:xfrm>
            <a:off x="395280" y="2421000"/>
            <a:ext cx="1714680" cy="1800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2627280" y="3141720"/>
            <a:ext cx="5616720" cy="2663640"/>
          </a:xfrm>
          <a:prstGeom prst="wedgeRoundRectCallout">
            <a:avLst>
              <a:gd name="adj1" fmla="val -62097"/>
              <a:gd name="adj2" fmla="val -4761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132000" y="3357720"/>
            <a:ext cx="468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ы же сама говорила, что процент – это сотая часть. А раз 1% - это сотая часть, значит вся величина 10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% =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1:28:10Z</dcterms:created>
  <dc:creator>Admin</dc:creator>
  <dc:description/>
  <dc:language>en-US</dc:language>
  <cp:lastModifiedBy>User</cp:lastModifiedBy>
  <dcterms:modified xsi:type="dcterms:W3CDTF">2012-03-13T13:06:52Z</dcterms:modified>
  <cp:revision>17</cp:revision>
  <dc:subject/>
  <dc:title>процен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080000000000010250300207f7000400038000</vt:lpwstr>
  </property>
</Properties>
</file>