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2A85-E03C-41EF-A66B-06D4B651C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B046-2491-4E47-8B78-E6786C62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60D8-D7C4-4CA6-87A3-16229F890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2FF0-FE20-4513-A508-2E84F238A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FEFB6-BBC3-42FB-88AA-C1F3ED281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875E-F434-4199-B421-EB683679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B3FB-F9AE-4DEE-936A-B66A714B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8747-5EE0-415F-8B9A-7074AD69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17F3-1135-4732-911D-D07F1F56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C7753-E5CB-430B-B6F7-4708F7C3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7E04-0803-4A19-B7A9-A7D95FA9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AFE0-3293-4A9E-A089-08950ECE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0DABE-D502-4CF7-8B24-51E7300D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9958-42B6-4668-92E8-0E45DEAB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8DB9-90D5-45D1-AC25-43511950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CAEA-DF86-493A-AF7E-C608E6C47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4044-7AD0-4FCA-A239-6017B3B03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23DF-0141-485C-8B3F-27208C09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C5D1-A016-4A62-890F-2B4E3CB6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53F3-5F80-4976-873D-970D4D96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26CC-68DB-4BF6-85CE-73D7DECB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FA0F-C683-4250-883D-368B6D95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0222-F041-4174-8478-771DDE7C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B46F-DF78-48CE-A509-F41F3696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9A72-AAEB-485E-AC46-188D6A4DF9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1E82-DB51-4C3A-A77D-1DB0822ADC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Comic Sans MS"/>
              </a:rPr>
              <a:t>ДОБРЫЙ ДЕНЬ 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98600" y="254160"/>
            <a:ext cx="598320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ВИДЫ ПИРАМИ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1368360" cy="939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4" name=""/>
          <p:cNvGraphicFramePr/>
          <p:nvPr/>
        </p:nvGraphicFramePr>
        <p:xfrm>
          <a:off x="755640" y="1557360"/>
          <a:ext cx="647280" cy="4484520"/>
        </p:xfrm>
        <a:graphic>
          <a:graphicData uri="http://schemas.openxmlformats.org/drawingml/2006/table">
            <a:tbl>
              <a:tblPr/>
              <a:tblGrid>
                <a:gridCol w="647280"/>
              </a:tblGrid>
              <a:tr h="44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ПИРАМИД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335" name=""/>
          <p:cNvSpPr/>
          <p:nvPr/>
        </p:nvSpPr>
        <p:spPr>
          <a:xfrm>
            <a:off x="755640" y="1557360"/>
            <a:ext cx="0" cy="44640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03280" y="1557360"/>
            <a:ext cx="0" cy="44640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55640" y="1557360"/>
            <a:ext cx="6476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55640" y="6021360"/>
            <a:ext cx="6476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43480" y="2060640"/>
            <a:ext cx="396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Неправильная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пирами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29600" y="4437000"/>
            <a:ext cx="36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Правильная пирамида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6299280" y="1411200"/>
          <a:ext cx="2087640" cy="2160720"/>
        </p:xfrm>
        <a:graphic>
          <a:graphicData uri="http://schemas.openxmlformats.org/drawingml/2006/table">
            <a:tbl>
              <a:tblPr/>
              <a:tblGrid>
                <a:gridCol w="2087640"/>
              </a:tblGrid>
              <a:tr h="21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999ff"/>
                      </a:solidFill>
                    </a:lnL>
                    <a:lnR w="18720">
                      <a:solidFill>
                        <a:srgbClr val="9999ff"/>
                      </a:solidFill>
                    </a:lnR>
                    <a:lnT w="18720">
                      <a:solidFill>
                        <a:srgbClr val="9999ff"/>
                      </a:solidFill>
                    </a:lnT>
                    <a:lnB w="18720">
                      <a:solidFill>
                        <a:srgbClr val="9999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342" name=""/>
          <p:cNvSpPr/>
          <p:nvPr/>
        </p:nvSpPr>
        <p:spPr>
          <a:xfrm flipV="1">
            <a:off x="6442200" y="2492280"/>
            <a:ext cx="722160" cy="790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164360" y="2492280"/>
            <a:ext cx="1006560" cy="21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42200" y="3282840"/>
            <a:ext cx="12240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7666200" y="2708280"/>
            <a:ext cx="504720" cy="57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7164360" y="1627200"/>
            <a:ext cx="287280" cy="865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442200" y="1627200"/>
            <a:ext cx="1009440" cy="165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451640" y="1627200"/>
            <a:ext cx="214560" cy="165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451640" y="1627200"/>
            <a:ext cx="719280" cy="10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7451640" y="1700280"/>
            <a:ext cx="1800" cy="1295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1403280" y="2492280"/>
            <a:ext cx="1368360" cy="115416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403280" y="3645000"/>
            <a:ext cx="1584360" cy="86364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300720" y="3716280"/>
          <a:ext cx="2087640" cy="2160720"/>
        </p:xfrm>
        <a:graphic>
          <a:graphicData uri="http://schemas.openxmlformats.org/drawingml/2006/table">
            <a:tbl>
              <a:tblPr/>
              <a:tblGrid>
                <a:gridCol w="2087640"/>
              </a:tblGrid>
              <a:tr h="21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999ff"/>
                      </a:solidFill>
                    </a:lnL>
                    <a:lnR w="18720">
                      <a:solidFill>
                        <a:srgbClr val="9999ff"/>
                      </a:solidFill>
                    </a:lnR>
                    <a:lnT w="18720">
                      <a:solidFill>
                        <a:srgbClr val="9999ff"/>
                      </a:solidFill>
                    </a:lnT>
                    <a:lnB w="18720">
                      <a:solidFill>
                        <a:srgbClr val="9999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354" name=""/>
          <p:cNvSpPr/>
          <p:nvPr/>
        </p:nvSpPr>
        <p:spPr>
          <a:xfrm flipV="1">
            <a:off x="6515280" y="4869000"/>
            <a:ext cx="504720" cy="574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020000" y="486900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515280" y="5443560"/>
            <a:ext cx="122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7740720" y="4869000"/>
            <a:ext cx="504720" cy="57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7019640" y="3860640"/>
            <a:ext cx="360360" cy="1008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6514920" y="3860640"/>
            <a:ext cx="865080" cy="15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380360" y="3860640"/>
            <a:ext cx="358560" cy="15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380360" y="3860640"/>
            <a:ext cx="863640" cy="10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6516720" y="4869000"/>
            <a:ext cx="1728720" cy="574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020000" y="4869000"/>
            <a:ext cx="718920" cy="574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7380360" y="386028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77080" y="49417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451640" y="479736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956720" y="508464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236000" y="53737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0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8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1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4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7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0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9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0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1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2840"/>
                            </p:stCondLst>
                            <p:childTnLst>
                              <p:par>
                                <p:cTn id="10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8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1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4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7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0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3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6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9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2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4840"/>
                            </p:stCondLst>
                            <p:childTnLst>
                              <p:par>
                                <p:cTn id="10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6840"/>
                            </p:stCondLst>
                            <p:childTnLst>
                              <p:par>
                                <p:cTn id="10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0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1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2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7600"/>
                            </p:stCondLst>
                            <p:childTnLst>
                              <p:par>
                                <p:cTn id="108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6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9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2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5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8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1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4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7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0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3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6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9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2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5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8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1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304920" y="189000"/>
            <a:ext cx="1314360" cy="10080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1476360" y="260280"/>
            <a:ext cx="712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ПРАВИЛЬНАЯ ПИРАМИД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95280" y="1341360"/>
            <a:ext cx="837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Пирамида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называется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правильной,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если в основан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лежит правильный многоугольник, а отрезок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соединяющий вершину пирамиды с центром её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основания, является высотой пирами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01800" y="465300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76360" y="4508640"/>
            <a:ext cx="7128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81080" y="479592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60360" y="508464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6948000" y="3573360"/>
            <a:ext cx="360360" cy="100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6443280" y="3573360"/>
            <a:ext cx="865080" cy="15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308720" y="3573360"/>
            <a:ext cx="358920" cy="15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308720" y="3573360"/>
            <a:ext cx="86364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53820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042920" y="458136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8200" y="5156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176364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8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5888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12580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2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844720" y="465300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419640" y="4508640"/>
            <a:ext cx="7128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24360" y="47959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203640" y="508464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2481120" y="4581000"/>
            <a:ext cx="5050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986200" y="458136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481120" y="5156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370692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34216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70216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06908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56616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2484360" y="4581000"/>
            <a:ext cx="172872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87640" y="4581360"/>
            <a:ext cx="7192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89440" y="465300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64000" y="4508640"/>
            <a:ext cx="7164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869080" y="47959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148360" y="508464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4425840" y="4581000"/>
            <a:ext cx="5050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930920" y="4581360"/>
            <a:ext cx="12236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25840" y="5156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565164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286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64688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01380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510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4429080" y="4581000"/>
            <a:ext cx="172872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32360" y="4581360"/>
            <a:ext cx="7192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5292720" y="357300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94520" y="328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21440" y="357336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05440" y="465300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380360" y="4508640"/>
            <a:ext cx="7128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885080" y="479592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164360" y="508464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644220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946920" y="458136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442200" y="5156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766764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302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51852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02980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526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6445080" y="4581000"/>
            <a:ext cx="17290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948360" y="4581360"/>
            <a:ext cx="7192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7308720" y="357300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10880" y="328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308720" y="357336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078520" y="47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34160" y="47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094880" y="47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47840" y="2800440"/>
            <a:ext cx="585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900000" y="2924280"/>
            <a:ext cx="570888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Боковые ребра равн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Боковые грани – рав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равнобедренные треугольн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60080" y="4724280"/>
            <a:ext cx="598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ff"/>
                </a:solidFill>
                <a:uFillTx/>
                <a:latin typeface="Comic Sans MS"/>
              </a:rPr>
              <a:t>Апофема </a:t>
            </a:r>
            <a:r>
              <a:rPr b="0" i="1" lang="ru-RU" sz="2400" spc="-1" strike="noStrike">
                <a:solidFill>
                  <a:srgbClr val="9900ff"/>
                </a:solidFill>
                <a:latin typeface="Comic Sans MS"/>
              </a:rPr>
              <a:t>правильной пирамиды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ff"/>
                </a:solidFill>
                <a:latin typeface="Comic Sans MS"/>
              </a:rPr>
              <a:t>высота ее боковой грани, проведен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ff"/>
                </a:solidFill>
                <a:latin typeface="Comic Sans MS"/>
              </a:rPr>
              <a:t>из вершины.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308720" y="3573360"/>
            <a:ext cx="648000" cy="1295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010720" y="4743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885080" y="4797360"/>
            <a:ext cx="71640" cy="71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956720" y="465300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956720" y="472428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740720" y="487044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740720" y="494172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687040" y="566100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K -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апофе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fill="hold">
                      <p:stCondLst>
                        <p:cond delay="0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8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2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3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4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5500"/>
                            </p:stCondLst>
                            <p:childTnLst>
                              <p:par>
                                <p:cTn id="1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5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9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500"/>
                            </p:stCondLst>
                            <p:childTnLst>
                              <p:par>
                                <p:cTn id="1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4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500"/>
                            </p:stCondLst>
                            <p:childTnLst>
                              <p:par>
                                <p:cTn id="1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2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6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4500"/>
                            </p:stCondLst>
                            <p:childTnLst>
                              <p:par>
                                <p:cTn id="13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0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6500"/>
                            </p:stCondLst>
                            <p:childTnLst>
                              <p:par>
                                <p:cTn id="13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4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1" dur="8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2" dur="8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3" dur="8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8" dur="8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9" dur="8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0" dur="8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800"/>
                            </p:stCondLst>
                            <p:childTnLst>
                              <p:par>
                                <p:cTn id="14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4" dur="8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5" dur="8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6" dur="8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1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2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3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6" dur="8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7" dur="8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8" dur="8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1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2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3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fill="hold">
                            <p:stCondLst>
                              <p:cond delay="500"/>
                            </p:stCondLst>
                            <p:childTnLst>
                              <p:par>
                                <p:cTn id="15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5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9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0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1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ПЛОЩАДЬ БОКОВОЙ ПОВЕРХНОСТИ ПРАВИЛЬНОЙ ПИРАМИ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76360" y="1916280"/>
            <a:ext cx="561816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бок.</a:t>
            </a: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 = 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P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осн.</a:t>
            </a: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*</a:t>
            </a: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11280" y="3213000"/>
            <a:ext cx="74898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где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 </a:t>
            </a: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0" lang="ru-RU" sz="3600" spc="-1" strike="noStrike">
                <a:solidFill>
                  <a:srgbClr val="9900cc"/>
                </a:solidFill>
                <a:latin typeface="Comic Sans MS"/>
              </a:rPr>
              <a:t>осн.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– периметр основания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 –апофема правильной пирамид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2" dur="indefinite" restart="never" nodeType="tmRoot">
          <p:childTnLst>
            <p:seq>
              <p:cTn id="1543" dur="indefinite" nodeType="mainSeq">
                <p:childTnLst>
                  <p:par>
                    <p:cTn id="1544" fill="hold">
                      <p:stCondLst>
                        <p:cond delay="0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8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2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2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4" dur="20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8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9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0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40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ПЛОЩАДЬ ПОЛНОЙ ПОВЕРХНОСТИ ПИРАМИ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71640" y="2349360"/>
            <a:ext cx="741672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полн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. = 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бок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. + 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сн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900000" y="4005360"/>
            <a:ext cx="7489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где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 </a:t>
            </a: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ru-RU" sz="3600" spc="-1" strike="noStrike">
                <a:solidFill>
                  <a:srgbClr val="9900cc"/>
                </a:solidFill>
                <a:latin typeface="Comic Sans MS"/>
              </a:rPr>
              <a:t>осн.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– площадь основ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1" dur="indefinite" restart="never" nodeType="tmRoot">
          <p:childTnLst>
            <p:seq>
              <p:cTn id="1562" dur="indefinite" nodeType="mainSeq">
                <p:childTnLst>
                  <p:par>
                    <p:cTn id="1563" fill="hold">
                      <p:stCondLst>
                        <p:cond delay="0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7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2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2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3" dur="20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7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8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9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40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ОБЪЁМ ПИРАМИД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71640" y="2349360"/>
            <a:ext cx="741672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= 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сн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00000" y="4005360"/>
            <a:ext cx="7489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где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 </a:t>
            </a: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ru-RU" sz="3600" spc="-1" strike="noStrike">
                <a:solidFill>
                  <a:srgbClr val="9900cc"/>
                </a:solidFill>
                <a:latin typeface="Comic Sans MS"/>
              </a:rPr>
              <a:t>осн.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– площадь основания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,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 – высота пирамид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3780000" y="1989000"/>
                <a:ext cx="49356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0" dur="indefinite" restart="never" nodeType="tmRoot">
          <p:childTnLst>
            <p:seq>
              <p:cTn id="1581" dur="indefinite" nodeType="mainSeq">
                <p:childTnLst>
                  <p:par>
                    <p:cTn id="1582" fill="hold">
                      <p:stCondLst>
                        <p:cond delay="0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6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20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20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2" dur="20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6" dur="8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7" dur="8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8" dur="8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763640" y="260280"/>
            <a:ext cx="682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КЛЮЧЕВЫЕ СЛОВА УРОК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677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Пирами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Осн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Боковые гр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Боковые реб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Верш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Высота пирам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Правильная пирам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Апофе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36836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4" dur="indefinite" restart="never" nodeType="tmRoot">
          <p:childTnLst>
            <p:seq>
              <p:cTn id="1605" dur="indefinite" nodeType="mainSeq">
                <p:childTnLst>
                  <p:par>
                    <p:cTn id="1606" fill="hold">
                      <p:stCondLst>
                        <p:cond delay="0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0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5" dur="8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6" dur="8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7" dur="8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360"/>
                            </p:stCondLst>
                            <p:childTnLst>
                              <p:par>
                                <p:cTn id="16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1" dur="8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2" dur="8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3" dur="8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760"/>
                            </p:stCondLst>
                            <p:childTnLst>
                              <p:par>
                                <p:cTn id="16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7" dur="8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8" dur="8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9" dur="8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1280"/>
                            </p:stCondLst>
                            <p:childTnLst>
                              <p:par>
                                <p:cTn id="16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3" dur="8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4" dur="8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5" dur="8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1800"/>
                            </p:stCondLst>
                            <p:childTnLst>
                              <p:par>
                                <p:cTn id="16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9" dur="8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0" dur="8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1" dur="8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fill="hold">
                            <p:stCondLst>
                              <p:cond delay="2120"/>
                            </p:stCondLst>
                            <p:childTnLst>
                              <p:par>
                                <p:cTn id="16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5" dur="8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6" dur="8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7" dur="8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2720"/>
                            </p:stCondLst>
                            <p:childTnLst>
                              <p:par>
                                <p:cTn id="16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1" dur="80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2" dur="80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3" dur="80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3480"/>
                            </p:stCondLst>
                            <p:childTnLst>
                              <p:par>
                                <p:cTn id="16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7" dur="80"/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8" dur="80"/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9" dur="80"/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250920" y="165240"/>
            <a:ext cx="1441440" cy="99036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1763640" y="260280"/>
            <a:ext cx="6824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НА СЛЕДУЮЩЕМ УРОКЕ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00000" y="2060640"/>
            <a:ext cx="7489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Comic Sans MS"/>
              </a:rPr>
              <a:t>Решение простейших задач на вычисление площади поверхности и объема пирамиды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fill="hold">
                      <p:stCondLst>
                        <p:cond delay="0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6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0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1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2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484000" y="1427040"/>
            <a:ext cx="626436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СПАСИБО ЗА УРО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1066680" y="3441240"/>
            <a:ext cx="7250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00cc"/>
              </a:solidFill>
              <a:latin typeface="Comic Sans MS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194472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3" dur="indefinite" restart="never" nodeType="tmRoot">
          <p:childTnLst>
            <p:seq>
              <p:cTn id="1674" dur="indefinite" nodeType="mainSeq">
                <p:childTnLst>
                  <p:par>
                    <p:cTn id="1675" fill="hold">
                      <p:stCondLst>
                        <p:cond delay="0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9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ЭТО МЫ ЗНАЕМ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95280" y="1484280"/>
          <a:ext cx="4508640" cy="2468520"/>
        </p:xfrm>
        <a:graphic>
          <a:graphicData uri="http://schemas.openxmlformats.org/drawingml/2006/table">
            <a:tbl>
              <a:tblPr/>
              <a:tblGrid>
                <a:gridCol w="287280"/>
                <a:gridCol w="285480"/>
                <a:gridCol w="288720"/>
                <a:gridCol w="283680"/>
                <a:gridCol w="287280"/>
                <a:gridCol w="285480"/>
                <a:gridCol w="285480"/>
                <a:gridCol w="288720"/>
                <a:gridCol w="216000"/>
                <a:gridCol w="286920"/>
                <a:gridCol w="285840"/>
                <a:gridCol w="286920"/>
                <a:gridCol w="284040"/>
                <a:gridCol w="288720"/>
                <a:gridCol w="285480"/>
                <a:gridCol w="282600"/>
              </a:tblGrid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0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gridSpan="5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4140360" y="1341360"/>
            <a:ext cx="454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Многогранник, составленный из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двух равных 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n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-угольников, лежащи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в параллельных плоскостях и 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n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     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параллелограмм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28560" y="2421000"/>
            <a:ext cx="353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2.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Прямая призма, осн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которой правильные много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угольни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3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.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AA</a:t>
            </a:r>
            <a:r>
              <a:rPr b="1" i="1" lang="en-US" sz="9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D</a:t>
            </a:r>
            <a:r>
              <a:rPr b="1" i="1" lang="en-US" sz="9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4. 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Призма, боковые реб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которой не равны высот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37440" y="580536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6805440" y="5371920"/>
            <a:ext cx="432000" cy="43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805440" y="5229000"/>
            <a:ext cx="1008360" cy="142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813800" y="5229360"/>
            <a:ext cx="431640" cy="576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4653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7164360" y="4219560"/>
            <a:ext cx="43200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7164360" y="4076280"/>
            <a:ext cx="100800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172360" y="4076640"/>
            <a:ext cx="43200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813800" y="4076640"/>
            <a:ext cx="358560" cy="1152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805080" y="4221000"/>
            <a:ext cx="358920" cy="115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245080" y="4653000"/>
            <a:ext cx="36036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7237080" y="4653000"/>
            <a:ext cx="35892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596360" y="4653000"/>
            <a:ext cx="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7237080" y="4076640"/>
            <a:ext cx="934920" cy="1728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19960" y="5084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813800" y="50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173800" y="386064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05440" y="400356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98000" y="5608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99280" y="4292640"/>
            <a:ext cx="4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77440" y="5661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26520" y="4292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96360" y="566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40720" y="5661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26520" y="5803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42920" y="4149720"/>
            <a:ext cx="4896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5.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Призма, боковые ребра которой перпендикулярны основания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6.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ABC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7. DB</a:t>
            </a:r>
            <a:r>
              <a:rPr b="1" i="1" lang="en-US" sz="9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8. D</a:t>
            </a:r>
            <a:r>
              <a:rPr b="1" i="1" lang="en-US" sz="9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41800" y="148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60720" y="17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53080" y="21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26160" y="24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49800" y="270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708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13440" y="32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7174080"/>
            <a:ext cx="287280" cy="3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11280" y="148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16360" y="1484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27280" y="148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03640" y="1484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19640" y="1484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08360" y="148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58920" y="1773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76360" y="1773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63640" y="1773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0920" y="177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40000" y="17733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177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916360" y="17733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03640" y="17733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177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08360" y="177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95640" y="2060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052720" y="2060640"/>
            <a:ext cx="30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41800" y="20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29080" y="20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18160" y="2060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05800" y="2060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25800" y="234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41800" y="234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29440" y="234936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18520" y="2349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33440" y="2349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1440" y="234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10160" y="234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97440" y="234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86520" y="234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47640" y="270828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63640" y="2708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50920" y="270828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40000" y="2708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27280" y="2708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16360" y="2708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0000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87280" y="29973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7636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6364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29973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4000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2728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40000" y="3284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27280" y="3284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16360" y="32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3640" y="3284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19640" y="32846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56000" y="3284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00000" y="364500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08360" y="3284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643280" y="32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32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87280" y="36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76360" y="364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63640" y="36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50920" y="36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40000" y="364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2410920" y="1484280"/>
            <a:ext cx="287640" cy="1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11280" y="1484280"/>
            <a:ext cx="0" cy="244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00360" y="1484280"/>
            <a:ext cx="0" cy="244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410920" y="3933720"/>
            <a:ext cx="287640" cy="1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02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5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5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5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Comic Sans MS"/>
              </a:rPr>
              <a:t>ПИРАМИД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1944360" cy="1440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00000" y="3141720"/>
            <a:ext cx="7775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Из истории развития и применения пирами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Определение пирам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Элементы пирам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Виды пирамид, их особен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Площадь поверхности и объем пирам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ПР по вычислению </a:t>
            </a: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S</a:t>
            </a:r>
            <a:r>
              <a:rPr b="1" i="1" lang="ru-RU" sz="1400" spc="-1" strike="noStrike">
                <a:solidFill>
                  <a:srgbClr val="0000ff"/>
                </a:solidFill>
                <a:latin typeface="Comic Sans MS"/>
              </a:rPr>
              <a:t>пов.</a:t>
            </a: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 и </a:t>
            </a: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V</a:t>
            </a: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 пирам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Решение задач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440"/>
                            </p:stCondLst>
                            <p:childTnLst>
                              <p:par>
                                <p:cTn id="3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240"/>
                            </p:stCondLst>
                            <p:childTnLst>
                              <p:par>
                                <p:cTn id="3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920"/>
                            </p:stCondLst>
                            <p:childTnLst>
                              <p:par>
                                <p:cTn id="3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3960"/>
                            </p:stCondLst>
                            <p:childTnLst>
                              <p:par>
                                <p:cTn id="3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280"/>
                            </p:stCondLst>
                            <p:childTnLst>
                              <p:par>
                                <p:cTn id="3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6480"/>
                            </p:stCondLst>
                            <p:childTnLst>
                              <p:par>
                                <p:cTn id="3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7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9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1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3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484360" y="260280"/>
            <a:ext cx="5077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ЦЕЛИ УРОКА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1656000" cy="10015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39640" y="1484280"/>
            <a:ext cx="79250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Comic Sans MS"/>
              </a:rPr>
              <a:t>Познакомиться с историей развития пирамид и их применение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Comic Sans MS"/>
              </a:rPr>
              <a:t>Сформулировать определение пирамиды и её элементов через сравнение и обобщени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Comic Sans MS"/>
              </a:rPr>
              <a:t>Рассмотреть виды пирамид, их особен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Comic Sans MS"/>
              </a:rPr>
              <a:t>Познакомится с формулами площади боковой и полной поверхности пирамиды, объёма пирамид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3000"/>
                            </p:stCondLst>
                            <p:childTnLst>
                              <p:par>
                                <p:cTn id="4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3500"/>
                            </p:stCondLst>
                            <p:childTnLst>
                              <p:par>
                                <p:cTn id="4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112120" y="26028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НЕМНОГО ИСТОР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780000" y="1413000"/>
            <a:ext cx="4392360" cy="22222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68360" y="1341360"/>
            <a:ext cx="3166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«Пирамида» - от греческ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слова «пюрамис», которы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греки называли египетск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пирами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06280" y="254160"/>
            <a:ext cx="1295640" cy="7315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3851280" y="3716280"/>
            <a:ext cx="4105440" cy="24494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851280" y="3645000"/>
            <a:ext cx="36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Мексиканская пирамида Солнц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76720" y="328464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Египетские пирам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611280" y="3933720"/>
            <a:ext cx="3166920" cy="20876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39640" y="544500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omic Sans MS"/>
              </a:rPr>
              <a:t>Гора Кайлас на Тибет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120"/>
                            </p:stCondLst>
                            <p:childTnLst>
                              <p:par>
                                <p:cTn id="4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712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9120"/>
                            </p:stCondLst>
                            <p:childTnLst>
                              <p:par>
                                <p:cTn id="4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112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3120"/>
                            </p:stCondLst>
                            <p:childTnLst>
                              <p:par>
                                <p:cTn id="4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5120"/>
                            </p:stCondLst>
                            <p:childTnLst>
                              <p:par>
                                <p:cTn id="4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8055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ПИРАМИДЫ В АРХИТЕКТУР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20640" y="1628640"/>
            <a:ext cx="3675240" cy="19558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427640" y="1484280"/>
            <a:ext cx="3960720" cy="2246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1692360" y="3716280"/>
            <a:ext cx="5040360" cy="24494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788000" y="13413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Comic Sans MS"/>
              </a:rPr>
              <a:t>Новый вход в Лувр, Пари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26920" y="134136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Comic Sans MS"/>
              </a:rPr>
              <a:t>Торговый центр в Илинге,                        Лонд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60200" y="364500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Comic Sans MS"/>
              </a:rPr>
              <a:t>Александровский мая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1152720" cy="93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400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80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7113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ОПРЕДЕЛЕ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1584360" cy="9716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364000" y="1557360"/>
            <a:ext cx="2233800" cy="18651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627280" y="2276640"/>
            <a:ext cx="1008000" cy="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627280" y="2276640"/>
            <a:ext cx="720720" cy="431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348000" y="2276280"/>
            <a:ext cx="287280" cy="431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59280" y="1484280"/>
            <a:ext cx="288720" cy="12240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627280" y="1484280"/>
            <a:ext cx="432000" cy="792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59280" y="1484280"/>
            <a:ext cx="576000" cy="792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900000" y="2204640"/>
            <a:ext cx="649440" cy="7164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00000" y="2276640"/>
            <a:ext cx="505080" cy="431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405080" y="2276280"/>
            <a:ext cx="502920" cy="431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32000" y="1484280"/>
            <a:ext cx="73080" cy="12240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900000" y="1484280"/>
            <a:ext cx="432000" cy="792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32000" y="1484280"/>
            <a:ext cx="576000" cy="792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20720" y="2205000"/>
            <a:ext cx="287280" cy="7164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32000" y="1555920"/>
            <a:ext cx="217440" cy="64908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460600" y="2637000"/>
            <a:ext cx="1679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3-угольник +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3-угольн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4600" y="2637000"/>
            <a:ext cx="1679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4-угольник +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4 </a:t>
            </a: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3-угольн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6000" y="3524400"/>
            <a:ext cx="15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6-угольник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92840" y="4076640"/>
            <a:ext cx="16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10-угольник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1040" y="465300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i="1" lang="ru-RU" sz="1800" spc="-1" strike="noStrike">
                <a:solidFill>
                  <a:srgbClr val="0000ff"/>
                </a:solidFill>
                <a:latin typeface="Comic Sans MS"/>
              </a:rPr>
              <a:t>-угольник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95640" y="2637000"/>
            <a:ext cx="576360" cy="2663640"/>
          </a:xfrm>
          <a:custGeom>
            <a:avLst/>
            <a:gdLst>
              <a:gd name="textAreaLeft" fmla="*/ 0 w 576360"/>
              <a:gd name="textAreaRight" fmla="*/ 208080 w 576360"/>
              <a:gd name="textAreaTop" fmla="*/ 69120 h 2663640"/>
              <a:gd name="textAreaBottom" fmla="*/ 2594520 h 26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88000" y="1628640"/>
            <a:ext cx="216000" cy="172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6804000" y="2637000"/>
            <a:ext cx="72072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588000" y="1628640"/>
            <a:ext cx="936720" cy="10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436720" y="1628640"/>
            <a:ext cx="1150920" cy="136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37080" y="2997360"/>
            <a:ext cx="136692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437080" y="2349360"/>
            <a:ext cx="863640" cy="64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6300720" y="1628640"/>
            <a:ext cx="287280" cy="720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300720" y="234936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04000" y="2349360"/>
            <a:ext cx="720720" cy="28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88000" y="1628640"/>
            <a:ext cx="216000" cy="720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003640" y="3429000"/>
            <a:ext cx="324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ff"/>
                </a:solidFill>
                <a:latin typeface="Comic Sans MS"/>
              </a:rPr>
              <a:t>Пирамида </a:t>
            </a:r>
            <a:r>
              <a:rPr b="0" i="1" lang="ru-RU" sz="2800" spc="-1" strike="noStrike">
                <a:solidFill>
                  <a:srgbClr val="9900ff"/>
                </a:solidFill>
                <a:latin typeface="Comic Sans MS"/>
              </a:rPr>
              <a:t>– это   многогранник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00ff"/>
                </a:solidFill>
                <a:latin typeface="Comic Sans MS"/>
              </a:rPr>
              <a:t>составленный и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ff"/>
                </a:solidFill>
                <a:latin typeface="Comic Sans MS"/>
              </a:rPr>
              <a:t>n-</a:t>
            </a:r>
            <a:r>
              <a:rPr b="0" i="1" lang="ru-RU" sz="2800" spc="-1" strike="noStrike">
                <a:solidFill>
                  <a:srgbClr val="9900ff"/>
                </a:solidFill>
                <a:latin typeface="Comic Sans MS"/>
              </a:rPr>
              <a:t>угольника 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ff"/>
                </a:solidFill>
                <a:latin typeface="Comic Sans MS"/>
              </a:rPr>
              <a:t>n</a:t>
            </a:r>
            <a:r>
              <a:rPr b="0" i="1" lang="ru-RU" sz="2800" spc="-1" strike="noStrike">
                <a:solidFill>
                  <a:srgbClr val="9900ff"/>
                </a:solidFill>
                <a:latin typeface="Comic Sans MS"/>
              </a:rPr>
              <a:t> треугольников</a:t>
            </a:r>
            <a:r>
              <a:rPr b="0" i="1" lang="en-US" sz="2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25800" y="350028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3-угольни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25800" y="4076640"/>
            <a:ext cx="191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3-угольни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197440" y="465300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3-угольни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1320" y="5373720"/>
            <a:ext cx="296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Comic Sans MS"/>
              </a:rPr>
              <a:t>Название пирами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Comic Sans MS"/>
              </a:rPr>
              <a:t>определяет </a:t>
            </a:r>
            <a:r>
              <a:rPr b="1" i="1" lang="en-US" sz="1800" spc="-1" strike="noStrike">
                <a:solidFill>
                  <a:srgbClr val="008000"/>
                </a:solidFill>
                <a:latin typeface="Comic Sans MS"/>
              </a:rPr>
              <a:t>n</a:t>
            </a:r>
            <a:r>
              <a:rPr b="1" i="1" lang="ru-RU" sz="1800" spc="-1" strike="noStrike">
                <a:solidFill>
                  <a:srgbClr val="008000"/>
                </a:solidFill>
                <a:latin typeface="Comic Sans MS"/>
              </a:rPr>
              <a:t>-угольник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40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500"/>
                            </p:stCondLst>
                            <p:childTnLst>
                              <p:par>
                                <p:cTn id="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2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1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2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1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3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68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368360" cy="9572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774080" y="333360"/>
            <a:ext cx="642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ЭЛЕМЕНТЫ ПИРАМИД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00680" y="1268280"/>
            <a:ext cx="533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Comic Sans MS"/>
              </a:rPr>
              <a:t>Из чего состоит пирамида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42920" y="1773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82000" y="1773360"/>
            <a:ext cx="2454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Осн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Боковые гра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Боковые реб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Верш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Высот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5280" y="3573360"/>
            <a:ext cx="907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Comic Sans MS"/>
              </a:rPr>
              <a:t>Можно ли в пирамиде провести диагональ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8360" y="3716280"/>
            <a:ext cx="813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1)Дайте определения всем элементам пирамиды (в случае затрудне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воспользуйтесь учебником стр.65, п.28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2)Начертите треугольную пирамиду </a:t>
            </a:r>
            <a:r>
              <a:rPr b="1" i="1" lang="en-US" sz="2800" spc="-1" strike="noStrike">
                <a:solidFill>
                  <a:srgbClr val="0000ff"/>
                </a:solidFill>
                <a:latin typeface="Comic Sans MS"/>
              </a:rPr>
              <a:t>PABC,</a:t>
            </a: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 выпишите её элемен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0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4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5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0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1513080" cy="95724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955240" y="260280"/>
            <a:ext cx="470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ПРОВЕРЬ СЕБ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58920" y="1555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16040" y="5006880"/>
            <a:ext cx="16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Высота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-</a:t>
            </a: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35640" y="5229360"/>
            <a:ext cx="295272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5435640" y="4292640"/>
            <a:ext cx="1800360" cy="936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236000" y="4292640"/>
            <a:ext cx="1152360" cy="1081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435280" y="1844640"/>
            <a:ext cx="865080" cy="338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300720" y="1844640"/>
            <a:ext cx="935280" cy="244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00720" y="1844640"/>
            <a:ext cx="2087640" cy="352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300720" y="1844640"/>
            <a:ext cx="0" cy="3240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219640" y="515772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15680" y="429264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100360" y="537372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359040" y="15573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184440" y="4749840"/>
            <a:ext cx="49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00720" y="1844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27640" y="5013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6084720" y="494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84720" y="4941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15040" y="126828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ff"/>
                </a:solidFill>
                <a:uFillTx/>
                <a:latin typeface="Comic Sans MS"/>
              </a:rPr>
              <a:t>Основание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9900ff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40000" y="16938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738160" y="1262160"/>
            <a:ext cx="24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многоугольник</a:t>
            </a: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12880" y="2055960"/>
            <a:ext cx="26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ff"/>
                </a:solidFill>
                <a:uFillTx/>
                <a:latin typeface="Comic Sans MS"/>
              </a:rPr>
              <a:t>Боковые грани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24240" y="206064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треугольники</a:t>
            </a: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74920" y="471960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P, BP, 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29720" y="3711600"/>
            <a:ext cx="26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ff"/>
                </a:solidFill>
                <a:uFillTx/>
                <a:latin typeface="Comic Sans MS"/>
              </a:rPr>
              <a:t>Боковые ребра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420720" y="29908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18920" y="291924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ff"/>
                </a:solidFill>
                <a:uFillTx/>
                <a:latin typeface="Comic Sans MS"/>
              </a:rPr>
              <a:t>Вершина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4360" y="2924280"/>
            <a:ext cx="466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                    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общая точка все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боковых граней</a:t>
            </a: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50680" y="32781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55640" y="371628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                            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отрезк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соединяющие вершину 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вершинами основания</a:t>
            </a: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187280" y="24861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BP, BCP, A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501336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                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перпендикуляр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проведенный из вершины к плоскости основания</a:t>
            </a: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53960" y="573408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35640" y="5230800"/>
            <a:ext cx="2952720" cy="144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435640" y="4294080"/>
            <a:ext cx="1800360" cy="936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36000" y="4294080"/>
            <a:ext cx="1152360" cy="10810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5651640" y="5086440"/>
            <a:ext cx="71280" cy="144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5795640" y="4941720"/>
            <a:ext cx="142920" cy="2890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938560" y="4870440"/>
            <a:ext cx="215640" cy="360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6154200" y="4726080"/>
            <a:ext cx="287640" cy="504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6372360" y="4581360"/>
            <a:ext cx="358560" cy="6494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514920" y="4438800"/>
            <a:ext cx="502920" cy="8632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6730920" y="4365720"/>
            <a:ext cx="503280" cy="936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6946560" y="4438800"/>
            <a:ext cx="431640" cy="8632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7164000" y="4581360"/>
            <a:ext cx="358920" cy="720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7380360" y="4726080"/>
            <a:ext cx="285840" cy="576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7523280" y="4870440"/>
            <a:ext cx="287280" cy="5032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7738920" y="5014800"/>
            <a:ext cx="216000" cy="3589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7954560" y="5086440"/>
            <a:ext cx="142920" cy="288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8172360" y="5230800"/>
            <a:ext cx="69840" cy="1429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5435640" y="4292640"/>
            <a:ext cx="1800360" cy="936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5435280" y="1917720"/>
            <a:ext cx="865080" cy="3384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300720" y="1917720"/>
            <a:ext cx="935280" cy="2448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6227640" y="2060640"/>
            <a:ext cx="144720" cy="216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6156360" y="2276640"/>
            <a:ext cx="288720" cy="333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5940000" y="2421000"/>
            <a:ext cx="576360" cy="936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5652720" y="2610000"/>
            <a:ext cx="933480" cy="1755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5508360" y="2852640"/>
            <a:ext cx="1150920" cy="2376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5795640" y="3141720"/>
            <a:ext cx="934920" cy="1944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6156360" y="3357720"/>
            <a:ext cx="719280" cy="1584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6445080" y="3645000"/>
            <a:ext cx="501840" cy="10810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6660720" y="3860640"/>
            <a:ext cx="430200" cy="792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6948360" y="4149720"/>
            <a:ext cx="216000" cy="3589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5435280" y="1844640"/>
            <a:ext cx="865080" cy="3384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227640" y="1773360"/>
            <a:ext cx="14472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300720" y="1916280"/>
            <a:ext cx="0" cy="3097080"/>
          </a:xfrm>
          <a:prstGeom prst="line">
            <a:avLst/>
          </a:prstGeom>
          <a:ln w="7632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2000"/>
                            </p:stCondLst>
                            <p:childTnLst>
                              <p:par>
                                <p:cTn id="7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9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1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600"/>
                            </p:stCondLst>
                            <p:childTnLst>
                              <p:par>
                                <p:cTn id="7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560"/>
                            </p:stCondLst>
                            <p:childTnLst>
                              <p:par>
                                <p:cTn id="8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8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9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0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1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2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3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8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9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0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160"/>
                            </p:stCondLst>
                            <p:childTnLst>
                              <p:par>
                                <p:cTn id="9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4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5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6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7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8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9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4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5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6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880"/>
                            </p:stCondLst>
                            <p:childTnLst>
                              <p:par>
                                <p:cTn id="9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0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1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2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7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500"/>
                            </p:stCondLst>
                            <p:childTnLst>
                              <p:par>
                                <p:cTn id="9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4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5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6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1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2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3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2200"/>
                            </p:stCondLst>
                            <p:childTnLst>
                              <p:par>
                                <p:cTn id="9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7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8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9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0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05:06:42Z</dcterms:created>
  <dc:creator>ТЕЛЕЖКА</dc:creator>
  <dc:description/>
  <dc:language>en-US</dc:language>
  <cp:lastModifiedBy>User</cp:lastModifiedBy>
  <dcterms:modified xsi:type="dcterms:W3CDTF">2010-08-26T07:05:29Z</dcterms:modified>
  <cp:revision>18</cp:revision>
  <dc:subject/>
  <dc:title>Презентация PowerPoint</dc:title>
</cp:coreProperties>
</file>